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2B2-39F2-4F2A-B53B-849D49796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120-118D-4A9D-B984-7835F6CD4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ECB1-2DA1-4281-AD1A-6030DD2A9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9BE-71C2-4347-B265-FD46A5D2F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BEBC-08EB-4B8A-A64C-16E9B9839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889-8418-4FBC-9B27-C975A4320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9E9-0082-4A53-A495-0FFF0DF9B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863-AA5A-4B6E-A233-2ED499E0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F68-C005-4992-98E1-4644517E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87A-EF00-449F-AEE8-9E730812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407-45CF-41C7-8334-D653F4E6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D35-6CED-4804-80BA-2DCBA035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81B-FC76-4079-8185-FBB8B54B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723-275F-493A-A0FC-9DDAD06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9B9-40D7-4556-ADA1-E5FEBCD9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458-F0C1-43E9-96A8-E1A553F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671-0797-464F-BC9B-F0E35B49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53D-A911-4674-98B6-FBE8923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956-36D3-42BA-92EF-A719338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D5C7-CD7F-45BC-951B-CF3672DA3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38088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Готовимся к ЕГЭ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по русскому языку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49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1146240" y="1792440"/>
            <a:ext cx="7864560" cy="19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4114800" y="3808440"/>
            <a:ext cx="454176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4"/>
          <p:cNvGrpSpPr/>
          <p:nvPr/>
        </p:nvGrpSpPr>
        <p:grpSpPr>
          <a:xfrm>
            <a:off x="141120" y="620640"/>
            <a:ext cx="9002880" cy="5415120"/>
            <a:chOff x="141120" y="620640"/>
            <a:chExt cx="9002880" cy="5415120"/>
          </a:xfrm>
        </p:grpSpPr>
        <p:sp>
          <p:nvSpPr>
            <p:cNvPr id="98" name="TextBox 1"/>
            <p:cNvSpPr/>
            <p:nvPr/>
          </p:nvSpPr>
          <p:spPr>
            <a:xfrm>
              <a:off x="212400" y="620640"/>
              <a:ext cx="2107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БЛАГОДАР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ВОПРЕ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СОГЛАС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ОДОБ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"/>
            <p:cNvSpPr/>
            <p:nvPr/>
          </p:nvSpPr>
          <p:spPr>
            <a:xfrm>
              <a:off x="2322360" y="150012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b05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че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авая фигурная скобка 7"/>
            <p:cNvSpPr/>
            <p:nvPr/>
          </p:nvSpPr>
          <p:spPr>
            <a:xfrm>
              <a:off x="2106360" y="906120"/>
              <a:ext cx="311040" cy="1700280"/>
            </a:xfrm>
            <a:custGeom>
              <a:avLst/>
              <a:gdLst>
                <a:gd name="textAreaLeft" fmla="*/ 0 w 311040"/>
                <a:gd name="textAreaRight" fmla="*/ 112320 w 311040"/>
                <a:gd name="textAreaTop" fmla="*/ 13680 h 1700280"/>
                <a:gd name="textAreaBottom" fmla="*/ 1686600 h 17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80"/>
                    <a:pt x="10800" y="560"/>
                  </a:cubicBezTo>
                  <a:lnTo>
                    <a:pt x="10800" y="10240"/>
                  </a:lnTo>
                  <a:cubicBezTo>
                    <a:pt x="10800" y="10520"/>
                    <a:pt x="16200" y="10800"/>
                    <a:pt x="21600" y="10800"/>
                  </a:cubicBezTo>
                  <a:cubicBezTo>
                    <a:pt x="16200" y="10800"/>
                    <a:pt x="10800" y="11080"/>
                    <a:pt x="10800" y="11360"/>
                  </a:cubicBezTo>
                  <a:lnTo>
                    <a:pt x="10800" y="21040"/>
                  </a:lnTo>
                  <a:cubicBezTo>
                    <a:pt x="10800" y="2132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3126600" y="906120"/>
              <a:ext cx="2035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непого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ожидания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приказ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обла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898920" y="3050280"/>
              <a:ext cx="217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П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= после чего-либ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6"/>
            <p:cNvSpPr/>
            <p:nvPr/>
          </p:nvSpPr>
          <p:spPr>
            <a:xfrm>
              <a:off x="3424320" y="3264120"/>
              <a:ext cx="23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+ предложный паде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    </a:t>
              </a: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(в чём?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6648480" y="3049560"/>
              <a:ext cx="193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по приезд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по прибыти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8"/>
            <p:cNvSpPr/>
            <p:nvPr/>
          </p:nvSpPr>
          <p:spPr>
            <a:xfrm>
              <a:off x="141120" y="4478760"/>
              <a:ext cx="38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вздыхать, гореват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О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грустить, плакат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скучать, тоско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9"/>
            <p:cNvSpPr/>
            <p:nvPr/>
          </p:nvSpPr>
          <p:spPr>
            <a:xfrm>
              <a:off x="4201920" y="4943160"/>
              <a:ext cx="21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+ дательный паде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    </a:t>
              </a: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(кому? чему?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0"/>
            <p:cNvSpPr/>
            <p:nvPr/>
          </p:nvSpPr>
          <p:spPr>
            <a:xfrm>
              <a:off x="6775920" y="4818960"/>
              <a:ext cx="180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Тоскова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по же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Стрелка вправо 15"/>
            <p:cNvSpPr/>
            <p:nvPr/>
          </p:nvSpPr>
          <p:spPr>
            <a:xfrm>
              <a:off x="5964120" y="3406680"/>
              <a:ext cx="571320" cy="365040"/>
            </a:xfrm>
            <a:prstGeom prst="rightArrow">
              <a:avLst>
                <a:gd name="adj1" fmla="val 50000"/>
                <a:gd name="adj2" fmla="val 2940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16"/>
            <p:cNvSpPr/>
            <p:nvPr/>
          </p:nvSpPr>
          <p:spPr>
            <a:xfrm>
              <a:off x="141120" y="4383000"/>
              <a:ext cx="7215480" cy="2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1"/>
            <p:cNvSpPr/>
            <p:nvPr/>
          </p:nvSpPr>
          <p:spPr>
            <a:xfrm>
              <a:off x="5954760" y="5335560"/>
              <a:ext cx="183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трелка вправо 18"/>
            <p:cNvSpPr/>
            <p:nvPr/>
          </p:nvSpPr>
          <p:spPr>
            <a:xfrm>
              <a:off x="5464080" y="5407200"/>
              <a:ext cx="571320" cy="365040"/>
            </a:xfrm>
            <a:prstGeom prst="rightArrow">
              <a:avLst>
                <a:gd name="adj1" fmla="val 50000"/>
                <a:gd name="adj2" fmla="val 2940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3"/>
            <p:cNvSpPr/>
            <p:nvPr/>
          </p:nvSpPr>
          <p:spPr>
            <a:xfrm>
              <a:off x="5529240" y="122796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Calibri"/>
                </a:rPr>
                <a:t>ВВИ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4"/>
            <p:cNvSpPr/>
            <p:nvPr/>
          </p:nvSpPr>
          <p:spPr>
            <a:xfrm>
              <a:off x="6358680" y="1227960"/>
              <a:ext cx="7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чего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6"/>
            <p:cNvSpPr/>
            <p:nvPr/>
          </p:nvSpPr>
          <p:spPr>
            <a:xfrm>
              <a:off x="6983640" y="1120680"/>
              <a:ext cx="216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редстоящего меро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98712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438800" y="304920"/>
            <a:ext cx="4224240" cy="44323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228600" y="30481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учать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 ва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местоимения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деж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Андрей\Pictures\Мои рисунки\ЕГЭ, ГИА\6.jpg"/>
          <p:cNvPicPr/>
          <p:nvPr/>
        </p:nvPicPr>
        <p:blipFill>
          <a:blip r:embed="rId2"/>
          <a:stretch/>
        </p:blipFill>
        <p:spPr>
          <a:xfrm>
            <a:off x="-36360" y="-23760"/>
            <a:ext cx="98712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выполн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1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ходим производный предлог, определя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деж слова, к которому относится этот предл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Если падеж не соответствует, то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с ошиб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Если ошибок с производными предлогами н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находим сочетание с ПО, определя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деж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м на окончание, если в оконч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(-у), то это предложение с ошиб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56664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380880" y="204840"/>
            <a:ext cx="84582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ла­го­да­ря по­вы­ше­ния уров­ня сер­ви­са в фир­мен­ных ма­га­зи­нах стало боль­ше по­ку­па­те­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им­няя сес­сия сту­ден­тов про­хо­ди­ла со­глас­но рас­пи­са­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.П. Чехов в письме из Ялты описывает о путешествии в ботанический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преки  правил пунктуации, журналисты часто употреб­ляют тире вместо двоето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лагодаря понимания со стороны родителей и друзей мне удалось преодолеть тру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следствие сильным дождям вода в реке всё прибы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 уроках русского языка недостаточное внимание уделяется на изучение норм литературн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о окончании школы я планирую поступить в ВУ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304920" y="30492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огласно правил вводные слова выделяются на письме запят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выходные и праздничные дни поезда будут следовать согласно распис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опреки прогнозов аналитиков, в этом году авиакомпании удалось сохранить объём перево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Сразу по приезду в город мы отправились к мо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гласно указания директора на предприятии началась замена старых пропусков на н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е все участники похода добрались до места встречи ввиду сложностью маршр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и срока контракта мы вернулись домо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По приезду в город Чичиков познакомился с городскими чиновника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Билеты будут продаваться по прибытию по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990720" y="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6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sp>
        <p:nvSpPr>
          <p:cNvPr id="125" name="Содержимое 4"/>
          <p:cNvSpPr/>
          <p:nvPr/>
        </p:nvSpPr>
        <p:spPr>
          <a:xfrm>
            <a:off x="495360" y="14479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Деепричастие обозначает добавочно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е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м, его можно замени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голом. А это значит, что относится к одно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лежащему, что и сказу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я в парке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рял перчатки. Я гулял, я потер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пускается использование в безличном предложении при инфинитиве: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вращаяс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й ,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ужно зай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лоч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льзя употребл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в безличном, с личными местоим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венных падежах (мне, у меня, со мной, у вас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я арифметику, мне стало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шибка в построении предлож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епричастным оборо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120" y="1371600"/>
            <a:ext cx="807732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Выгнутая вверх стрелка 5"/>
          <p:cNvSpPr/>
          <p:nvPr/>
        </p:nvSpPr>
        <p:spPr>
          <a:xfrm>
            <a:off x="2590920" y="2933640"/>
            <a:ext cx="914400" cy="266760"/>
          </a:xfrm>
          <a:custGeom>
            <a:avLst/>
            <a:gdLst>
              <a:gd name="textAreaLeft" fmla="*/ 203400 w 914400"/>
              <a:gd name="textAreaRight" fmla="*/ 677520 w 914400"/>
              <a:gd name="textAreaTop" fmla="*/ 35640 h 266760"/>
              <a:gd name="textAreaBottom" fmla="*/ 2311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19" hR="21600" stAng="10800000" swAng="5400000"/>
                <a:lnTo>
                  <a:pt x="11195" y="0"/>
                </a:lnTo>
                <a:arcTo wR="9619" hR="21600" stAng="-5400000" swAng="3593613"/>
                <a:lnTo>
                  <a:pt x="21295" y="16200"/>
                </a:lnTo>
                <a:lnTo>
                  <a:pt x="20025" y="21600"/>
                </a:lnTo>
                <a:lnTo>
                  <a:pt x="18145" y="16200"/>
                </a:lnTo>
                <a:lnTo>
                  <a:pt x="18932" y="16200"/>
                </a:lnTo>
                <a:arcTo wR="9619" hR="21600" stAng="-1806387" swAng="-3467832"/>
                <a:lnTo>
                  <a:pt x="10407" y="73"/>
                </a:lnTo>
                <a:arcTo wR="9619" hR="21600" stAng="-5525781" swAng="-5274219"/>
                <a:close/>
              </a:path>
              <a:path fill="darkenLess" w="21600" h="21600">
                <a:moveTo>
                  <a:pt x="0" y="21600"/>
                </a:moveTo>
                <a:arcTo wR="9619" hR="21600" stAng="10800000" swAng="5400000"/>
                <a:lnTo>
                  <a:pt x="9619" y="0"/>
                </a:lnTo>
                <a:arcTo wR="9619" hR="21600" stAng="-5400000" swAng="125781"/>
                <a:lnTo>
                  <a:pt x="10407" y="73"/>
                </a:lnTo>
                <a:arcTo wR="9619" hR="21600" stAng="-5525781" swAng="-52742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гнутая вверх стрелка 6"/>
          <p:cNvSpPr/>
          <p:nvPr/>
        </p:nvSpPr>
        <p:spPr>
          <a:xfrm flipH="1">
            <a:off x="838080" y="2952720"/>
            <a:ext cx="1524240" cy="247680"/>
          </a:xfrm>
          <a:custGeom>
            <a:avLst/>
            <a:gdLst>
              <a:gd name="textAreaLeft" fmla="*/ 357840 w 1524240"/>
              <a:gd name="textAreaRight" fmla="*/ 1135440 w 152424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42" hR="21600" stAng="10800000" swAng="5400000"/>
                <a:lnTo>
                  <a:pt x="11019" y="0"/>
                </a:lnTo>
                <a:arcTo wR="10142" hR="21600" stAng="-5400000" swAng="3671614"/>
                <a:lnTo>
                  <a:pt x="21278" y="16200"/>
                </a:lnTo>
                <a:lnTo>
                  <a:pt x="20723" y="21600"/>
                </a:lnTo>
                <a:lnTo>
                  <a:pt x="19523" y="16200"/>
                </a:lnTo>
                <a:lnTo>
                  <a:pt x="19962" y="16200"/>
                </a:lnTo>
                <a:arcTo wR="10142" hR="21600" stAng="-1728386" swAng="-3601769"/>
                <a:lnTo>
                  <a:pt x="10581" y="20"/>
                </a:lnTo>
                <a:arcTo wR="10142" hR="21600" stAng="-5469845" swAng="-5330155"/>
                <a:close/>
              </a:path>
              <a:path fill="darkenLess" w="21600" h="21600">
                <a:moveTo>
                  <a:pt x="0" y="21600"/>
                </a:moveTo>
                <a:arcTo wR="10142" hR="21600" stAng="10800000" swAng="5400000"/>
                <a:lnTo>
                  <a:pt x="10142" y="0"/>
                </a:lnTo>
                <a:arcTo wR="10142" hR="21600" stAng="-5400000" swAng="69845"/>
                <a:lnTo>
                  <a:pt x="10581" y="20"/>
                </a:lnTo>
                <a:arcTo wR="10142" hR="21600" stAng="-5469845" swAng="-5330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71680" y="29944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71760" y="566280"/>
            <a:ext cx="71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761760" cy="103500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2"/>
          <p:cNvSpPr/>
          <p:nvPr/>
        </p:nvSpPr>
        <p:spPr>
          <a:xfrm>
            <a:off x="685800" y="206280"/>
            <a:ext cx="8244000" cy="1470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гол-сказуемое и деепричастие не должны обозначать действия разных предметов и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685800" y="20574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ясь определённым делом, оно начинает хорошо получ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77960" y="1952640"/>
            <a:ext cx="8076960" cy="1501920"/>
          </a:xfrm>
          <a:prstGeom prst="rect">
            <a:avLst/>
          </a:prstGeom>
          <a:solidFill>
            <a:srgbClr val="8eb4e3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занимаемся определенным делом, оно начинает получ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77960" y="2050920"/>
            <a:ext cx="8076960" cy="1501920"/>
          </a:xfrm>
          <a:prstGeom prst="rect">
            <a:avLst/>
          </a:prstGeom>
          <a:solidFill>
            <a:srgbClr val="8eb4e3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вшись определенным делом, мы добились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822240" y="4114800"/>
            <a:ext cx="81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вшись на вокзале, слезы сами показались на глаз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816120" y="4495680"/>
            <a:ext cx="8076960" cy="129564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встретились на вокзале, слёзы сами показались из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76240" y="4495680"/>
            <a:ext cx="8016840" cy="120672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вшись на вокзале, мы заплак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685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яем деепричастие (суффиксы -а, -я, -в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ши-; отвечают на вопросы что делая? Ч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в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правило, в начале предложения, пере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м или сказуем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ходим подлежащее, выясняем один  предмет выполняет действия или разны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разные предметы выполняют действ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едложение безличное с лич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иями в косвенных падежах, то э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с ошиб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571680" y="29944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580680"/>
            <a:ext cx="740088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914400" cy="12430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"/>
          <p:cNvSpPr/>
          <p:nvPr/>
        </p:nvSpPr>
        <p:spPr>
          <a:xfrm>
            <a:off x="388800" y="581040"/>
            <a:ext cx="829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   примеры,    мной    овладели со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положившись на земляной насыпи, у зрителей был прекрасный обзор всего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глянув на урок, директору представилась интересная кар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лагодаря обучения в медицинском институте Устименко стал работать сельск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водя примеры истинной любви, многие учащиеся обращались к «Гранатовому браслет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здавая метеорологический прогноз, учёными обрабатывается большой статистически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спользуя языковые средства выразительности, текст выглядит более убед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зяв в 1552 году столицу Казанского ханства, Иван Грозный старался привлечь на свою сторону новых под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8460000" y="31352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304920" y="228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149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ремен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несённости глагольных фор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50920" y="1295280"/>
            <a:ext cx="8762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ые должны быть одного вида и одн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. вид                      несов.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Иванович приехал на работу и заходил   в каби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в                    наст.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нимательно слушали текст и  пересказывают   его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ступает  лето, мы поедем отдыхать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зни  случается  разное, но и были чуд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"/>
          <p:cNvSpPr/>
          <p:nvPr/>
        </p:nvSpPr>
        <p:spPr>
          <a:xfrm>
            <a:off x="5821200" y="3218040"/>
            <a:ext cx="24228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5"/>
          <p:cNvSpPr/>
          <p:nvPr/>
        </p:nvSpPr>
        <p:spPr>
          <a:xfrm>
            <a:off x="5886360" y="232236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7"/>
          <p:cNvSpPr/>
          <p:nvPr/>
        </p:nvSpPr>
        <p:spPr>
          <a:xfrm>
            <a:off x="1298520" y="477828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8"/>
          <p:cNvSpPr/>
          <p:nvPr/>
        </p:nvSpPr>
        <p:spPr>
          <a:xfrm>
            <a:off x="1752480" y="5562720"/>
            <a:ext cx="1600200" cy="56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у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80880" y="2895480"/>
            <a:ext cx="82296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-76320" y="708120"/>
            <a:ext cx="9220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1371600" y="0"/>
            <a:ext cx="79866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380880" y="735120"/>
            <a:ext cx="8433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рушение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ым прил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правильное употребл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ной формы существительного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шибка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епричастным об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реме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несён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ь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ушение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ным об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м и 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м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правильное построение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й ре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шибка в употреблении имен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шибка в постро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го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495440" cy="708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380880" y="304920"/>
            <a:ext cx="8382240" cy="69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н проталкивался к двери и кашляет от морозного воздух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ы - его ученики - шли на урок, чтобы послушать его, чтобы прикасаться к новому и неизведанному, чтобы поделиться тем, что нас волну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ртсмены, приехавшие на чемпионат, надеялись на победу и верят в неё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ожиданно для всех Рита позвонила и сообщила, что обе девочки уже до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м, к всеобщей радости, оплатили сверхурочную работу и отпустят отдыха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.М. Достоевский считал воз­можным счастье не только «в насла­ждениях любви, а и в высш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­монии духа» и восхищается поступ­ком Татьяны, не построившей свое­го личного счастья на несчастье друг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990720" y="22860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158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380880" y="14446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причастия в числе, роде и падеже  с определяемым словом. Ошибка – неверное согласование (неправильное оконч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ребят, гуляв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а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ребят (ка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), гуляв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ушение в построении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рот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Выгнутая вверх стрелка 3"/>
          <p:cNvSpPr/>
          <p:nvPr/>
        </p:nvSpPr>
        <p:spPr>
          <a:xfrm>
            <a:off x="2286000" y="3124080"/>
            <a:ext cx="2438280" cy="163800"/>
          </a:xfrm>
          <a:custGeom>
            <a:avLst/>
            <a:gdLst>
              <a:gd name="textAreaLeft" fmla="*/ 594000 w 2438280"/>
              <a:gd name="textAreaRight" fmla="*/ 1823760 w 2438280"/>
              <a:gd name="textAreaTop" fmla="*/ 21960 h 163800"/>
              <a:gd name="textAreaBottom" fmla="*/ 141840 h 163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29" hR="21600" stAng="10800000" swAng="5400000"/>
                <a:lnTo>
                  <a:pt x="10891" y="0"/>
                </a:lnTo>
                <a:arcTo wR="10529" hR="21600" stAng="-5400000" swAng="3725352"/>
                <a:lnTo>
                  <a:pt x="21266" y="16200"/>
                </a:lnTo>
                <a:lnTo>
                  <a:pt x="21238" y="21600"/>
                </a:lnTo>
                <a:lnTo>
                  <a:pt x="20542" y="16200"/>
                </a:lnTo>
                <a:lnTo>
                  <a:pt x="20723" y="16200"/>
                </a:lnTo>
                <a:arcTo wR="10529" hR="21600" stAng="-1674648" swAng="-3696541"/>
                <a:lnTo>
                  <a:pt x="10710" y="3"/>
                </a:lnTo>
                <a:arcTo wR="10529" hR="21600" stAng="-5428811" swAng="-5371189"/>
                <a:close/>
              </a:path>
              <a:path fill="darkenLess" w="21600" h="21600">
                <a:moveTo>
                  <a:pt x="0" y="21600"/>
                </a:moveTo>
                <a:arcTo wR="10529" hR="21600" stAng="10800000" swAng="5400000"/>
                <a:lnTo>
                  <a:pt x="10529" y="0"/>
                </a:lnTo>
                <a:arcTo wR="10529" hR="21600" stAng="-5400000" swAng="28811"/>
                <a:lnTo>
                  <a:pt x="10710" y="3"/>
                </a:lnTo>
                <a:arcTo wR="10529" hR="21600" stAng="-5428811" swAng="-537118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0480"/>
            <a:ext cx="1481040" cy="645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571680" y="29944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0" y="121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571680" y="125424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шибка в разрыве причастного об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играющих детей с машин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играющих с  машинкам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шибка в неверном употреблении з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я (страдательное или дей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впереди быстро построившееся здание. (Здание само построиться не мож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впереди быстро построенное з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376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ушение в построении предложения с причастным оборот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Умножение 11"/>
          <p:cNvSpPr/>
          <p:nvPr/>
        </p:nvSpPr>
        <p:spPr>
          <a:xfrm>
            <a:off x="4343400" y="1943280"/>
            <a:ext cx="407880" cy="266400"/>
          </a:xfrm>
          <a:custGeom>
            <a:avLst/>
            <a:gdLst/>
            <a:ahLst/>
            <a:rect l="l" t="t" r="r" b="b"/>
            <a:pathLst>
              <a:path w="407988" h="266700">
                <a:moveTo>
                  <a:pt x="89066" y="77704"/>
                </a:moveTo>
                <a:lnTo>
                  <a:pt x="106911" y="50405"/>
                </a:lnTo>
                <a:lnTo>
                  <a:pt x="203994" y="113868"/>
                </a:lnTo>
                <a:lnTo>
                  <a:pt x="301077" y="50405"/>
                </a:lnTo>
                <a:lnTo>
                  <a:pt x="318922" y="77704"/>
                </a:lnTo>
                <a:lnTo>
                  <a:pt x="233798" y="133350"/>
                </a:lnTo>
                <a:lnTo>
                  <a:pt x="318922" y="188996"/>
                </a:lnTo>
                <a:lnTo>
                  <a:pt x="301077" y="216295"/>
                </a:lnTo>
                <a:lnTo>
                  <a:pt x="203994" y="152832"/>
                </a:lnTo>
                <a:lnTo>
                  <a:pt x="106911" y="216295"/>
                </a:lnTo>
                <a:lnTo>
                  <a:pt x="89066" y="188996"/>
                </a:lnTo>
                <a:lnTo>
                  <a:pt x="174190" y="133350"/>
                </a:lnTo>
                <a:lnTo>
                  <a:pt x="89066" y="7770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Кенжегуль-Сапышевна\Desktop\Рисунок1.png"/>
          <p:cNvPicPr/>
          <p:nvPr/>
        </p:nvPicPr>
        <p:blipFill>
          <a:blip r:embed="rId2"/>
          <a:stretch/>
        </p:blipFill>
        <p:spPr>
          <a:xfrm>
            <a:off x="2438280" y="2505240"/>
            <a:ext cx="1451160" cy="164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Кенжегуль-Сапышевна\Desktop\Рисунок1.png"/>
          <p:cNvPicPr/>
          <p:nvPr/>
        </p:nvPicPr>
        <p:blipFill>
          <a:blip r:embed="rId3"/>
          <a:stretch/>
        </p:blipFill>
        <p:spPr>
          <a:xfrm>
            <a:off x="4876920" y="2517840"/>
            <a:ext cx="2120760" cy="23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Кенжегуль-Сапышевна\Desktop\Рисунок1.png"/>
          <p:cNvPicPr/>
          <p:nvPr/>
        </p:nvPicPr>
        <p:blipFill>
          <a:blip r:embed="rId4"/>
          <a:stretch/>
        </p:blipFill>
        <p:spPr>
          <a:xfrm>
            <a:off x="2438280" y="3456000"/>
            <a:ext cx="3810240" cy="214200"/>
          </a:xfrm>
          <a:prstGeom prst="rect">
            <a:avLst/>
          </a:prstGeom>
          <a:ln w="0">
            <a:noFill/>
          </a:ln>
        </p:spPr>
      </p:pic>
      <p:sp>
        <p:nvSpPr>
          <p:cNvPr id="171" name="Умножение 15"/>
          <p:cNvSpPr/>
          <p:nvPr/>
        </p:nvSpPr>
        <p:spPr>
          <a:xfrm>
            <a:off x="6400800" y="2860560"/>
            <a:ext cx="407880" cy="266760"/>
          </a:xfrm>
          <a:custGeom>
            <a:avLst/>
            <a:gdLst/>
            <a:ahLst/>
            <a:rect l="l" t="t" r="r" b="b"/>
            <a:pathLst>
              <a:path w="407988" h="266700">
                <a:moveTo>
                  <a:pt x="89066" y="77704"/>
                </a:moveTo>
                <a:lnTo>
                  <a:pt x="106911" y="50405"/>
                </a:lnTo>
                <a:lnTo>
                  <a:pt x="203994" y="113868"/>
                </a:lnTo>
                <a:lnTo>
                  <a:pt x="301077" y="50405"/>
                </a:lnTo>
                <a:lnTo>
                  <a:pt x="318922" y="77704"/>
                </a:lnTo>
                <a:lnTo>
                  <a:pt x="233798" y="133350"/>
                </a:lnTo>
                <a:lnTo>
                  <a:pt x="318922" y="188996"/>
                </a:lnTo>
                <a:lnTo>
                  <a:pt x="301077" y="216295"/>
                </a:lnTo>
                <a:lnTo>
                  <a:pt x="203994" y="152832"/>
                </a:lnTo>
                <a:lnTo>
                  <a:pt x="106911" y="216295"/>
                </a:lnTo>
                <a:lnTo>
                  <a:pt x="89066" y="188996"/>
                </a:lnTo>
                <a:lnTo>
                  <a:pt x="174190" y="133350"/>
                </a:lnTo>
                <a:lnTo>
                  <a:pt x="89066" y="7770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Кенжегуль-Сапышевна\Desktop\Рисунок1.png"/>
          <p:cNvPicPr/>
          <p:nvPr/>
        </p:nvPicPr>
        <p:blipFill>
          <a:blip r:embed="rId5"/>
          <a:stretch/>
        </p:blipFill>
        <p:spPr>
          <a:xfrm>
            <a:off x="3760920" y="5029200"/>
            <a:ext cx="3341520" cy="18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Кенжегуль-Сапышевна\Desktop\Рисунок1.png"/>
          <p:cNvPicPr/>
          <p:nvPr/>
        </p:nvPicPr>
        <p:blipFill>
          <a:blip r:embed="rId6"/>
          <a:stretch/>
        </p:blipFill>
        <p:spPr>
          <a:xfrm>
            <a:off x="3584520" y="5979960"/>
            <a:ext cx="3017880" cy="171720"/>
          </a:xfrm>
          <a:prstGeom prst="rect">
            <a:avLst/>
          </a:prstGeom>
          <a:ln w="0">
            <a:noFill/>
          </a:ln>
        </p:spPr>
      </p:pic>
      <p:sp>
        <p:nvSpPr>
          <p:cNvPr id="174" name="Умножение 18"/>
          <p:cNvSpPr/>
          <p:nvPr/>
        </p:nvSpPr>
        <p:spPr>
          <a:xfrm>
            <a:off x="7924680" y="4419720"/>
            <a:ext cx="408240" cy="438120"/>
          </a:xfrm>
          <a:custGeom>
            <a:avLst/>
            <a:gdLst/>
            <a:ahLst/>
            <a:rect l="l" t="t" r="r" b="b"/>
            <a:pathLst>
              <a:path w="407988" h="438150">
                <a:moveTo>
                  <a:pt x="79732" y="122233"/>
                </a:moveTo>
                <a:lnTo>
                  <a:pt x="116246" y="88232"/>
                </a:lnTo>
                <a:lnTo>
                  <a:pt x="203994" y="182468"/>
                </a:lnTo>
                <a:lnTo>
                  <a:pt x="291742" y="88232"/>
                </a:lnTo>
                <a:lnTo>
                  <a:pt x="328256" y="122233"/>
                </a:lnTo>
                <a:lnTo>
                  <a:pt x="238081" y="219075"/>
                </a:lnTo>
                <a:lnTo>
                  <a:pt x="328256" y="315917"/>
                </a:lnTo>
                <a:lnTo>
                  <a:pt x="291742" y="349918"/>
                </a:lnTo>
                <a:lnTo>
                  <a:pt x="203994" y="255682"/>
                </a:lnTo>
                <a:lnTo>
                  <a:pt x="116246" y="349918"/>
                </a:lnTo>
                <a:lnTo>
                  <a:pt x="79732" y="315917"/>
                </a:lnTo>
                <a:lnTo>
                  <a:pt x="169907" y="219075"/>
                </a:lnTo>
                <a:lnTo>
                  <a:pt x="79732" y="12223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множение 19"/>
          <p:cNvSpPr/>
          <p:nvPr/>
        </p:nvSpPr>
        <p:spPr>
          <a:xfrm>
            <a:off x="7099200" y="5486400"/>
            <a:ext cx="406440" cy="266760"/>
          </a:xfrm>
          <a:custGeom>
            <a:avLst/>
            <a:gdLst/>
            <a:ahLst/>
            <a:rect l="l" t="t" r="r" b="b"/>
            <a:pathLst>
              <a:path w="406400" h="266700">
                <a:moveTo>
                  <a:pt x="88660" y="77688"/>
                </a:moveTo>
                <a:lnTo>
                  <a:pt x="106554" y="50421"/>
                </a:lnTo>
                <a:lnTo>
                  <a:pt x="203200" y="113845"/>
                </a:lnTo>
                <a:lnTo>
                  <a:pt x="299846" y="50421"/>
                </a:lnTo>
                <a:lnTo>
                  <a:pt x="317740" y="77688"/>
                </a:lnTo>
                <a:lnTo>
                  <a:pt x="232922" y="133350"/>
                </a:lnTo>
                <a:lnTo>
                  <a:pt x="317740" y="189012"/>
                </a:lnTo>
                <a:lnTo>
                  <a:pt x="299846" y="216279"/>
                </a:lnTo>
                <a:lnTo>
                  <a:pt x="203200" y="152855"/>
                </a:lnTo>
                <a:lnTo>
                  <a:pt x="106554" y="216279"/>
                </a:lnTo>
                <a:lnTo>
                  <a:pt x="88660" y="189012"/>
                </a:lnTo>
                <a:lnTo>
                  <a:pt x="173478" y="133350"/>
                </a:lnTo>
                <a:lnTo>
                  <a:pt x="88660" y="77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380880" y="106668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яем причастие по суффиксам (-ущ-/-ющ-, -ащ-/-ящ-, -вш-/-ш-, -ом-/-ем-/-им-, -енн-/-нн-, -т-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ходим определяемое слово, задаем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ичастию, выясняем, нарушено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ил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согласование не нарушено, то нахо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ы причастного оборота, выясняем, есть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ыв ил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разрыва нет, то определяем за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м, есть ли ошибка ил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выполн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304920" y="152280"/>
            <a:ext cx="883908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«Василии Тёркине» автор восхищается подвигом русского солдата, сохраняющим верность долгу и отчиз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скользнувший человек мимо меня быстро скрылся за углом, так что я даже не успел разглядеть его как следу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овести «Капитанская дочка» имеется ряд эпизодов, указывающие не только на жестокость борющихся сторон, но и на их способность к милосердию и великодуш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 поэта-пророка, создан­ные Пушкиным, определял и его собственную жиз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дин из фактов биографии А.П. Чехова, ставшие недавно известными, - строительство им на свои средства пяти сельских шк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ногие критические замечания  были внесены в энциклопедию, подготовленной к переизд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поросших лугах буйной растительностью водилось множество пт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 столе стояли предназначенные для гостей столовые приб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озданный роман молодым автором вызывал оживленные сп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лека были видны плывущие бревна по 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453960" y="10666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жду подлежащим и сказуемым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нарушена в числе и 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рукции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кто …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…, …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…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как не …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733920" y="2103480"/>
            <a:ext cx="46656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– всегда ед.ч., 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т - ед.ч., 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, те – мн.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, кто опоздал, останутся посл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, кто опоздали, останется посл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то, как не мать, заботилась о ребе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Выгнутая вверх стрелка 3"/>
          <p:cNvSpPr/>
          <p:nvPr/>
        </p:nvSpPr>
        <p:spPr>
          <a:xfrm>
            <a:off x="685800" y="2705040"/>
            <a:ext cx="1905120" cy="133560"/>
          </a:xfrm>
          <a:custGeom>
            <a:avLst/>
            <a:gdLst>
              <a:gd name="textAreaLeft" fmla="*/ 463680 w 1905120"/>
              <a:gd name="textAreaRight" fmla="*/ 1424880 w 1905120"/>
              <a:gd name="textAreaTop" fmla="*/ 17640 h 133560"/>
              <a:gd name="textAreaBottom" fmla="*/ 115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7" hR="21600" stAng="10800000" swAng="5400000"/>
                <a:lnTo>
                  <a:pt x="10895" y="0"/>
                </a:lnTo>
                <a:arcTo wR="10517" hR="21600" stAng="-5400000" swAng="3723730"/>
                <a:lnTo>
                  <a:pt x="21266" y="16200"/>
                </a:lnTo>
                <a:lnTo>
                  <a:pt x="21222" y="21600"/>
                </a:lnTo>
                <a:lnTo>
                  <a:pt x="20510" y="16200"/>
                </a:lnTo>
                <a:lnTo>
                  <a:pt x="20699" y="16200"/>
                </a:lnTo>
                <a:arcTo wR="10517" hR="21600" stAng="-1676270" swAng="-3693645"/>
                <a:lnTo>
                  <a:pt x="10706" y="3"/>
                </a:lnTo>
                <a:arcTo wR="10517" hR="21600" stAng="-5430084" swAng="-5369916"/>
                <a:close/>
              </a:path>
              <a:path fill="darkenLess" w="21600" h="21600">
                <a:moveTo>
                  <a:pt x="0" y="21600"/>
                </a:moveTo>
                <a:arcTo wR="10517" hR="21600" stAng="10800000" swAng="5400000"/>
                <a:lnTo>
                  <a:pt x="10517" y="0"/>
                </a:lnTo>
                <a:arcTo wR="10517" hR="21600" stAng="-5400000" swAng="30084"/>
                <a:lnTo>
                  <a:pt x="10706" y="3"/>
                </a:lnTo>
                <a:arcTo wR="10517" hR="21600" stAng="-5430084" swAng="-5369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Выгнутая вверх стрелка 6"/>
          <p:cNvSpPr/>
          <p:nvPr/>
        </p:nvSpPr>
        <p:spPr>
          <a:xfrm>
            <a:off x="928800" y="3611520"/>
            <a:ext cx="1904760" cy="133560"/>
          </a:xfrm>
          <a:custGeom>
            <a:avLst/>
            <a:gdLst>
              <a:gd name="textAreaLeft" fmla="*/ 463680 w 1904760"/>
              <a:gd name="textAreaRight" fmla="*/ 1424520 w 1904760"/>
              <a:gd name="textAreaTop" fmla="*/ 17640 h 133560"/>
              <a:gd name="textAreaBottom" fmla="*/ 115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7" hR="21600" stAng="10800000" swAng="5400000"/>
                <a:lnTo>
                  <a:pt x="10895" y="0"/>
                </a:lnTo>
                <a:arcTo wR="10517" hR="21600" stAng="-5400000" swAng="3723730"/>
                <a:lnTo>
                  <a:pt x="21266" y="16200"/>
                </a:lnTo>
                <a:lnTo>
                  <a:pt x="21222" y="21600"/>
                </a:lnTo>
                <a:lnTo>
                  <a:pt x="20510" y="16200"/>
                </a:lnTo>
                <a:lnTo>
                  <a:pt x="20699" y="16200"/>
                </a:lnTo>
                <a:arcTo wR="10517" hR="21600" stAng="-1676270" swAng="-3693645"/>
                <a:lnTo>
                  <a:pt x="10706" y="3"/>
                </a:lnTo>
                <a:arcTo wR="10517" hR="21600" stAng="-5430084" swAng="-5369916"/>
                <a:close/>
              </a:path>
              <a:path fill="darkenLess" w="21600" h="21600">
                <a:moveTo>
                  <a:pt x="0" y="21600"/>
                </a:moveTo>
                <a:arcTo wR="10517" hR="21600" stAng="10800000" swAng="5400000"/>
                <a:lnTo>
                  <a:pt x="10517" y="0"/>
                </a:lnTo>
                <a:arcTo wR="10517" hR="21600" stAng="-5400000" swAng="30084"/>
                <a:lnTo>
                  <a:pt x="10706" y="3"/>
                </a:lnTo>
                <a:arcTo wR="10517" hR="21600" stAng="-5430084" swAng="-5369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Выгнутая вверх стрелка 7"/>
          <p:cNvSpPr/>
          <p:nvPr/>
        </p:nvSpPr>
        <p:spPr>
          <a:xfrm>
            <a:off x="716040" y="4419720"/>
            <a:ext cx="1904760" cy="133200"/>
          </a:xfrm>
          <a:custGeom>
            <a:avLst/>
            <a:gdLst>
              <a:gd name="textAreaLeft" fmla="*/ 463680 w 1904760"/>
              <a:gd name="textAreaRight" fmla="*/ 1424520 w 1904760"/>
              <a:gd name="textAreaTop" fmla="*/ 17640 h 133200"/>
              <a:gd name="textAreaBottom" fmla="*/ 115560 h 13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7" hR="21600" stAng="10800000" swAng="5400000"/>
                <a:lnTo>
                  <a:pt x="10895" y="0"/>
                </a:lnTo>
                <a:arcTo wR="10517" hR="21600" stAng="-5400000" swAng="3723730"/>
                <a:lnTo>
                  <a:pt x="21266" y="16200"/>
                </a:lnTo>
                <a:lnTo>
                  <a:pt x="21222" y="21600"/>
                </a:lnTo>
                <a:lnTo>
                  <a:pt x="20510" y="16200"/>
                </a:lnTo>
                <a:lnTo>
                  <a:pt x="20699" y="16200"/>
                </a:lnTo>
                <a:arcTo wR="10517" hR="21600" stAng="-1676270" swAng="-3693645"/>
                <a:lnTo>
                  <a:pt x="10706" y="3"/>
                </a:lnTo>
                <a:arcTo wR="10517" hR="21600" stAng="-5430084" swAng="-5369916"/>
                <a:close/>
              </a:path>
              <a:path fill="darkenLess" w="21600" h="21600">
                <a:moveTo>
                  <a:pt x="0" y="21600"/>
                </a:moveTo>
                <a:arcTo wR="10517" hR="21600" stAng="10800000" swAng="5400000"/>
                <a:lnTo>
                  <a:pt x="10517" y="0"/>
                </a:lnTo>
                <a:arcTo wR="10517" hR="21600" stAng="-5400000" swAng="30084"/>
                <a:lnTo>
                  <a:pt x="10706" y="3"/>
                </a:lnTo>
                <a:arcTo wR="10517" hR="21600" stAng="-5430084" swAng="-5369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Выгнутая вверх стрелка 8"/>
          <p:cNvSpPr/>
          <p:nvPr/>
        </p:nvSpPr>
        <p:spPr>
          <a:xfrm>
            <a:off x="928800" y="5348160"/>
            <a:ext cx="2119320" cy="133560"/>
          </a:xfrm>
          <a:custGeom>
            <a:avLst/>
            <a:gdLst>
              <a:gd name="textAreaLeft" fmla="*/ 517320 w 2119320"/>
              <a:gd name="textAreaRight" fmla="*/ 1585440 w 2119320"/>
              <a:gd name="textAreaTop" fmla="*/ 17640 h 133560"/>
              <a:gd name="textAreaBottom" fmla="*/ 115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45" hR="21600" stAng="10800000" swAng="5400000"/>
                <a:lnTo>
                  <a:pt x="10885" y="0"/>
                </a:lnTo>
                <a:arcTo wR="10545" hR="21600" stAng="-5400000" swAng="3727578"/>
                <a:lnTo>
                  <a:pt x="21265" y="16200"/>
                </a:lnTo>
                <a:lnTo>
                  <a:pt x="21260" y="21600"/>
                </a:lnTo>
                <a:lnTo>
                  <a:pt x="20585" y="16200"/>
                </a:lnTo>
                <a:lnTo>
                  <a:pt x="20755" y="16200"/>
                </a:lnTo>
                <a:arcTo wR="10545" hR="21600" stAng="-1672422" swAng="-3700518"/>
                <a:lnTo>
                  <a:pt x="10715" y="3"/>
                </a:lnTo>
                <a:arcTo wR="10545" hR="21600" stAng="-5427059" swAng="-5372941"/>
                <a:close/>
              </a:path>
              <a:path fill="darkenLess" w="21600" h="21600">
                <a:moveTo>
                  <a:pt x="0" y="21600"/>
                </a:moveTo>
                <a:arcTo wR="10545" hR="21600" stAng="10800000" swAng="5400000"/>
                <a:lnTo>
                  <a:pt x="10545" y="0"/>
                </a:lnTo>
                <a:arcTo wR="10545" hR="21600" stAng="-5400000" swAng="27059"/>
                <a:lnTo>
                  <a:pt x="10715" y="3"/>
                </a:lnTo>
                <a:arcTo wR="10545" hR="21600" stAng="-5427059" swAng="-537294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гнутая вниз стрелка 4"/>
          <p:cNvSpPr/>
          <p:nvPr/>
        </p:nvSpPr>
        <p:spPr>
          <a:xfrm>
            <a:off x="1112760" y="3173400"/>
            <a:ext cx="677880" cy="103320"/>
          </a:xfrm>
          <a:custGeom>
            <a:avLst/>
            <a:gdLst>
              <a:gd name="textAreaLeft" fmla="*/ 159840 w 677880"/>
              <a:gd name="textAreaRight" fmla="*/ 505440 w 677880"/>
              <a:gd name="textAreaTop" fmla="*/ 13680 h 103320"/>
              <a:gd name="textAreaBottom" fmla="*/ 8964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-3677534"/>
                <a:lnTo>
                  <a:pt x="21277" y="5400"/>
                </a:lnTo>
                <a:lnTo>
                  <a:pt x="20778" y="0"/>
                </a:lnTo>
                <a:lnTo>
                  <a:pt x="19633" y="5400"/>
                </a:lnTo>
                <a:lnTo>
                  <a:pt x="20044" y="5400"/>
                </a:lnTo>
                <a:arcTo wR="10184" hR="21600" stAng="1722466" swAng="3612076"/>
                <a:lnTo>
                  <a:pt x="10595" y="21582"/>
                </a:lnTo>
                <a:arcTo wR="10184" hR="21600" stAng="5465458" swAng="5334542"/>
                <a:close/>
              </a:path>
              <a:path fill="darkenLess"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65458"/>
                <a:lnTo>
                  <a:pt x="10595" y="21582"/>
                </a:lnTo>
                <a:arcTo wR="10184" hR="21600" stAng="5465458" swAng="533454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Выгнутая вниз стрелка 10"/>
          <p:cNvSpPr/>
          <p:nvPr/>
        </p:nvSpPr>
        <p:spPr>
          <a:xfrm>
            <a:off x="1363680" y="4038480"/>
            <a:ext cx="677880" cy="50760"/>
          </a:xfrm>
          <a:custGeom>
            <a:avLst/>
            <a:gdLst>
              <a:gd name="textAreaLeft" fmla="*/ 164520 w 677880"/>
              <a:gd name="textAreaRight" fmla="*/ 506880 w 677880"/>
              <a:gd name="textAreaTop" fmla="*/ 6840 h 50760"/>
              <a:gd name="textAreaBottom" fmla="*/ 43920 h 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97" hR="21600" stAng="10800000" swAng="-5400000"/>
                <a:lnTo>
                  <a:pt x="10902" y="21600"/>
                </a:lnTo>
                <a:arcTo wR="10497" hR="21600" stAng="5400000" swAng="-3721019"/>
                <a:lnTo>
                  <a:pt x="21267" y="5400"/>
                </a:lnTo>
                <a:lnTo>
                  <a:pt x="21196" y="0"/>
                </a:lnTo>
                <a:lnTo>
                  <a:pt x="20458" y="5400"/>
                </a:lnTo>
                <a:lnTo>
                  <a:pt x="20660" y="5400"/>
                </a:lnTo>
                <a:arcTo wR="10497" hR="21600" stAng="1678981" swAng="3688786"/>
                <a:lnTo>
                  <a:pt x="10699" y="21596"/>
                </a:lnTo>
                <a:arcTo wR="10497" hR="21600" stAng="5432234" swAng="5367766"/>
                <a:close/>
              </a:path>
              <a:path fill="darkenLess" w="21600" h="21600">
                <a:moveTo>
                  <a:pt x="0" y="0"/>
                </a:moveTo>
                <a:arcTo wR="10497" hR="21600" stAng="10800000" swAng="-5400000"/>
                <a:lnTo>
                  <a:pt x="10902" y="21600"/>
                </a:lnTo>
                <a:arcTo wR="10497" hR="21600" stAng="5400000" swAng="32234"/>
                <a:lnTo>
                  <a:pt x="10699" y="21596"/>
                </a:lnTo>
                <a:arcTo wR="10497" hR="21600" stAng="5432234" swAng="536776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гнутая вниз стрелка 11"/>
          <p:cNvSpPr/>
          <p:nvPr/>
        </p:nvSpPr>
        <p:spPr>
          <a:xfrm>
            <a:off x="1398600" y="4952880"/>
            <a:ext cx="677880" cy="103320"/>
          </a:xfrm>
          <a:custGeom>
            <a:avLst/>
            <a:gdLst>
              <a:gd name="textAreaLeft" fmla="*/ 159840 w 677880"/>
              <a:gd name="textAreaRight" fmla="*/ 505440 w 677880"/>
              <a:gd name="textAreaTop" fmla="*/ 13680 h 103320"/>
              <a:gd name="textAreaBottom" fmla="*/ 8964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-3677534"/>
                <a:lnTo>
                  <a:pt x="21277" y="5400"/>
                </a:lnTo>
                <a:lnTo>
                  <a:pt x="20778" y="0"/>
                </a:lnTo>
                <a:lnTo>
                  <a:pt x="19633" y="5400"/>
                </a:lnTo>
                <a:lnTo>
                  <a:pt x="20044" y="5400"/>
                </a:lnTo>
                <a:arcTo wR="10184" hR="21600" stAng="1722466" swAng="3612076"/>
                <a:lnTo>
                  <a:pt x="10595" y="21582"/>
                </a:lnTo>
                <a:arcTo wR="10184" hR="21600" stAng="5465458" swAng="5334542"/>
                <a:close/>
              </a:path>
              <a:path fill="darkenLess"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65458"/>
                <a:lnTo>
                  <a:pt x="10595" y="21582"/>
                </a:lnTo>
                <a:arcTo wR="10184" hR="21600" stAng="5465458" swAng="533454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гнутая вниз стрелка 12"/>
          <p:cNvSpPr/>
          <p:nvPr/>
        </p:nvSpPr>
        <p:spPr>
          <a:xfrm>
            <a:off x="1450800" y="5796000"/>
            <a:ext cx="1140120" cy="103320"/>
          </a:xfrm>
          <a:custGeom>
            <a:avLst/>
            <a:gdLst>
              <a:gd name="textAreaLeft" fmla="*/ 275400 w 1140120"/>
              <a:gd name="textAreaRight" fmla="*/ 851760 w 1140120"/>
              <a:gd name="textAreaTop" fmla="*/ 13680 h 103320"/>
              <a:gd name="textAreaBottom" fmla="*/ 8964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34" hR="21600" stAng="10800000" swAng="-5400000"/>
                <a:lnTo>
                  <a:pt x="10922" y="21600"/>
                </a:lnTo>
                <a:arcTo wR="10434" hR="21600" stAng="5400000" swAng="-3712430"/>
                <a:lnTo>
                  <a:pt x="21269" y="5400"/>
                </a:lnTo>
                <a:lnTo>
                  <a:pt x="21111" y="0"/>
                </a:lnTo>
                <a:lnTo>
                  <a:pt x="20291" y="5400"/>
                </a:lnTo>
                <a:lnTo>
                  <a:pt x="20536" y="5400"/>
                </a:lnTo>
                <a:arcTo wR="10434" hR="21600" stAng="1687570" swAng="3673587"/>
                <a:lnTo>
                  <a:pt x="10678" y="21594"/>
                </a:lnTo>
                <a:arcTo wR="10434" hR="21600" stAng="5438843" swAng="5361157"/>
                <a:close/>
              </a:path>
              <a:path fill="darkenLess" w="21600" h="21600">
                <a:moveTo>
                  <a:pt x="0" y="0"/>
                </a:moveTo>
                <a:arcTo wR="10434" hR="21600" stAng="10800000" swAng="-5400000"/>
                <a:lnTo>
                  <a:pt x="10922" y="21600"/>
                </a:lnTo>
                <a:arcTo wR="10434" hR="21600" stAng="5400000" swAng="38843"/>
                <a:lnTo>
                  <a:pt x="10678" y="21594"/>
                </a:lnTo>
                <a:arcTo wR="10434" hR="21600" stAng="5438843" swAng="53611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ыгнутая вверх стрелка 17"/>
          <p:cNvSpPr/>
          <p:nvPr/>
        </p:nvSpPr>
        <p:spPr>
          <a:xfrm>
            <a:off x="4568760" y="3851280"/>
            <a:ext cx="3584520" cy="237960"/>
          </a:xfrm>
          <a:custGeom>
            <a:avLst/>
            <a:gdLst>
              <a:gd name="textAreaLeft" fmla="*/ 873720 w 3584520"/>
              <a:gd name="textAreaRight" fmla="*/ 2680920 w 3584520"/>
              <a:gd name="textAreaTop" fmla="*/ 31680 h 237960"/>
              <a:gd name="textAreaBottom" fmla="*/ 206280 h 23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31" hR="21600" stAng="10800000" swAng="5400000"/>
                <a:lnTo>
                  <a:pt x="10890" y="0"/>
                </a:lnTo>
                <a:arcTo wR="10531" hR="21600" stAng="-5400000" swAng="3725689"/>
                <a:lnTo>
                  <a:pt x="21266" y="16200"/>
                </a:lnTo>
                <a:lnTo>
                  <a:pt x="21242" y="21600"/>
                </a:lnTo>
                <a:lnTo>
                  <a:pt x="20549" y="16200"/>
                </a:lnTo>
                <a:lnTo>
                  <a:pt x="20728" y="16200"/>
                </a:lnTo>
                <a:arcTo wR="10531" hR="21600" stAng="-1674311" swAng="-3697118"/>
                <a:lnTo>
                  <a:pt x="10711" y="3"/>
                </a:lnTo>
                <a:arcTo wR="10531" hR="21600" stAng="-5428572" swAng="-5371428"/>
                <a:close/>
              </a:path>
              <a:path fill="darkenLess" w="21600" h="21600">
                <a:moveTo>
                  <a:pt x="0" y="21600"/>
                </a:moveTo>
                <a:arcTo wR="10531" hR="21600" stAng="10800000" swAng="5400000"/>
                <a:lnTo>
                  <a:pt x="10531" y="0"/>
                </a:lnTo>
                <a:arcTo wR="10531" hR="21600" stAng="-5400000" swAng="28572"/>
                <a:lnTo>
                  <a:pt x="10711" y="3"/>
                </a:lnTo>
                <a:arcTo wR="10531" hR="21600" stAng="-5428572" swAng="-537142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Выгнутая вверх стрелка 20"/>
          <p:cNvSpPr/>
          <p:nvPr/>
        </p:nvSpPr>
        <p:spPr>
          <a:xfrm>
            <a:off x="4446720" y="4772160"/>
            <a:ext cx="3584520" cy="239400"/>
          </a:xfrm>
          <a:custGeom>
            <a:avLst/>
            <a:gdLst>
              <a:gd name="textAreaLeft" fmla="*/ 873720 w 3584520"/>
              <a:gd name="textAreaRight" fmla="*/ 2680920 w 3584520"/>
              <a:gd name="textAreaTop" fmla="*/ 32040 h 239400"/>
              <a:gd name="textAreaBottom" fmla="*/ 207360 h 23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29" hR="21600" stAng="10800000" swAng="5400000"/>
                <a:lnTo>
                  <a:pt x="10891" y="0"/>
                </a:lnTo>
                <a:arcTo wR="10529" hR="21600" stAng="-5400000" swAng="3725419"/>
                <a:lnTo>
                  <a:pt x="21266" y="16200"/>
                </a:lnTo>
                <a:lnTo>
                  <a:pt x="21239" y="21600"/>
                </a:lnTo>
                <a:lnTo>
                  <a:pt x="20544" y="16200"/>
                </a:lnTo>
                <a:lnTo>
                  <a:pt x="20724" y="16200"/>
                </a:lnTo>
                <a:arcTo wR="10529" hR="21600" stAng="-1674581" swAng="-3696609"/>
                <a:lnTo>
                  <a:pt x="10710" y="3"/>
                </a:lnTo>
                <a:arcTo wR="10529" hR="21600" stAng="-5428811" swAng="-5371189"/>
                <a:close/>
              </a:path>
              <a:path fill="darkenLess" w="21600" h="21600">
                <a:moveTo>
                  <a:pt x="0" y="21600"/>
                </a:moveTo>
                <a:arcTo wR="10529" hR="21600" stAng="10800000" swAng="5400000"/>
                <a:lnTo>
                  <a:pt x="10529" y="0"/>
                </a:lnTo>
                <a:arcTo wR="10529" hR="21600" stAng="-5400000" swAng="28811"/>
                <a:lnTo>
                  <a:pt x="10710" y="3"/>
                </a:lnTo>
                <a:arcTo wR="10529" hR="21600" stAng="-5428811" swAng="-537118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Выгнутая вверх стрелка 21"/>
          <p:cNvSpPr/>
          <p:nvPr/>
        </p:nvSpPr>
        <p:spPr>
          <a:xfrm>
            <a:off x="4419720" y="5556240"/>
            <a:ext cx="3584520" cy="239760"/>
          </a:xfrm>
          <a:custGeom>
            <a:avLst/>
            <a:gdLst>
              <a:gd name="textAreaLeft" fmla="*/ 873720 w 3584520"/>
              <a:gd name="textAreaRight" fmla="*/ 2680920 w 3584520"/>
              <a:gd name="textAreaTop" fmla="*/ 32040 h 239760"/>
              <a:gd name="textAreaBottom" fmla="*/ 2077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29" hR="21600" stAng="10800000" swAng="5400000"/>
                <a:lnTo>
                  <a:pt x="10891" y="0"/>
                </a:lnTo>
                <a:arcTo wR="10529" hR="21600" stAng="-5400000" swAng="3725419"/>
                <a:lnTo>
                  <a:pt x="21266" y="16200"/>
                </a:lnTo>
                <a:lnTo>
                  <a:pt x="21239" y="21600"/>
                </a:lnTo>
                <a:lnTo>
                  <a:pt x="20544" y="16200"/>
                </a:lnTo>
                <a:lnTo>
                  <a:pt x="20724" y="16200"/>
                </a:lnTo>
                <a:arcTo wR="10529" hR="21600" stAng="-1674581" swAng="-3696609"/>
                <a:lnTo>
                  <a:pt x="10710" y="3"/>
                </a:lnTo>
                <a:arcTo wR="10529" hR="21600" stAng="-5428811" swAng="-5371189"/>
                <a:close/>
              </a:path>
              <a:path fill="darkenLess" w="21600" h="21600">
                <a:moveTo>
                  <a:pt x="0" y="21600"/>
                </a:moveTo>
                <a:arcTo wR="10529" hR="21600" stAng="10800000" swAng="5400000"/>
                <a:lnTo>
                  <a:pt x="10529" y="0"/>
                </a:lnTo>
                <a:arcTo wR="10529" hR="21600" stAng="-5400000" swAng="28811"/>
                <a:lnTo>
                  <a:pt x="10710" y="3"/>
                </a:lnTo>
                <a:arcTo wR="10529" hR="21600" stAng="-5428811" swAng="-537118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Выгнутая вниз стрелка 22"/>
          <p:cNvSpPr/>
          <p:nvPr/>
        </p:nvSpPr>
        <p:spPr>
          <a:xfrm>
            <a:off x="5019840" y="5284800"/>
            <a:ext cx="1218960" cy="98280"/>
          </a:xfrm>
          <a:custGeom>
            <a:avLst/>
            <a:gdLst>
              <a:gd name="textAreaLeft" fmla="*/ 295560 w 1218960"/>
              <a:gd name="textAreaRight" fmla="*/ 911160 w 1218960"/>
              <a:gd name="textAreaTop" fmla="*/ 12960 h 98280"/>
              <a:gd name="textAreaBottom" fmla="*/ 85320 h 9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73" hR="21600" stAng="10800000" swAng="-5400000"/>
                <a:lnTo>
                  <a:pt x="10909" y="21600"/>
                </a:lnTo>
                <a:arcTo wR="10473" hR="21600" stAng="5400000" swAng="-3717825"/>
                <a:lnTo>
                  <a:pt x="21267" y="5400"/>
                </a:lnTo>
                <a:lnTo>
                  <a:pt x="21164" y="0"/>
                </a:lnTo>
                <a:lnTo>
                  <a:pt x="20395" y="5400"/>
                </a:lnTo>
                <a:lnTo>
                  <a:pt x="20613" y="5400"/>
                </a:lnTo>
                <a:arcTo wR="10473" hR="21600" stAng="1682175" swAng="3683123"/>
                <a:lnTo>
                  <a:pt x="10691" y="21595"/>
                </a:lnTo>
                <a:arcTo wR="10473" hR="21600" stAng="5434702" swAng="5365298"/>
                <a:close/>
              </a:path>
              <a:path fill="darkenLess" w="21600" h="21600">
                <a:moveTo>
                  <a:pt x="0" y="0"/>
                </a:moveTo>
                <a:arcTo wR="10473" hR="21600" stAng="10800000" swAng="-5400000"/>
                <a:lnTo>
                  <a:pt x="10909" y="21600"/>
                </a:lnTo>
                <a:arcTo wR="10473" hR="21600" stAng="5400000" swAng="34702"/>
                <a:lnTo>
                  <a:pt x="10691" y="21595"/>
                </a:lnTo>
                <a:arcTo wR="10473" hR="21600" stAng="5434702" swAng="53652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 и сказуемо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гласован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533520" y="2736720"/>
            <a:ext cx="8076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пришёл в театр,  был в восто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пришёл в театр,  были в восто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614520" y="2895480"/>
            <a:ext cx="5867280" cy="1295280"/>
            <a:chOff x="614520" y="2895480"/>
            <a:chExt cx="5867280" cy="1295280"/>
          </a:xfrm>
        </p:grpSpPr>
        <p:sp>
          <p:nvSpPr>
            <p:cNvPr id="198" name="Line 5"/>
            <p:cNvSpPr/>
            <p:nvPr/>
          </p:nvSpPr>
          <p:spPr>
            <a:xfrm>
              <a:off x="614520" y="3581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1452600" y="3581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2214720" y="35812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2214720" y="37339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5491080" y="35812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>
              <a:off x="5491080" y="37339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5"/>
            <p:cNvGrpSpPr/>
            <p:nvPr/>
          </p:nvGrpSpPr>
          <p:grpSpPr>
            <a:xfrm>
              <a:off x="919080" y="3809520"/>
              <a:ext cx="5105160" cy="381240"/>
              <a:chOff x="919080" y="3809520"/>
              <a:chExt cx="5105160" cy="381240"/>
            </a:xfrm>
          </p:grpSpPr>
          <p:sp>
            <p:nvSpPr>
              <p:cNvPr id="205" name="Line 16"/>
              <p:cNvSpPr/>
              <p:nvPr/>
            </p:nvSpPr>
            <p:spPr>
              <a:xfrm>
                <a:off x="919080" y="4190760"/>
                <a:ext cx="510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919080" y="3809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6024240" y="3809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23"/>
            <p:cNvSpPr/>
            <p:nvPr/>
          </p:nvSpPr>
          <p:spPr>
            <a:xfrm>
              <a:off x="1681200" y="2895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" name="Прямая со стрелкой 31"/>
          <p:cNvCxnSpPr>
            <a:stCxn id="208" idx="0"/>
          </p:cNvCxnSpPr>
          <p:nvPr/>
        </p:nvCxnSpPr>
        <p:spPr>
          <a:xfrm>
            <a:off x="3128760" y="2895120"/>
            <a:ext cx="1080" cy="25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0" name="TextBox 36"/>
          <p:cNvSpPr/>
          <p:nvPr/>
        </p:nvSpPr>
        <p:spPr>
          <a:xfrm>
            <a:off x="694440" y="15588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пришли в театр,  были в восто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544680" y="4981680"/>
            <a:ext cx="5867280" cy="1294920"/>
            <a:chOff x="544680" y="4981680"/>
            <a:chExt cx="5867280" cy="1294920"/>
          </a:xfrm>
        </p:grpSpPr>
        <p:sp>
          <p:nvSpPr>
            <p:cNvPr id="212" name="Line 5"/>
            <p:cNvSpPr/>
            <p:nvPr/>
          </p:nvSpPr>
          <p:spPr>
            <a:xfrm>
              <a:off x="544680" y="5667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1382760" y="5667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>
              <a:off x="2144880" y="56671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2144880" y="58197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>
              <a:off x="5421240" y="5667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5421240" y="58197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5"/>
            <p:cNvGrpSpPr/>
            <p:nvPr/>
          </p:nvGrpSpPr>
          <p:grpSpPr>
            <a:xfrm>
              <a:off x="849240" y="5895720"/>
              <a:ext cx="5105160" cy="380880"/>
              <a:chOff x="849240" y="5895720"/>
              <a:chExt cx="5105160" cy="380880"/>
            </a:xfrm>
          </p:grpSpPr>
          <p:sp>
            <p:nvSpPr>
              <p:cNvPr id="219" name="Line 16"/>
              <p:cNvSpPr/>
              <p:nvPr/>
            </p:nvSpPr>
            <p:spPr>
              <a:xfrm>
                <a:off x="849240" y="6276600"/>
                <a:ext cx="510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7"/>
              <p:cNvSpPr/>
              <p:nvPr/>
            </p:nvSpPr>
            <p:spPr>
              <a:xfrm flipV="1">
                <a:off x="849240" y="5895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 flipV="1">
                <a:off x="5954400" y="5895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Line 23"/>
            <p:cNvSpPr/>
            <p:nvPr/>
          </p:nvSpPr>
          <p:spPr>
            <a:xfrm>
              <a:off x="1611360" y="49816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576360" y="1363680"/>
            <a:ext cx="5867280" cy="1294920"/>
            <a:chOff x="576360" y="1363680"/>
            <a:chExt cx="5867280" cy="1294920"/>
          </a:xfrm>
        </p:grpSpPr>
        <p:sp>
          <p:nvSpPr>
            <p:cNvPr id="224" name="Line 5"/>
            <p:cNvSpPr/>
            <p:nvPr/>
          </p:nvSpPr>
          <p:spPr>
            <a:xfrm>
              <a:off x="576360" y="2049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1414440" y="204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2176560" y="20491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>
              <a:off x="2176560" y="22017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5452920" y="2049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5452920" y="22017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5"/>
            <p:cNvGrpSpPr/>
            <p:nvPr/>
          </p:nvGrpSpPr>
          <p:grpSpPr>
            <a:xfrm>
              <a:off x="880920" y="2277720"/>
              <a:ext cx="5105160" cy="380880"/>
              <a:chOff x="880920" y="2277720"/>
              <a:chExt cx="5105160" cy="380880"/>
            </a:xfrm>
          </p:grpSpPr>
          <p:sp>
            <p:nvSpPr>
              <p:cNvPr id="231" name="Line 16"/>
              <p:cNvSpPr/>
              <p:nvPr/>
            </p:nvSpPr>
            <p:spPr>
              <a:xfrm>
                <a:off x="880920" y="2658600"/>
                <a:ext cx="510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 flipV="1">
                <a:off x="880920" y="2277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 flipV="1">
                <a:off x="5986080" y="2277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3"/>
            <p:cNvSpPr/>
            <p:nvPr/>
          </p:nvSpPr>
          <p:spPr>
            <a:xfrm>
              <a:off x="1643040" y="13636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45720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потреб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оня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х (нарушение р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звания животных: какаду, пони, шимпан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 – 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звания продуктов, растений: кольраб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коли – ж.р, салями – ж.р., сулугуни – 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еографические названия: Баку, Сочи – м.р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сипи, Миссури – 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реве сидел шимпан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  катала  в  парке  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6"/>
          <p:cNvSpPr/>
          <p:nvPr/>
        </p:nvSpPr>
        <p:spPr>
          <a:xfrm>
            <a:off x="3200400" y="5238720"/>
            <a:ext cx="1130400" cy="4572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т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380880" y="1295280"/>
            <a:ext cx="83822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отребление аббревиатур (нарушение р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ИМО  сообщило  о результа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ИМО - Московский государственный институт международных отношений (м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сообщил о сроках дополнительного вступительного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– Московский государственный университет (м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 направил   отряд спасателей в неблагоприятный рай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– Министерство чрезвычайных ситуаций (ср.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ДД   сообщил  о статистике аварий на дор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ДД – Государственная инспекция безопасности дорожного движения (ж.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Д  предупредил  консульство соседних стр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Д – Министерство иностранных дел (ср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6"/>
          <p:cNvSpPr/>
          <p:nvPr/>
        </p:nvSpPr>
        <p:spPr>
          <a:xfrm>
            <a:off x="1752480" y="175248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общи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7"/>
          <p:cNvSpPr/>
          <p:nvPr/>
        </p:nvSpPr>
        <p:spPr>
          <a:xfrm>
            <a:off x="1154160" y="4019400"/>
            <a:ext cx="1600200" cy="3240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прави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8"/>
          <p:cNvSpPr/>
          <p:nvPr/>
        </p:nvSpPr>
        <p:spPr>
          <a:xfrm>
            <a:off x="1424160" y="4778280"/>
            <a:ext cx="1409400" cy="3049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общ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9"/>
          <p:cNvSpPr/>
          <p:nvPr/>
        </p:nvSpPr>
        <p:spPr>
          <a:xfrm>
            <a:off x="1138320" y="5867280"/>
            <a:ext cx="1981080" cy="335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упреди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228600" y="9907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согласования в числе (подлежащее выражено существительным, сказуемое – глагол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го и громко смеял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есть уточняющие члены предложения 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, а особенно младшие дети, ждали наступления Нового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четания числительного и существите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подошли сорок один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ило на концерте двадцать три 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прошли  сто лет со дня рождения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предметов стояли на п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учеников сдало  сочинения на провер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7"/>
          <p:cNvSpPr/>
          <p:nvPr/>
        </p:nvSpPr>
        <p:spPr>
          <a:xfrm>
            <a:off x="6019920" y="3581280"/>
            <a:ext cx="1066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0"/>
          <p:cNvSpPr/>
          <p:nvPr/>
        </p:nvSpPr>
        <p:spPr>
          <a:xfrm>
            <a:off x="6019920" y="3733920"/>
            <a:ext cx="1066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>
            <a:off x="990720" y="3581280"/>
            <a:ext cx="9144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7"/>
          <p:cNvSpPr/>
          <p:nvPr/>
        </p:nvSpPr>
        <p:spPr>
          <a:xfrm>
            <a:off x="395280" y="5249880"/>
            <a:ext cx="15098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419040" y="5403960"/>
            <a:ext cx="14860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9"/>
          <p:cNvSpPr/>
          <p:nvPr/>
        </p:nvSpPr>
        <p:spPr>
          <a:xfrm>
            <a:off x="1233360" y="4842000"/>
            <a:ext cx="13431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0"/>
          <p:cNvSpPr/>
          <p:nvPr/>
        </p:nvSpPr>
        <p:spPr>
          <a:xfrm>
            <a:off x="1069920" y="5715000"/>
            <a:ext cx="11192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1"/>
          <p:cNvSpPr/>
          <p:nvPr/>
        </p:nvSpPr>
        <p:spPr>
          <a:xfrm>
            <a:off x="1008000" y="5864400"/>
            <a:ext cx="1143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22"/>
          <p:cNvSpPr/>
          <p:nvPr/>
        </p:nvSpPr>
        <p:spPr>
          <a:xfrm>
            <a:off x="395280" y="6172200"/>
            <a:ext cx="35672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23"/>
          <p:cNvSpPr/>
          <p:nvPr/>
        </p:nvSpPr>
        <p:spPr>
          <a:xfrm>
            <a:off x="1233360" y="4952880"/>
            <a:ext cx="13431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4"/>
          <p:cNvSpPr/>
          <p:nvPr/>
        </p:nvSpPr>
        <p:spPr>
          <a:xfrm>
            <a:off x="4162320" y="6172200"/>
            <a:ext cx="10191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5"/>
          <p:cNvSpPr/>
          <p:nvPr/>
        </p:nvSpPr>
        <p:spPr>
          <a:xfrm>
            <a:off x="4098960" y="6324480"/>
            <a:ext cx="10825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6"/>
          <p:cNvSpPr/>
          <p:nvPr/>
        </p:nvSpPr>
        <p:spPr>
          <a:xfrm>
            <a:off x="1628640" y="2286000"/>
            <a:ext cx="20718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7"/>
          <p:cNvSpPr/>
          <p:nvPr/>
        </p:nvSpPr>
        <p:spPr>
          <a:xfrm>
            <a:off x="5794200" y="2320920"/>
            <a:ext cx="1444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5794200" y="2438280"/>
            <a:ext cx="1444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9"/>
          <p:cNvSpPr/>
          <p:nvPr/>
        </p:nvSpPr>
        <p:spPr>
          <a:xfrm>
            <a:off x="506520" y="6553080"/>
            <a:ext cx="33447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30"/>
          <p:cNvSpPr/>
          <p:nvPr/>
        </p:nvSpPr>
        <p:spPr>
          <a:xfrm>
            <a:off x="2832120" y="4842000"/>
            <a:ext cx="26622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31"/>
          <p:cNvSpPr/>
          <p:nvPr/>
        </p:nvSpPr>
        <p:spPr>
          <a:xfrm>
            <a:off x="2438280" y="5715000"/>
            <a:ext cx="1035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58"/>
          <p:cNvSpPr/>
          <p:nvPr/>
        </p:nvSpPr>
        <p:spPr>
          <a:xfrm>
            <a:off x="4098960" y="6553080"/>
            <a:ext cx="7016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59"/>
          <p:cNvSpPr/>
          <p:nvPr/>
        </p:nvSpPr>
        <p:spPr>
          <a:xfrm>
            <a:off x="3962520" y="5280120"/>
            <a:ext cx="29718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60"/>
          <p:cNvSpPr/>
          <p:nvPr/>
        </p:nvSpPr>
        <p:spPr>
          <a:xfrm>
            <a:off x="4098960" y="6684840"/>
            <a:ext cx="7016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71680" y="29944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мои документы\Мои рисунки\учёба\RSS.gif"/>
          <p:cNvPicPr/>
          <p:nvPr/>
        </p:nvPicPr>
        <p:blipFill>
          <a:blip r:embed="rId1"/>
          <a:stretch/>
        </p:blipFill>
        <p:spPr>
          <a:xfrm>
            <a:off x="3571920" y="3143160"/>
            <a:ext cx="2759040" cy="2814840"/>
          </a:xfrm>
          <a:prstGeom prst="rect">
            <a:avLst/>
          </a:prstGeom>
          <a:ln w="0">
            <a:noFill/>
          </a:ln>
        </p:spPr>
      </p:pic>
      <p:pic>
        <p:nvPicPr>
          <p:cNvPr id="60" name="Заголовок 5" descr=""/>
          <p:cNvPicPr/>
          <p:nvPr/>
        </p:nvPicPr>
        <p:blipFill>
          <a:blip r:embed="rId2"/>
          <a:stretch/>
        </p:blipFill>
        <p:spPr>
          <a:xfrm>
            <a:off x="304920" y="1311120"/>
            <a:ext cx="8474040" cy="430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Андрей\Pictures\Мои рисунки\ЕГЭ, ГИА\6.jpg"/>
          <p:cNvPicPr/>
          <p:nvPr/>
        </p:nvPicPr>
        <p:blipFill>
          <a:blip r:embed="rId3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762120" y="129528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предложения с конструк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м, есть ли в них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нет, находим несклоня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ет, находим все остальное, точн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ем внимание на то, чем выраж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, определяем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ходим предложение с нужной оши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5"/>
          <p:cNvSpPr/>
          <p:nvPr/>
        </p:nvSpPr>
        <p:spPr>
          <a:xfrm>
            <a:off x="533520" y="228600"/>
            <a:ext cx="80769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как не сама природа, научила будущего скульптора пристальнее вглядываться в формы предметов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из учеников, кто невнимательно выполнил домашнее задание, вряд ли справится с контрольной работ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, кто слушал выступление профессора, в очередной раз был      удивлён яркостью, оригинальностью и глубиной его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, кто служит делу просвещения, снаряжает молодых в долгий путь по жизни, развивает их ум и способ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словляет на творческий поис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то, как не классики литературы, должны быть авторитетом в плане владения русским язык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, кто не знали слова песни, молча от­крывали р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сех, кто разбираются в технике, приглашают принять участие в технической олимпиа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Те, кто увлекается творчеством Булгакова, знают, что о романе «Мастере и Маргарите» написаны сотни критических ста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се, кто изучал   труды Г.О.Винокура, знают о его исследованиях в области лингвопоэ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34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в построении предложения с однородными члена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228600" y="121932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рушать парность двойных союз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ТОЛЬКО …, НО И …   5. ХОТЯ И …, 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…, ТАК И …               6. НЕ ТАК…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Е…,ТО          7. НЕ СТОЛЬКО …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ТО ЧТО(БЫ)…, НО(А)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бывали не только в Австрии, а   и  в  Герм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льзя нарушать местоположение союза и однородных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только побывали в Австрии, но и в Герм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не только имеет познавательную ценность, но и большое воспитатель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2"/>
          <p:cNvSpPr/>
          <p:nvPr/>
        </p:nvSpPr>
        <p:spPr>
          <a:xfrm>
            <a:off x="5805360" y="3470400"/>
            <a:ext cx="514440" cy="314280"/>
          </a:xfrm>
          <a:prstGeom prst="roundRect">
            <a:avLst>
              <a:gd name="adj" fmla="val 2956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Выгнутая вниз стрелка 3"/>
          <p:cNvSpPr/>
          <p:nvPr/>
        </p:nvSpPr>
        <p:spPr>
          <a:xfrm>
            <a:off x="1523880" y="5095800"/>
            <a:ext cx="2667240" cy="238320"/>
          </a:xfrm>
          <a:custGeom>
            <a:avLst/>
            <a:gdLst>
              <a:gd name="textAreaLeft" fmla="*/ 644400 w 2667240"/>
              <a:gd name="textAreaRight" fmla="*/ 1992960 w 2667240"/>
              <a:gd name="textAreaTop" fmla="*/ 31680 h 238320"/>
              <a:gd name="textAreaBottom" fmla="*/ 20664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39" hR="21600" stAng="10800000" swAng="-5400000"/>
                <a:lnTo>
                  <a:pt x="10921" y="21600"/>
                </a:lnTo>
                <a:arcTo wR="10439" hR="21600" stAng="5400000" swAng="-3713114"/>
                <a:lnTo>
                  <a:pt x="21269" y="5400"/>
                </a:lnTo>
                <a:lnTo>
                  <a:pt x="21118" y="0"/>
                </a:lnTo>
                <a:lnTo>
                  <a:pt x="20305" y="5400"/>
                </a:lnTo>
                <a:lnTo>
                  <a:pt x="20546" y="5400"/>
                </a:lnTo>
                <a:arcTo wR="10439" hR="21600" stAng="1686886" swAng="3674749"/>
                <a:lnTo>
                  <a:pt x="10680" y="21594"/>
                </a:lnTo>
                <a:arcTo wR="10439" hR="21600" stAng="5438365" swAng="5361635"/>
                <a:close/>
              </a:path>
              <a:path fill="darkenLess" w="21600" h="21600">
                <a:moveTo>
                  <a:pt x="0" y="0"/>
                </a:moveTo>
                <a:arcTo wR="10439" hR="21600" stAng="10800000" swAng="-5400000"/>
                <a:lnTo>
                  <a:pt x="10921" y="21600"/>
                </a:lnTo>
                <a:arcTo wR="10439" hR="21600" stAng="5400000" swAng="38365"/>
                <a:lnTo>
                  <a:pt x="10680" y="21594"/>
                </a:lnTo>
                <a:arcTo wR="10439" hR="21600" stAng="5438365" swAng="536163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7256520" y="5095800"/>
            <a:ext cx="936720" cy="0"/>
          </a:xfrm>
          <a:prstGeom prst="line">
            <a:avLst/>
          </a:prstGeom>
          <a:ln w="57240">
            <a:solidFill>
              <a:srgbClr val="d05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4572000" y="5095800"/>
            <a:ext cx="936720" cy="0"/>
          </a:xfrm>
          <a:prstGeom prst="line">
            <a:avLst/>
          </a:prstGeom>
          <a:ln w="57240">
            <a:solidFill>
              <a:srgbClr val="d05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6570720" y="5983200"/>
            <a:ext cx="1371600" cy="0"/>
          </a:xfrm>
          <a:prstGeom prst="line">
            <a:avLst/>
          </a:prstGeom>
          <a:ln w="139680">
            <a:solidFill>
              <a:srgbClr val="d65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4219560" y="6477120"/>
            <a:ext cx="1657440" cy="0"/>
          </a:xfrm>
          <a:prstGeom prst="line">
            <a:avLst/>
          </a:prstGeom>
          <a:ln w="139680">
            <a:solidFill>
              <a:srgbClr val="d65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Круговая стрелка 5"/>
          <p:cNvSpPr/>
          <p:nvPr/>
        </p:nvSpPr>
        <p:spPr>
          <a:xfrm>
            <a:off x="1701720" y="5541840"/>
            <a:ext cx="2489400" cy="325440"/>
          </a:xfrm>
          <a:custGeom>
            <a:avLst/>
            <a:gdLst/>
            <a:ahLst/>
            <a:rect l="l" t="t" r="r" b="b"/>
            <a:pathLst>
              <a:path w="2489200" h="325437">
                <a:moveTo>
                  <a:pt x="20340" y="162719"/>
                </a:moveTo>
                <a:cubicBezTo>
                  <a:pt x="20340" y="84813"/>
                  <a:pt x="558735" y="21373"/>
                  <a:pt x="1228564" y="20352"/>
                </a:cubicBezTo>
                <a:cubicBezTo>
                  <a:pt x="1427222" y="20049"/>
                  <a:pt x="1623528" y="25374"/>
                  <a:pt x="1800538" y="35866"/>
                </a:cubicBezTo>
                <a:lnTo>
                  <a:pt x="1800537" y="35866"/>
                </a:lnTo>
                <a:lnTo>
                  <a:pt x="2344729" y="113147"/>
                </a:lnTo>
                <a:lnTo>
                  <a:pt x="1242306" y="61020"/>
                </a:lnTo>
                <a:lnTo>
                  <a:pt x="1242306" y="61020"/>
                </a:lnTo>
                <a:cubicBezTo>
                  <a:pt x="589529" y="61129"/>
                  <a:pt x="61019" y="106629"/>
                  <a:pt x="61019" y="162719"/>
                </a:cubicBezTo>
                <a:lnTo>
                  <a:pt x="20340" y="162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в построении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родными член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766800" y="1143000"/>
            <a:ext cx="776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льзя ставить общее дополнение при однородных сказуемых, требующих разного управления .                Что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457200" y="27669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мен организовал и руководит предприят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457200" y="3505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льзя связывать в качестве однородных членов слова, выраженные разными частями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2274840" y="4637160"/>
            <a:ext cx="513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юблю рисовать и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я стройна и очень краси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Круговая стрелка 6"/>
          <p:cNvSpPr/>
          <p:nvPr/>
        </p:nvSpPr>
        <p:spPr>
          <a:xfrm>
            <a:off x="2743200" y="2316240"/>
            <a:ext cx="5181480" cy="642960"/>
          </a:xfrm>
          <a:custGeom>
            <a:avLst/>
            <a:gdLst/>
            <a:ahLst/>
            <a:rect l="l" t="t" r="r" b="b"/>
            <a:pathLst>
              <a:path w="5181600" h="642937">
                <a:moveTo>
                  <a:pt x="40184" y="321469"/>
                </a:moveTo>
                <a:cubicBezTo>
                  <a:pt x="40184" y="167471"/>
                  <a:pt x="1163076" y="42102"/>
                  <a:pt x="2559383" y="40205"/>
                </a:cubicBezTo>
                <a:cubicBezTo>
                  <a:pt x="2957270" y="39664"/>
                  <a:pt x="3350785" y="49398"/>
                  <a:pt x="3708465" y="68627"/>
                </a:cubicBezTo>
                <a:lnTo>
                  <a:pt x="3708464" y="68627"/>
                </a:lnTo>
                <a:lnTo>
                  <a:pt x="4852486" y="216831"/>
                </a:lnTo>
                <a:lnTo>
                  <a:pt x="2586147" y="120551"/>
                </a:lnTo>
                <a:lnTo>
                  <a:pt x="2586147" y="120551"/>
                </a:lnTo>
                <a:cubicBezTo>
                  <a:pt x="1223685" y="120760"/>
                  <a:pt x="120551" y="210652"/>
                  <a:pt x="120551" y="321469"/>
                </a:cubicBezTo>
                <a:lnTo>
                  <a:pt x="40184" y="3214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Круговая стрелка 7"/>
          <p:cNvSpPr/>
          <p:nvPr/>
        </p:nvSpPr>
        <p:spPr>
          <a:xfrm>
            <a:off x="4535640" y="2585880"/>
            <a:ext cx="2895480" cy="978120"/>
          </a:xfrm>
          <a:custGeom>
            <a:avLst/>
            <a:gdLst/>
            <a:ahLst/>
            <a:rect l="l" t="t" r="r" b="b"/>
            <a:pathLst>
              <a:path w="2895600" h="977900">
                <a:moveTo>
                  <a:pt x="61119" y="488950"/>
                </a:moveTo>
                <a:cubicBezTo>
                  <a:pt x="61119" y="259652"/>
                  <a:pt x="647041" y="71122"/>
                  <a:pt x="1389585" y="61496"/>
                </a:cubicBezTo>
                <a:cubicBezTo>
                  <a:pt x="1802789" y="56139"/>
                  <a:pt x="2202178" y="107965"/>
                  <a:pt x="2478759" y="202831"/>
                </a:cubicBezTo>
                <a:lnTo>
                  <a:pt x="2478759" y="202831"/>
                </a:lnTo>
                <a:lnTo>
                  <a:pt x="2773363" y="488950"/>
                </a:lnTo>
                <a:lnTo>
                  <a:pt x="1891964" y="202831"/>
                </a:lnTo>
                <a:lnTo>
                  <a:pt x="1891964" y="202831"/>
                </a:lnTo>
                <a:cubicBezTo>
                  <a:pt x="1721654" y="187388"/>
                  <a:pt x="1539562" y="181008"/>
                  <a:pt x="1358118" y="184126"/>
                </a:cubicBezTo>
                <a:cubicBezTo>
                  <a:pt x="696256" y="195500"/>
                  <a:pt x="183356" y="328586"/>
                  <a:pt x="183356" y="488950"/>
                </a:cubicBezTo>
                <a:lnTo>
                  <a:pt x="61119" y="48895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Нарушение в построении предлож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однородными чле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152280" y="106668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днородными не могут быть разные члены предложения, то есть определение или дополнение и придаточная часть слож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, гулявший в парке и который упал, пла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ообщили о росте цен на нефть и что ско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ы подорож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днородными могут быть слова из одной логической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втомобиля новые диски и отличные скор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днородные при обобщающем слове должны быть такого же падежа, что и оно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арвала разных цветов: лютики, ромашки, василь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4"/>
          <p:cNvSpPr/>
          <p:nvPr/>
        </p:nvSpPr>
        <p:spPr>
          <a:xfrm>
            <a:off x="6858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предложения с составными союз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м, нет ли ошибок в их употреб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ходим 2 глагола, связанных союзом 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м допол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ет, находим однородные, выраж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ми частями речи или являющиеся раз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ами предложения. Проверя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зываем номер предложени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4"/>
          <p:cNvSpPr/>
          <p:nvPr/>
        </p:nvSpPr>
        <p:spPr>
          <a:xfrm>
            <a:off x="380880" y="45720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льщики «Зенита» любили и гордились своей командой, не один раз выигрывавшей сложнейшие мат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жающие шли с сумками и печальными л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 шкафу стоят книги, на полках лежат не только газеты, но также и стеклянная по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олпы людей были повсюду: на улицах, площадях, скв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лохо выраженная мысль — это леность не только речевых усилий, а также леность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м, к всеобщей радости, оплатили сверхурочную работу и отпустят отдых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н надеялся опубликовать и познакомить читателей со своей повестью до начала следующе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овый законопроект  взволновал и активно обсуждался в широких кругах обще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Жизнь крестьян изображена в произведениях русских классиков: Гоголь, Тургенев, Тол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правильное построение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457200" y="114300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ая реч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еределанная прямая речь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енное предложение без ка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косвенной речи 1, 2 лица заменяются на 3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сказал, что  я  задержусь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кавы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сказал, что «я задержусь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в прямой речи была вопросительная репл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 предложении используется союз 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спросила, что пойдут они в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"/>
          <p:cNvSpPr/>
          <p:nvPr/>
        </p:nvSpPr>
        <p:spPr>
          <a:xfrm>
            <a:off x="3200400" y="247320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дер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4"/>
          <p:cNvSpPr/>
          <p:nvPr/>
        </p:nvSpPr>
        <p:spPr>
          <a:xfrm>
            <a:off x="3429000" y="3406680"/>
            <a:ext cx="3449520" cy="381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держится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"/>
          <p:cNvSpPr/>
          <p:nvPr/>
        </p:nvSpPr>
        <p:spPr>
          <a:xfrm>
            <a:off x="457200" y="465624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спросила, пойдут ли они в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ходим предложение с косвенной реч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яем, какое лицо употребл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ыясняем, был ли вопрос в прям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ходим ошибку. Указываем но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4"/>
          <p:cNvSpPr/>
          <p:nvPr/>
        </p:nvSpPr>
        <p:spPr>
          <a:xfrm>
            <a:off x="376200" y="57960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ец рассказывал, что мы и через 20 лет после окончания института каждый год ездим на встречу выпуск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лара спросила, что нельзя ли молока у вас куп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много задумавшись, Витя сказал, что я приду к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с удивлением спросил, что где же креп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не заметил, что находится ли он в ком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сказал А.П.Чехов: «В человеке должно быть все прекрас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Алёхин, входя в гостиную, воскликнул, что я очень рад всех нас 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одитель маршрутного такси сказал вновь вошедшим пассажирам, что оплатите про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Благодаря зрителей за искренний интерес, ведущий объявил, что "вас ждёт новая встреча с новым героем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тец,  позвонивший  вчера  поздно  вечером,  сообщил,  что заболел, и сказал, что «я остаюсь до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21932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334800" y="3230640"/>
            <a:ext cx="8633160" cy="3371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рушение в построении предложения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ым прилож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rcRect l="0" t="0" r="82203" b="78030"/>
          <a:stretch/>
        </p:blipFill>
        <p:spPr>
          <a:xfrm>
            <a:off x="380880" y="1036800"/>
            <a:ext cx="1492200" cy="482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28600" y="1533600"/>
            <a:ext cx="8715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, заключенное в кавычки, данное с родовым слов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весть, роман, картина, опера, отель) является несогласованным приложением и должно стоять в именительном паде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одового слова нет, то название в кавычках начинает изменя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шибка в употреблении имени числительног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80880" y="83808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отребление числительных полтора, пол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то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падежах, кроме И., В. – полутора, полуто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утор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метрах от нас находилась дере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ислительные ОБА, 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оим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гами мы зашли в ка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бирательные числ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е кни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о на пол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двое суток добирались д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609480" y="15238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предложение с числ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яем, есть ли ошибка в употреб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ываем номер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457200" y="304920"/>
            <a:ext cx="8229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вое крайних окон на первом этаже закрыты изнутри газетными лис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м было поручено подготовить презентацию к первому апр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ое подростков, среди которых были двое девушек, о чём-то шумно спорили на крыльце "Дома торговл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ля выполнения поставленной цели нам дали двадцать двое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ом находился в полутора часах езды, и мы, посовещавшись, решили выезжать не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вое пар ботинок, стоящих у стены в прихожей, указывали на то, что кто-то уже опередил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шибка в построении сложного предлож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2"/>
          <p:cNvSpPr/>
          <p:nvPr/>
        </p:nvSpPr>
        <p:spPr>
          <a:xfrm>
            <a:off x="304920" y="457200"/>
            <a:ext cx="84582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редложении нельзя употреблять одновремен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льные и подчинительные союз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начался урок, но мы все сразу вст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льзя повторять близкие по значению союзы (ч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; однако тем не менее; что будто; что … ли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знаем, что насколько Пьер волнуется при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услышали, что вернулся ли он или 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правильное употребление указательных слов (то, что; то, чтобы; тем, чтобы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узнал то, что рейс задержит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еспокоились за то, чтобы никто не пострад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верная конструкция с придаточным определительным с союзным словом КОТОР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го нес учебник библиотекарю, с которым не расставался весь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сложное (сложноподчин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яем, есть ли неверное употреб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ов, союзных слов, указатель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ываем номер предложения с ошиб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304920" y="152280"/>
            <a:ext cx="86104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ть люди, которые всегда считают то, что виноваты не они, а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начал изучать новые языки, хотя даже не был уверен в том, что пригодится ли мне это когда-нибу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показал гостям автограф писателя, который мне очень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дитель маршрутного такси сказал вновь вошедшим пассажирам, что оплатите про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выступлении приводились данные, которые, кажется, что где-то частично уже зв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много задумавшись, Витя сказал, что я приду к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Я с удивлением спросил, что где же креп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Я знаю, что придёт время, что когда по морям будут плавать пароходы из сте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C:\Users\Андрей\Pictures\Мои рисунки\ЕГЭ, ГИА\0_b4175_e1979a89_L.png"/>
          <p:cNvPicPr/>
          <p:nvPr/>
        </p:nvPicPr>
        <p:blipFill>
          <a:blip r:embed="rId1"/>
          <a:stretch/>
        </p:blipFill>
        <p:spPr>
          <a:xfrm>
            <a:off x="1676520" y="-12600"/>
            <a:ext cx="5383080" cy="5850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C:\Users\Андрей\Pictures\Мои рисунки\ЕГЭ, ГИА\image003.gif"/>
          <p:cNvPicPr/>
          <p:nvPr/>
        </p:nvPicPr>
        <p:blipFill>
          <a:blip r:embed="rId2"/>
          <a:stretch/>
        </p:blipFill>
        <p:spPr>
          <a:xfrm>
            <a:off x="1676520" y="5722920"/>
            <a:ext cx="6629400" cy="1135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Users\Андрей\Pictures\Мои рисунки\ЕГЭ, ГИА\6.jpg"/>
          <p:cNvPicPr/>
          <p:nvPr/>
        </p:nvPicPr>
        <p:blipFill>
          <a:blip r:embed="rId3"/>
          <a:stretch/>
        </p:blipFill>
        <p:spPr>
          <a:xfrm>
            <a:off x="-36360" y="-23760"/>
            <a:ext cx="152388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равним три предлож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alibri"/>
              </a:rPr>
              <a:t>1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 В картине (п.п.) «Спящий пастушок» (и.п.) Венецианову удалось передать всю прелесть неяркой русской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) В «Спящем пастушке» (п.п.) Венецианову удалось передать всю прелесть неяркой русской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) В картине (п.п.) «Спящем пастушке» (п.п.) Венецианову удалось передать всю прелесть неяркой русской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385840" y="4737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8606160" y="2133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860364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6840" y="45720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 апрельском  номере  журнала  «Юности»    были опубликованы стихи молодого талантливого поэ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пер­вые   «Хо­ван­щи­ну»  я  слу­шал  вме­сте  с  ро­ди­те­ля­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блемы экономики и бизнеса были в центре внимания ведущего телепередачи   «Деловой  Москвы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ртине Левитана «Дождь» передана вся прелесть дождливых суме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голок старой Москвы воссоздан  В.Д.  Поленовым  в пейзаже  в «Московском дворик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Журнал  «Природа»  мы выписываем не­сколько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мало критических статей посвящено   «Горю от у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  статьи    в газете мы узнали о возобновлении туристского теплоходного маршрута   к  «Северным остров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"/>
          <p:cNvSpPr/>
          <p:nvPr/>
        </p:nvSpPr>
        <p:spPr>
          <a:xfrm>
            <a:off x="5181480" y="457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3849840" y="205740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ловая Моск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1833480" y="3657600"/>
            <a:ext cx="33530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сковский двори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6"/>
          <p:cNvSpPr/>
          <p:nvPr/>
        </p:nvSpPr>
        <p:spPr>
          <a:xfrm>
            <a:off x="2428920" y="50101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тать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495360" y="343080"/>
            <a:ext cx="83437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правильное употреб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ной формы  существительного с предло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падежной формы и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го при производных предло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к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авая фигурная скобка 2"/>
          <p:cNvSpPr/>
          <p:nvPr/>
        </p:nvSpPr>
        <p:spPr>
          <a:xfrm>
            <a:off x="2666880" y="2438280"/>
            <a:ext cx="1144800" cy="3657600"/>
          </a:xfrm>
          <a:custGeom>
            <a:avLst/>
            <a:gdLst>
              <a:gd name="textAreaLeft" fmla="*/ 0 w 1144800"/>
              <a:gd name="textAreaRight" fmla="*/ 413280 w 1144800"/>
              <a:gd name="textAreaTop" fmla="*/ 29520 h 3657600"/>
              <a:gd name="textAreaBottom" fmla="*/ 36280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2"/>
                  <a:pt x="10800" y="563"/>
                </a:cubicBezTo>
                <a:lnTo>
                  <a:pt x="10800" y="10237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2"/>
                  <a:pt x="10800" y="11363"/>
                </a:cubicBezTo>
                <a:lnTo>
                  <a:pt x="10800" y="21037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36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5920" y="36320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74760"/>
            <a:ext cx="3354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7000" y="32824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11680" y="2174400"/>
            <a:ext cx="487512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тельный паде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ому? Чему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даря своим знаниям мы достигли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даря своих знаний мы достигли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нности сотрудников распределены согласно догов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066680" y="228600"/>
            <a:ext cx="7925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88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употребление падежной формы имени существительного с производными предлога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лов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3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тельный падеж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го? Чего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задержались в пути вследствие непредвиденных обстоятель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задержались в пути вследствие непредвиденным обстоятельств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авая фигурная скобка 5"/>
          <p:cNvSpPr/>
          <p:nvPr/>
        </p:nvSpPr>
        <p:spPr>
          <a:xfrm>
            <a:off x="2666880" y="1752480"/>
            <a:ext cx="765360" cy="3200400"/>
          </a:xfrm>
          <a:custGeom>
            <a:avLst/>
            <a:gdLst>
              <a:gd name="textAreaLeft" fmla="*/ 0 w 765360"/>
              <a:gd name="textAreaRight" fmla="*/ 276480 w 765360"/>
              <a:gd name="textAreaTop" fmla="*/ 19800 h 3200400"/>
              <a:gd name="textAreaBottom" fmla="*/ 31806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30"/>
                </a:cubicBezTo>
                <a:lnTo>
                  <a:pt x="10800" y="10370"/>
                </a:lnTo>
                <a:cubicBezTo>
                  <a:pt x="10800" y="10585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30"/>
                </a:cubicBezTo>
                <a:lnTo>
                  <a:pt x="10800" y="21170"/>
                </a:lnTo>
                <a:cubicBezTo>
                  <a:pt x="10800" y="213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употребление падежной форм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го с предлог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280" y="129528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я с предлог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значении «после чего-либо»), требу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НОГО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ез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ерш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быт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вращ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00240" y="198108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ез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ерше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быт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враще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98712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ССА</cp:lastModifiedBy>
  <dcterms:modified xsi:type="dcterms:W3CDTF">2019-02-05T13:27:2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