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4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7392B-61D4-4379-8543-3AFC83FB8D2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83752-D1C8-42F7-980E-E73D5D35105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2F4CE-A0B6-4883-B48F-1A4E7B96970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1C8AB-0AE8-4557-92BE-57BC1E682E9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A4DDC-486B-4200-9DD4-4A674436ACC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70333-923E-4822-901A-0304EA46A99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4EFE4-3978-4E82-99AF-F7A27487FB6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58612-2A37-4C70-9D82-1177A5661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E6149-D4C9-48F7-BF06-419F29D78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1631E-B14E-4AE8-B050-551F06DC4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1665F-32B4-48BB-91BC-EC85660B6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26F73-6A1D-4866-992B-3D0207FDA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9A560-3D7E-43DA-9EBB-447E00B1C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231C0-58C4-401D-AC86-6DAF3355C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F077C-F8D8-4B53-A843-0796F6C01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95A3E-9EE6-429A-A9BA-BE2B1677F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AB264-3205-44D8-A6EA-3A57F9385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93CB4-44F4-448A-A90D-7945B660B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44A1D-F6CB-44B7-972F-455E3E45F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4CE05-3C5A-4C7B-B00B-54E6B3D0DEE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6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6"/>
          <p:cNvSpPr txBox="1"/>
          <p:nvPr/>
        </p:nvSpPr>
        <p:spPr>
          <a:xfrm>
            <a:off x="838080" y="380880"/>
            <a:ext cx="80010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25560">
                  <a:solidFill>
                    <a:srgbClr val="000080"/>
                  </a:solidFill>
                  <a:miter/>
                </a:ln>
                <a:gradFill rotWithShape="0">
                  <a:gsLst>
                    <a:gs pos="0">
                      <a:srgbClr val="3399ff"/>
                    </a:gs>
                    <a:gs pos="50000">
                      <a:srgbClr val="ffffff"/>
                    </a:gs>
                    <a:gs pos="100000">
                      <a:srgbClr val="3399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Century Schoolbook"/>
              </a:rPr>
              <a:t>Готовимся к ЕГЭ</a:t>
            </a:r>
            <a:endParaRPr b="1" i="1" lang="en-US" sz="1800" spc="1" strike="noStrike">
              <a:ln w="25560">
                <a:solidFill>
                  <a:srgbClr val="000080"/>
                </a:solidFill>
                <a:miter/>
              </a:ln>
              <a:gradFill rotWithShape="0">
                <a:gsLst>
                  <a:gs pos="0">
                    <a:srgbClr val="3399ff"/>
                  </a:gs>
                  <a:gs pos="50000">
                    <a:srgbClr val="ffffff"/>
                  </a:gs>
                  <a:gs pos="100000">
                    <a:srgbClr val="3399ff"/>
                  </a:gs>
                </a:gsLst>
                <a:lin ang="54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Century Schoolbook"/>
              <a:ea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25560">
                  <a:solidFill>
                    <a:srgbClr val="000080"/>
                  </a:solidFill>
                  <a:miter/>
                </a:ln>
                <a:gradFill rotWithShape="0">
                  <a:gsLst>
                    <a:gs pos="0">
                      <a:srgbClr val="3399ff"/>
                    </a:gs>
                    <a:gs pos="50000">
                      <a:srgbClr val="ffffff"/>
                    </a:gs>
                    <a:gs pos="100000">
                      <a:srgbClr val="3399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Century Schoolbook"/>
              </a:rPr>
              <a:t>по русскому языку</a:t>
            </a:r>
            <a:endParaRPr b="1" i="1" lang="en-US" sz="1800" spc="1" strike="noStrike">
              <a:ln w="25560">
                <a:solidFill>
                  <a:srgbClr val="000080"/>
                </a:solidFill>
                <a:miter/>
              </a:ln>
              <a:gradFill rotWithShape="0">
                <a:gsLst>
                  <a:gs pos="0">
                    <a:srgbClr val="3399ff"/>
                  </a:gs>
                  <a:gs pos="50000">
                    <a:srgbClr val="ffffff"/>
                  </a:gs>
                  <a:gs pos="100000">
                    <a:srgbClr val="3399ff"/>
                  </a:gs>
                </a:gsLst>
                <a:lin ang="54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Century Schoolbook"/>
              <a:ea typeface="Century Schoolbook"/>
            </a:endParaRPr>
          </a:p>
        </p:txBody>
      </p:sp>
      <p:pic>
        <p:nvPicPr>
          <p:cNvPr id="49" name="Picture 2" descr="C:\Users\Андрей\Pictures\Мои рисунки\ЕГЭ, ГИА\6.jpg"/>
          <p:cNvPicPr/>
          <p:nvPr/>
        </p:nvPicPr>
        <p:blipFill>
          <a:blip r:embed="rId1"/>
          <a:stretch/>
        </p:blipFill>
        <p:spPr>
          <a:xfrm>
            <a:off x="-36360" y="-23760"/>
            <a:ext cx="1066680" cy="1461960"/>
          </a:xfrm>
          <a:prstGeom prst="rect">
            <a:avLst/>
          </a:prstGeom>
          <a:ln w="0">
            <a:noFill/>
          </a:ln>
        </p:spPr>
      </p:pic>
      <p:pic>
        <p:nvPicPr>
          <p:cNvPr id="50" name="Прямоугольник 1" descr=""/>
          <p:cNvPicPr/>
          <p:nvPr/>
        </p:nvPicPr>
        <p:blipFill>
          <a:blip r:embed="rId2"/>
          <a:stretch/>
        </p:blipFill>
        <p:spPr>
          <a:xfrm>
            <a:off x="1146240" y="1792440"/>
            <a:ext cx="7864560" cy="19144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"/>
          <p:cNvPicPr/>
          <p:nvPr/>
        </p:nvPicPr>
        <p:blipFill>
          <a:blip r:embed="rId3"/>
          <a:stretch/>
        </p:blipFill>
        <p:spPr>
          <a:xfrm>
            <a:off x="4114800" y="3808440"/>
            <a:ext cx="4541760" cy="235908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" name="Группа 4"/>
          <p:cNvGrpSpPr/>
          <p:nvPr/>
        </p:nvGrpSpPr>
        <p:grpSpPr>
          <a:xfrm>
            <a:off x="141120" y="620640"/>
            <a:ext cx="9002880" cy="5415120"/>
            <a:chOff x="141120" y="620640"/>
            <a:chExt cx="9002880" cy="5415120"/>
          </a:xfrm>
        </p:grpSpPr>
        <p:sp>
          <p:nvSpPr>
            <p:cNvPr id="98" name="TextBox 1"/>
            <p:cNvSpPr/>
            <p:nvPr/>
          </p:nvSpPr>
          <p:spPr>
            <a:xfrm>
              <a:off x="212400" y="620640"/>
              <a:ext cx="210744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Calibri"/>
                </a:rPr>
                <a:t>БЛАГОДАР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Calibri"/>
                </a:rPr>
                <a:t>ВОПРЕК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Calibri"/>
                </a:rPr>
                <a:t>СОГЛАСН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Calibri"/>
                </a:rPr>
                <a:t>ПОДОБН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TextBox 2"/>
            <p:cNvSpPr/>
            <p:nvPr/>
          </p:nvSpPr>
          <p:spPr>
            <a:xfrm>
              <a:off x="2322360" y="1500120"/>
              <a:ext cx="837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b050"/>
                  </a:solidFill>
                  <a:latin typeface="Calibri"/>
                </a:rPr>
                <a:t> </a:t>
              </a:r>
              <a:r>
                <a:rPr b="1" lang="ru-RU" sz="1800" spc="-1" strike="noStrike">
                  <a:solidFill>
                    <a:srgbClr val="00b050"/>
                  </a:solidFill>
                  <a:latin typeface="Calibri"/>
                </a:rPr>
                <a:t>чему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Правая фигурная скобка 7"/>
            <p:cNvSpPr/>
            <p:nvPr/>
          </p:nvSpPr>
          <p:spPr>
            <a:xfrm>
              <a:off x="2106360" y="906120"/>
              <a:ext cx="311040" cy="1700280"/>
            </a:xfrm>
            <a:custGeom>
              <a:avLst/>
              <a:gdLst>
                <a:gd name="textAreaLeft" fmla="*/ 0 w 311040"/>
                <a:gd name="textAreaRight" fmla="*/ 112320 w 311040"/>
                <a:gd name="textAreaTop" fmla="*/ 13680 h 1700280"/>
                <a:gd name="textAreaBottom" fmla="*/ 1686600 h 1700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280"/>
                    <a:pt x="10800" y="560"/>
                  </a:cubicBezTo>
                  <a:lnTo>
                    <a:pt x="10800" y="10240"/>
                  </a:lnTo>
                  <a:cubicBezTo>
                    <a:pt x="10800" y="10520"/>
                    <a:pt x="16200" y="10800"/>
                    <a:pt x="21600" y="10800"/>
                  </a:cubicBezTo>
                  <a:cubicBezTo>
                    <a:pt x="16200" y="10800"/>
                    <a:pt x="10800" y="11080"/>
                    <a:pt x="10800" y="11360"/>
                  </a:cubicBezTo>
                  <a:lnTo>
                    <a:pt x="10800" y="21040"/>
                  </a:lnTo>
                  <a:cubicBezTo>
                    <a:pt x="10800" y="2132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TextBox 4"/>
            <p:cNvSpPr/>
            <p:nvPr/>
          </p:nvSpPr>
          <p:spPr>
            <a:xfrm>
              <a:off x="3126600" y="906120"/>
              <a:ext cx="203544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ff"/>
                  </a:solidFill>
                  <a:latin typeface="Calibri"/>
                </a:rPr>
                <a:t>непогод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ff"/>
                  </a:solidFill>
                  <a:latin typeface="Calibri"/>
                </a:rPr>
                <a:t>ожиданиям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ff"/>
                  </a:solidFill>
                  <a:latin typeface="Calibri"/>
                </a:rPr>
                <a:t>приказу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ff"/>
                  </a:solidFill>
                  <a:latin typeface="Calibri"/>
                </a:rPr>
                <a:t>облаку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TextBox 5"/>
            <p:cNvSpPr/>
            <p:nvPr/>
          </p:nvSpPr>
          <p:spPr>
            <a:xfrm>
              <a:off x="898920" y="3050280"/>
              <a:ext cx="21711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0000"/>
                  </a:solidFill>
                  <a:latin typeface="Calibri"/>
                </a:rPr>
                <a:t>ПО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0000"/>
                  </a:solidFill>
                  <a:latin typeface="Calibri"/>
                </a:rPr>
                <a:t>= после чего-либо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TextBox 6"/>
            <p:cNvSpPr/>
            <p:nvPr/>
          </p:nvSpPr>
          <p:spPr>
            <a:xfrm>
              <a:off x="3424320" y="3264120"/>
              <a:ext cx="2370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b050"/>
                  </a:solidFill>
                  <a:latin typeface="Calibri"/>
                </a:rPr>
                <a:t>+ предложный падеж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b050"/>
                  </a:solidFill>
                  <a:latin typeface="Calibri"/>
                </a:rPr>
                <a:t>    </a:t>
              </a:r>
              <a:r>
                <a:rPr b="1" lang="ru-RU" sz="1800" spc="-1" strike="noStrike">
                  <a:solidFill>
                    <a:srgbClr val="00b050"/>
                  </a:solidFill>
                  <a:latin typeface="Calibri"/>
                </a:rPr>
                <a:t>(в чём?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TextBox 7"/>
            <p:cNvSpPr/>
            <p:nvPr/>
          </p:nvSpPr>
          <p:spPr>
            <a:xfrm>
              <a:off x="6648480" y="3049560"/>
              <a:ext cx="1936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ff"/>
                  </a:solidFill>
                  <a:latin typeface="Calibri"/>
                </a:rPr>
                <a:t>по приезд</a:t>
              </a:r>
              <a:r>
                <a:rPr b="1" lang="ru-RU" sz="2800" spc="-1" strike="noStrike">
                  <a:solidFill>
                    <a:srgbClr val="ff0000"/>
                  </a:solidFill>
                  <a:latin typeface="Calibri"/>
                </a:rPr>
                <a:t>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ff"/>
                  </a:solidFill>
                  <a:latin typeface="Calibri"/>
                </a:rPr>
                <a:t>по прибыти</a:t>
              </a:r>
              <a:r>
                <a:rPr b="1" lang="ru-RU" sz="2800" spc="-1" strike="noStrike">
                  <a:solidFill>
                    <a:srgbClr val="ff0000"/>
                  </a:solidFill>
                  <a:latin typeface="Calibri"/>
                </a:rPr>
                <a:t>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TextBox 8"/>
            <p:cNvSpPr/>
            <p:nvPr/>
          </p:nvSpPr>
          <p:spPr>
            <a:xfrm>
              <a:off x="141120" y="4478760"/>
              <a:ext cx="382104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Calibri"/>
                </a:rPr>
                <a:t>             </a:t>
              </a:r>
              <a:r>
                <a:rPr b="1" lang="ru-RU" sz="2400" spc="-1" strike="noStrike">
                  <a:solidFill>
                    <a:srgbClr val="ff0000"/>
                  </a:solidFill>
                  <a:latin typeface="Calibri"/>
                </a:rPr>
                <a:t>вздыхать, горевать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Calibri"/>
                </a:rPr>
                <a:t> </a:t>
              </a:r>
              <a:r>
                <a:rPr b="1" lang="ru-RU" sz="2400" spc="-1" strike="noStrike">
                  <a:solidFill>
                    <a:srgbClr val="ff0000"/>
                  </a:solidFill>
                  <a:latin typeface="Calibri"/>
                </a:rPr>
                <a:t>ПО 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Calibri"/>
                </a:rPr>
                <a:t>             </a:t>
              </a:r>
              <a:r>
                <a:rPr b="1" lang="ru-RU" sz="2400" spc="-1" strike="noStrike">
                  <a:solidFill>
                    <a:srgbClr val="ff0000"/>
                  </a:solidFill>
                  <a:latin typeface="Calibri"/>
                </a:rPr>
                <a:t>грустить, плакать,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Calibri"/>
                </a:rPr>
                <a:t>             </a:t>
              </a:r>
              <a:r>
                <a:rPr b="1" lang="ru-RU" sz="2400" spc="-1" strike="noStrike">
                  <a:solidFill>
                    <a:srgbClr val="ff0000"/>
                  </a:solidFill>
                  <a:latin typeface="Calibri"/>
                </a:rPr>
                <a:t>скучать, тосковат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TextBox 9"/>
            <p:cNvSpPr/>
            <p:nvPr/>
          </p:nvSpPr>
          <p:spPr>
            <a:xfrm>
              <a:off x="4201920" y="4943160"/>
              <a:ext cx="214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b050"/>
                  </a:solidFill>
                  <a:latin typeface="Calibri"/>
                </a:rPr>
                <a:t>+ дательный падеж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b050"/>
                  </a:solidFill>
                  <a:latin typeface="Calibri"/>
                </a:rPr>
                <a:t>    </a:t>
              </a:r>
              <a:r>
                <a:rPr b="1" lang="ru-RU" sz="1800" spc="-1" strike="noStrike">
                  <a:solidFill>
                    <a:srgbClr val="00b050"/>
                  </a:solidFill>
                  <a:latin typeface="Calibri"/>
                </a:rPr>
                <a:t>(кому? чему?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TextBox 10"/>
            <p:cNvSpPr/>
            <p:nvPr/>
          </p:nvSpPr>
          <p:spPr>
            <a:xfrm>
              <a:off x="6775920" y="4818960"/>
              <a:ext cx="18068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ff"/>
                  </a:solidFill>
                  <a:latin typeface="Calibri"/>
                </a:rPr>
                <a:t>Тосковать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ff"/>
                  </a:solidFill>
                  <a:latin typeface="Calibri"/>
                </a:rPr>
                <a:t>по жен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Стрелка вправо 15"/>
            <p:cNvSpPr/>
            <p:nvPr/>
          </p:nvSpPr>
          <p:spPr>
            <a:xfrm>
              <a:off x="5964120" y="3406680"/>
              <a:ext cx="571320" cy="365040"/>
            </a:xfrm>
            <a:prstGeom prst="rightArrow">
              <a:avLst>
                <a:gd name="adj1" fmla="val 50000"/>
                <a:gd name="adj2" fmla="val 29403"/>
              </a:avLst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Прямая соединительная линия 16"/>
            <p:cNvSpPr/>
            <p:nvPr/>
          </p:nvSpPr>
          <p:spPr>
            <a:xfrm>
              <a:off x="141120" y="4383000"/>
              <a:ext cx="7215480" cy="288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TextBox 21"/>
            <p:cNvSpPr/>
            <p:nvPr/>
          </p:nvSpPr>
          <p:spPr>
            <a:xfrm>
              <a:off x="5954760" y="5335560"/>
              <a:ext cx="18396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Стрелка вправо 18"/>
            <p:cNvSpPr/>
            <p:nvPr/>
          </p:nvSpPr>
          <p:spPr>
            <a:xfrm>
              <a:off x="5464080" y="5407200"/>
              <a:ext cx="571320" cy="365040"/>
            </a:xfrm>
            <a:prstGeom prst="rightArrow">
              <a:avLst>
                <a:gd name="adj1" fmla="val 50000"/>
                <a:gd name="adj2" fmla="val 29403"/>
              </a:avLst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TextBox 23"/>
            <p:cNvSpPr/>
            <p:nvPr/>
          </p:nvSpPr>
          <p:spPr>
            <a:xfrm>
              <a:off x="5529240" y="1227960"/>
              <a:ext cx="919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0000"/>
                  </a:solidFill>
                  <a:latin typeface="Calibri"/>
                </a:rPr>
                <a:t>ВВИДУ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TextBox 24"/>
            <p:cNvSpPr/>
            <p:nvPr/>
          </p:nvSpPr>
          <p:spPr>
            <a:xfrm>
              <a:off x="6358680" y="1227960"/>
              <a:ext cx="718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b050"/>
                  </a:solidFill>
                  <a:latin typeface="Calibri"/>
                </a:rPr>
                <a:t>чего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TextBox 26"/>
            <p:cNvSpPr/>
            <p:nvPr/>
          </p:nvSpPr>
          <p:spPr>
            <a:xfrm>
              <a:off x="6983640" y="1120680"/>
              <a:ext cx="21603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ff"/>
                  </a:solidFill>
                  <a:latin typeface="Calibri"/>
                </a:rPr>
                <a:t>предстоящего мероприяти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5" name="Picture 2" descr="C:\Users\Андрей\Pictures\Мои рисунки\ЕГЭ, ГИА\6.jpg"/>
          <p:cNvPicPr/>
          <p:nvPr/>
        </p:nvPicPr>
        <p:blipFill>
          <a:blip r:embed="rId1"/>
          <a:stretch/>
        </p:blipFill>
        <p:spPr>
          <a:xfrm>
            <a:off x="-36360" y="-23760"/>
            <a:ext cx="987120" cy="13525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"/>
          <p:cNvPicPr/>
          <p:nvPr/>
        </p:nvPicPr>
        <p:blipFill>
          <a:blip r:embed="rId1"/>
          <a:stretch/>
        </p:blipFill>
        <p:spPr>
          <a:xfrm>
            <a:off x="4438800" y="304920"/>
            <a:ext cx="4224240" cy="4432320"/>
          </a:xfrm>
          <a:prstGeom prst="rect">
            <a:avLst/>
          </a:prstGeom>
          <a:ln w="0">
            <a:noFill/>
          </a:ln>
        </p:spPr>
      </p:pic>
      <p:sp>
        <p:nvSpPr>
          <p:cNvPr id="117" name="Прямоугольник 1"/>
          <p:cNvSpPr/>
          <p:nvPr/>
        </p:nvSpPr>
        <p:spPr>
          <a:xfrm>
            <a:off x="228600" y="3048120"/>
            <a:ext cx="4572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Скучать </a:t>
            </a:r>
            <a:r>
              <a:rPr b="1" lang="ru-RU" sz="4800" spc="-1" strike="noStrike">
                <a:solidFill>
                  <a:srgbClr val="ff0000"/>
                </a:solidFill>
                <a:latin typeface="Calibri"/>
              </a:rPr>
              <a:t>по вас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(местоимения 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предложно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падеже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2" descr="C:\Users\Андрей\Pictures\Мои рисунки\ЕГЭ, ГИА\6.jpg"/>
          <p:cNvPicPr/>
          <p:nvPr/>
        </p:nvPicPr>
        <p:blipFill>
          <a:blip r:embed="rId2"/>
          <a:stretch/>
        </p:blipFill>
        <p:spPr>
          <a:xfrm>
            <a:off x="-36360" y="-23760"/>
            <a:ext cx="987120" cy="13525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Алгоритм выполнения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716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. Находим производный предлог, определяе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адеж слова, к которому относится этот предлог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2. Если падеж не соответствует, то эт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едложение с ошибко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3. Если ошибок с производными предлогами нет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о находим сочетание с ПО, определяе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адеж,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мотрим на окончание, если в окончани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ю(-у), то это предложение с ошибко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Picture 2" descr="C:\Users\Андрей\Pictures\Мои рисунки\ЕГЭ, ГИА\6.jpg"/>
          <p:cNvPicPr/>
          <p:nvPr/>
        </p:nvPicPr>
        <p:blipFill>
          <a:blip r:embed="rId1"/>
          <a:stretch/>
        </p:blipFill>
        <p:spPr>
          <a:xfrm>
            <a:off x="-36360" y="-23760"/>
            <a:ext cx="566640" cy="7668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Прямоугольник 3"/>
          <p:cNvSpPr/>
          <p:nvPr/>
        </p:nvSpPr>
        <p:spPr>
          <a:xfrm>
            <a:off x="380880" y="204840"/>
            <a:ext cx="8458200" cy="77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Бла­го­да­ря по­вы­ше­ния уров­ня сер­ви­са в фир­мен­ных ма­га­зи­нах стало боль­ше по­ку­па­те­л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Зим­няя сес­сия сту­ден­тов про­хо­ди­ла со­глас­но рас­пи­са­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А.П. Чехов в письме из Ялты описывает о путешествии в ботанический са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Вопреки  правил пунктуации, журналисты часто употреб­ляют тире вместо двоеточ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Благодаря понимания со стороны родителей и друзей мне удалось преодолеть труд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Вследствие сильным дождям вода в реке всё прибыва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На уроках русского языка недостаточное внимание уделяется на изучение норм литературного язы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По окончании школы я планирую поступить в ВУЗ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Прямоугольник 3"/>
          <p:cNvSpPr/>
          <p:nvPr/>
        </p:nvSpPr>
        <p:spPr>
          <a:xfrm>
            <a:off x="304920" y="304920"/>
            <a:ext cx="845820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 Согласно правил вводные слова выделяются на письме запяты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 В выходные и праздничные дни поезда будут следовать согласно распис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. Вопреки прогнозов аналитиков, в этом году авиакомпании удалось сохранить объём перевозо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. Сразу по приезду в город мы отправились к мор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. Согласно указания директора на предприятии началась замена старых пропусков на новы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. Не все участники похода добрались до места встречи ввиду сложностью маршру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. 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истечении срока контракта мы вернулись домой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. По приезду в город Чичиков познакомился с городскими чиновниками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. Билеты будут продаваться по прибытию поезд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WordArt 2"/>
          <p:cNvSpPr txBox="1"/>
          <p:nvPr/>
        </p:nvSpPr>
        <p:spPr>
          <a:xfrm>
            <a:off x="990720" y="0"/>
            <a:ext cx="77724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25560">
                  <a:solidFill>
                    <a:srgbClr val="ffffff"/>
                  </a:solidFill>
                  <a:miter/>
                </a:ln>
                <a:solidFill>
                  <a:srgbClr val="000099"/>
                </a:solidFill>
                <a:latin typeface="Bookman Old Style"/>
              </a:rPr>
              <a:t> </a:t>
            </a:r>
            <a:endParaRPr b="1" lang="en-US" sz="1600" spc="1" strike="noStrike">
              <a:ln w="25560">
                <a:solidFill>
                  <a:srgbClr val="ffffff"/>
                </a:solidFill>
                <a:miter/>
              </a:ln>
              <a:solidFill>
                <a:srgbClr val="000099"/>
              </a:solidFill>
              <a:latin typeface="Bookman Old Style"/>
              <a:ea typeface="Bookman Old Style"/>
            </a:endParaRPr>
          </a:p>
        </p:txBody>
      </p:sp>
      <p:sp>
        <p:nvSpPr>
          <p:cNvPr id="125" name="Содержимое 4"/>
          <p:cNvSpPr/>
          <p:nvPr/>
        </p:nvSpPr>
        <p:spPr>
          <a:xfrm>
            <a:off x="495360" y="1447920"/>
            <a:ext cx="86104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. Деепричастие обозначает добавочное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ействие при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сновном, его можно заменить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глаголом. А это значит, что относится к одному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длежащему, что и сказуемо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уляя в парке, 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я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терял перчатки. Я гулял, я потеря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Допускается использование в безличном предложении при инфинитиве: </a:t>
            </a:r>
            <a:r>
              <a:rPr b="0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Возвращаясь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мой , </a:t>
            </a:r>
            <a:r>
              <a:rPr b="0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нужно зайти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булочну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ельзя употреблять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) в безличном, с личными местоимения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косвенных падежах (мне, у меня, со мной, у вас и т.д.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зучая арифметику, мне стало интерес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2" descr="C:\Users\Андрей\Pictures\Мои рисунки\ЕГЭ, ГИА\6.jpg"/>
          <p:cNvPicPr/>
          <p:nvPr/>
        </p:nvPicPr>
        <p:blipFill>
          <a:blip r:embed="rId1"/>
          <a:stretch/>
        </p:blipFill>
        <p:spPr>
          <a:xfrm>
            <a:off x="-36360" y="-23760"/>
            <a:ext cx="1066680" cy="146196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Ошибка в построении предложения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епричастным оборото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609120" y="1371600"/>
            <a:ext cx="8077320" cy="76320"/>
          </a:xfrm>
          <a:prstGeom prst="rect">
            <a:avLst/>
          </a:prstGeom>
          <a:noFill/>
          <a:ln w="0">
            <a:noFill/>
          </a:ln>
        </p:spPr>
        <p:txBody>
          <a:bodyPr tIns="30600" bIns="30600"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Выгнутая вверх стрелка 5"/>
          <p:cNvSpPr/>
          <p:nvPr/>
        </p:nvSpPr>
        <p:spPr>
          <a:xfrm>
            <a:off x="2590920" y="2933640"/>
            <a:ext cx="914400" cy="266760"/>
          </a:xfrm>
          <a:custGeom>
            <a:avLst/>
            <a:gdLst>
              <a:gd name="textAreaLeft" fmla="*/ 203400 w 914400"/>
              <a:gd name="textAreaRight" fmla="*/ 677520 w 914400"/>
              <a:gd name="textAreaTop" fmla="*/ 35640 h 266760"/>
              <a:gd name="textAreaBottom" fmla="*/ 231120 h 2667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619" hR="21600" stAng="10800000" swAng="5400000"/>
                <a:lnTo>
                  <a:pt x="11195" y="0"/>
                </a:lnTo>
                <a:arcTo wR="9619" hR="21600" stAng="-5400000" swAng="3593613"/>
                <a:lnTo>
                  <a:pt x="21295" y="16200"/>
                </a:lnTo>
                <a:lnTo>
                  <a:pt x="20025" y="21600"/>
                </a:lnTo>
                <a:lnTo>
                  <a:pt x="18145" y="16200"/>
                </a:lnTo>
                <a:lnTo>
                  <a:pt x="18932" y="16200"/>
                </a:lnTo>
                <a:arcTo wR="9619" hR="21600" stAng="-1806387" swAng="-3467832"/>
                <a:lnTo>
                  <a:pt x="10407" y="73"/>
                </a:lnTo>
                <a:arcTo wR="9619" hR="21600" stAng="-5525781" swAng="-5274219"/>
                <a:close/>
              </a:path>
              <a:path fill="darkenLess" w="21600" h="21600">
                <a:moveTo>
                  <a:pt x="0" y="21600"/>
                </a:moveTo>
                <a:arcTo wR="9619" hR="21600" stAng="10800000" swAng="5400000"/>
                <a:lnTo>
                  <a:pt x="9619" y="0"/>
                </a:lnTo>
                <a:arcTo wR="9619" hR="21600" stAng="-5400000" swAng="125781"/>
                <a:lnTo>
                  <a:pt x="10407" y="73"/>
                </a:lnTo>
                <a:arcTo wR="9619" hR="21600" stAng="-5525781" swAng="-5274219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Выгнутая вверх стрелка 6"/>
          <p:cNvSpPr/>
          <p:nvPr/>
        </p:nvSpPr>
        <p:spPr>
          <a:xfrm flipH="1">
            <a:off x="838080" y="2952720"/>
            <a:ext cx="1524240" cy="247680"/>
          </a:xfrm>
          <a:custGeom>
            <a:avLst/>
            <a:gdLst>
              <a:gd name="textAreaLeft" fmla="*/ 357840 w 1524240"/>
              <a:gd name="textAreaRight" fmla="*/ 1135440 w 1524240"/>
              <a:gd name="textAreaTop" fmla="*/ 33120 h 247680"/>
              <a:gd name="textAreaBottom" fmla="*/ 2145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10142" hR="21600" stAng="10800000" swAng="5400000"/>
                <a:lnTo>
                  <a:pt x="11019" y="0"/>
                </a:lnTo>
                <a:arcTo wR="10142" hR="21600" stAng="-5400000" swAng="3671614"/>
                <a:lnTo>
                  <a:pt x="21278" y="16200"/>
                </a:lnTo>
                <a:lnTo>
                  <a:pt x="20723" y="21600"/>
                </a:lnTo>
                <a:lnTo>
                  <a:pt x="19523" y="16200"/>
                </a:lnTo>
                <a:lnTo>
                  <a:pt x="19962" y="16200"/>
                </a:lnTo>
                <a:arcTo wR="10142" hR="21600" stAng="-1728386" swAng="-3601769"/>
                <a:lnTo>
                  <a:pt x="10581" y="20"/>
                </a:lnTo>
                <a:arcTo wR="10142" hR="21600" stAng="-5469845" swAng="-5330155"/>
                <a:close/>
              </a:path>
              <a:path fill="darkenLess" w="21600" h="21600">
                <a:moveTo>
                  <a:pt x="0" y="21600"/>
                </a:moveTo>
                <a:arcTo wR="10142" hR="21600" stAng="10800000" swAng="5400000"/>
                <a:lnTo>
                  <a:pt x="10142" y="0"/>
                </a:lnTo>
                <a:arcTo wR="10142" hR="21600" stAng="-5400000" swAng="69845"/>
                <a:lnTo>
                  <a:pt x="10581" y="20"/>
                </a:lnTo>
                <a:arcTo wR="10142" hR="21600" stAng="-5469845" swAng="-5330155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1"/>
          <p:cNvSpPr/>
          <p:nvPr/>
        </p:nvSpPr>
        <p:spPr>
          <a:xfrm>
            <a:off x="571680" y="2994480"/>
            <a:ext cx="835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71760" y="566280"/>
            <a:ext cx="718632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Picture 2" descr="C:\Users\Андрей\Pictures\Мои рисунки\ЕГЭ, ГИА\6.jpg"/>
          <p:cNvPicPr/>
          <p:nvPr/>
        </p:nvPicPr>
        <p:blipFill>
          <a:blip r:embed="rId1"/>
          <a:stretch/>
        </p:blipFill>
        <p:spPr>
          <a:xfrm>
            <a:off x="-36360" y="-23760"/>
            <a:ext cx="761760" cy="1035000"/>
          </a:xfrm>
          <a:prstGeom prst="rect">
            <a:avLst/>
          </a:prstGeom>
          <a:ln w="0">
            <a:noFill/>
          </a:ln>
        </p:spPr>
      </p:pic>
      <p:sp>
        <p:nvSpPr>
          <p:cNvPr id="134" name="Скругленный прямоугольник 2"/>
          <p:cNvSpPr/>
          <p:nvPr/>
        </p:nvSpPr>
        <p:spPr>
          <a:xfrm>
            <a:off x="685800" y="206280"/>
            <a:ext cx="8244000" cy="1470240"/>
          </a:xfrm>
          <a:prstGeom prst="roundRect">
            <a:avLst>
              <a:gd name="adj" fmla="val 16667"/>
            </a:avLst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Глагол-сказуемое и деепричастие не должны обозначать действия разных предметов и лиц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Прямоугольник 1"/>
          <p:cNvSpPr/>
          <p:nvPr/>
        </p:nvSpPr>
        <p:spPr>
          <a:xfrm>
            <a:off x="685800" y="2057400"/>
            <a:ext cx="82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нимаясь определённым делом, оно начинает хорошо получать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4"/>
          <p:cNvSpPr/>
          <p:nvPr/>
        </p:nvSpPr>
        <p:spPr>
          <a:xfrm>
            <a:off x="777960" y="1952640"/>
            <a:ext cx="8076960" cy="1501920"/>
          </a:xfrm>
          <a:prstGeom prst="rect">
            <a:avLst/>
          </a:prstGeom>
          <a:solidFill>
            <a:srgbClr val="8eb4e3"/>
          </a:solidFill>
          <a:ln w="3816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АВИЛЬН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гда мы занимаемся определенным делом, оно начинает получатьс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4"/>
          <p:cNvSpPr/>
          <p:nvPr/>
        </p:nvSpPr>
        <p:spPr>
          <a:xfrm>
            <a:off x="777960" y="2050920"/>
            <a:ext cx="8076960" cy="1501920"/>
          </a:xfrm>
          <a:prstGeom prst="rect">
            <a:avLst/>
          </a:prstGeom>
          <a:solidFill>
            <a:srgbClr val="8eb4e3"/>
          </a:solidFill>
          <a:ln w="3816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АВИЛЬН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нявшись определенным делом, мы добились успех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3"/>
          <p:cNvSpPr/>
          <p:nvPr/>
        </p:nvSpPr>
        <p:spPr>
          <a:xfrm>
            <a:off x="822240" y="4114800"/>
            <a:ext cx="81075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третившись на вокзале, слезы сами показались на глазах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оугольник 1"/>
          <p:cNvSpPr/>
          <p:nvPr/>
        </p:nvSpPr>
        <p:spPr>
          <a:xfrm>
            <a:off x="816120" y="4495680"/>
            <a:ext cx="8076960" cy="1295640"/>
          </a:xfrm>
          <a:prstGeom prst="rect">
            <a:avLst/>
          </a:prstGeom>
          <a:solidFill>
            <a:srgbClr val="8eb4e3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АВИЛЬНО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гда мы встретились на вокзале, слёзы сами показались из глаз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Прямоугольник 3"/>
          <p:cNvSpPr/>
          <p:nvPr/>
        </p:nvSpPr>
        <p:spPr>
          <a:xfrm>
            <a:off x="876240" y="4495680"/>
            <a:ext cx="8016840" cy="1206720"/>
          </a:xfrm>
          <a:prstGeom prst="rect">
            <a:avLst/>
          </a:prstGeom>
          <a:solidFill>
            <a:srgbClr val="8eb4e3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АВИЛЬНО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третившись на вокзале, мы заплакал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горитм выполнения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80520" y="6858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Определяем деепричастие (суффиксы -а, -я, -в,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вши-; отвечают на вопросы что делая? Что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делав?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Как правило, в начале предложения, перед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лежащим или сказуемым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Находим подлежащее, выясняем один  предмет выполняет действия или разные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Если разные предметы выполняют действия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 предложение безличное с личным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стоимениями в косвенных падежах, то это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ложение с ошибкой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1"/>
          <p:cNvSpPr/>
          <p:nvPr/>
        </p:nvSpPr>
        <p:spPr>
          <a:xfrm>
            <a:off x="571680" y="2994480"/>
            <a:ext cx="742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219320" y="580680"/>
            <a:ext cx="7400880" cy="5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" name="Picture 2" descr="C:\Users\Андрей\Pictures\Мои рисунки\ЕГЭ, ГИА\6.jpg"/>
          <p:cNvPicPr/>
          <p:nvPr/>
        </p:nvPicPr>
        <p:blipFill>
          <a:blip r:embed="rId1"/>
          <a:stretch/>
        </p:blipFill>
        <p:spPr>
          <a:xfrm>
            <a:off x="-36360" y="-23760"/>
            <a:ext cx="914400" cy="1243080"/>
          </a:xfrm>
          <a:prstGeom prst="rect">
            <a:avLst/>
          </a:prstGeom>
          <a:ln w="0">
            <a:noFill/>
          </a:ln>
        </p:spPr>
      </p:pic>
      <p:sp>
        <p:nvSpPr>
          <p:cNvPr id="146" name="Прямоугольник 1"/>
          <p:cNvSpPr/>
          <p:nvPr/>
        </p:nvSpPr>
        <p:spPr>
          <a:xfrm>
            <a:off x="388800" y="581040"/>
            <a:ext cx="829800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уя    примеры,    мной    овладели сом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Расположившись на земляной насыпи, у зрителей был прекрасный обзор всего пол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Заглянув на урок, директору представилась интересная карти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Благодаря обучения в медицинском институте Устименко стал работать сельским врач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Приводя примеры истинной любви, многие учащиеся обращались к «Гранатовому браслету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Создавая метеорологический прогноз, учёными обрабатывается большой статистический материа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Используя языковые средства выразительности, текст выглядит более убедительны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Взяв в 1552 году столицу Казанского ханства, Иван Грозный старался привлечь на свою сторону новых подданны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2"/>
          <p:cNvSpPr/>
          <p:nvPr/>
        </p:nvSpPr>
        <p:spPr>
          <a:xfrm>
            <a:off x="8460000" y="3135240"/>
            <a:ext cx="41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WordArt 2"/>
          <p:cNvSpPr txBox="1"/>
          <p:nvPr/>
        </p:nvSpPr>
        <p:spPr>
          <a:xfrm>
            <a:off x="304920" y="228600"/>
            <a:ext cx="84582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ffffff"/>
                  </a:solidFill>
                  <a:miter/>
                </a:ln>
                <a:solidFill>
                  <a:srgbClr val="000099"/>
                </a:solidFill>
                <a:latin typeface="Bookman Old Style"/>
              </a:rPr>
              <a:t> </a:t>
            </a:r>
            <a:endParaRPr b="1" lang="en-US" sz="1800" spc="1" strike="noStrike">
              <a:ln w="25560">
                <a:solidFill>
                  <a:srgbClr val="ffffff"/>
                </a:solidFill>
                <a:miter/>
              </a:ln>
              <a:solidFill>
                <a:srgbClr val="000099"/>
              </a:solidFill>
              <a:latin typeface="Bookman Old Style"/>
              <a:ea typeface="Bookman Old Style"/>
            </a:endParaRPr>
          </a:p>
        </p:txBody>
      </p:sp>
      <p:pic>
        <p:nvPicPr>
          <p:cNvPr id="149" name="Picture 2" descr="C:\Users\Андрей\Pictures\Мои рисунки\ЕГЭ, ГИА\6.jpg"/>
          <p:cNvPicPr/>
          <p:nvPr/>
        </p:nvPicPr>
        <p:blipFill>
          <a:blip r:embed="rId1"/>
          <a:stretch/>
        </p:blipFill>
        <p:spPr>
          <a:xfrm>
            <a:off x="-36360" y="-23760"/>
            <a:ext cx="1066680" cy="146196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62120" y="342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Нарушение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овременной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оотнесённости глагольных форм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Прямоугольник 2"/>
          <p:cNvSpPr/>
          <p:nvPr/>
        </p:nvSpPr>
        <p:spPr>
          <a:xfrm>
            <a:off x="250920" y="1295280"/>
            <a:ext cx="876276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азуемые должны быть одного вида и одного времен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стом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едложени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. вид                      несов. 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тр Иванович приехал на работу и заходил   в кабинет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. в                    наст. 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внимательно слушали текст и  пересказывают   его содержа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В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жном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едложен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гда наступает  лето, мы поедем отдыхать на ю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жизни  случается  разное, но и были чудес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Скругленный прямоугольник 3"/>
          <p:cNvSpPr/>
          <p:nvPr/>
        </p:nvSpPr>
        <p:spPr>
          <a:xfrm>
            <a:off x="5821200" y="3218040"/>
            <a:ext cx="2422800" cy="9144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сказыва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Скругленный прямоугольник 5"/>
          <p:cNvSpPr/>
          <p:nvPr/>
        </p:nvSpPr>
        <p:spPr>
          <a:xfrm>
            <a:off x="5886360" y="2322360"/>
            <a:ext cx="1371600" cy="7621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ше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Скругленный прямоугольник 7"/>
          <p:cNvSpPr/>
          <p:nvPr/>
        </p:nvSpPr>
        <p:spPr>
          <a:xfrm>
            <a:off x="1298520" y="4778280"/>
            <a:ext cx="1523880" cy="4572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тупи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Скругленный прямоугольник 8"/>
          <p:cNvSpPr/>
          <p:nvPr/>
        </p:nvSpPr>
        <p:spPr>
          <a:xfrm>
            <a:off x="1752480" y="5562720"/>
            <a:ext cx="1600200" cy="5652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лучалос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d"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5"/>
          <p:cNvSpPr/>
          <p:nvPr/>
        </p:nvSpPr>
        <p:spPr>
          <a:xfrm>
            <a:off x="380880" y="2895480"/>
            <a:ext cx="8229600" cy="5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1"/>
          <p:cNvSpPr/>
          <p:nvPr/>
        </p:nvSpPr>
        <p:spPr>
          <a:xfrm>
            <a:off x="-76320" y="708120"/>
            <a:ext cx="922032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2" descr="C:\Users\Андрей\Pictures\Мои рисунки\ЕГЭ, ГИА\6.jpg"/>
          <p:cNvPicPr/>
          <p:nvPr/>
        </p:nvPicPr>
        <p:blipFill>
          <a:blip r:embed="rId1"/>
          <a:stretch/>
        </p:blipFill>
        <p:spPr>
          <a:xfrm>
            <a:off x="-36360" y="-23760"/>
            <a:ext cx="1066680" cy="14619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"/>
          <p:cNvPicPr/>
          <p:nvPr/>
        </p:nvPicPr>
        <p:blipFill>
          <a:blip r:embed="rId2"/>
          <a:stretch/>
        </p:blipFill>
        <p:spPr>
          <a:xfrm>
            <a:off x="1371600" y="0"/>
            <a:ext cx="7986600" cy="1066680"/>
          </a:xfrm>
          <a:prstGeom prst="rect">
            <a:avLst/>
          </a:prstGeom>
          <a:ln w="0">
            <a:noFill/>
          </a:ln>
        </p:spPr>
      </p:pic>
      <p:sp>
        <p:nvSpPr>
          <p:cNvPr id="56" name="Прямоугольник 1"/>
          <p:cNvSpPr/>
          <p:nvPr/>
        </p:nvSpPr>
        <p:spPr>
          <a:xfrm>
            <a:off x="380880" y="735120"/>
            <a:ext cx="84330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Нарушение в построении предложения с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согласованным приложени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Неправильное употребление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дежной формы существительного 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лог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Ошибка в построении предложения с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епричастным оборот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Нарушение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овременной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оотнесённости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гольных фор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Нарушение в построении предложения с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частным оборот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Нарушение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яз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ежду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лежащим и сказуемы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Нарушение в построении предложения с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ородными член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Неправильное построение предложения с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свенной речь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 Ошибка в употреблении имени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ительн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 Ошибка в построении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жного предлож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6" descr=""/>
          <p:cNvPicPr/>
          <p:nvPr/>
        </p:nvPicPr>
        <p:blipFill>
          <a:blip r:embed="rId3"/>
          <a:stretch/>
        </p:blipFill>
        <p:spPr>
          <a:xfrm>
            <a:off x="0" y="0"/>
            <a:ext cx="1495440" cy="7081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Прямоугольник 1"/>
          <p:cNvSpPr/>
          <p:nvPr/>
        </p:nvSpPr>
        <p:spPr>
          <a:xfrm>
            <a:off x="380880" y="304920"/>
            <a:ext cx="8382240" cy="69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Он проталкивался к двери и кашляет от морозного воздух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Мы - его ученики - шли на урок, чтобы послушать его, чтобы прикасаться к новому и неизведанному, чтобы поделиться тем, что нас волнует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Спортсмены, приехавшие на чемпионат, надеялись на победу и верят в неё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Неожиданно для всех Рита позвонила и сообщила, что обе девочки уже дом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Нам, к всеобщей радости, оплатили сверхурочную работу и отпустят отдыхать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Ф.М. Достоевский считал воз­можным счастье не только «в насла­ждениях любви, а и в высшей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ар­монии духа» и восхищается поступ­ком Татьяны, не построившей свое­го личного счастья на несчастье другого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WordArt 2"/>
          <p:cNvSpPr txBox="1"/>
          <p:nvPr/>
        </p:nvSpPr>
        <p:spPr>
          <a:xfrm>
            <a:off x="990720" y="228600"/>
            <a:ext cx="77724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ffffff"/>
                  </a:solidFill>
                  <a:miter/>
                </a:ln>
                <a:solidFill>
                  <a:srgbClr val="000099"/>
                </a:solidFill>
                <a:latin typeface="Bookman Old Style"/>
              </a:rPr>
              <a:t> </a:t>
            </a:r>
            <a:endParaRPr b="1" lang="en-US" sz="1800" spc="1" strike="noStrike">
              <a:ln w="25560">
                <a:solidFill>
                  <a:srgbClr val="ffffff"/>
                </a:solidFill>
                <a:miter/>
              </a:ln>
              <a:solidFill>
                <a:srgbClr val="000099"/>
              </a:solidFill>
              <a:latin typeface="Bookman Old Style"/>
              <a:ea typeface="Bookman Old Style"/>
            </a:endParaRPr>
          </a:p>
        </p:txBody>
      </p:sp>
      <p:pic>
        <p:nvPicPr>
          <p:cNvPr id="158" name="Picture 2" descr="C:\Users\Андрей\Pictures\Мои рисунки\ЕГЭ, ГИА\6.jpg"/>
          <p:cNvPicPr/>
          <p:nvPr/>
        </p:nvPicPr>
        <p:blipFill>
          <a:blip r:embed="rId1"/>
          <a:stretch/>
        </p:blipFill>
        <p:spPr>
          <a:xfrm>
            <a:off x="-36360" y="-23760"/>
            <a:ext cx="1066680" cy="1461960"/>
          </a:xfrm>
          <a:prstGeom prst="rect">
            <a:avLst/>
          </a:prstGeom>
          <a:ln w="0">
            <a:noFill/>
          </a:ln>
        </p:spPr>
      </p:pic>
      <p:sp>
        <p:nvSpPr>
          <p:cNvPr id="159" name="Прямоугольник 1"/>
          <p:cNvSpPr/>
          <p:nvPr/>
        </p:nvSpPr>
        <p:spPr>
          <a:xfrm>
            <a:off x="380880" y="1444680"/>
            <a:ext cx="82296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гласование причастия в числе, роде и падеже  с определяемым словом. Ошибка – неверное согласование (неправильное окончание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х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ы видим ребят, гулявш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м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парк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ы видим ребят (как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х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), гулявш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х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арк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3520" y="342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Нарушение в построении предложения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частным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боротом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Выгнутая вверх стрелка 3"/>
          <p:cNvSpPr/>
          <p:nvPr/>
        </p:nvSpPr>
        <p:spPr>
          <a:xfrm>
            <a:off x="2286000" y="3124080"/>
            <a:ext cx="2438280" cy="163800"/>
          </a:xfrm>
          <a:custGeom>
            <a:avLst/>
            <a:gdLst>
              <a:gd name="textAreaLeft" fmla="*/ 594000 w 2438280"/>
              <a:gd name="textAreaRight" fmla="*/ 1823760 w 2438280"/>
              <a:gd name="textAreaTop" fmla="*/ 21960 h 163800"/>
              <a:gd name="textAreaBottom" fmla="*/ 141840 h 1638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10529" hR="21600" stAng="10800000" swAng="5400000"/>
                <a:lnTo>
                  <a:pt x="10891" y="0"/>
                </a:lnTo>
                <a:arcTo wR="10529" hR="21600" stAng="-5400000" swAng="3725352"/>
                <a:lnTo>
                  <a:pt x="21266" y="16200"/>
                </a:lnTo>
                <a:lnTo>
                  <a:pt x="21238" y="21600"/>
                </a:lnTo>
                <a:lnTo>
                  <a:pt x="20542" y="16200"/>
                </a:lnTo>
                <a:lnTo>
                  <a:pt x="20723" y="16200"/>
                </a:lnTo>
                <a:arcTo wR="10529" hR="21600" stAng="-1674648" swAng="-3696541"/>
                <a:lnTo>
                  <a:pt x="10710" y="3"/>
                </a:lnTo>
                <a:arcTo wR="10529" hR="21600" stAng="-5428811" swAng="-5371189"/>
                <a:close/>
              </a:path>
              <a:path fill="darkenLess" w="21600" h="21600">
                <a:moveTo>
                  <a:pt x="0" y="21600"/>
                </a:moveTo>
                <a:arcTo wR="10529" hR="21600" stAng="10800000" swAng="5400000"/>
                <a:lnTo>
                  <a:pt x="10529" y="0"/>
                </a:lnTo>
                <a:arcTo wR="10529" hR="21600" stAng="-5400000" swAng="28811"/>
                <a:lnTo>
                  <a:pt x="10710" y="3"/>
                </a:lnTo>
                <a:arcTo wR="10529" hR="21600" stAng="-5428811" swAng="-5371189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d"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3" descr=""/>
          <p:cNvPicPr/>
          <p:nvPr/>
        </p:nvPicPr>
        <p:blipFill>
          <a:blip r:embed="rId1"/>
          <a:stretch/>
        </p:blipFill>
        <p:spPr>
          <a:xfrm>
            <a:off x="0" y="60480"/>
            <a:ext cx="1481040" cy="64584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1"/>
          <p:cNvSpPr/>
          <p:nvPr/>
        </p:nvSpPr>
        <p:spPr>
          <a:xfrm>
            <a:off x="571680" y="2994480"/>
            <a:ext cx="835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оугольник 5"/>
          <p:cNvSpPr/>
          <p:nvPr/>
        </p:nvSpPr>
        <p:spPr>
          <a:xfrm>
            <a:off x="0" y="12142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Прямоугольник 2"/>
          <p:cNvSpPr/>
          <p:nvPr/>
        </p:nvSpPr>
        <p:spPr>
          <a:xfrm>
            <a:off x="571680" y="1254240"/>
            <a:ext cx="83581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Ошибка в разрыве причастного оборо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ы видим играющих детей с машинкам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ы видим играющих с  машинками дет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Ошибка в неверном употреблении залог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частия (страдательное или действительное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ы видим впереди быстро построившееся здание. (Здание само построиться не может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ы видим впереди быстро построенное зда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71680" y="376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Нарушение в построении предложения с причастным оборотом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Умножение 11"/>
          <p:cNvSpPr/>
          <p:nvPr/>
        </p:nvSpPr>
        <p:spPr>
          <a:xfrm>
            <a:off x="4343400" y="1943280"/>
            <a:ext cx="407880" cy="266400"/>
          </a:xfrm>
          <a:custGeom>
            <a:avLst/>
            <a:gdLst/>
            <a:ahLst/>
            <a:rect l="l" t="t" r="r" b="b"/>
            <a:pathLst>
              <a:path w="407988" h="266700">
                <a:moveTo>
                  <a:pt x="89066" y="77704"/>
                </a:moveTo>
                <a:lnTo>
                  <a:pt x="106911" y="50405"/>
                </a:lnTo>
                <a:lnTo>
                  <a:pt x="203994" y="113868"/>
                </a:lnTo>
                <a:lnTo>
                  <a:pt x="301077" y="50405"/>
                </a:lnTo>
                <a:lnTo>
                  <a:pt x="318922" y="77704"/>
                </a:lnTo>
                <a:lnTo>
                  <a:pt x="233798" y="133350"/>
                </a:lnTo>
                <a:lnTo>
                  <a:pt x="318922" y="188996"/>
                </a:lnTo>
                <a:lnTo>
                  <a:pt x="301077" y="216295"/>
                </a:lnTo>
                <a:lnTo>
                  <a:pt x="203994" y="152832"/>
                </a:lnTo>
                <a:lnTo>
                  <a:pt x="106911" y="216295"/>
                </a:lnTo>
                <a:lnTo>
                  <a:pt x="89066" y="188996"/>
                </a:lnTo>
                <a:lnTo>
                  <a:pt x="174190" y="133350"/>
                </a:lnTo>
                <a:lnTo>
                  <a:pt x="89066" y="77704"/>
                </a:lnTo>
                <a:close/>
              </a:path>
            </a:pathLst>
          </a:custGeom>
          <a:solidFill>
            <a:srgbClr val="c00000"/>
          </a:soli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2" descr="C:\Users\Кенжегуль-Сапышевна\Desktop\Рисунок1.png"/>
          <p:cNvPicPr/>
          <p:nvPr/>
        </p:nvPicPr>
        <p:blipFill>
          <a:blip r:embed="rId2"/>
          <a:stretch/>
        </p:blipFill>
        <p:spPr>
          <a:xfrm>
            <a:off x="2438280" y="2505240"/>
            <a:ext cx="1451160" cy="1648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2" descr="C:\Users\Кенжегуль-Сапышевна\Desktop\Рисунок1.png"/>
          <p:cNvPicPr/>
          <p:nvPr/>
        </p:nvPicPr>
        <p:blipFill>
          <a:blip r:embed="rId3"/>
          <a:stretch/>
        </p:blipFill>
        <p:spPr>
          <a:xfrm>
            <a:off x="4876920" y="2517840"/>
            <a:ext cx="2120760" cy="23796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2" descr="C:\Users\Кенжегуль-Сапышевна\Desktop\Рисунок1.png"/>
          <p:cNvPicPr/>
          <p:nvPr/>
        </p:nvPicPr>
        <p:blipFill>
          <a:blip r:embed="rId4"/>
          <a:stretch/>
        </p:blipFill>
        <p:spPr>
          <a:xfrm>
            <a:off x="2438280" y="3456000"/>
            <a:ext cx="3810240" cy="214200"/>
          </a:xfrm>
          <a:prstGeom prst="rect">
            <a:avLst/>
          </a:prstGeom>
          <a:ln w="0">
            <a:noFill/>
          </a:ln>
        </p:spPr>
      </p:pic>
      <p:sp>
        <p:nvSpPr>
          <p:cNvPr id="171" name="Умножение 15"/>
          <p:cNvSpPr/>
          <p:nvPr/>
        </p:nvSpPr>
        <p:spPr>
          <a:xfrm>
            <a:off x="6400800" y="2860560"/>
            <a:ext cx="407880" cy="266760"/>
          </a:xfrm>
          <a:custGeom>
            <a:avLst/>
            <a:gdLst/>
            <a:ahLst/>
            <a:rect l="l" t="t" r="r" b="b"/>
            <a:pathLst>
              <a:path w="407988" h="266700">
                <a:moveTo>
                  <a:pt x="89066" y="77704"/>
                </a:moveTo>
                <a:lnTo>
                  <a:pt x="106911" y="50405"/>
                </a:lnTo>
                <a:lnTo>
                  <a:pt x="203994" y="113868"/>
                </a:lnTo>
                <a:lnTo>
                  <a:pt x="301077" y="50405"/>
                </a:lnTo>
                <a:lnTo>
                  <a:pt x="318922" y="77704"/>
                </a:lnTo>
                <a:lnTo>
                  <a:pt x="233798" y="133350"/>
                </a:lnTo>
                <a:lnTo>
                  <a:pt x="318922" y="188996"/>
                </a:lnTo>
                <a:lnTo>
                  <a:pt x="301077" y="216295"/>
                </a:lnTo>
                <a:lnTo>
                  <a:pt x="203994" y="152832"/>
                </a:lnTo>
                <a:lnTo>
                  <a:pt x="106911" y="216295"/>
                </a:lnTo>
                <a:lnTo>
                  <a:pt x="89066" y="188996"/>
                </a:lnTo>
                <a:lnTo>
                  <a:pt x="174190" y="133350"/>
                </a:lnTo>
                <a:lnTo>
                  <a:pt x="89066" y="77704"/>
                </a:lnTo>
                <a:close/>
              </a:path>
            </a:pathLst>
          </a:custGeom>
          <a:solidFill>
            <a:srgbClr val="c00000"/>
          </a:soli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2" descr="C:\Users\Кенжегуль-Сапышевна\Desktop\Рисунок1.png"/>
          <p:cNvPicPr/>
          <p:nvPr/>
        </p:nvPicPr>
        <p:blipFill>
          <a:blip r:embed="rId5"/>
          <a:stretch/>
        </p:blipFill>
        <p:spPr>
          <a:xfrm>
            <a:off x="3760920" y="5029200"/>
            <a:ext cx="3341520" cy="18900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2" descr="C:\Users\Кенжегуль-Сапышевна\Desktop\Рисунок1.png"/>
          <p:cNvPicPr/>
          <p:nvPr/>
        </p:nvPicPr>
        <p:blipFill>
          <a:blip r:embed="rId6"/>
          <a:stretch/>
        </p:blipFill>
        <p:spPr>
          <a:xfrm>
            <a:off x="3584520" y="5979960"/>
            <a:ext cx="3017880" cy="171720"/>
          </a:xfrm>
          <a:prstGeom prst="rect">
            <a:avLst/>
          </a:prstGeom>
          <a:ln w="0">
            <a:noFill/>
          </a:ln>
        </p:spPr>
      </p:pic>
      <p:sp>
        <p:nvSpPr>
          <p:cNvPr id="174" name="Умножение 18"/>
          <p:cNvSpPr/>
          <p:nvPr/>
        </p:nvSpPr>
        <p:spPr>
          <a:xfrm>
            <a:off x="7924680" y="4419720"/>
            <a:ext cx="408240" cy="438120"/>
          </a:xfrm>
          <a:custGeom>
            <a:avLst/>
            <a:gdLst/>
            <a:ahLst/>
            <a:rect l="l" t="t" r="r" b="b"/>
            <a:pathLst>
              <a:path w="407988" h="438150">
                <a:moveTo>
                  <a:pt x="79732" y="122233"/>
                </a:moveTo>
                <a:lnTo>
                  <a:pt x="116246" y="88232"/>
                </a:lnTo>
                <a:lnTo>
                  <a:pt x="203994" y="182468"/>
                </a:lnTo>
                <a:lnTo>
                  <a:pt x="291742" y="88232"/>
                </a:lnTo>
                <a:lnTo>
                  <a:pt x="328256" y="122233"/>
                </a:lnTo>
                <a:lnTo>
                  <a:pt x="238081" y="219075"/>
                </a:lnTo>
                <a:lnTo>
                  <a:pt x="328256" y="315917"/>
                </a:lnTo>
                <a:lnTo>
                  <a:pt x="291742" y="349918"/>
                </a:lnTo>
                <a:lnTo>
                  <a:pt x="203994" y="255682"/>
                </a:lnTo>
                <a:lnTo>
                  <a:pt x="116246" y="349918"/>
                </a:lnTo>
                <a:lnTo>
                  <a:pt x="79732" y="315917"/>
                </a:lnTo>
                <a:lnTo>
                  <a:pt x="169907" y="219075"/>
                </a:lnTo>
                <a:lnTo>
                  <a:pt x="79732" y="122233"/>
                </a:lnTo>
                <a:close/>
              </a:path>
            </a:pathLst>
          </a:custGeom>
          <a:solidFill>
            <a:srgbClr val="c00000"/>
          </a:soli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Умножение 19"/>
          <p:cNvSpPr/>
          <p:nvPr/>
        </p:nvSpPr>
        <p:spPr>
          <a:xfrm>
            <a:off x="7099200" y="5486400"/>
            <a:ext cx="406440" cy="266760"/>
          </a:xfrm>
          <a:custGeom>
            <a:avLst/>
            <a:gdLst/>
            <a:ahLst/>
            <a:rect l="l" t="t" r="r" b="b"/>
            <a:pathLst>
              <a:path w="406400" h="266700">
                <a:moveTo>
                  <a:pt x="88660" y="77688"/>
                </a:moveTo>
                <a:lnTo>
                  <a:pt x="106554" y="50421"/>
                </a:lnTo>
                <a:lnTo>
                  <a:pt x="203200" y="113845"/>
                </a:lnTo>
                <a:lnTo>
                  <a:pt x="299846" y="50421"/>
                </a:lnTo>
                <a:lnTo>
                  <a:pt x="317740" y="77688"/>
                </a:lnTo>
                <a:lnTo>
                  <a:pt x="232922" y="133350"/>
                </a:lnTo>
                <a:lnTo>
                  <a:pt x="317740" y="189012"/>
                </a:lnTo>
                <a:lnTo>
                  <a:pt x="299846" y="216279"/>
                </a:lnTo>
                <a:lnTo>
                  <a:pt x="203200" y="152855"/>
                </a:lnTo>
                <a:lnTo>
                  <a:pt x="106554" y="216279"/>
                </a:lnTo>
                <a:lnTo>
                  <a:pt x="88660" y="189012"/>
                </a:lnTo>
                <a:lnTo>
                  <a:pt x="173478" y="133350"/>
                </a:lnTo>
                <a:lnTo>
                  <a:pt x="88660" y="77688"/>
                </a:lnTo>
                <a:close/>
              </a:path>
            </a:pathLst>
          </a:custGeom>
          <a:solidFill>
            <a:srgbClr val="c00000"/>
          </a:soli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Прямоугольник 1"/>
          <p:cNvSpPr/>
          <p:nvPr/>
        </p:nvSpPr>
        <p:spPr>
          <a:xfrm>
            <a:off x="380880" y="1066680"/>
            <a:ext cx="83059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Определяем причастие по суффиксам (-ущ-/-ющ-, -ащ-/-ящ-, -вш-/-ш-, -ом-/-ем-/-им-, -енн-/-нн-, -т-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Находим определяемое слово, задаем вопро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причастию, выясняем, нарушено 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гласование или н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Если согласование не нарушено, то находи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ницы причастного оборота, выясняем, есть 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рыв или н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Если разрыва нет, то определяем зало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ясняем, есть ли ошибка или н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Алгоритм выполнения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trips dir="r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Прямоугольник 2"/>
          <p:cNvSpPr/>
          <p:nvPr/>
        </p:nvSpPr>
        <p:spPr>
          <a:xfrm>
            <a:off x="304920" y="152280"/>
            <a:ext cx="8839080" cy="64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В «Василии Тёркине» автор восхищается подвигом русского солдата, сохраняющим верность долгу и отчизн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Проскользнувший человек мимо меня быстро скрылся за углом, так что я даже не успел разглядеть его как следует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В повести «Капитанская дочка» имеется ряд эпизодов, указывающие не только на жестокость борющихся сторон, но и на их способность к милосердию и великодушию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Образ поэта-пророка, создан­ные Пушкиным, определял и его собственную жизнь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Один из фактов биографии А.П. Чехова, ставшие недавно известными, - строительство им на свои средства пяти сельских школ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Многие критические замечания  были внесены в энциклопедию, подготовленной к переизданию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В поросших лугах буйной растительностью водилось множество птиц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На столе стояли предназначенные для гостей столовые приборы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 Созданный роман молодым автором вызывал оживленные споры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далека были видны плывущие бревна по вод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Прямоугольник 1"/>
          <p:cNvSpPr/>
          <p:nvPr/>
        </p:nvSpPr>
        <p:spPr>
          <a:xfrm>
            <a:off x="453960" y="1066680"/>
            <a:ext cx="82296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язь между подлежащим и сказуемым мож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ыть нарушена в числе и род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Конструкции тип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, кто …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, кто …, …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т, кто …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то, как не …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Нарушение связи между подлежащим и сказуемым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3276720" cy="452592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 txBox="1"/>
          <p:nvPr/>
        </p:nvSpPr>
        <p:spPr>
          <a:xfrm>
            <a:off x="3733920" y="2103480"/>
            <a:ext cx="4665600" cy="164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8000"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то – всегда ед.ч., м.р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от - ед.ч., м.р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се, те – мн.ч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     </a:t>
            </a:r>
            <a:r>
              <a:rPr b="1" i="1" lang="ru-RU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Все, кто опоздал, останутся после урок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Все, кто опоздали, останется после урок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  </a:t>
            </a:r>
            <a:r>
              <a:rPr b="1" i="1" lang="ru-RU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Кто, как не мать, заботилась о ребенк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Выгнутая вверх стрелка 3"/>
          <p:cNvSpPr/>
          <p:nvPr/>
        </p:nvSpPr>
        <p:spPr>
          <a:xfrm>
            <a:off x="685800" y="2705040"/>
            <a:ext cx="1905120" cy="133560"/>
          </a:xfrm>
          <a:custGeom>
            <a:avLst/>
            <a:gdLst>
              <a:gd name="textAreaLeft" fmla="*/ 463680 w 1905120"/>
              <a:gd name="textAreaRight" fmla="*/ 1424880 w 1905120"/>
              <a:gd name="textAreaTop" fmla="*/ 17640 h 133560"/>
              <a:gd name="textAreaBottom" fmla="*/ 115920 h 133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10517" hR="21600" stAng="10800000" swAng="5400000"/>
                <a:lnTo>
                  <a:pt x="10895" y="0"/>
                </a:lnTo>
                <a:arcTo wR="10517" hR="21600" stAng="-5400000" swAng="3723730"/>
                <a:lnTo>
                  <a:pt x="21266" y="16200"/>
                </a:lnTo>
                <a:lnTo>
                  <a:pt x="21222" y="21600"/>
                </a:lnTo>
                <a:lnTo>
                  <a:pt x="20510" y="16200"/>
                </a:lnTo>
                <a:lnTo>
                  <a:pt x="20699" y="16200"/>
                </a:lnTo>
                <a:arcTo wR="10517" hR="21600" stAng="-1676270" swAng="-3693645"/>
                <a:lnTo>
                  <a:pt x="10706" y="3"/>
                </a:lnTo>
                <a:arcTo wR="10517" hR="21600" stAng="-5430084" swAng="-5369916"/>
                <a:close/>
              </a:path>
              <a:path fill="darkenLess" w="21600" h="21600">
                <a:moveTo>
                  <a:pt x="0" y="21600"/>
                </a:moveTo>
                <a:arcTo wR="10517" hR="21600" stAng="10800000" swAng="5400000"/>
                <a:lnTo>
                  <a:pt x="10517" y="0"/>
                </a:lnTo>
                <a:arcTo wR="10517" hR="21600" stAng="-5400000" swAng="30084"/>
                <a:lnTo>
                  <a:pt x="10706" y="3"/>
                </a:lnTo>
                <a:arcTo wR="10517" hR="21600" stAng="-5430084" swAng="-5369916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Выгнутая вверх стрелка 6"/>
          <p:cNvSpPr/>
          <p:nvPr/>
        </p:nvSpPr>
        <p:spPr>
          <a:xfrm>
            <a:off x="928800" y="3611520"/>
            <a:ext cx="1904760" cy="133560"/>
          </a:xfrm>
          <a:custGeom>
            <a:avLst/>
            <a:gdLst>
              <a:gd name="textAreaLeft" fmla="*/ 463680 w 1904760"/>
              <a:gd name="textAreaRight" fmla="*/ 1424520 w 1904760"/>
              <a:gd name="textAreaTop" fmla="*/ 17640 h 133560"/>
              <a:gd name="textAreaBottom" fmla="*/ 115920 h 133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10517" hR="21600" stAng="10800000" swAng="5400000"/>
                <a:lnTo>
                  <a:pt x="10895" y="0"/>
                </a:lnTo>
                <a:arcTo wR="10517" hR="21600" stAng="-5400000" swAng="3723730"/>
                <a:lnTo>
                  <a:pt x="21266" y="16200"/>
                </a:lnTo>
                <a:lnTo>
                  <a:pt x="21222" y="21600"/>
                </a:lnTo>
                <a:lnTo>
                  <a:pt x="20510" y="16200"/>
                </a:lnTo>
                <a:lnTo>
                  <a:pt x="20699" y="16200"/>
                </a:lnTo>
                <a:arcTo wR="10517" hR="21600" stAng="-1676270" swAng="-3693645"/>
                <a:lnTo>
                  <a:pt x="10706" y="3"/>
                </a:lnTo>
                <a:arcTo wR="10517" hR="21600" stAng="-5430084" swAng="-5369916"/>
                <a:close/>
              </a:path>
              <a:path fill="darkenLess" w="21600" h="21600">
                <a:moveTo>
                  <a:pt x="0" y="21600"/>
                </a:moveTo>
                <a:arcTo wR="10517" hR="21600" stAng="10800000" swAng="5400000"/>
                <a:lnTo>
                  <a:pt x="10517" y="0"/>
                </a:lnTo>
                <a:arcTo wR="10517" hR="21600" stAng="-5400000" swAng="30084"/>
                <a:lnTo>
                  <a:pt x="10706" y="3"/>
                </a:lnTo>
                <a:arcTo wR="10517" hR="21600" stAng="-5430084" swAng="-5369916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Выгнутая вверх стрелка 7"/>
          <p:cNvSpPr/>
          <p:nvPr/>
        </p:nvSpPr>
        <p:spPr>
          <a:xfrm>
            <a:off x="716040" y="4419720"/>
            <a:ext cx="1904760" cy="133200"/>
          </a:xfrm>
          <a:custGeom>
            <a:avLst/>
            <a:gdLst>
              <a:gd name="textAreaLeft" fmla="*/ 463680 w 1904760"/>
              <a:gd name="textAreaRight" fmla="*/ 1424520 w 1904760"/>
              <a:gd name="textAreaTop" fmla="*/ 17640 h 133200"/>
              <a:gd name="textAreaBottom" fmla="*/ 115560 h 1332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10517" hR="21600" stAng="10800000" swAng="5400000"/>
                <a:lnTo>
                  <a:pt x="10895" y="0"/>
                </a:lnTo>
                <a:arcTo wR="10517" hR="21600" stAng="-5400000" swAng="3723730"/>
                <a:lnTo>
                  <a:pt x="21266" y="16200"/>
                </a:lnTo>
                <a:lnTo>
                  <a:pt x="21222" y="21600"/>
                </a:lnTo>
                <a:lnTo>
                  <a:pt x="20510" y="16200"/>
                </a:lnTo>
                <a:lnTo>
                  <a:pt x="20699" y="16200"/>
                </a:lnTo>
                <a:arcTo wR="10517" hR="21600" stAng="-1676270" swAng="-3693645"/>
                <a:lnTo>
                  <a:pt x="10706" y="3"/>
                </a:lnTo>
                <a:arcTo wR="10517" hR="21600" stAng="-5430084" swAng="-5369916"/>
                <a:close/>
              </a:path>
              <a:path fill="darkenLess" w="21600" h="21600">
                <a:moveTo>
                  <a:pt x="0" y="21600"/>
                </a:moveTo>
                <a:arcTo wR="10517" hR="21600" stAng="10800000" swAng="5400000"/>
                <a:lnTo>
                  <a:pt x="10517" y="0"/>
                </a:lnTo>
                <a:arcTo wR="10517" hR="21600" stAng="-5400000" swAng="30084"/>
                <a:lnTo>
                  <a:pt x="10706" y="3"/>
                </a:lnTo>
                <a:arcTo wR="10517" hR="21600" stAng="-5430084" swAng="-5369916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Выгнутая вверх стрелка 8"/>
          <p:cNvSpPr/>
          <p:nvPr/>
        </p:nvSpPr>
        <p:spPr>
          <a:xfrm>
            <a:off x="928800" y="5348160"/>
            <a:ext cx="2119320" cy="133560"/>
          </a:xfrm>
          <a:custGeom>
            <a:avLst/>
            <a:gdLst>
              <a:gd name="textAreaLeft" fmla="*/ 517320 w 2119320"/>
              <a:gd name="textAreaRight" fmla="*/ 1585440 w 2119320"/>
              <a:gd name="textAreaTop" fmla="*/ 17640 h 133560"/>
              <a:gd name="textAreaBottom" fmla="*/ 115920 h 133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10545" hR="21600" stAng="10800000" swAng="5400000"/>
                <a:lnTo>
                  <a:pt x="10885" y="0"/>
                </a:lnTo>
                <a:arcTo wR="10545" hR="21600" stAng="-5400000" swAng="3727578"/>
                <a:lnTo>
                  <a:pt x="21265" y="16200"/>
                </a:lnTo>
                <a:lnTo>
                  <a:pt x="21260" y="21600"/>
                </a:lnTo>
                <a:lnTo>
                  <a:pt x="20585" y="16200"/>
                </a:lnTo>
                <a:lnTo>
                  <a:pt x="20755" y="16200"/>
                </a:lnTo>
                <a:arcTo wR="10545" hR="21600" stAng="-1672422" swAng="-3700518"/>
                <a:lnTo>
                  <a:pt x="10715" y="3"/>
                </a:lnTo>
                <a:arcTo wR="10545" hR="21600" stAng="-5427059" swAng="-5372941"/>
                <a:close/>
              </a:path>
              <a:path fill="darkenLess" w="21600" h="21600">
                <a:moveTo>
                  <a:pt x="0" y="21600"/>
                </a:moveTo>
                <a:arcTo wR="10545" hR="21600" stAng="10800000" swAng="5400000"/>
                <a:lnTo>
                  <a:pt x="10545" y="0"/>
                </a:lnTo>
                <a:arcTo wR="10545" hR="21600" stAng="-5400000" swAng="27059"/>
                <a:lnTo>
                  <a:pt x="10715" y="3"/>
                </a:lnTo>
                <a:arcTo wR="10545" hR="21600" stAng="-5427059" swAng="-5372941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Выгнутая вниз стрелка 4"/>
          <p:cNvSpPr/>
          <p:nvPr/>
        </p:nvSpPr>
        <p:spPr>
          <a:xfrm>
            <a:off x="1112760" y="3173400"/>
            <a:ext cx="677880" cy="103320"/>
          </a:xfrm>
          <a:custGeom>
            <a:avLst/>
            <a:gdLst>
              <a:gd name="textAreaLeft" fmla="*/ 159840 w 677880"/>
              <a:gd name="textAreaRight" fmla="*/ 505440 w 677880"/>
              <a:gd name="textAreaTop" fmla="*/ 13680 h 103320"/>
              <a:gd name="textAreaBottom" fmla="*/ 89640 h 1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10184" hR="21600" stAng="10800000" swAng="-5400000"/>
                <a:lnTo>
                  <a:pt x="11006" y="21600"/>
                </a:lnTo>
                <a:arcTo wR="10184" hR="21600" stAng="5400000" swAng="-3677534"/>
                <a:lnTo>
                  <a:pt x="21277" y="5400"/>
                </a:lnTo>
                <a:lnTo>
                  <a:pt x="20778" y="0"/>
                </a:lnTo>
                <a:lnTo>
                  <a:pt x="19633" y="5400"/>
                </a:lnTo>
                <a:lnTo>
                  <a:pt x="20044" y="5400"/>
                </a:lnTo>
                <a:arcTo wR="10184" hR="21600" stAng="1722466" swAng="3612076"/>
                <a:lnTo>
                  <a:pt x="10595" y="21582"/>
                </a:lnTo>
                <a:arcTo wR="10184" hR="21600" stAng="5465458" swAng="5334542"/>
                <a:close/>
              </a:path>
              <a:path fill="darkenLess" w="21600" h="21600">
                <a:moveTo>
                  <a:pt x="0" y="0"/>
                </a:moveTo>
                <a:arcTo wR="10184" hR="21600" stAng="10800000" swAng="-5400000"/>
                <a:lnTo>
                  <a:pt x="11006" y="21600"/>
                </a:lnTo>
                <a:arcTo wR="10184" hR="21600" stAng="5400000" swAng="65458"/>
                <a:lnTo>
                  <a:pt x="10595" y="21582"/>
                </a:lnTo>
                <a:arcTo wR="10184" hR="21600" stAng="5465458" swAng="5334542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Выгнутая вниз стрелка 10"/>
          <p:cNvSpPr/>
          <p:nvPr/>
        </p:nvSpPr>
        <p:spPr>
          <a:xfrm>
            <a:off x="1363680" y="4038480"/>
            <a:ext cx="677880" cy="50760"/>
          </a:xfrm>
          <a:custGeom>
            <a:avLst/>
            <a:gdLst>
              <a:gd name="textAreaLeft" fmla="*/ 164520 w 677880"/>
              <a:gd name="textAreaRight" fmla="*/ 506880 w 677880"/>
              <a:gd name="textAreaTop" fmla="*/ 6840 h 50760"/>
              <a:gd name="textAreaBottom" fmla="*/ 43920 h 50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10497" hR="21600" stAng="10800000" swAng="-5400000"/>
                <a:lnTo>
                  <a:pt x="10902" y="21600"/>
                </a:lnTo>
                <a:arcTo wR="10497" hR="21600" stAng="5400000" swAng="-3721019"/>
                <a:lnTo>
                  <a:pt x="21267" y="5400"/>
                </a:lnTo>
                <a:lnTo>
                  <a:pt x="21196" y="0"/>
                </a:lnTo>
                <a:lnTo>
                  <a:pt x="20458" y="5400"/>
                </a:lnTo>
                <a:lnTo>
                  <a:pt x="20660" y="5400"/>
                </a:lnTo>
                <a:arcTo wR="10497" hR="21600" stAng="1678981" swAng="3688786"/>
                <a:lnTo>
                  <a:pt x="10699" y="21596"/>
                </a:lnTo>
                <a:arcTo wR="10497" hR="21600" stAng="5432234" swAng="5367766"/>
                <a:close/>
              </a:path>
              <a:path fill="darkenLess" w="21600" h="21600">
                <a:moveTo>
                  <a:pt x="0" y="0"/>
                </a:moveTo>
                <a:arcTo wR="10497" hR="21600" stAng="10800000" swAng="-5400000"/>
                <a:lnTo>
                  <a:pt x="10902" y="21600"/>
                </a:lnTo>
                <a:arcTo wR="10497" hR="21600" stAng="5400000" swAng="32234"/>
                <a:lnTo>
                  <a:pt x="10699" y="21596"/>
                </a:lnTo>
                <a:arcTo wR="10497" hR="21600" stAng="5432234" swAng="5367766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720" bIns="-9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Выгнутая вниз стрелка 11"/>
          <p:cNvSpPr/>
          <p:nvPr/>
        </p:nvSpPr>
        <p:spPr>
          <a:xfrm>
            <a:off x="1398600" y="4952880"/>
            <a:ext cx="677880" cy="103320"/>
          </a:xfrm>
          <a:custGeom>
            <a:avLst/>
            <a:gdLst>
              <a:gd name="textAreaLeft" fmla="*/ 159840 w 677880"/>
              <a:gd name="textAreaRight" fmla="*/ 505440 w 677880"/>
              <a:gd name="textAreaTop" fmla="*/ 13680 h 103320"/>
              <a:gd name="textAreaBottom" fmla="*/ 89640 h 1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10184" hR="21600" stAng="10800000" swAng="-5400000"/>
                <a:lnTo>
                  <a:pt x="11006" y="21600"/>
                </a:lnTo>
                <a:arcTo wR="10184" hR="21600" stAng="5400000" swAng="-3677534"/>
                <a:lnTo>
                  <a:pt x="21277" y="5400"/>
                </a:lnTo>
                <a:lnTo>
                  <a:pt x="20778" y="0"/>
                </a:lnTo>
                <a:lnTo>
                  <a:pt x="19633" y="5400"/>
                </a:lnTo>
                <a:lnTo>
                  <a:pt x="20044" y="5400"/>
                </a:lnTo>
                <a:arcTo wR="10184" hR="21600" stAng="1722466" swAng="3612076"/>
                <a:lnTo>
                  <a:pt x="10595" y="21582"/>
                </a:lnTo>
                <a:arcTo wR="10184" hR="21600" stAng="5465458" swAng="5334542"/>
                <a:close/>
              </a:path>
              <a:path fill="darkenLess" w="21600" h="21600">
                <a:moveTo>
                  <a:pt x="0" y="0"/>
                </a:moveTo>
                <a:arcTo wR="10184" hR="21600" stAng="10800000" swAng="-5400000"/>
                <a:lnTo>
                  <a:pt x="11006" y="21600"/>
                </a:lnTo>
                <a:arcTo wR="10184" hR="21600" stAng="5400000" swAng="65458"/>
                <a:lnTo>
                  <a:pt x="10595" y="21582"/>
                </a:lnTo>
                <a:arcTo wR="10184" hR="21600" stAng="5465458" swAng="5334542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Выгнутая вниз стрелка 12"/>
          <p:cNvSpPr/>
          <p:nvPr/>
        </p:nvSpPr>
        <p:spPr>
          <a:xfrm>
            <a:off x="1450800" y="5796000"/>
            <a:ext cx="1140120" cy="103320"/>
          </a:xfrm>
          <a:custGeom>
            <a:avLst/>
            <a:gdLst>
              <a:gd name="textAreaLeft" fmla="*/ 275400 w 1140120"/>
              <a:gd name="textAreaRight" fmla="*/ 851760 w 1140120"/>
              <a:gd name="textAreaTop" fmla="*/ 13680 h 103320"/>
              <a:gd name="textAreaBottom" fmla="*/ 89640 h 1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10434" hR="21600" stAng="10800000" swAng="-5400000"/>
                <a:lnTo>
                  <a:pt x="10922" y="21600"/>
                </a:lnTo>
                <a:arcTo wR="10434" hR="21600" stAng="5400000" swAng="-3712430"/>
                <a:lnTo>
                  <a:pt x="21269" y="5400"/>
                </a:lnTo>
                <a:lnTo>
                  <a:pt x="21111" y="0"/>
                </a:lnTo>
                <a:lnTo>
                  <a:pt x="20291" y="5400"/>
                </a:lnTo>
                <a:lnTo>
                  <a:pt x="20536" y="5400"/>
                </a:lnTo>
                <a:arcTo wR="10434" hR="21600" stAng="1687570" swAng="3673587"/>
                <a:lnTo>
                  <a:pt x="10678" y="21594"/>
                </a:lnTo>
                <a:arcTo wR="10434" hR="21600" stAng="5438843" swAng="5361157"/>
                <a:close/>
              </a:path>
              <a:path fill="darkenLess" w="21600" h="21600">
                <a:moveTo>
                  <a:pt x="0" y="0"/>
                </a:moveTo>
                <a:arcTo wR="10434" hR="21600" stAng="10800000" swAng="-5400000"/>
                <a:lnTo>
                  <a:pt x="10922" y="21600"/>
                </a:lnTo>
                <a:arcTo wR="10434" hR="21600" stAng="5400000" swAng="38843"/>
                <a:lnTo>
                  <a:pt x="10678" y="21594"/>
                </a:lnTo>
                <a:arcTo wR="10434" hR="21600" stAng="5438843" swAng="5361157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Выгнутая вверх стрелка 17"/>
          <p:cNvSpPr/>
          <p:nvPr/>
        </p:nvSpPr>
        <p:spPr>
          <a:xfrm>
            <a:off x="4568760" y="3851280"/>
            <a:ext cx="3584520" cy="237960"/>
          </a:xfrm>
          <a:custGeom>
            <a:avLst/>
            <a:gdLst>
              <a:gd name="textAreaLeft" fmla="*/ 873720 w 3584520"/>
              <a:gd name="textAreaRight" fmla="*/ 2680920 w 3584520"/>
              <a:gd name="textAreaTop" fmla="*/ 31680 h 237960"/>
              <a:gd name="textAreaBottom" fmla="*/ 206280 h 2379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10531" hR="21600" stAng="10800000" swAng="5400000"/>
                <a:lnTo>
                  <a:pt x="10890" y="0"/>
                </a:lnTo>
                <a:arcTo wR="10531" hR="21600" stAng="-5400000" swAng="3725689"/>
                <a:lnTo>
                  <a:pt x="21266" y="16200"/>
                </a:lnTo>
                <a:lnTo>
                  <a:pt x="21242" y="21600"/>
                </a:lnTo>
                <a:lnTo>
                  <a:pt x="20549" y="16200"/>
                </a:lnTo>
                <a:lnTo>
                  <a:pt x="20728" y="16200"/>
                </a:lnTo>
                <a:arcTo wR="10531" hR="21600" stAng="-1674311" swAng="-3697118"/>
                <a:lnTo>
                  <a:pt x="10711" y="3"/>
                </a:lnTo>
                <a:arcTo wR="10531" hR="21600" stAng="-5428572" swAng="-5371428"/>
                <a:close/>
              </a:path>
              <a:path fill="darkenLess" w="21600" h="21600">
                <a:moveTo>
                  <a:pt x="0" y="21600"/>
                </a:moveTo>
                <a:arcTo wR="10531" hR="21600" stAng="10800000" swAng="5400000"/>
                <a:lnTo>
                  <a:pt x="10531" y="0"/>
                </a:lnTo>
                <a:arcTo wR="10531" hR="21600" stAng="-5400000" swAng="28572"/>
                <a:lnTo>
                  <a:pt x="10711" y="3"/>
                </a:lnTo>
                <a:arcTo wR="10531" hR="21600" stAng="-5428572" swAng="-5371428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Выгнутая вверх стрелка 20"/>
          <p:cNvSpPr/>
          <p:nvPr/>
        </p:nvSpPr>
        <p:spPr>
          <a:xfrm>
            <a:off x="4446720" y="4772160"/>
            <a:ext cx="3584520" cy="239400"/>
          </a:xfrm>
          <a:custGeom>
            <a:avLst/>
            <a:gdLst>
              <a:gd name="textAreaLeft" fmla="*/ 873720 w 3584520"/>
              <a:gd name="textAreaRight" fmla="*/ 2680920 w 3584520"/>
              <a:gd name="textAreaTop" fmla="*/ 32040 h 239400"/>
              <a:gd name="textAreaBottom" fmla="*/ 207360 h 2394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10529" hR="21600" stAng="10800000" swAng="5400000"/>
                <a:lnTo>
                  <a:pt x="10891" y="0"/>
                </a:lnTo>
                <a:arcTo wR="10529" hR="21600" stAng="-5400000" swAng="3725419"/>
                <a:lnTo>
                  <a:pt x="21266" y="16200"/>
                </a:lnTo>
                <a:lnTo>
                  <a:pt x="21239" y="21600"/>
                </a:lnTo>
                <a:lnTo>
                  <a:pt x="20544" y="16200"/>
                </a:lnTo>
                <a:lnTo>
                  <a:pt x="20724" y="16200"/>
                </a:lnTo>
                <a:arcTo wR="10529" hR="21600" stAng="-1674581" swAng="-3696609"/>
                <a:lnTo>
                  <a:pt x="10710" y="3"/>
                </a:lnTo>
                <a:arcTo wR="10529" hR="21600" stAng="-5428811" swAng="-5371189"/>
                <a:close/>
              </a:path>
              <a:path fill="darkenLess" w="21600" h="21600">
                <a:moveTo>
                  <a:pt x="0" y="21600"/>
                </a:moveTo>
                <a:arcTo wR="10529" hR="21600" stAng="10800000" swAng="5400000"/>
                <a:lnTo>
                  <a:pt x="10529" y="0"/>
                </a:lnTo>
                <a:arcTo wR="10529" hR="21600" stAng="-5400000" swAng="28811"/>
                <a:lnTo>
                  <a:pt x="10710" y="3"/>
                </a:lnTo>
                <a:arcTo wR="10529" hR="21600" stAng="-5428811" swAng="-5371189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Выгнутая вверх стрелка 21"/>
          <p:cNvSpPr/>
          <p:nvPr/>
        </p:nvSpPr>
        <p:spPr>
          <a:xfrm>
            <a:off x="4419720" y="5556240"/>
            <a:ext cx="3584520" cy="239760"/>
          </a:xfrm>
          <a:custGeom>
            <a:avLst/>
            <a:gdLst>
              <a:gd name="textAreaLeft" fmla="*/ 873720 w 3584520"/>
              <a:gd name="textAreaRight" fmla="*/ 2680920 w 3584520"/>
              <a:gd name="textAreaTop" fmla="*/ 32040 h 239760"/>
              <a:gd name="textAreaBottom" fmla="*/ 207720 h 2397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10529" hR="21600" stAng="10800000" swAng="5400000"/>
                <a:lnTo>
                  <a:pt x="10891" y="0"/>
                </a:lnTo>
                <a:arcTo wR="10529" hR="21600" stAng="-5400000" swAng="3725419"/>
                <a:lnTo>
                  <a:pt x="21266" y="16200"/>
                </a:lnTo>
                <a:lnTo>
                  <a:pt x="21239" y="21600"/>
                </a:lnTo>
                <a:lnTo>
                  <a:pt x="20544" y="16200"/>
                </a:lnTo>
                <a:lnTo>
                  <a:pt x="20724" y="16200"/>
                </a:lnTo>
                <a:arcTo wR="10529" hR="21600" stAng="-1674581" swAng="-3696609"/>
                <a:lnTo>
                  <a:pt x="10710" y="3"/>
                </a:lnTo>
                <a:arcTo wR="10529" hR="21600" stAng="-5428811" swAng="-5371189"/>
                <a:close/>
              </a:path>
              <a:path fill="darkenLess" w="21600" h="21600">
                <a:moveTo>
                  <a:pt x="0" y="21600"/>
                </a:moveTo>
                <a:arcTo wR="10529" hR="21600" stAng="10800000" swAng="5400000"/>
                <a:lnTo>
                  <a:pt x="10529" y="0"/>
                </a:lnTo>
                <a:arcTo wR="10529" hR="21600" stAng="-5400000" swAng="28811"/>
                <a:lnTo>
                  <a:pt x="10710" y="3"/>
                </a:lnTo>
                <a:arcTo wR="10529" hR="21600" stAng="-5428811" swAng="-5371189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Выгнутая вниз стрелка 22"/>
          <p:cNvSpPr/>
          <p:nvPr/>
        </p:nvSpPr>
        <p:spPr>
          <a:xfrm>
            <a:off x="5019840" y="5284800"/>
            <a:ext cx="1218960" cy="98280"/>
          </a:xfrm>
          <a:custGeom>
            <a:avLst/>
            <a:gdLst>
              <a:gd name="textAreaLeft" fmla="*/ 295560 w 1218960"/>
              <a:gd name="textAreaRight" fmla="*/ 911160 w 1218960"/>
              <a:gd name="textAreaTop" fmla="*/ 12960 h 98280"/>
              <a:gd name="textAreaBottom" fmla="*/ 85320 h 98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10473" hR="21600" stAng="10800000" swAng="-5400000"/>
                <a:lnTo>
                  <a:pt x="10909" y="21600"/>
                </a:lnTo>
                <a:arcTo wR="10473" hR="21600" stAng="5400000" swAng="-3717825"/>
                <a:lnTo>
                  <a:pt x="21267" y="5400"/>
                </a:lnTo>
                <a:lnTo>
                  <a:pt x="21164" y="0"/>
                </a:lnTo>
                <a:lnTo>
                  <a:pt x="20395" y="5400"/>
                </a:lnTo>
                <a:lnTo>
                  <a:pt x="20613" y="5400"/>
                </a:lnTo>
                <a:arcTo wR="10473" hR="21600" stAng="1682175" swAng="3683123"/>
                <a:lnTo>
                  <a:pt x="10691" y="21595"/>
                </a:lnTo>
                <a:arcTo wR="10473" hR="21600" stAng="5434702" swAng="5365298"/>
                <a:close/>
              </a:path>
              <a:path fill="darkenLess" w="21600" h="21600">
                <a:moveTo>
                  <a:pt x="0" y="0"/>
                </a:moveTo>
                <a:arcTo wR="10473" hR="21600" stAng="10800000" swAng="-5400000"/>
                <a:lnTo>
                  <a:pt x="10909" y="21600"/>
                </a:lnTo>
                <a:arcTo wR="10473" hR="21600" stAng="5400000" swAng="34702"/>
                <a:lnTo>
                  <a:pt x="10691" y="21595"/>
                </a:lnTo>
                <a:arcTo wR="10473" hR="21600" stAng="5434702" swAng="5365298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d"/>
  </p:transition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лежащее и сказуемое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лжны быть согласованы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Прямоугольник 5"/>
          <p:cNvSpPr/>
          <p:nvPr/>
        </p:nvSpPr>
        <p:spPr>
          <a:xfrm>
            <a:off x="533520" y="2736720"/>
            <a:ext cx="8076960" cy="33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, кто пришёл в театр,  был в восторг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, кто пришёл в театр,  были в восторг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Group 26"/>
          <p:cNvGrpSpPr/>
          <p:nvPr/>
        </p:nvGrpSpPr>
        <p:grpSpPr>
          <a:xfrm>
            <a:off x="614520" y="2895480"/>
            <a:ext cx="5867280" cy="1295280"/>
            <a:chOff x="614520" y="2895480"/>
            <a:chExt cx="5867280" cy="1295280"/>
          </a:xfrm>
        </p:grpSpPr>
        <p:sp>
          <p:nvSpPr>
            <p:cNvPr id="198" name="Line 5"/>
            <p:cNvSpPr/>
            <p:nvPr/>
          </p:nvSpPr>
          <p:spPr>
            <a:xfrm>
              <a:off x="614520" y="3581280"/>
              <a:ext cx="685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Line 6"/>
            <p:cNvSpPr/>
            <p:nvPr/>
          </p:nvSpPr>
          <p:spPr>
            <a:xfrm>
              <a:off x="1452600" y="3581280"/>
              <a:ext cx="609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Line 7"/>
            <p:cNvSpPr/>
            <p:nvPr/>
          </p:nvSpPr>
          <p:spPr>
            <a:xfrm>
              <a:off x="2214720" y="3581280"/>
              <a:ext cx="1371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Line 8"/>
            <p:cNvSpPr/>
            <p:nvPr/>
          </p:nvSpPr>
          <p:spPr>
            <a:xfrm>
              <a:off x="2214720" y="3733920"/>
              <a:ext cx="1371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Line 9"/>
            <p:cNvSpPr/>
            <p:nvPr/>
          </p:nvSpPr>
          <p:spPr>
            <a:xfrm>
              <a:off x="5491080" y="3581280"/>
              <a:ext cx="990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Line 10"/>
            <p:cNvSpPr/>
            <p:nvPr/>
          </p:nvSpPr>
          <p:spPr>
            <a:xfrm>
              <a:off x="5491080" y="3733920"/>
              <a:ext cx="990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4" name="Group 15"/>
            <p:cNvGrpSpPr/>
            <p:nvPr/>
          </p:nvGrpSpPr>
          <p:grpSpPr>
            <a:xfrm>
              <a:off x="919080" y="3809520"/>
              <a:ext cx="5105160" cy="381240"/>
              <a:chOff x="919080" y="3809520"/>
              <a:chExt cx="5105160" cy="381240"/>
            </a:xfrm>
          </p:grpSpPr>
          <p:sp>
            <p:nvSpPr>
              <p:cNvPr id="205" name="Line 16"/>
              <p:cNvSpPr/>
              <p:nvPr/>
            </p:nvSpPr>
            <p:spPr>
              <a:xfrm>
                <a:off x="919080" y="4190760"/>
                <a:ext cx="51051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Line 17"/>
              <p:cNvSpPr/>
              <p:nvPr/>
            </p:nvSpPr>
            <p:spPr>
              <a:xfrm flipV="1">
                <a:off x="919080" y="3809520"/>
                <a:ext cx="0" cy="381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Line 18"/>
              <p:cNvSpPr/>
              <p:nvPr/>
            </p:nvSpPr>
            <p:spPr>
              <a:xfrm flipV="1">
                <a:off x="6024240" y="3809520"/>
                <a:ext cx="0" cy="381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8" name="Line 23"/>
            <p:cNvSpPr/>
            <p:nvPr/>
          </p:nvSpPr>
          <p:spPr>
            <a:xfrm>
              <a:off x="1681200" y="2895480"/>
              <a:ext cx="1447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09" name="Прямая со стрелкой 31"/>
          <p:cNvCxnSpPr>
            <a:stCxn id="208" idx="0"/>
          </p:cNvCxnSpPr>
          <p:nvPr/>
        </p:nvCxnSpPr>
        <p:spPr>
          <a:xfrm>
            <a:off x="3128760" y="2895120"/>
            <a:ext cx="1080" cy="25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0" name="TextBox 36"/>
          <p:cNvSpPr/>
          <p:nvPr/>
        </p:nvSpPr>
        <p:spPr>
          <a:xfrm>
            <a:off x="694440" y="1558800"/>
            <a:ext cx="717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, кто пришли в театр,  были в восторг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" name="Group 26"/>
          <p:cNvGrpSpPr/>
          <p:nvPr/>
        </p:nvGrpSpPr>
        <p:grpSpPr>
          <a:xfrm>
            <a:off x="544680" y="4981680"/>
            <a:ext cx="5867280" cy="1294920"/>
            <a:chOff x="544680" y="4981680"/>
            <a:chExt cx="5867280" cy="1294920"/>
          </a:xfrm>
        </p:grpSpPr>
        <p:sp>
          <p:nvSpPr>
            <p:cNvPr id="212" name="Line 5"/>
            <p:cNvSpPr/>
            <p:nvPr/>
          </p:nvSpPr>
          <p:spPr>
            <a:xfrm>
              <a:off x="544680" y="5667120"/>
              <a:ext cx="685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Line 6"/>
            <p:cNvSpPr/>
            <p:nvPr/>
          </p:nvSpPr>
          <p:spPr>
            <a:xfrm>
              <a:off x="1382760" y="5667120"/>
              <a:ext cx="609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Line 7"/>
            <p:cNvSpPr/>
            <p:nvPr/>
          </p:nvSpPr>
          <p:spPr>
            <a:xfrm>
              <a:off x="2144880" y="5667120"/>
              <a:ext cx="1371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Line 8"/>
            <p:cNvSpPr/>
            <p:nvPr/>
          </p:nvSpPr>
          <p:spPr>
            <a:xfrm>
              <a:off x="2144880" y="5819760"/>
              <a:ext cx="1371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Line 9"/>
            <p:cNvSpPr/>
            <p:nvPr/>
          </p:nvSpPr>
          <p:spPr>
            <a:xfrm>
              <a:off x="5421240" y="5667120"/>
              <a:ext cx="990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Line 10"/>
            <p:cNvSpPr/>
            <p:nvPr/>
          </p:nvSpPr>
          <p:spPr>
            <a:xfrm>
              <a:off x="5421240" y="5819760"/>
              <a:ext cx="990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8" name="Group 15"/>
            <p:cNvGrpSpPr/>
            <p:nvPr/>
          </p:nvGrpSpPr>
          <p:grpSpPr>
            <a:xfrm>
              <a:off x="849240" y="5895720"/>
              <a:ext cx="5105160" cy="380880"/>
              <a:chOff x="849240" y="5895720"/>
              <a:chExt cx="5105160" cy="380880"/>
            </a:xfrm>
          </p:grpSpPr>
          <p:sp>
            <p:nvSpPr>
              <p:cNvPr id="219" name="Line 16"/>
              <p:cNvSpPr/>
              <p:nvPr/>
            </p:nvSpPr>
            <p:spPr>
              <a:xfrm>
                <a:off x="849240" y="6276600"/>
                <a:ext cx="51051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Line 17"/>
              <p:cNvSpPr/>
              <p:nvPr/>
            </p:nvSpPr>
            <p:spPr>
              <a:xfrm flipV="1">
                <a:off x="849240" y="5895720"/>
                <a:ext cx="0" cy="380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Line 18"/>
              <p:cNvSpPr/>
              <p:nvPr/>
            </p:nvSpPr>
            <p:spPr>
              <a:xfrm flipV="1">
                <a:off x="5954400" y="5895720"/>
                <a:ext cx="0" cy="380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2" name="Line 23"/>
            <p:cNvSpPr/>
            <p:nvPr/>
          </p:nvSpPr>
          <p:spPr>
            <a:xfrm>
              <a:off x="1611360" y="4981680"/>
              <a:ext cx="1447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Group 26"/>
          <p:cNvGrpSpPr/>
          <p:nvPr/>
        </p:nvGrpSpPr>
        <p:grpSpPr>
          <a:xfrm>
            <a:off x="576360" y="1363680"/>
            <a:ext cx="5867280" cy="1294920"/>
            <a:chOff x="576360" y="1363680"/>
            <a:chExt cx="5867280" cy="1294920"/>
          </a:xfrm>
        </p:grpSpPr>
        <p:sp>
          <p:nvSpPr>
            <p:cNvPr id="224" name="Line 5"/>
            <p:cNvSpPr/>
            <p:nvPr/>
          </p:nvSpPr>
          <p:spPr>
            <a:xfrm>
              <a:off x="576360" y="2049120"/>
              <a:ext cx="685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Line 6"/>
            <p:cNvSpPr/>
            <p:nvPr/>
          </p:nvSpPr>
          <p:spPr>
            <a:xfrm>
              <a:off x="1414440" y="2049120"/>
              <a:ext cx="609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Line 7"/>
            <p:cNvSpPr/>
            <p:nvPr/>
          </p:nvSpPr>
          <p:spPr>
            <a:xfrm>
              <a:off x="2176560" y="2049120"/>
              <a:ext cx="1371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Line 8"/>
            <p:cNvSpPr/>
            <p:nvPr/>
          </p:nvSpPr>
          <p:spPr>
            <a:xfrm>
              <a:off x="2176560" y="2201760"/>
              <a:ext cx="1371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Line 9"/>
            <p:cNvSpPr/>
            <p:nvPr/>
          </p:nvSpPr>
          <p:spPr>
            <a:xfrm>
              <a:off x="5452920" y="2049120"/>
              <a:ext cx="990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Line 10"/>
            <p:cNvSpPr/>
            <p:nvPr/>
          </p:nvSpPr>
          <p:spPr>
            <a:xfrm>
              <a:off x="5452920" y="2201760"/>
              <a:ext cx="990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0" name="Group 15"/>
            <p:cNvGrpSpPr/>
            <p:nvPr/>
          </p:nvGrpSpPr>
          <p:grpSpPr>
            <a:xfrm>
              <a:off x="880920" y="2277720"/>
              <a:ext cx="5105160" cy="380880"/>
              <a:chOff x="880920" y="2277720"/>
              <a:chExt cx="5105160" cy="380880"/>
            </a:xfrm>
          </p:grpSpPr>
          <p:sp>
            <p:nvSpPr>
              <p:cNvPr id="231" name="Line 16"/>
              <p:cNvSpPr/>
              <p:nvPr/>
            </p:nvSpPr>
            <p:spPr>
              <a:xfrm>
                <a:off x="880920" y="2658600"/>
                <a:ext cx="51051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Line 17"/>
              <p:cNvSpPr/>
              <p:nvPr/>
            </p:nvSpPr>
            <p:spPr>
              <a:xfrm flipV="1">
                <a:off x="880920" y="2277720"/>
                <a:ext cx="0" cy="380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Line 18"/>
              <p:cNvSpPr/>
              <p:nvPr/>
            </p:nvSpPr>
            <p:spPr>
              <a:xfrm flipV="1">
                <a:off x="5986080" y="2277720"/>
                <a:ext cx="0" cy="380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4" name="Line 23"/>
            <p:cNvSpPr/>
            <p:nvPr/>
          </p:nvSpPr>
          <p:spPr>
            <a:xfrm>
              <a:off x="1643040" y="1363680"/>
              <a:ext cx="1447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strips dir="rd"/>
  </p:transition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Нарушение связи между подлежащим и сказуемы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Прямоугольник 5"/>
          <p:cNvSpPr/>
          <p:nvPr/>
        </p:nvSpPr>
        <p:spPr>
          <a:xfrm>
            <a:off x="457200" y="1295280"/>
            <a:ext cx="82296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Употребление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склоняем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ществительных (нарушение род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названия животных: какаду, пони, шимпанз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енгуру – м.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названия продуктов, растений: кольраб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окколи – ж.р, салями – ж.р., сулугуни – м.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географические названия: Баку, Сочи – м.р.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ссисипи, Миссури – ж.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дереве сидел шимпанз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ни  катала  в  парке   дет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Скругленный прямоугольник 6"/>
          <p:cNvSpPr/>
          <p:nvPr/>
        </p:nvSpPr>
        <p:spPr>
          <a:xfrm>
            <a:off x="3200400" y="5238720"/>
            <a:ext cx="1130400" cy="457200"/>
          </a:xfrm>
          <a:prstGeom prst="roundRect">
            <a:avLst>
              <a:gd name="adj" fmla="val 16667"/>
            </a:avLst>
          </a:prstGeom>
          <a:solidFill>
            <a:srgbClr val="dce6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ката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d"/>
  </p:transition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Нарушение связи между подлежащим и сказуемы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Прямоугольник 5"/>
          <p:cNvSpPr/>
          <p:nvPr/>
        </p:nvSpPr>
        <p:spPr>
          <a:xfrm>
            <a:off x="380880" y="1295280"/>
            <a:ext cx="8382240" cy="533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Употребление аббревиатур (нарушение род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ГИМО  сообщило  о результат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ГИМО - Московский государственный институт международных отношений (м.р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ГУ сообщил о сроках дополнительного вступительного испыт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ГУ – Московский государственный университет (м.р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ЧС  направил   отряд спасателей в неблагоприятный райо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ЧС – Министерство чрезвычайных ситуаций (ср.р.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БДД   сообщил  о статистике аварий на дорог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БДД – Государственная инспекция безопасности дорожного движения (ж.р.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Д  предупредил  консульство соседних стран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Д – Министерство иностранных дел (ср.р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Скругленный прямоугольник 6"/>
          <p:cNvSpPr/>
          <p:nvPr/>
        </p:nvSpPr>
        <p:spPr>
          <a:xfrm>
            <a:off x="1752480" y="1752480"/>
            <a:ext cx="1447920" cy="457200"/>
          </a:xfrm>
          <a:prstGeom prst="roundRect">
            <a:avLst>
              <a:gd name="adj" fmla="val 16667"/>
            </a:avLst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сообщи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Скругленный прямоугольник 7"/>
          <p:cNvSpPr/>
          <p:nvPr/>
        </p:nvSpPr>
        <p:spPr>
          <a:xfrm>
            <a:off x="1154160" y="4019400"/>
            <a:ext cx="1600200" cy="324000"/>
          </a:xfrm>
          <a:prstGeom prst="roundRect">
            <a:avLst>
              <a:gd name="adj" fmla="val 16667"/>
            </a:avLst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направил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Скругленный прямоугольник 8"/>
          <p:cNvSpPr/>
          <p:nvPr/>
        </p:nvSpPr>
        <p:spPr>
          <a:xfrm>
            <a:off x="1424160" y="4778280"/>
            <a:ext cx="1409400" cy="304920"/>
          </a:xfrm>
          <a:prstGeom prst="roundRect">
            <a:avLst>
              <a:gd name="adj" fmla="val 16667"/>
            </a:avLst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сообщил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Скругленный прямоугольник 9"/>
          <p:cNvSpPr/>
          <p:nvPr/>
        </p:nvSpPr>
        <p:spPr>
          <a:xfrm>
            <a:off x="1138320" y="5867280"/>
            <a:ext cx="1981080" cy="335160"/>
          </a:xfrm>
          <a:prstGeom prst="roundRect">
            <a:avLst>
              <a:gd name="adj" fmla="val 16667"/>
            </a:avLst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предупредил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d"/>
  </p:transition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Нарушение связи между подлежащим и сказуемым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Прямоугольник 5"/>
          <p:cNvSpPr/>
          <p:nvPr/>
        </p:nvSpPr>
        <p:spPr>
          <a:xfrm>
            <a:off x="228600" y="990720"/>
            <a:ext cx="876312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Нарушение согласования в числе (подлежащее выражено существительным, сказуемое – глаголом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удитор</a:t>
            </a:r>
            <a:r>
              <a:rPr b="1" i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я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олго и громко смеял</a:t>
            </a:r>
            <a:r>
              <a:rPr b="1" i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Если есть уточняющие члены предложения пр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лежаще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я семья, а особенно младшие дети, ждали наступления Нового год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Сочетания числительного и существительного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нам подошли сорок один человек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тупило на концерте двадцать три актер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же прошли  сто лет со дня рождения поэ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ьшинство предметов стояли на пол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ьшинство учеников сдало  сочинения на проверк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Прямая соединительная линия 7"/>
          <p:cNvSpPr/>
          <p:nvPr/>
        </p:nvSpPr>
        <p:spPr>
          <a:xfrm>
            <a:off x="6019920" y="3581280"/>
            <a:ext cx="1066680" cy="0"/>
          </a:xfrm>
          <a:prstGeom prst="line">
            <a:avLst/>
          </a:prstGeom>
          <a:ln w="5724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Прямая соединительная линия 10"/>
          <p:cNvSpPr/>
          <p:nvPr/>
        </p:nvSpPr>
        <p:spPr>
          <a:xfrm>
            <a:off x="6019920" y="3733920"/>
            <a:ext cx="1066680" cy="0"/>
          </a:xfrm>
          <a:prstGeom prst="line">
            <a:avLst/>
          </a:prstGeom>
          <a:ln w="5724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Прямая соединительная линия 14"/>
          <p:cNvSpPr/>
          <p:nvPr/>
        </p:nvSpPr>
        <p:spPr>
          <a:xfrm>
            <a:off x="990720" y="3581280"/>
            <a:ext cx="914400" cy="0"/>
          </a:xfrm>
          <a:prstGeom prst="line">
            <a:avLst/>
          </a:prstGeom>
          <a:ln w="5724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Прямая соединительная линия 17"/>
          <p:cNvSpPr/>
          <p:nvPr/>
        </p:nvSpPr>
        <p:spPr>
          <a:xfrm>
            <a:off x="395280" y="5249880"/>
            <a:ext cx="1509840" cy="0"/>
          </a:xfrm>
          <a:prstGeom prst="line">
            <a:avLst/>
          </a:prstGeom>
          <a:ln w="5724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Прямая соединительная линия 18"/>
          <p:cNvSpPr/>
          <p:nvPr/>
        </p:nvSpPr>
        <p:spPr>
          <a:xfrm>
            <a:off x="419040" y="5403960"/>
            <a:ext cx="1486080" cy="0"/>
          </a:xfrm>
          <a:prstGeom prst="line">
            <a:avLst/>
          </a:prstGeom>
          <a:ln w="5724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Прямая соединительная линия 19"/>
          <p:cNvSpPr/>
          <p:nvPr/>
        </p:nvSpPr>
        <p:spPr>
          <a:xfrm>
            <a:off x="1233360" y="4842000"/>
            <a:ext cx="1343160" cy="0"/>
          </a:xfrm>
          <a:prstGeom prst="line">
            <a:avLst/>
          </a:prstGeom>
          <a:ln w="5724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Прямая соединительная линия 20"/>
          <p:cNvSpPr/>
          <p:nvPr/>
        </p:nvSpPr>
        <p:spPr>
          <a:xfrm>
            <a:off x="1069920" y="5715000"/>
            <a:ext cx="1119240" cy="0"/>
          </a:xfrm>
          <a:prstGeom prst="line">
            <a:avLst/>
          </a:prstGeom>
          <a:ln w="5724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Прямая соединительная линия 21"/>
          <p:cNvSpPr/>
          <p:nvPr/>
        </p:nvSpPr>
        <p:spPr>
          <a:xfrm>
            <a:off x="1008000" y="5864400"/>
            <a:ext cx="1143000" cy="0"/>
          </a:xfrm>
          <a:prstGeom prst="line">
            <a:avLst/>
          </a:prstGeom>
          <a:ln w="5724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Прямая соединительная линия 22"/>
          <p:cNvSpPr/>
          <p:nvPr/>
        </p:nvSpPr>
        <p:spPr>
          <a:xfrm>
            <a:off x="395280" y="6172200"/>
            <a:ext cx="3567240" cy="0"/>
          </a:xfrm>
          <a:prstGeom prst="line">
            <a:avLst/>
          </a:prstGeom>
          <a:ln w="5724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Прямая соединительная линия 23"/>
          <p:cNvSpPr/>
          <p:nvPr/>
        </p:nvSpPr>
        <p:spPr>
          <a:xfrm>
            <a:off x="1233360" y="4952880"/>
            <a:ext cx="1343160" cy="0"/>
          </a:xfrm>
          <a:prstGeom prst="line">
            <a:avLst/>
          </a:prstGeom>
          <a:ln w="5724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24"/>
          <p:cNvSpPr/>
          <p:nvPr/>
        </p:nvSpPr>
        <p:spPr>
          <a:xfrm>
            <a:off x="4162320" y="6172200"/>
            <a:ext cx="1019160" cy="0"/>
          </a:xfrm>
          <a:prstGeom prst="line">
            <a:avLst/>
          </a:prstGeom>
          <a:ln w="5724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25"/>
          <p:cNvSpPr/>
          <p:nvPr/>
        </p:nvSpPr>
        <p:spPr>
          <a:xfrm>
            <a:off x="4098960" y="6324480"/>
            <a:ext cx="1082520" cy="0"/>
          </a:xfrm>
          <a:prstGeom prst="line">
            <a:avLst/>
          </a:prstGeom>
          <a:ln w="5724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26"/>
          <p:cNvSpPr/>
          <p:nvPr/>
        </p:nvSpPr>
        <p:spPr>
          <a:xfrm>
            <a:off x="1628640" y="2286000"/>
            <a:ext cx="2071800" cy="0"/>
          </a:xfrm>
          <a:prstGeom prst="line">
            <a:avLst/>
          </a:prstGeom>
          <a:ln w="5724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ая соединительная линия 27"/>
          <p:cNvSpPr/>
          <p:nvPr/>
        </p:nvSpPr>
        <p:spPr>
          <a:xfrm>
            <a:off x="5794200" y="2320920"/>
            <a:ext cx="1444680" cy="0"/>
          </a:xfrm>
          <a:prstGeom prst="line">
            <a:avLst/>
          </a:prstGeom>
          <a:ln w="5724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28"/>
          <p:cNvSpPr/>
          <p:nvPr/>
        </p:nvSpPr>
        <p:spPr>
          <a:xfrm>
            <a:off x="5794200" y="2438280"/>
            <a:ext cx="1444680" cy="0"/>
          </a:xfrm>
          <a:prstGeom prst="line">
            <a:avLst/>
          </a:prstGeom>
          <a:ln w="5724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Прямая соединительная линия 29"/>
          <p:cNvSpPr/>
          <p:nvPr/>
        </p:nvSpPr>
        <p:spPr>
          <a:xfrm>
            <a:off x="506520" y="6553080"/>
            <a:ext cx="3344760" cy="0"/>
          </a:xfrm>
          <a:prstGeom prst="line">
            <a:avLst/>
          </a:prstGeom>
          <a:ln w="5724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Прямая соединительная линия 30"/>
          <p:cNvSpPr/>
          <p:nvPr/>
        </p:nvSpPr>
        <p:spPr>
          <a:xfrm>
            <a:off x="2832120" y="4842000"/>
            <a:ext cx="2662200" cy="0"/>
          </a:xfrm>
          <a:prstGeom prst="line">
            <a:avLst/>
          </a:prstGeom>
          <a:ln w="5724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Прямая соединительная линия 31"/>
          <p:cNvSpPr/>
          <p:nvPr/>
        </p:nvSpPr>
        <p:spPr>
          <a:xfrm>
            <a:off x="2438280" y="5715000"/>
            <a:ext cx="1035000" cy="0"/>
          </a:xfrm>
          <a:prstGeom prst="line">
            <a:avLst/>
          </a:prstGeom>
          <a:ln w="5724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Прямая соединительная линия 58"/>
          <p:cNvSpPr/>
          <p:nvPr/>
        </p:nvSpPr>
        <p:spPr>
          <a:xfrm>
            <a:off x="4098960" y="6553080"/>
            <a:ext cx="701640" cy="0"/>
          </a:xfrm>
          <a:prstGeom prst="line">
            <a:avLst/>
          </a:prstGeom>
          <a:ln w="5724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Прямая соединительная линия 59"/>
          <p:cNvSpPr/>
          <p:nvPr/>
        </p:nvSpPr>
        <p:spPr>
          <a:xfrm>
            <a:off x="3962520" y="5280120"/>
            <a:ext cx="2971800" cy="0"/>
          </a:xfrm>
          <a:prstGeom prst="line">
            <a:avLst/>
          </a:prstGeom>
          <a:ln w="5724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Прямая соединительная линия 60"/>
          <p:cNvSpPr/>
          <p:nvPr/>
        </p:nvSpPr>
        <p:spPr>
          <a:xfrm>
            <a:off x="4098960" y="6684840"/>
            <a:ext cx="701640" cy="0"/>
          </a:xfrm>
          <a:prstGeom prst="line">
            <a:avLst/>
          </a:prstGeom>
          <a:ln w="5724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d"/>
  </p:transition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2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9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6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3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0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7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4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1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8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5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2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9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6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3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0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7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4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1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8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5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1"/>
          <p:cNvSpPr/>
          <p:nvPr/>
        </p:nvSpPr>
        <p:spPr>
          <a:xfrm>
            <a:off x="571680" y="2994480"/>
            <a:ext cx="835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" descr="E:\мои документы\Мои рисунки\учёба\RSS.gif"/>
          <p:cNvPicPr/>
          <p:nvPr/>
        </p:nvPicPr>
        <p:blipFill>
          <a:blip r:embed="rId1"/>
          <a:stretch/>
        </p:blipFill>
        <p:spPr>
          <a:xfrm>
            <a:off x="3571920" y="3143160"/>
            <a:ext cx="2759040" cy="2814840"/>
          </a:xfrm>
          <a:prstGeom prst="rect">
            <a:avLst/>
          </a:prstGeom>
          <a:ln w="0">
            <a:noFill/>
          </a:ln>
        </p:spPr>
      </p:pic>
      <p:pic>
        <p:nvPicPr>
          <p:cNvPr id="60" name="Заголовок 5" descr=""/>
          <p:cNvPicPr/>
          <p:nvPr/>
        </p:nvPicPr>
        <p:blipFill>
          <a:blip r:embed="rId2"/>
          <a:stretch/>
        </p:blipFill>
        <p:spPr>
          <a:xfrm>
            <a:off x="304920" y="1311120"/>
            <a:ext cx="8474040" cy="43038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" descr="C:\Users\Андрей\Pictures\Мои рисунки\ЕГЭ, ГИА\6.jpg"/>
          <p:cNvPicPr/>
          <p:nvPr/>
        </p:nvPicPr>
        <p:blipFill>
          <a:blip r:embed="rId3"/>
          <a:stretch/>
        </p:blipFill>
        <p:spPr>
          <a:xfrm>
            <a:off x="-36360" y="-23760"/>
            <a:ext cx="1066680" cy="14619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" descr=""/>
          <p:cNvPicPr/>
          <p:nvPr/>
        </p:nvPicPr>
        <p:blipFill>
          <a:blip r:embed="rId4"/>
          <a:stretch/>
        </p:blipFill>
        <p:spPr>
          <a:xfrm>
            <a:off x="0" y="0"/>
            <a:ext cx="2895480" cy="137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горитм выполнения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Прямоугольник 5"/>
          <p:cNvSpPr/>
          <p:nvPr/>
        </p:nvSpPr>
        <p:spPr>
          <a:xfrm>
            <a:off x="762120" y="1295280"/>
            <a:ext cx="80010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Находим предложения с конструкция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ясняем, есть ли в них ошиб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Если нет, находим несклоняем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ществительны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Если нет, находим все остальное, точне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щаем внимание на то, чем выраже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лежащее, определяем числ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Находим предложение с нужной ошибк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Прямоугольник 5"/>
          <p:cNvSpPr/>
          <p:nvPr/>
        </p:nvSpPr>
        <p:spPr>
          <a:xfrm>
            <a:off x="533520" y="228600"/>
            <a:ext cx="8076960" cy="667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то, как не сама природа, научила будущего скульптора пристальнее вглядываться в формы предметов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 из учеников, кто невнимательно выполнил домашнее задание, вряд ли справится с контрольной работо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Все, кто слушал выступление профессора, в очередной раз был      удивлён яркостью, оригинальностью и глубиной его реч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Те, кто служит делу просвещения, снаряжает молодых в долгий путь по жизни, развивает их ум и способности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агословляет на творческий поиск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Кто, как не классики литературы, должны быть авторитетом в плане владения русским языком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Те, кто не знали слова песни, молча от­крывали рот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Всех, кто разбираются в технике, приглашают принять участие в технической олимпиад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Те, кто увлекается творчеством Булгакова, знают, что о романе «Мастере и Маргарите» написаны сотни критических стате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 Все, кто изучал   труды Г.О.Винокура, знают о его исследованиях в области лингвопоэтик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3344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Нарушение в построении предложения с однородными членами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Прямоугольник 5"/>
          <p:cNvSpPr/>
          <p:nvPr/>
        </p:nvSpPr>
        <p:spPr>
          <a:xfrm>
            <a:off x="228600" y="1219320"/>
            <a:ext cx="868680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льзя нарушать парность двойных союзо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НЕ ТОЛЬКО …, НО И …   5. ХОТЯ И …, НО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КАК …, ТАК И …               6. НЕ ТАК…, КА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ЕСЛИ НЕ…,ТО          7. НЕ СТОЛЬКО …, СКОЛЬК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НЕ ТО ЧТО(БЫ)…, НО(А)</a:t>
            </a:r>
            <a:r>
              <a:rPr b="1" lang="ru-RU" sz="2800" spc="-1" strike="noStrike">
                <a:solidFill>
                  <a:srgbClr val="00b05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ы побывали не только в Австрии, а   и  в  Герман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Нельзя нарушать местоположение союза и однородных член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ы не только побывали в Австрии, но и в Герман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нига не только имеет познавательную ценность, но и большое воспитательное значе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Скругленный прямоугольник 2"/>
          <p:cNvSpPr/>
          <p:nvPr/>
        </p:nvSpPr>
        <p:spPr>
          <a:xfrm>
            <a:off x="5805360" y="3470400"/>
            <a:ext cx="514440" cy="314280"/>
          </a:xfrm>
          <a:prstGeom prst="roundRect">
            <a:avLst>
              <a:gd name="adj" fmla="val 29569"/>
            </a:avLst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Выгнутая вниз стрелка 3"/>
          <p:cNvSpPr/>
          <p:nvPr/>
        </p:nvSpPr>
        <p:spPr>
          <a:xfrm>
            <a:off x="1523880" y="5095800"/>
            <a:ext cx="2667240" cy="238320"/>
          </a:xfrm>
          <a:custGeom>
            <a:avLst/>
            <a:gdLst>
              <a:gd name="textAreaLeft" fmla="*/ 644400 w 2667240"/>
              <a:gd name="textAreaRight" fmla="*/ 1992960 w 2667240"/>
              <a:gd name="textAreaTop" fmla="*/ 31680 h 238320"/>
              <a:gd name="textAreaBottom" fmla="*/ 206640 h 238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10439" hR="21600" stAng="10800000" swAng="-5400000"/>
                <a:lnTo>
                  <a:pt x="10921" y="21600"/>
                </a:lnTo>
                <a:arcTo wR="10439" hR="21600" stAng="5400000" swAng="-3713114"/>
                <a:lnTo>
                  <a:pt x="21269" y="5400"/>
                </a:lnTo>
                <a:lnTo>
                  <a:pt x="21118" y="0"/>
                </a:lnTo>
                <a:lnTo>
                  <a:pt x="20305" y="5400"/>
                </a:lnTo>
                <a:lnTo>
                  <a:pt x="20546" y="5400"/>
                </a:lnTo>
                <a:arcTo wR="10439" hR="21600" stAng="1686886" swAng="3674749"/>
                <a:lnTo>
                  <a:pt x="10680" y="21594"/>
                </a:lnTo>
                <a:arcTo wR="10439" hR="21600" stAng="5438365" swAng="5361635"/>
                <a:close/>
              </a:path>
              <a:path fill="darkenLess" w="21600" h="21600">
                <a:moveTo>
                  <a:pt x="0" y="0"/>
                </a:moveTo>
                <a:arcTo wR="10439" hR="21600" stAng="10800000" swAng="-5400000"/>
                <a:lnTo>
                  <a:pt x="10921" y="21600"/>
                </a:lnTo>
                <a:arcTo wR="10439" hR="21600" stAng="5400000" swAng="38365"/>
                <a:lnTo>
                  <a:pt x="10680" y="21594"/>
                </a:lnTo>
                <a:arcTo wR="10439" hR="21600" stAng="5438365" swAng="5361635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Line 3"/>
          <p:cNvSpPr/>
          <p:nvPr/>
        </p:nvSpPr>
        <p:spPr>
          <a:xfrm>
            <a:off x="7256520" y="5095800"/>
            <a:ext cx="936720" cy="0"/>
          </a:xfrm>
          <a:prstGeom prst="line">
            <a:avLst/>
          </a:prstGeom>
          <a:ln w="57240">
            <a:solidFill>
              <a:srgbClr val="d054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Line 3"/>
          <p:cNvSpPr/>
          <p:nvPr/>
        </p:nvSpPr>
        <p:spPr>
          <a:xfrm>
            <a:off x="4572000" y="5095800"/>
            <a:ext cx="936720" cy="0"/>
          </a:xfrm>
          <a:prstGeom prst="line">
            <a:avLst/>
          </a:prstGeom>
          <a:ln w="57240">
            <a:solidFill>
              <a:srgbClr val="d054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3"/>
          <p:cNvSpPr/>
          <p:nvPr/>
        </p:nvSpPr>
        <p:spPr>
          <a:xfrm>
            <a:off x="6570720" y="5983200"/>
            <a:ext cx="1371600" cy="0"/>
          </a:xfrm>
          <a:prstGeom prst="line">
            <a:avLst/>
          </a:prstGeom>
          <a:ln w="139680">
            <a:solidFill>
              <a:srgbClr val="d657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3"/>
          <p:cNvSpPr/>
          <p:nvPr/>
        </p:nvSpPr>
        <p:spPr>
          <a:xfrm>
            <a:off x="4219560" y="6477120"/>
            <a:ext cx="1657440" cy="0"/>
          </a:xfrm>
          <a:prstGeom prst="line">
            <a:avLst/>
          </a:prstGeom>
          <a:ln w="139680">
            <a:solidFill>
              <a:srgbClr val="d657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Круговая стрелка 5"/>
          <p:cNvSpPr/>
          <p:nvPr/>
        </p:nvSpPr>
        <p:spPr>
          <a:xfrm>
            <a:off x="1701720" y="5541840"/>
            <a:ext cx="2489400" cy="325440"/>
          </a:xfrm>
          <a:custGeom>
            <a:avLst/>
            <a:gdLst/>
            <a:ahLst/>
            <a:rect l="l" t="t" r="r" b="b"/>
            <a:pathLst>
              <a:path w="2489200" h="325437">
                <a:moveTo>
                  <a:pt x="20340" y="162719"/>
                </a:moveTo>
                <a:cubicBezTo>
                  <a:pt x="20340" y="84813"/>
                  <a:pt x="558735" y="21373"/>
                  <a:pt x="1228564" y="20352"/>
                </a:cubicBezTo>
                <a:cubicBezTo>
                  <a:pt x="1427222" y="20049"/>
                  <a:pt x="1623528" y="25374"/>
                  <a:pt x="1800538" y="35866"/>
                </a:cubicBezTo>
                <a:lnTo>
                  <a:pt x="1800537" y="35866"/>
                </a:lnTo>
                <a:lnTo>
                  <a:pt x="2344729" y="113147"/>
                </a:lnTo>
                <a:lnTo>
                  <a:pt x="1242306" y="61020"/>
                </a:lnTo>
                <a:lnTo>
                  <a:pt x="1242306" y="61020"/>
                </a:lnTo>
                <a:cubicBezTo>
                  <a:pt x="589529" y="61129"/>
                  <a:pt x="61019" y="106629"/>
                  <a:pt x="61019" y="162719"/>
                </a:cubicBezTo>
                <a:lnTo>
                  <a:pt x="20340" y="16271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d"/>
  </p:transition>
  <p:timing>
    <p:tnLst>
      <p:par>
        <p:cTn id="556" dur="indefinite" restart="never" nodeType="tmRoot">
          <p:childTnLst>
            <p:seq>
              <p:cTn id="557" dur="indefinite" nodeType="mainSeq">
                <p:childTnLst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nodeType="clickEffect" fill="hold">
                      <p:stCondLst>
                        <p:cond delay="indefinite"/>
                      </p:stCondLst>
                      <p:childTnLst>
                        <p:par>
                          <p:cTn id="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Нарушение в построении предложения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однородными членами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Прямоугольник 2"/>
          <p:cNvSpPr/>
          <p:nvPr/>
        </p:nvSpPr>
        <p:spPr>
          <a:xfrm>
            <a:off x="766800" y="1143000"/>
            <a:ext cx="7767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Нельзя ставить общее дополнение при однородных сказуемых, требующих разного управления .                Что?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м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Прямоугольник 3"/>
          <p:cNvSpPr/>
          <p:nvPr/>
        </p:nvSpPr>
        <p:spPr>
          <a:xfrm>
            <a:off x="457200" y="276696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знесмен организовал и руководит предприятиям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Прямоугольник 4"/>
          <p:cNvSpPr/>
          <p:nvPr/>
        </p:nvSpPr>
        <p:spPr>
          <a:xfrm>
            <a:off x="457200" y="3505320"/>
            <a:ext cx="807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Нельзя связывать в качестве однородных членов слова, выраженные разными частями реч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Прямоугольник 5"/>
          <p:cNvSpPr/>
          <p:nvPr/>
        </p:nvSpPr>
        <p:spPr>
          <a:xfrm>
            <a:off x="2274840" y="4637160"/>
            <a:ext cx="5136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люблю рисовать и живопис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тя стройна и очень красива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Круговая стрелка 6"/>
          <p:cNvSpPr/>
          <p:nvPr/>
        </p:nvSpPr>
        <p:spPr>
          <a:xfrm>
            <a:off x="2743200" y="2316240"/>
            <a:ext cx="5181480" cy="642960"/>
          </a:xfrm>
          <a:custGeom>
            <a:avLst/>
            <a:gdLst/>
            <a:ahLst/>
            <a:rect l="l" t="t" r="r" b="b"/>
            <a:pathLst>
              <a:path w="5181600" h="642937">
                <a:moveTo>
                  <a:pt x="40184" y="321469"/>
                </a:moveTo>
                <a:cubicBezTo>
                  <a:pt x="40184" y="167471"/>
                  <a:pt x="1163076" y="42102"/>
                  <a:pt x="2559383" y="40205"/>
                </a:cubicBezTo>
                <a:cubicBezTo>
                  <a:pt x="2957270" y="39664"/>
                  <a:pt x="3350785" y="49398"/>
                  <a:pt x="3708465" y="68627"/>
                </a:cubicBezTo>
                <a:lnTo>
                  <a:pt x="3708464" y="68627"/>
                </a:lnTo>
                <a:lnTo>
                  <a:pt x="4852486" y="216831"/>
                </a:lnTo>
                <a:lnTo>
                  <a:pt x="2586147" y="120551"/>
                </a:lnTo>
                <a:lnTo>
                  <a:pt x="2586147" y="120551"/>
                </a:lnTo>
                <a:cubicBezTo>
                  <a:pt x="1223685" y="120760"/>
                  <a:pt x="120551" y="210652"/>
                  <a:pt x="120551" y="321469"/>
                </a:cubicBezTo>
                <a:lnTo>
                  <a:pt x="40184" y="32146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Круговая стрелка 7"/>
          <p:cNvSpPr/>
          <p:nvPr/>
        </p:nvSpPr>
        <p:spPr>
          <a:xfrm>
            <a:off x="4535640" y="2585880"/>
            <a:ext cx="2895480" cy="978120"/>
          </a:xfrm>
          <a:custGeom>
            <a:avLst/>
            <a:gdLst/>
            <a:ahLst/>
            <a:rect l="l" t="t" r="r" b="b"/>
            <a:pathLst>
              <a:path w="2895600" h="977900">
                <a:moveTo>
                  <a:pt x="61119" y="488950"/>
                </a:moveTo>
                <a:cubicBezTo>
                  <a:pt x="61119" y="259652"/>
                  <a:pt x="647041" y="71122"/>
                  <a:pt x="1389585" y="61496"/>
                </a:cubicBezTo>
                <a:cubicBezTo>
                  <a:pt x="1802789" y="56139"/>
                  <a:pt x="2202178" y="107965"/>
                  <a:pt x="2478759" y="202831"/>
                </a:cubicBezTo>
                <a:lnTo>
                  <a:pt x="2478759" y="202831"/>
                </a:lnTo>
                <a:lnTo>
                  <a:pt x="2773363" y="488950"/>
                </a:lnTo>
                <a:lnTo>
                  <a:pt x="1891964" y="202831"/>
                </a:lnTo>
                <a:lnTo>
                  <a:pt x="1891964" y="202831"/>
                </a:lnTo>
                <a:cubicBezTo>
                  <a:pt x="1721654" y="187388"/>
                  <a:pt x="1539562" y="181008"/>
                  <a:pt x="1358118" y="184126"/>
                </a:cubicBezTo>
                <a:cubicBezTo>
                  <a:pt x="696256" y="195500"/>
                  <a:pt x="183356" y="328586"/>
                  <a:pt x="183356" y="488950"/>
                </a:cubicBezTo>
                <a:lnTo>
                  <a:pt x="61119" y="48895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d"/>
  </p:transition>
  <p:timing>
    <p:tnLst>
      <p:par>
        <p:cTn id="586" dur="indefinite" restart="never" nodeType="tmRoot">
          <p:childTnLst>
            <p:seq>
              <p:cTn id="587" dur="indefinite" nodeType="mainSeq">
                <p:childTnLst>
                  <p:par>
                    <p:cTn id="588" nodeType="clickEffect" fill="hold">
                      <p:stCondLst>
                        <p:cond delay="indefinite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90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7. Нарушение в построении предложения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с однородными членам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Прямоугольник 5"/>
          <p:cNvSpPr/>
          <p:nvPr/>
        </p:nvSpPr>
        <p:spPr>
          <a:xfrm>
            <a:off x="152280" y="1066680"/>
            <a:ext cx="868680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Однородными не могут быть разные члены предложения, то есть определение или дополнение и придаточная часть сложного предлож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лыш, гулявший в парке и который упал, плач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м сообщили о росте цен на нефть и что скор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вары подорожаю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Однородными могут быть слова из одной логической групп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автомобиля новые диски и отличные скорост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азател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Однородные при обобщающем слове должны быть такого же падежа, что и оно.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ма нарвала разных цветов: лютики, ромашки, василь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d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Прямоугольник 4"/>
          <p:cNvSpPr/>
          <p:nvPr/>
        </p:nvSpPr>
        <p:spPr>
          <a:xfrm>
            <a:off x="685800" y="914400"/>
            <a:ext cx="78487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Находим предложения с составными союзам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ясняем, нет ли ошибок в их употреблен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Находим 2 глагола, связанных союзом И 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им дополнение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Если нет, находим однородные, выражен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ными частями речи или являющиеся разны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ленами предложения. Проверяе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Указываем номер предложения 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шибк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горитм выполнения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trips dir="rd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Прямоугольник 4"/>
          <p:cNvSpPr/>
          <p:nvPr/>
        </p:nvSpPr>
        <p:spPr>
          <a:xfrm>
            <a:off x="380880" y="457200"/>
            <a:ext cx="838224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ельщики «Зенита» любили и гордились своей командой, не один раз выигрывавшей сложнейшие матч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ожающие шли с сумками и печальными лиц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 В шкафу стоят книги, на полках лежат не только газеты, но также и стеклянная посу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Толпы людей были повсюду: на улицах, площадях, сквер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Плохо выраженная мысль — это леность не только речевых усилий, а также леность мыс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Нам, к всеобщей радости, оплатили сверхурочную работу и отпустят отдыха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Он надеялся опубликовать и познакомить читателей со своей повестью до начала следующего го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Новый законопроект  взволновал и активно обсуждался в широких кругах обществен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 Жизнь крестьян изображена в произведениях русских классиков: Гоголь, Тургенев, Толст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d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Неправильное построение предложения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свенной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чью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Прямоугольник 4"/>
          <p:cNvSpPr/>
          <p:nvPr/>
        </p:nvSpPr>
        <p:spPr>
          <a:xfrm>
            <a:off x="457200" y="1143000"/>
            <a:ext cx="8305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свенная речь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это переделанная прямая речь 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жноподчиненное предложение без кавыче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В косвенной речи 1, 2 лица заменяются на 3 лиц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тр сказал, что  я  задержусь дом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Использование кавыче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тр сказал, что «я задержусь дома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Если в прямой речи была вопросительная реплик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 в предложении используется союз Л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на спросила, что пойдут они в кин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Скругленный прямоугольник 1"/>
          <p:cNvSpPr/>
          <p:nvPr/>
        </p:nvSpPr>
        <p:spPr>
          <a:xfrm>
            <a:off x="3200400" y="2473200"/>
            <a:ext cx="2209680" cy="381240"/>
          </a:xfrm>
          <a:prstGeom prst="roundRect">
            <a:avLst>
              <a:gd name="adj" fmla="val 16667"/>
            </a:avLst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 задержи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Скругленный прямоугольник 4"/>
          <p:cNvSpPr/>
          <p:nvPr/>
        </p:nvSpPr>
        <p:spPr>
          <a:xfrm>
            <a:off x="3429000" y="3406680"/>
            <a:ext cx="3449520" cy="381240"/>
          </a:xfrm>
          <a:prstGeom prst="roundRect">
            <a:avLst>
              <a:gd name="adj" fmla="val 16667"/>
            </a:avLst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 задержится до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Скругленный прямоугольник 2"/>
          <p:cNvSpPr/>
          <p:nvPr/>
        </p:nvSpPr>
        <p:spPr>
          <a:xfrm>
            <a:off x="457200" y="4656240"/>
            <a:ext cx="8077320" cy="914400"/>
          </a:xfrm>
          <a:prstGeom prst="roundRect">
            <a:avLst>
              <a:gd name="adj" fmla="val 16667"/>
            </a:avLst>
          </a:prstGeom>
          <a:solidFill>
            <a:srgbClr val="8eb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на спросила, пойдут ли они в кин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d"/>
  </p:transition>
  <p:timing>
    <p:tnLst>
      <p:par>
        <p:cTn id="596" dur="indefinite" restart="never" nodeType="tmRoot">
          <p:childTnLst>
            <p:seq>
              <p:cTn id="597" dur="indefinite" nodeType="mainSeq">
                <p:childTnLst>
                  <p:par>
                    <p:cTn id="598" nodeType="clickEffect" fill="hold">
                      <p:stCondLst>
                        <p:cond delay="indefinite"/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nodeType="clickEffect" fill="hold">
                      <p:stCondLst>
                        <p:cond delay="indefinite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nodeType="clickEffect" fill="hold">
                      <p:stCondLst>
                        <p:cond delay="indefinite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горитм выполнения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457200" y="160020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. Находим предложение с косвенной речью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ыясняем, какое лицо употребляетс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 Выясняем, был ли вопрос в прямой реч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. Находим ошибку. Указываем номе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едлоден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trips dir="rd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Прямоугольник 4"/>
          <p:cNvSpPr/>
          <p:nvPr/>
        </p:nvSpPr>
        <p:spPr>
          <a:xfrm>
            <a:off x="376200" y="579600"/>
            <a:ext cx="838188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Отец рассказывал, что мы и через 20 лет после окончания института каждый год ездим на встречу выпускни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Клара спросила, что нельзя ли молока у вас купит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Немного задумавшись, Витя сказал, что я приду к теб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Я с удивлением спросил, что где же креп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Я не заметил, что находится ли он в комнат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Как сказал А.П.Чехов: «В человеке должно быть все прекрасно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Алёхин, входя в гостиную, воскликнул, что я очень рад всех нас виде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Водитель маршрутного такси сказал вновь вошедшим пассажирам, что оплатите проез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 Благодаря зрителей за искренний интерес, ведущий объявил, что "вас ждёт новая встреча с новым героем"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 Отец,  позвонивший  вчера  поздно  вечером,  сообщил,  что заболел, и сказал, что «я остаюсь дома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C:\Users\Андрей\Pictures\Мои рисунки\ЕГЭ, ГИА\6.jpg"/>
          <p:cNvPicPr/>
          <p:nvPr/>
        </p:nvPicPr>
        <p:blipFill>
          <a:blip r:embed="rId1"/>
          <a:stretch/>
        </p:blipFill>
        <p:spPr>
          <a:xfrm>
            <a:off x="-36360" y="-23760"/>
            <a:ext cx="1066680" cy="1461960"/>
          </a:xfrm>
          <a:prstGeom prst="rect">
            <a:avLst/>
          </a:prstGeom>
          <a:ln w="0">
            <a:noFill/>
          </a:ln>
        </p:spPr>
      </p:pic>
      <p:sp>
        <p:nvSpPr>
          <p:cNvPr id="64" name="Прямоугольник 2"/>
          <p:cNvSpPr/>
          <p:nvPr/>
        </p:nvSpPr>
        <p:spPr>
          <a:xfrm>
            <a:off x="1219320" y="152280"/>
            <a:ext cx="74674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Прямоугольник 1" descr=""/>
          <p:cNvPicPr/>
          <p:nvPr/>
        </p:nvPicPr>
        <p:blipFill>
          <a:blip r:embed="rId2"/>
          <a:stretch/>
        </p:blipFill>
        <p:spPr>
          <a:xfrm>
            <a:off x="334800" y="3230640"/>
            <a:ext cx="8633160" cy="33717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Нарушение в построении предложения с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согласованным приложение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2" descr=""/>
          <p:cNvPicPr/>
          <p:nvPr/>
        </p:nvPicPr>
        <p:blipFill>
          <a:blip r:embed="rId3"/>
          <a:srcRect l="0" t="0" r="82203" b="78030"/>
          <a:stretch/>
        </p:blipFill>
        <p:spPr>
          <a:xfrm>
            <a:off x="380880" y="1036800"/>
            <a:ext cx="1492200" cy="482400"/>
          </a:xfrm>
          <a:prstGeom prst="rect">
            <a:avLst/>
          </a:prstGeom>
          <a:ln w="0">
            <a:noFill/>
          </a:ln>
        </p:spPr>
      </p:pic>
      <p:sp>
        <p:nvSpPr>
          <p:cNvPr id="68" name="TextBox 3"/>
          <p:cNvSpPr/>
          <p:nvPr/>
        </p:nvSpPr>
        <p:spPr>
          <a:xfrm>
            <a:off x="228600" y="1533600"/>
            <a:ext cx="8715240" cy="14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вание, заключенное в кавычки, данное с родовым словом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овесть, роман, картина, опера, отель) является несогласованным приложением и должно стоять в именительном падеж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родового слова нет, то название в кавычках начинает изменятьс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 Ошибка в употреблении имени числительного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Прямоугольник 2"/>
          <p:cNvSpPr/>
          <p:nvPr/>
        </p:nvSpPr>
        <p:spPr>
          <a:xfrm>
            <a:off x="380880" y="838080"/>
            <a:ext cx="85345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Употребление числительных полтора, полторы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торас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 всех падежах, кроме И., В. – полутора, полуторас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олутора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лометрах от нас находилась деревн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Числительные ОБА, ОБ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обоими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ругами мы зашли в каф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Собирательные числитель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ое книг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жало на полк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адцать двое суток добирались до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рег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d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горитм выполнения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Прямоугольник 2"/>
          <p:cNvSpPr/>
          <p:nvPr/>
        </p:nvSpPr>
        <p:spPr>
          <a:xfrm>
            <a:off x="609480" y="1523880"/>
            <a:ext cx="7239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Находим предложение с числительны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Выясняем, есть ли ошибка в употреблен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Указываем номер предлож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d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оугольник 2"/>
          <p:cNvSpPr/>
          <p:nvPr/>
        </p:nvSpPr>
        <p:spPr>
          <a:xfrm>
            <a:off x="457200" y="304920"/>
            <a:ext cx="8229600" cy="73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Двое крайних окон на первом этаже закрыты изнутри газетными лист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Нам было поручено подготовить презентацию к первому апрел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Трое подростков, среди которых были двое девушек, о чём-то шумно спорили на крыльце "Дома торговли"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Для выполнения поставленной цели нам дали двадцать двое суто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Дом находился в полутора часах езды, и мы, посовещавшись, решили выезжать немедленн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Двое пар ботинок, стоящих у стены в прихожей, указывали на то, что кто-то уже опередил на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d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 Ошибка в построении сложного предложения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Прямоугольник 2"/>
          <p:cNvSpPr/>
          <p:nvPr/>
        </p:nvSpPr>
        <p:spPr>
          <a:xfrm>
            <a:off x="304920" y="457200"/>
            <a:ext cx="8458200" cy="642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В предложении нельзя употреблять одновременно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чинительные и подчинительные союзы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только начался урок, но мы все сразу встал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Нельзя повторять близкие по значению союзы (что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колько; однако тем не менее; что будто; что … ли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ы знаем, что насколько Пьер волнуется при вид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таши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ы не услышали, что вернулся ли он или нет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Неправильное употребление указательных слов (то, что; то, чтобы; тем, чтобы)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ец узнал то, что рейс задержится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ы беспокоились за то, чтобы никто не пострадал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Неверная конструкция с придаточным определительным с союзным словом КОТОРЫЙ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долго нес учебник библиотекарю, с которым не расставался весь год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d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горитм выполне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Прямоугольник 2"/>
          <p:cNvSpPr/>
          <p:nvPr/>
        </p:nvSpPr>
        <p:spPr>
          <a:xfrm>
            <a:off x="609480" y="1219320"/>
            <a:ext cx="7848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Находим сложное (сложноподчиненн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ложение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Выясняем, есть ли неверное употребл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юзов, союзных слов, указательных сл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Указываем номер предложения с ошибк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d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Прямоугольник 1"/>
          <p:cNvSpPr/>
          <p:nvPr/>
        </p:nvSpPr>
        <p:spPr>
          <a:xfrm>
            <a:off x="304920" y="152280"/>
            <a:ext cx="8610480" cy="69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Есть люди, которые всегда считают то, что виноваты не они, а друг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Я начал изучать новые языки, хотя даже не был уверен в том, что пригодится ли мне это когда-нибуд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Я показал гостям автограф писателя, который мне очень доро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Водитель маршрутного такси сказал вновь вошедшим пассажирам, что оплатите проез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В выступлении приводились данные, которые, кажется, что где-то частично уже звучал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Немного задумавшись, Витя сказал, что я приду к теб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Я с удивлением спросил, что где же крепос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Я знаю, что придёт время, что когда по морям будут плавать пароходы из стек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d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Picture 2" descr="C:\Users\Андрей\Pictures\Мои рисунки\ЕГЭ, ГИА\0_b4175_e1979a89_L.png"/>
          <p:cNvPicPr/>
          <p:nvPr/>
        </p:nvPicPr>
        <p:blipFill>
          <a:blip r:embed="rId1"/>
          <a:stretch/>
        </p:blipFill>
        <p:spPr>
          <a:xfrm>
            <a:off x="1676520" y="-12600"/>
            <a:ext cx="5383080" cy="585000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3" descr="C:\Users\Андрей\Pictures\Мои рисунки\ЕГЭ, ГИА\image003.gif"/>
          <p:cNvPicPr/>
          <p:nvPr/>
        </p:nvPicPr>
        <p:blipFill>
          <a:blip r:embed="rId2"/>
          <a:stretch/>
        </p:blipFill>
        <p:spPr>
          <a:xfrm>
            <a:off x="1676520" y="5722920"/>
            <a:ext cx="6629400" cy="113508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2" descr="C:\Users\Андрей\Pictures\Мои рисунки\ЕГЭ, ГИА\6.jpg"/>
          <p:cNvPicPr/>
          <p:nvPr/>
        </p:nvPicPr>
        <p:blipFill>
          <a:blip r:embed="rId3"/>
          <a:stretch/>
        </p:blipFill>
        <p:spPr>
          <a:xfrm>
            <a:off x="-36360" y="-23760"/>
            <a:ext cx="1523880" cy="20844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Сравним три предложения: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304560" y="1600200"/>
            <a:ext cx="7848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Calibri"/>
              </a:rPr>
              <a:t>1</a:t>
            </a:r>
            <a:r>
              <a:rPr b="0" i="1" lang="ru-RU" sz="28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) В картине (п.п.) «Спящий пастушок» (и.п.) Венецианову удалось передать всю прелесть неяркой русской природ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2) В «Спящем пастушке» (п.п.) Венецианову удалось передать всю прелесть неяркой русской природ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3) В картине (п.п.) «Спящем пастушке» (п.п.) Венецианову удалось передать всю прелесть неяркой русской природ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4045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Box 3"/>
          <p:cNvSpPr/>
          <p:nvPr/>
        </p:nvSpPr>
        <p:spPr>
          <a:xfrm>
            <a:off x="8385840" y="473724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4"/>
          <p:cNvSpPr/>
          <p:nvPr/>
        </p:nvSpPr>
        <p:spPr>
          <a:xfrm>
            <a:off x="8606160" y="2133720"/>
            <a:ext cx="38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5"/>
          <p:cNvSpPr/>
          <p:nvPr/>
        </p:nvSpPr>
        <p:spPr>
          <a:xfrm>
            <a:off x="8603640" y="350532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d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456840" y="457200"/>
            <a:ext cx="8458200" cy="58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В  апрельском  номере  журнала  «Юности»    были опубликованы стихи молодого талантливого поэт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Впер­вые   «Хо­ван­щи­ну»  я  слу­шал  вме­сте  с  ро­ди­те­ля­м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Проблемы экономики и бизнеса были в центре внимания ведущего телепередачи   «Деловой  Москвы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картине Левитана «Дождь» передана вся прелесть дождливых сумере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Уголок старой Москвы воссоздан  В.Д.  Поленовым  в пейзаже  в «Московском дворике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Журнал  «Природа»  мы выписываем не­сколько ле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Немало критических статей посвящено   «Горю от ума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агодаря   статьи    в газете мы узнали о возобновлении туристского теплоходного маршрута   к  «Северным островам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Скругленный прямоугольник 3"/>
          <p:cNvSpPr/>
          <p:nvPr/>
        </p:nvSpPr>
        <p:spPr>
          <a:xfrm>
            <a:off x="5181480" y="457200"/>
            <a:ext cx="1600200" cy="4572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Юность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Скругленный прямоугольник 4"/>
          <p:cNvSpPr/>
          <p:nvPr/>
        </p:nvSpPr>
        <p:spPr>
          <a:xfrm>
            <a:off x="3849840" y="2057400"/>
            <a:ext cx="2971800" cy="4572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Деловая Москва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Скругленный прямоугольник 5"/>
          <p:cNvSpPr/>
          <p:nvPr/>
        </p:nvSpPr>
        <p:spPr>
          <a:xfrm>
            <a:off x="1833480" y="3657600"/>
            <a:ext cx="3353040" cy="4572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Московский дворик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Скругленный прямоугольник 6"/>
          <p:cNvSpPr/>
          <p:nvPr/>
        </p:nvSpPr>
        <p:spPr>
          <a:xfrm>
            <a:off x="2428920" y="5010120"/>
            <a:ext cx="1219320" cy="4572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Calibri"/>
              </a:rPr>
              <a:t>стать</a:t>
            </a:r>
            <a:r>
              <a:rPr b="1" i="1" lang="ru-RU" sz="2200" spc="-1" strike="noStrike">
                <a:solidFill>
                  <a:srgbClr val="ff0000"/>
                </a:solidFill>
                <a:latin typeface="Calibri"/>
              </a:rPr>
              <a:t>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d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C:\Users\Андрей\Pictures\Мои рисунки\ЕГЭ, ГИА\6.jpg"/>
          <p:cNvPicPr/>
          <p:nvPr/>
        </p:nvPicPr>
        <p:blipFill>
          <a:blip r:embed="rId1"/>
          <a:stretch/>
        </p:blipFill>
        <p:spPr>
          <a:xfrm>
            <a:off x="-36360" y="-23760"/>
            <a:ext cx="1066680" cy="1461960"/>
          </a:xfrm>
          <a:prstGeom prst="rect">
            <a:avLst/>
          </a:prstGeom>
          <a:ln w="0">
            <a:noFill/>
          </a:ln>
        </p:spPr>
      </p:pic>
      <p:sp>
        <p:nvSpPr>
          <p:cNvPr id="80" name="Прямоугольник 1"/>
          <p:cNvSpPr/>
          <p:nvPr/>
        </p:nvSpPr>
        <p:spPr>
          <a:xfrm>
            <a:off x="495360" y="343080"/>
            <a:ext cx="8343720" cy="58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Неправильное употребление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дежной формы  существительного с предлог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отребление падежной формы име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ществительного при производных предлог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агодар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глас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пре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ереко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об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ерере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встреч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Правая фигурная скобка 2"/>
          <p:cNvSpPr/>
          <p:nvPr/>
        </p:nvSpPr>
        <p:spPr>
          <a:xfrm>
            <a:off x="2666880" y="2438280"/>
            <a:ext cx="1144800" cy="3657600"/>
          </a:xfrm>
          <a:custGeom>
            <a:avLst/>
            <a:gdLst>
              <a:gd name="textAreaLeft" fmla="*/ 0 w 1144800"/>
              <a:gd name="textAreaRight" fmla="*/ 413280 w 1144800"/>
              <a:gd name="textAreaTop" fmla="*/ 29520 h 3657600"/>
              <a:gd name="textAreaBottom" fmla="*/ 3628080 h 3657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82"/>
                  <a:pt x="10800" y="563"/>
                </a:cubicBezTo>
                <a:lnTo>
                  <a:pt x="10800" y="10237"/>
                </a:lnTo>
                <a:cubicBezTo>
                  <a:pt x="10800" y="10519"/>
                  <a:pt x="16200" y="10800"/>
                  <a:pt x="21600" y="10800"/>
                </a:cubicBezTo>
                <a:cubicBezTo>
                  <a:pt x="16200" y="10800"/>
                  <a:pt x="10800" y="11082"/>
                  <a:pt x="10800" y="11363"/>
                </a:cubicBezTo>
                <a:lnTo>
                  <a:pt x="10800" y="21037"/>
                </a:lnTo>
                <a:cubicBezTo>
                  <a:pt x="10800" y="21319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3680" y="1752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75920" y="3632040"/>
            <a:ext cx="4040280" cy="6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2174760"/>
            <a:ext cx="33544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97000" y="32824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3811680" y="2174400"/>
            <a:ext cx="4875120" cy="94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3000"/>
          </a:bodyPr>
          <a:p>
            <a:pPr marL="113040" indent="-113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13040" indent="-113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Дательный падеж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Кому? Чему?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13040" indent="-113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Благодаря своим знаниям мы достигли успех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13040" indent="-113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13040" indent="-113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Благодаря своих знаний мы достигли успех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13040" indent="-113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бязанности сотрудников распределены согласно договор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trips dir="rd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2" dur="10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7" dur="1000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WordArt 2"/>
          <p:cNvSpPr txBox="1"/>
          <p:nvPr/>
        </p:nvSpPr>
        <p:spPr>
          <a:xfrm>
            <a:off x="1066680" y="228600"/>
            <a:ext cx="792504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ffffff"/>
                  </a:solidFill>
                  <a:miter/>
                </a:ln>
                <a:solidFill>
                  <a:srgbClr val="000099"/>
                </a:solidFill>
                <a:latin typeface="Bookman Old Style"/>
              </a:rPr>
              <a:t> </a:t>
            </a:r>
            <a:endParaRPr b="1" lang="en-US" sz="1800" spc="1" strike="noStrike">
              <a:ln w="25560">
                <a:solidFill>
                  <a:srgbClr val="ffffff"/>
                </a:solidFill>
                <a:miter/>
              </a:ln>
              <a:solidFill>
                <a:srgbClr val="000099"/>
              </a:solidFill>
              <a:latin typeface="Bookman Old Style"/>
              <a:ea typeface="Bookman Old Style"/>
            </a:endParaRPr>
          </a:p>
        </p:txBody>
      </p:sp>
      <p:pic>
        <p:nvPicPr>
          <p:cNvPr id="88" name="Picture 2" descr="C:\Users\Андрей\Pictures\Мои рисунки\ЕГЭ, ГИА\6.jpg"/>
          <p:cNvPicPr/>
          <p:nvPr/>
        </p:nvPicPr>
        <p:blipFill>
          <a:blip r:embed="rId1"/>
          <a:stretch/>
        </p:blipFill>
        <p:spPr>
          <a:xfrm>
            <a:off x="-36360" y="-23760"/>
            <a:ext cx="1066680" cy="146196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правильное употребление падежной формы имени существительного с производными предлогами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380520" y="1600200"/>
            <a:ext cx="2971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вид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ледстви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луча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услови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помощ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3276360" y="1600200"/>
            <a:ext cx="5638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Родительный падеж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(Кого? Чего?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ы задержались в пути вследствие непредвиденных обстоятельств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ы задержались в пути вследствие непредвиденным обстоятельства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Правая фигурная скобка 5"/>
          <p:cNvSpPr/>
          <p:nvPr/>
        </p:nvSpPr>
        <p:spPr>
          <a:xfrm>
            <a:off x="2666880" y="1752480"/>
            <a:ext cx="765360" cy="3200400"/>
          </a:xfrm>
          <a:custGeom>
            <a:avLst/>
            <a:gdLst>
              <a:gd name="textAreaLeft" fmla="*/ 0 w 765360"/>
              <a:gd name="textAreaRight" fmla="*/ 276480 w 765360"/>
              <a:gd name="textAreaTop" fmla="*/ 19800 h 3200400"/>
              <a:gd name="textAreaBottom" fmla="*/ 3180600 h 3200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15"/>
                  <a:pt x="10800" y="430"/>
                </a:cubicBezTo>
                <a:lnTo>
                  <a:pt x="10800" y="10370"/>
                </a:lnTo>
                <a:cubicBezTo>
                  <a:pt x="10800" y="10585"/>
                  <a:pt x="16200" y="10800"/>
                  <a:pt x="21600" y="10800"/>
                </a:cubicBezTo>
                <a:cubicBezTo>
                  <a:pt x="16200" y="10800"/>
                  <a:pt x="10800" y="11015"/>
                  <a:pt x="10800" y="11230"/>
                </a:cubicBezTo>
                <a:lnTo>
                  <a:pt x="10800" y="21170"/>
                </a:lnTo>
                <a:cubicBezTo>
                  <a:pt x="10800" y="21385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d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4" dur="10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0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правильное употребление падежной формы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ществительного с предлого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52280" y="1295280"/>
            <a:ext cx="41148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3000"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четания с предлогом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в значении «после чего-либо»), требую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просов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ЛОЖНОГО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д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приезд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окончани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завершени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прибыти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возвращени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истечени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800240" y="1981080"/>
            <a:ext cx="38098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12000"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приезд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окончани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завершени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прибыти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возвращени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истечени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2" descr="C:\Users\Андрей\Pictures\Мои рисунки\ЕГЭ, ГИА\6.jpg"/>
          <p:cNvPicPr/>
          <p:nvPr/>
        </p:nvPicPr>
        <p:blipFill>
          <a:blip r:embed="rId1"/>
          <a:stretch/>
        </p:blipFill>
        <p:spPr>
          <a:xfrm>
            <a:off x="-36360" y="-23760"/>
            <a:ext cx="987120" cy="13525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" dur="1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" dur="10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1" dur="10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6" dur="1000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000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1" dur="1000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6" dur="1000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000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Андрей</dc:creator>
  <dc:description/>
  <dc:language>en-US</dc:language>
  <cp:lastModifiedBy>ССА</cp:lastModifiedBy>
  <dcterms:modified xsi:type="dcterms:W3CDTF">2019-02-05T13:27:28Z</dcterms:modified>
  <cp:revision>10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