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6.png" ContentType="image/png"/>
  <Override PartName="/ppt/media/image12.jpeg" ContentType="image/jpeg"/>
  <Override PartName="/ppt/media/image2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57C591-83E9-4752-A73D-AA512829B2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E1E9C9-9CDC-4769-98E9-17EA96E2C43A}" type="slidenum"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3B19-82CC-46A9-856F-BE4F1036A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2F68-221F-4D68-82EB-611D8B76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9150-D2C7-47EA-84DB-46FF2ECF0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5D6D-1D5C-4729-85C6-AF73A3959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CD7B-D3E8-4254-B9A3-C05826C9E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6689-39E9-4108-B879-53BEBCD5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A1D9C-362B-4DE6-84BB-09939F6F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3D1C-BCFE-4715-9D45-7C29B55A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7957-8236-484B-AE4B-0CF54C55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1CB2-24AC-4A0E-8599-90859C88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1181-61A8-445F-9A40-8DAC6090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472C-F2F5-4DE8-8858-4833EA4A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9C3D-206F-4321-A82B-914EB475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A08FF-CF31-4E4D-8C7E-24FF63CE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393E-9D35-4474-A5A5-59D70469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C134F-0248-46AC-8A20-11E0AC11B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6A1E-B12C-476E-8284-F667FDA37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30521-E4AF-437E-997E-1D477CA77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AE854-5F46-4AB6-AECB-5799A807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8CB59-319F-41ED-873C-DF8A7046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EC3F1-1DFE-44D8-9B81-50729286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D3E13-944A-4E68-BD54-EAC85DFB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E72A-AC06-4049-90EC-6B803096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24E2E-D275-451A-A83F-E29A1176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3B727-242F-42A2-8625-C56B5735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CC3BE-08B7-48C3-8CD6-70FBC6C6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1C721-15D7-4A8F-B13A-65728FC9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4294A-0071-4BAE-8F32-A4A2B3F1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DFFD5-BBED-4026-B69A-9BC69A064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5927D-08AE-49EF-A2A6-76896F840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001C3-E84F-4465-B1BB-8963353F4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26B69-59AD-409C-87D9-5F3A72BC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98EA8-4C69-403F-AC96-F58F18CB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F47A-D1D0-4196-ADD0-2013B0CD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C43A4-87B8-4956-B0C1-E0FBD950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1F3EC-50A7-4081-AF5F-0F048F54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66378-677E-4A28-BF47-19E1C21B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5C1AC-7A8E-4814-B149-A714CE1C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E3879-ADB1-4C00-9227-D094359B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9CAFD-8376-496B-96D3-026EB553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C2937-B6C4-4525-B3E2-6520B4D6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32719-5C00-445A-80A5-DE51BB708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84403-7621-4CCF-B612-B87086A60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612E-E001-4C7F-9220-E62801F6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640D-40C6-4C4E-96F7-06EF517C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F40C-AC68-4BEC-850D-B8D4BA2F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891B-5442-44C0-8E1F-D3F77618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F833-DEFA-400B-A786-C62BE82E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3D00BC-D7A0-4359-9441-0768F263AE57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380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9280"/>
              <a:ext cx="4815000" cy="481500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880"/>
              <a:ext cx="3911760" cy="39117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8680" cy="384012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080" y="176976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0EB8EF-8767-490E-B035-D0076DA14394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00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1D0A31-75DB-4B43-8A44-0E443D708AC2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49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D78522-590B-46AA-BFFF-A6F6C9E25DB3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5" descr="2074428_635278567328845000"/>
          <p:cNvPicPr/>
          <p:nvPr/>
        </p:nvPicPr>
        <p:blipFill>
          <a:blip r:embed="rId1"/>
          <a:stretch/>
        </p:blipFill>
        <p:spPr>
          <a:xfrm>
            <a:off x="0" y="4680"/>
            <a:ext cx="9144000" cy="701064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6"/>
          <p:cNvSpPr/>
          <p:nvPr/>
        </p:nvSpPr>
        <p:spPr>
          <a:xfrm>
            <a:off x="4498200" y="218016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970360"/>
                <a:tab algn="l" pos="452448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970360"/>
                <a:tab algn="l" pos="452448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7213680" y="4906800"/>
            <a:ext cx="1839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ctr" pos="2970360"/>
                <a:tab algn="l" pos="452448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Прямоугольник 1"/>
          <p:cNvSpPr/>
          <p:nvPr/>
        </p:nvSpPr>
        <p:spPr>
          <a:xfrm>
            <a:off x="3835440" y="4419720"/>
            <a:ext cx="3733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дготовила: Малкина Н.А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оспитатель МАДОУ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«Детский сад № 11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Центр развития ребёнка»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таршая группа № 7</a:t>
            </a:r>
            <a:r>
              <a:rPr b="0" i="1" lang="ru-RU" sz="1800" spc="-1" strike="noStrike">
                <a:solidFill>
                  <a:srgbClr val="3366cc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Январь –февраль 2020 год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3" name="Рисунок 2" descr=""/>
          <p:cNvPicPr/>
          <p:nvPr/>
        </p:nvPicPr>
        <p:blipFill>
          <a:blip r:embed="rId2"/>
          <a:stretch/>
        </p:blipFill>
        <p:spPr>
          <a:xfrm>
            <a:off x="0" y="3657600"/>
            <a:ext cx="4194000" cy="3200400"/>
          </a:xfrm>
          <a:prstGeom prst="rect">
            <a:avLst/>
          </a:prstGeom>
          <a:ln w="0">
            <a:noFill/>
          </a:ln>
        </p:spPr>
      </p:pic>
      <p:pic>
        <p:nvPicPr>
          <p:cNvPr id="204" name="Прямоугольник 3" descr=""/>
          <p:cNvPicPr/>
          <p:nvPr/>
        </p:nvPicPr>
        <p:blipFill>
          <a:blip r:embed="rId3"/>
          <a:stretch/>
        </p:blipFill>
        <p:spPr>
          <a:xfrm>
            <a:off x="493560" y="1951200"/>
            <a:ext cx="819324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a-winter-with-snowflakes-backgrounds-wallpape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Прямоугольник 1"/>
          <p:cNvSpPr/>
          <p:nvPr/>
        </p:nvSpPr>
        <p:spPr>
          <a:xfrm>
            <a:off x="1295280" y="-87480"/>
            <a:ext cx="759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«Физическое развитие»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( Прогулки, посещение ФОК, ритмика, физкульт – минутки, настольная игра в </a:t>
            </a:r>
            <a:r>
              <a:rPr b="0" lang="ru-RU" sz="1800" spc="-1" strike="noStrike">
                <a:solidFill>
                  <a:srgbClr val="ff0000"/>
                </a:solidFill>
                <a:latin typeface="Century Gothic"/>
              </a:rPr>
              <a:t>хоккей игры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3" name="Рисунок 3" descr=""/>
          <p:cNvPicPr/>
          <p:nvPr/>
        </p:nvPicPr>
        <p:blipFill>
          <a:blip r:embed="rId2"/>
          <a:stretch/>
        </p:blipFill>
        <p:spPr>
          <a:xfrm>
            <a:off x="66600" y="573120"/>
            <a:ext cx="4959360" cy="365760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5" descr=""/>
          <p:cNvPicPr/>
          <p:nvPr/>
        </p:nvPicPr>
        <p:blipFill>
          <a:blip r:embed="rId3"/>
          <a:stretch/>
        </p:blipFill>
        <p:spPr>
          <a:xfrm>
            <a:off x="4786200" y="558720"/>
            <a:ext cx="4291200" cy="365760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9" descr=""/>
          <p:cNvPicPr/>
          <p:nvPr/>
        </p:nvPicPr>
        <p:blipFill>
          <a:blip r:embed="rId4"/>
          <a:stretch/>
        </p:blipFill>
        <p:spPr>
          <a:xfrm>
            <a:off x="4786200" y="3809880"/>
            <a:ext cx="4291200" cy="304812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2" descr=""/>
          <p:cNvPicPr/>
          <p:nvPr/>
        </p:nvPicPr>
        <p:blipFill>
          <a:blip r:embed="rId5"/>
          <a:stretch/>
        </p:blipFill>
        <p:spPr>
          <a:xfrm>
            <a:off x="0" y="3809880"/>
            <a:ext cx="4786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a-winter-with-snowflakes-backgrounds-wallpape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1"/>
          <p:cNvSpPr/>
          <p:nvPr/>
        </p:nvSpPr>
        <p:spPr>
          <a:xfrm>
            <a:off x="685800" y="-101520"/>
            <a:ext cx="82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еспечение преемственности в работе ДОУ и семьи по проекту. (развлечение, консультации, фотоальбом)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9" name="Рисунок 3" descr=""/>
          <p:cNvPicPr/>
          <p:nvPr/>
        </p:nvPicPr>
        <p:blipFill>
          <a:blip r:embed="rId2"/>
          <a:stretch/>
        </p:blipFill>
        <p:spPr>
          <a:xfrm>
            <a:off x="430200" y="774720"/>
            <a:ext cx="4441680" cy="331632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5" descr=""/>
          <p:cNvPicPr/>
          <p:nvPr/>
        </p:nvPicPr>
        <p:blipFill>
          <a:blip r:embed="rId3"/>
          <a:stretch/>
        </p:blipFill>
        <p:spPr>
          <a:xfrm>
            <a:off x="4913280" y="774720"/>
            <a:ext cx="4118040" cy="328932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7" descr=""/>
          <p:cNvPicPr/>
          <p:nvPr/>
        </p:nvPicPr>
        <p:blipFill>
          <a:blip r:embed="rId4"/>
          <a:stretch/>
        </p:blipFill>
        <p:spPr>
          <a:xfrm>
            <a:off x="846000" y="3886200"/>
            <a:ext cx="3954600" cy="297180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9" descr=""/>
          <p:cNvPicPr/>
          <p:nvPr/>
        </p:nvPicPr>
        <p:blipFill>
          <a:blip r:embed="rId5"/>
          <a:stretch/>
        </p:blipFill>
        <p:spPr>
          <a:xfrm rot="5565000">
            <a:off x="5168520" y="3632040"/>
            <a:ext cx="33969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a-winter-with-snowflakes-backgrounds-wallpape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1"/>
          <p:cNvSpPr/>
          <p:nvPr/>
        </p:nvSpPr>
        <p:spPr>
          <a:xfrm>
            <a:off x="2265480" y="76320"/>
            <a:ext cx="6858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ма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культурно –спортивный  проект в старшей группе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звание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имние виды спорта»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ип проекта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культурно - спортивный, краткосрочный, коллективный, направленный на работу с семьёй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социальной и личностной мотивации детей старшего дошкольного возраста на сохранение и укрепление своего здоровья и воспитания социально значимых личностных качеств посредством знакомства с зимними видами спорта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астники проекта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, воспитанники, родители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должительность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срочный с 14 январь 2020 года по 14 февраля 2020 года. 1 месяц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7" name="Рисунок 3" descr=""/>
          <p:cNvPicPr/>
          <p:nvPr/>
        </p:nvPicPr>
        <p:blipFill>
          <a:blip r:embed="rId2"/>
          <a:stretch/>
        </p:blipFill>
        <p:spPr>
          <a:xfrm>
            <a:off x="3124080" y="3862440"/>
            <a:ext cx="472464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5" descr="a-winter-with-snowflakes-backgrounds-wallpape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TextBox 1"/>
          <p:cNvSpPr/>
          <p:nvPr/>
        </p:nvSpPr>
        <p:spPr>
          <a:xfrm>
            <a:off x="2727360" y="152280"/>
            <a:ext cx="57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туальность проект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TextBox 2"/>
          <p:cNvSpPr/>
          <p:nvPr/>
        </p:nvSpPr>
        <p:spPr>
          <a:xfrm>
            <a:off x="2727360" y="1143000"/>
            <a:ext cx="5425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Прямоугольник 3"/>
          <p:cNvSpPr/>
          <p:nvPr/>
        </p:nvSpPr>
        <p:spPr>
          <a:xfrm>
            <a:off x="2276640" y="587520"/>
            <a:ext cx="6705360" cy="27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храна здоровья подрастающего поколения в нашем обществе имеет большое государственное и социальное значение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 самое главное, чтобы дети усвоили, что любой вид спорта начинается с физической культуры, которой нужно приучать себя заниматься с раннего возраста, что физическая культура – это не только залог возможных спортивных достижений в будущем, но прежде всего залог и гарантия здоровья челове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Прямоугольник 4"/>
          <p:cNvSpPr/>
          <p:nvPr/>
        </p:nvSpPr>
        <p:spPr>
          <a:xfrm>
            <a:off x="2514600" y="3209760"/>
            <a:ext cx="387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облема проекта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Прямоугольник 5"/>
          <p:cNvSpPr/>
          <p:nvPr/>
        </p:nvSpPr>
        <p:spPr>
          <a:xfrm>
            <a:off x="2254320" y="3700440"/>
            <a:ext cx="672768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и должны понимать, что представляет собой тот или иной вид зимнего спорта, какой спортивный инвентарь нужен для того, чтобы им заниматься, где можно ему обучиться и т.д. Именно дошкольный возраст является важнейшим периодом, когда закладываются прочные основы физического, психического и социально-нравственного здоровья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4" name="Рисунок 7" descr=""/>
          <p:cNvPicPr/>
          <p:nvPr/>
        </p:nvPicPr>
        <p:blipFill>
          <a:blip r:embed="rId2"/>
          <a:stretch/>
        </p:blipFill>
        <p:spPr>
          <a:xfrm>
            <a:off x="0" y="0"/>
            <a:ext cx="225576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a-winter-with-snowflakes-backgrounds-wallpapers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TextBox 1"/>
          <p:cNvSpPr/>
          <p:nvPr/>
        </p:nvSpPr>
        <p:spPr>
          <a:xfrm>
            <a:off x="2372400" y="-12600"/>
            <a:ext cx="28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 проекта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Прямоугольник 2"/>
          <p:cNvSpPr/>
          <p:nvPr/>
        </p:nvSpPr>
        <p:spPr>
          <a:xfrm>
            <a:off x="76320" y="249120"/>
            <a:ext cx="8915400" cy="31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 для детей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знакомить детей с зимними видами спорта, с атрибутами      этих видов спорта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7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пособствовать развитию у детей стремления к укреплению и сохранению своего собственного здоровья посредством занятий физической культурой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7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пособствовать выполнению правил безопасности жизнедеятельности, гигиены и правильного питания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7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Формировать умение преодолевать возникающие трудности и проблемы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7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5. Пробудить чувства товарищеского отношения детей друг к другу, взаимовыручки, умение заниматься в коллективе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Прямоугольник 3"/>
          <p:cNvSpPr/>
          <p:nvPr/>
        </p:nvSpPr>
        <p:spPr>
          <a:xfrm>
            <a:off x="17640" y="3305160"/>
            <a:ext cx="9296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 для родителей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Повышать активность родителей воспитанников в участии в различных формах партнерства с ДОУ по вопросам сохранения и укрепления здоровья детей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7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Информированность о зимней Олимпиаде и зимних видах спорта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7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ызвать интерес к занятиям физкультурой и спортом совместно с детьм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7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Прямоугольник 4"/>
          <p:cNvSpPr/>
          <p:nvPr/>
        </p:nvSpPr>
        <p:spPr>
          <a:xfrm>
            <a:off x="76320" y="5086440"/>
            <a:ext cx="89154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 для педагогов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оздать информационную базу: накопление знаний в области истории спорта, олимпийском движении, зимних видах спорта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Создать условия для благополучного и комфортного состояния детей на спортивных мероприятиях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Формировать осознанное отношение к своему собственному здоровью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a-winter-with-snowflakes-backgrounds-wallpape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1"/>
          <p:cNvSpPr/>
          <p:nvPr/>
        </p:nvSpPr>
        <p:spPr>
          <a:xfrm>
            <a:off x="3436560" y="152280"/>
            <a:ext cx="415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жидаемые  результаты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Прямоугольник 2"/>
          <p:cNvSpPr/>
          <p:nvPr/>
        </p:nvSpPr>
        <p:spPr>
          <a:xfrm>
            <a:off x="2209680" y="911160"/>
            <a:ext cx="693432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1463"/>
              </a:lnSpc>
              <a:spcBef>
                <a:spcPts val="224"/>
              </a:spcBef>
              <a:buClr>
                <a:srgbClr val="303f50"/>
              </a:buClr>
              <a:buSzPct val="41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303f50"/>
                </a:solidFill>
                <a:latin typeface="Times New Roman"/>
                <a:ea typeface="Times New Roman"/>
              </a:rPr>
              <a:t>повышение интереса детей к физическим упражнениям и спорту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ts val="1463"/>
              </a:lnSpc>
              <a:spcBef>
                <a:spcPts val="224"/>
              </a:spcBef>
              <a:buClr>
                <a:srgbClr val="303f50"/>
              </a:buClr>
              <a:buSzPct val="41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303f50"/>
                </a:solidFill>
                <a:latin typeface="Times New Roman"/>
                <a:ea typeface="Times New Roman"/>
              </a:rPr>
              <a:t>повышение интереса родителей к здоровому образу жизни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ts val="1463"/>
              </a:lnSpc>
              <a:spcBef>
                <a:spcPts val="224"/>
              </a:spcBef>
              <a:buClr>
                <a:srgbClr val="303f50"/>
              </a:buClr>
              <a:buSzPct val="41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303f50"/>
                </a:solidFill>
                <a:latin typeface="Times New Roman"/>
                <a:ea typeface="Times New Roman"/>
              </a:rPr>
              <a:t>создание единого образовательного пространства на основе доверительных отношений сотрудников ДОУ с родителями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ts val="1463"/>
              </a:lnSpc>
              <a:spcBef>
                <a:spcPts val="224"/>
              </a:spcBef>
              <a:buClr>
                <a:srgbClr val="303f50"/>
              </a:buClr>
              <a:buSzPct val="41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303f50"/>
                </a:solidFill>
                <a:latin typeface="Times New Roman"/>
                <a:ea typeface="Times New Roman"/>
              </a:rPr>
              <a:t>Снижение заболеваемости воспитанников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303f50"/>
                </a:solidFill>
                <a:latin typeface="Times New Roman"/>
                <a:ea typeface="Times New Roman"/>
              </a:rPr>
              <a:t>Ожидаемые результаты станут реальностью, если все участники проекта будут одинаково относиться к проблеме «человек – образ жизни – образование - здоровье»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303f50"/>
                </a:solidFill>
                <a:latin typeface="Times New Roman"/>
                <a:ea typeface="Times New Roman"/>
              </a:rPr>
              <a:t>Когда в данной группе произойдет осознание важности собственных усилий для сохранения здоровья, продвижение в этом направлении можно будет признать успешным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3" name="Рисунок 4" descr=""/>
          <p:cNvPicPr/>
          <p:nvPr/>
        </p:nvPicPr>
        <p:blipFill>
          <a:blip r:embed="rId2"/>
          <a:stretch/>
        </p:blipFill>
        <p:spPr>
          <a:xfrm>
            <a:off x="-73080" y="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a-winter-with-snowflakes-backgrounds-wallpape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1"/>
          <p:cNvSpPr/>
          <p:nvPr/>
        </p:nvSpPr>
        <p:spPr>
          <a:xfrm>
            <a:off x="2286000" y="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еграция всех образовательных областей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ознавательное физическое, речевое развитие» с использованием ИКТ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2590920" y="976320"/>
            <a:ext cx="56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дение бесед, ОД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7" name="Рисунок 5" descr=""/>
          <p:cNvPicPr/>
          <p:nvPr/>
        </p:nvPicPr>
        <p:blipFill>
          <a:blip r:embed="rId2"/>
          <a:stretch/>
        </p:blipFill>
        <p:spPr>
          <a:xfrm>
            <a:off x="52560" y="1376280"/>
            <a:ext cx="4572000" cy="297180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9" descr=""/>
          <p:cNvPicPr/>
          <p:nvPr/>
        </p:nvPicPr>
        <p:blipFill>
          <a:blip r:embed="rId3"/>
          <a:stretch/>
        </p:blipFill>
        <p:spPr>
          <a:xfrm>
            <a:off x="4676760" y="1376280"/>
            <a:ext cx="4414680" cy="297180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11" descr=""/>
          <p:cNvPicPr/>
          <p:nvPr/>
        </p:nvPicPr>
        <p:blipFill>
          <a:blip r:embed="rId4"/>
          <a:stretch/>
        </p:blipFill>
        <p:spPr>
          <a:xfrm>
            <a:off x="52560" y="4038480"/>
            <a:ext cx="4572000" cy="274320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2" descr=""/>
          <p:cNvPicPr/>
          <p:nvPr/>
        </p:nvPicPr>
        <p:blipFill>
          <a:blip r:embed="rId5"/>
          <a:stretch/>
        </p:blipFill>
        <p:spPr>
          <a:xfrm>
            <a:off x="4676760" y="4038480"/>
            <a:ext cx="4414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4" descr="a-winter-with-snowflakes-backgrounds-wallpape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TextBox 1"/>
          <p:cNvSpPr/>
          <p:nvPr/>
        </p:nvSpPr>
        <p:spPr>
          <a:xfrm>
            <a:off x="437400" y="76320"/>
            <a:ext cx="87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пользование мнемотаблиц, пиктограмм, работа в тетради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4" name="Рисунок 5" descr=""/>
          <p:cNvPicPr/>
          <p:nvPr/>
        </p:nvPicPr>
        <p:blipFill>
          <a:blip r:embed="rId2"/>
          <a:stretch/>
        </p:blipFill>
        <p:spPr>
          <a:xfrm>
            <a:off x="228600" y="490680"/>
            <a:ext cx="4495680" cy="319536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7" descr=""/>
          <p:cNvPicPr/>
          <p:nvPr/>
        </p:nvPicPr>
        <p:blipFill>
          <a:blip r:embed="rId3"/>
          <a:stretch/>
        </p:blipFill>
        <p:spPr>
          <a:xfrm>
            <a:off x="4811760" y="501480"/>
            <a:ext cx="4176720" cy="319572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9" descr=""/>
          <p:cNvPicPr/>
          <p:nvPr/>
        </p:nvPicPr>
        <p:blipFill>
          <a:blip r:embed="rId4"/>
          <a:stretch/>
        </p:blipFill>
        <p:spPr>
          <a:xfrm>
            <a:off x="214200" y="3728880"/>
            <a:ext cx="4510080" cy="294012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11" descr=""/>
          <p:cNvPicPr/>
          <p:nvPr/>
        </p:nvPicPr>
        <p:blipFill>
          <a:blip r:embed="rId5"/>
          <a:stretch/>
        </p:blipFill>
        <p:spPr>
          <a:xfrm>
            <a:off x="4821120" y="3757680"/>
            <a:ext cx="4176720" cy="29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a-winter-with-snowflakes-backgrounds-wallpape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TextBox 1"/>
          <p:cNvSpPr/>
          <p:nvPr/>
        </p:nvSpPr>
        <p:spPr>
          <a:xfrm>
            <a:off x="2541240" y="0"/>
            <a:ext cx="525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дактические игры, плакаты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0" name="Рисунок 3" descr=""/>
          <p:cNvPicPr/>
          <p:nvPr/>
        </p:nvPicPr>
        <p:blipFill>
          <a:blip r:embed="rId2"/>
          <a:stretch/>
        </p:blipFill>
        <p:spPr>
          <a:xfrm>
            <a:off x="0" y="3681360"/>
            <a:ext cx="4915080" cy="316224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5" descr=""/>
          <p:cNvPicPr/>
          <p:nvPr/>
        </p:nvPicPr>
        <p:blipFill>
          <a:blip r:embed="rId3"/>
          <a:stretch/>
        </p:blipFill>
        <p:spPr>
          <a:xfrm>
            <a:off x="0" y="495360"/>
            <a:ext cx="4800600" cy="318600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7" descr=""/>
          <p:cNvPicPr/>
          <p:nvPr/>
        </p:nvPicPr>
        <p:blipFill>
          <a:blip r:embed="rId4"/>
          <a:stretch/>
        </p:blipFill>
        <p:spPr>
          <a:xfrm>
            <a:off x="4572000" y="495360"/>
            <a:ext cx="4572000" cy="316224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9" descr=""/>
          <p:cNvPicPr/>
          <p:nvPr/>
        </p:nvPicPr>
        <p:blipFill>
          <a:blip r:embed="rId5"/>
          <a:stretch/>
        </p:blipFill>
        <p:spPr>
          <a:xfrm>
            <a:off x="4495680" y="3657600"/>
            <a:ext cx="4648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66800" y="-103320"/>
            <a:ext cx="8175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УДОЖЕСТВЕННАЯ И СВОБОДНАЯ ДЕЯТЕЛЬНОСТЬ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46" name="Объект 7" descr=""/>
          <p:cNvPicPr/>
          <p:nvPr/>
        </p:nvPicPr>
        <p:blipFill>
          <a:blip r:embed="rId1"/>
          <a:stretch/>
        </p:blipFill>
        <p:spPr>
          <a:xfrm>
            <a:off x="206280" y="649440"/>
            <a:ext cx="4648320" cy="29588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54240" y="566280"/>
            <a:ext cx="3763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8" name="Объект 9" descr=""/>
          <p:cNvPicPr/>
          <p:nvPr/>
        </p:nvPicPr>
        <p:blipFill>
          <a:blip r:embed="rId2"/>
          <a:stretch/>
        </p:blipFill>
        <p:spPr>
          <a:xfrm>
            <a:off x="4854600" y="630360"/>
            <a:ext cx="4289400" cy="295092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11" descr=""/>
          <p:cNvPicPr/>
          <p:nvPr/>
        </p:nvPicPr>
        <p:blipFill>
          <a:blip r:embed="rId3"/>
          <a:stretch/>
        </p:blipFill>
        <p:spPr>
          <a:xfrm>
            <a:off x="163440" y="3747960"/>
            <a:ext cx="4648320" cy="295776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13" descr=""/>
          <p:cNvPicPr/>
          <p:nvPr/>
        </p:nvPicPr>
        <p:blipFill>
          <a:blip r:embed="rId4"/>
          <a:stretch/>
        </p:blipFill>
        <p:spPr>
          <a:xfrm>
            <a:off x="4811760" y="3716280"/>
            <a:ext cx="433224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0T09:53:50Z</dcterms:created>
  <dc:creator>Александр</dc:creator>
  <dc:description/>
  <dc:language>en-US</dc:language>
  <cp:lastModifiedBy>детский сад</cp:lastModifiedBy>
  <dcterms:modified xsi:type="dcterms:W3CDTF">2020-04-06T19:34:01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02c0000000000010290110207f7000400038000</vt:lpwstr>
  </property>
  <property fmtid="{D5CDD505-2E9C-101B-9397-08002B2CF9AE}" pid="3" name="Version">
    <vt:r8>1</vt:r8>
  </property>
</Properties>
</file>