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B783-99F9-4393-8C21-E6F68610D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E55F-FA79-4D09-AA4D-5E3615A00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6204-5D4C-4205-A66E-BFC293599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2605-D538-4307-9739-E0873E8DA2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F33-6595-4917-96C8-FFC7883E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286-E040-4305-8DED-E0211D0C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5E1-C248-4D1D-B098-B8C41D40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B84-8F3F-475A-AB1F-18745F0B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707-9601-40A4-B497-EF14330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E59-EDD5-4395-8FA7-2F7B5224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1DC-348F-4FEA-9826-87432BE1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6D4-6AD2-4371-ADD1-9D6E0CF4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DC9-1419-4DEB-B605-6CB4549C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39D-0F33-4AA5-8C70-F6054268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932-94D3-452F-8C18-6894F83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62F-C60C-4EFD-A916-E7EADA7C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F3AB-025E-4B0B-A0F2-74D1D6F74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Кейс – технологии в Д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45716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1\Desktop\sm.png"/>
          <p:cNvPicPr/>
          <p:nvPr/>
        </p:nvPicPr>
        <p:blipFill>
          <a:blip r:embed="rId1"/>
          <a:stretch/>
        </p:blipFill>
        <p:spPr>
          <a:xfrm>
            <a:off x="1295280" y="3505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762120" y="838080"/>
            <a:ext cx="7238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ще всего в работе с детьми  применяют технологию «Фото-кейс». Технология «Фото-кейс» актуальна, потому что даёт возможность сформировать стратегию принятия решения, с помощью которой ребёнок в будущем сможет преодолеть самостоятельно возникшие разной сложности жизненные ситуации. Сущностью предоставленной технологии является анализ проблем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685800" y="380880"/>
            <a:ext cx="739152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спользовать предложенные кейсы возможно в следующих форм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1) Как составную часть НОД познавательного или речевого цик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2) Как форму работы, реализуемую в рамках совместной деятельности, образовательной деятельности в режимных моментах. В таком случае использование кейсов может быть рассмотрено как культурная практика, как способ включения детей в творческий процесс по познанию культурной реальности. В этом случае знакомство с кейсами организуется во второй половине дня, планируется в подходящее врем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3) Как часть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914400" y="996840"/>
            <a:ext cx="723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1 этап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–это этап предъ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</a:rPr>
              <a:t>стимульного материала кейс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Воспитатель зачитывает текст, предъя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артинку и дает вводный рассказ, привлекает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 драматизации и т.д. в зависимости от типа кейса. Самое главное – это погружение ребенка в проблемное поле. И вопрос, который ставит педагог перед детьми, всегда направлен на вычленение проблемы. Используются такие вопросы, как «Что не правильно делает ребенок?», «Что случилось с ребенком?» Педагог задает детям и контент ситуации – сообщает некоторые важные детали о месте или времени, возрасте или занятии человека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1\Desktop\493e2b69fd7ffb549008b60f8111f411_i-1637.jpg"/>
          <p:cNvPicPr/>
          <p:nvPr/>
        </p:nvPicPr>
        <p:blipFill>
          <a:blip r:embed="rId1"/>
          <a:stretch/>
        </p:blipFill>
        <p:spPr>
          <a:xfrm>
            <a:off x="7086600" y="457200"/>
            <a:ext cx="15732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685800" y="685800"/>
            <a:ext cx="61722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2 этап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–– это этап выявления причи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следственных связей, условий, влияний, неадекватности и т.п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Используются та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опросы, как «Почему это могло случиться?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«Почему так произошло?» Педагог поощряет многообразие версий, ориентирует детей на установление ответственных, на «перебор» прич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762120" y="3276720"/>
            <a:ext cx="60958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3 этап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–это этап поиска верных и безопасных вариантов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оспитатель задаёт вопросы типа «Как прави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оступить в этой ситуации?», уточняет, сам 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ребенок решает проблему или прибегает к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зрослого человека. Здесь же педагог уточняет, что нужно изменить в окружающей среде, чтобы она стала безопасной и приятной для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1\Desktop\unnamed.jpg"/>
          <p:cNvPicPr/>
          <p:nvPr/>
        </p:nvPicPr>
        <p:blipFill>
          <a:blip r:embed="rId1"/>
          <a:stretch/>
        </p:blipFill>
        <p:spPr>
          <a:xfrm>
            <a:off x="6934320" y="762120"/>
            <a:ext cx="1257120" cy="12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1\Desktop\b2ap3_large_20191117-201327.jpg"/>
          <p:cNvPicPr/>
          <p:nvPr/>
        </p:nvPicPr>
        <p:blipFill>
          <a:blip r:embed="rId2"/>
          <a:stretch/>
        </p:blipFill>
        <p:spPr>
          <a:xfrm>
            <a:off x="6934320" y="3124080"/>
            <a:ext cx="15238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609480" y="685800"/>
            <a:ext cx="6248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4 этап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</a:rPr>
              <a:t>–этап вербализации, эта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</a:rPr>
              <a:t>коллективного творческого решения, формирования правила на осно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</a:rPr>
              <a:t>пережитого обсуждения, опы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едагог предлагает детям-участникам сформулировать правило безопасного поведения, которым бы могли воспользоваться и другие де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и даже малыши. На этом же этапе происходит оценка работы детей по кейсу со стороны воспитателя и возможно самооценка работы по проблемной практической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1\Desktop\1_53d9d001df96353d9d001df9a1.jpg"/>
          <p:cNvPicPr/>
          <p:nvPr/>
        </p:nvPicPr>
        <p:blipFill>
          <a:blip r:embed="rId1"/>
          <a:stretch/>
        </p:blipFill>
        <p:spPr>
          <a:xfrm>
            <a:off x="6629400" y="685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C:\Users\1\Desktop\sbil-pesh-1024x768.jpg"/>
          <p:cNvPicPr/>
          <p:nvPr/>
        </p:nvPicPr>
        <p:blipFill>
          <a:blip r:embed="rId1"/>
          <a:stretch/>
        </p:blipFill>
        <p:spPr>
          <a:xfrm>
            <a:off x="457200" y="685800"/>
            <a:ext cx="5334120" cy="441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Users\1\Desktop\493e2b69fd7ffb549008b60f8111f411_i-1637.jpg"/>
          <p:cNvPicPr/>
          <p:nvPr/>
        </p:nvPicPr>
        <p:blipFill>
          <a:blip r:embed="rId2"/>
          <a:stretch/>
        </p:blipFill>
        <p:spPr>
          <a:xfrm>
            <a:off x="6858000" y="60948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Users\1\Desktop\unnamed.jpg"/>
          <p:cNvPicPr/>
          <p:nvPr/>
        </p:nvPicPr>
        <p:blipFill>
          <a:blip r:embed="rId3"/>
          <a:stretch/>
        </p:blipFill>
        <p:spPr>
          <a:xfrm>
            <a:off x="7010280" y="1905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Users\1\Desktop\b2ap3_large_20191117-201327.jpg"/>
          <p:cNvPicPr/>
          <p:nvPr/>
        </p:nvPicPr>
        <p:blipFill>
          <a:blip r:embed="rId4"/>
          <a:stretch/>
        </p:blipFill>
        <p:spPr>
          <a:xfrm>
            <a:off x="6858000" y="3048120"/>
            <a:ext cx="1295280" cy="15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:\Users\1\Desktop\1_53d9d001df96353d9d001df9a1.jpg"/>
          <p:cNvPicPr/>
          <p:nvPr/>
        </p:nvPicPr>
        <p:blipFill>
          <a:blip r:embed="rId5"/>
          <a:stretch/>
        </p:blipFill>
        <p:spPr>
          <a:xfrm>
            <a:off x="6934320" y="4724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1\Desktop\самоанализ\Кейс - инцидент проект\tTwwgi0j3ww.jpg"/>
          <p:cNvPicPr/>
          <p:nvPr/>
        </p:nvPicPr>
        <p:blipFill>
          <a:blip r:embed="rId1"/>
          <a:stretch/>
        </p:blipFill>
        <p:spPr>
          <a:xfrm>
            <a:off x="5029200" y="990720"/>
            <a:ext cx="2895480" cy="386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1\Desktop\674434.jpg"/>
          <p:cNvPicPr/>
          <p:nvPr/>
        </p:nvPicPr>
        <p:blipFill>
          <a:blip r:embed="rId2"/>
          <a:stretch/>
        </p:blipFill>
        <p:spPr>
          <a:xfrm>
            <a:off x="425520" y="762120"/>
            <a:ext cx="3487680" cy="2590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1\Desktop\ма-ыш-играя-с-э-ектрическим-утюгом-37661715.jpg"/>
          <p:cNvPicPr/>
          <p:nvPr/>
        </p:nvPicPr>
        <p:blipFill>
          <a:blip r:embed="rId3"/>
          <a:stretch/>
        </p:blipFill>
        <p:spPr>
          <a:xfrm>
            <a:off x="1295280" y="3657600"/>
            <a:ext cx="33530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1\Desktop\самоанализ\Кейс - вариации и догадки\серия опорных картинок\огонь.jpg"/>
          <p:cNvPicPr/>
          <p:nvPr/>
        </p:nvPicPr>
        <p:blipFill>
          <a:blip r:embed="rId1"/>
          <a:stretch/>
        </p:blipFill>
        <p:spPr>
          <a:xfrm>
            <a:off x="3352680" y="5335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1\Desktop\самоанализ\Кейс - вариации и догадки\серия опорных картинок\рубашка.jpg"/>
          <p:cNvPicPr/>
          <p:nvPr/>
        </p:nvPicPr>
        <p:blipFill>
          <a:blip r:embed="rId2"/>
          <a:stretch/>
        </p:blipFill>
        <p:spPr>
          <a:xfrm>
            <a:off x="6248520" y="609480"/>
            <a:ext cx="1981080" cy="264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1\Desktop\самоанализ\Кейс - вариации и догадки\серия опорных картинок\утюг.jpg"/>
          <p:cNvPicPr/>
          <p:nvPr/>
        </p:nvPicPr>
        <p:blipFill>
          <a:blip r:embed="rId3"/>
          <a:stretch/>
        </p:blipFill>
        <p:spPr>
          <a:xfrm>
            <a:off x="609480" y="685800"/>
            <a:ext cx="2390760" cy="187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1\Desktop\82ca45c9d5066f8ef72c26cbb5cad0f2.jpg"/>
          <p:cNvPicPr/>
          <p:nvPr/>
        </p:nvPicPr>
        <p:blipFill>
          <a:blip r:embed="rId4"/>
          <a:stretch/>
        </p:blipFill>
        <p:spPr>
          <a:xfrm>
            <a:off x="609480" y="380988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1\Desktop\ne-sleduet-tugo-zabintovivat-nogot-pri-ushibe.jpg"/>
          <p:cNvPicPr/>
          <p:nvPr/>
        </p:nvPicPr>
        <p:blipFill>
          <a:blip r:embed="rId5"/>
          <a:stretch/>
        </p:blipFill>
        <p:spPr>
          <a:xfrm>
            <a:off x="3352680" y="3962520"/>
            <a:ext cx="2676600" cy="200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1\Desktop\adbc82ae432e0bacd8da4e16a1fc804c.jpg"/>
          <p:cNvPicPr/>
          <p:nvPr/>
        </p:nvPicPr>
        <p:blipFill>
          <a:blip r:embed="rId6"/>
          <a:stretch/>
        </p:blipFill>
        <p:spPr>
          <a:xfrm>
            <a:off x="6400800" y="3962520"/>
            <a:ext cx="23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ВО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Segoe UI"/>
              </a:rPr>
              <a:t>Практически любой воспитатель, который захочет внедрять кейс-технологии, сможет это сделать вполне профессионально, изучив специальную литературу, пройдя тренинг и имея на руках учебные ситуации. Однако выбор в пользу применения интерактивных технологий обучения не должен стать самоцелью: ведь каждая из названных технологий ситуационного анализа должна быть внедрена с учётом учебных целей и задач, особенностей учебной группы, их интересов и потребностей, уровня компетентности, регламента и многих других факторов, определяющих возможности внедрения кейс-технологий, их подготовки и провед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Комп\Desktop\Безымянный.png"/>
          <p:cNvPicPr/>
          <p:nvPr/>
        </p:nvPicPr>
        <p:blipFill>
          <a:blip r:embed="rId1"/>
          <a:stretch/>
        </p:blipFill>
        <p:spPr>
          <a:xfrm>
            <a:off x="1143000" y="714240"/>
            <a:ext cx="57150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sus </a:t>
            </a:r>
            <a:r>
              <a:rPr b="1" i="1" lang="ru-RU" sz="3200" spc="-1" strike="noStrike">
                <a:solidFill>
                  <a:srgbClr val="504652"/>
                </a:solidFill>
                <a:latin typeface="Times New Roman"/>
                <a:ea typeface="Times New Roman"/>
              </a:rPr>
              <a:t>(лат.)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 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утанный необычный случа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se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504652"/>
                </a:solidFill>
                <a:latin typeface="Times New Roman"/>
                <a:ea typeface="Times New Roman"/>
              </a:rPr>
              <a:t>(анг.)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портфель, чемодан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Users\1\Desktop\6ec9fcbbff25081eaef7637e534cbf9f.jpg"/>
          <p:cNvPicPr/>
          <p:nvPr/>
        </p:nvPicPr>
        <p:blipFill>
          <a:blip r:embed="rId1"/>
          <a:stretch/>
        </p:blipFill>
        <p:spPr>
          <a:xfrm>
            <a:off x="5791320" y="4038480"/>
            <a:ext cx="1620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33520" y="762120"/>
            <a:ext cx="7619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 заключ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сякий из нас, кто предполагает, что может руководить другими, должен постоянно и напряженно 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 В. Луначарс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1\Desktop\gettyimages-179137946-612x612.jpg"/>
          <p:cNvPicPr/>
          <p:nvPr/>
        </p:nvPicPr>
        <p:blipFill>
          <a:blip r:embed="rId1"/>
          <a:stretch/>
        </p:blipFill>
        <p:spPr>
          <a:xfrm>
            <a:off x="990720" y="3962520"/>
            <a:ext cx="312408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1\Desktop\s1200.jpg"/>
          <p:cNvPicPr/>
          <p:nvPr/>
        </p:nvPicPr>
        <p:blipFill>
          <a:blip r:embed="rId1"/>
          <a:stretch/>
        </p:blipFill>
        <p:spPr>
          <a:xfrm>
            <a:off x="457200" y="446040"/>
            <a:ext cx="8153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ческая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прав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ервые работа с кейсами в рамках учебного процесса была  реализована в Гарвардской школе  бизнеса в 1908 г.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В России данная технология                               стала внедряться лишь последние                                           3-4 год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1\Desktop\s1200.jpg"/>
          <p:cNvPicPr/>
          <p:nvPr/>
        </p:nvPicPr>
        <p:blipFill>
          <a:blip r:embed="rId1"/>
          <a:stretch/>
        </p:blipFill>
        <p:spPr>
          <a:xfrm>
            <a:off x="4648320" y="4419720"/>
            <a:ext cx="30528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838080" y="609480"/>
            <a:ext cx="7086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Цель технологии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- помочь каждому учащемуся определить собственный уникальный путь освоения знания, которое ему более всего необходимо. Таким образом, наблюдается выход в самообразование обучающегося, что соответствует требованиям к образованию обучающихся любого возраста сего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ть метода case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ается в использовании в обучении конкретных учебных ситуаций, ориентирующих обучающихся на формулирование проблемы и поиск вариантов ее решения с последующим разб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чебных зан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1\Desktop\fine-print-e1468364313226.jpg"/>
          <p:cNvPicPr/>
          <p:nvPr/>
        </p:nvPicPr>
        <p:blipFill>
          <a:blip r:embed="rId1"/>
          <a:stretch/>
        </p:blipFill>
        <p:spPr>
          <a:xfrm>
            <a:off x="5791320" y="4800600"/>
            <a:ext cx="24033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905120" y="685800"/>
            <a:ext cx="40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ля чего нужен кей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457200" y="1219320"/>
            <a:ext cx="5867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Кейс-метод достаточно близко подходит к        проблемному обучению – и тот и другой  подход ориентированы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на активизацию обучающихся.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о в кейс-методе проблема ставится перед детьми на основе ситуаций из реальной жизни. Причем кейс не предлагает проблему в чистом и устном виде: детям предлагается самостоятельно вычленить её из той ситуации, которую они пронаблюдали, которую увидели на фото или в драмат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инцип  кейс-метода: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«От типи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ситуаций, примеров – к прави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1\Desktop\three-kids-cleaning-in-the-house-vector-18013429.jpg"/>
          <p:cNvPicPr/>
          <p:nvPr/>
        </p:nvPicPr>
        <p:blipFill>
          <a:blip r:embed="rId1"/>
          <a:stretch/>
        </p:blipFill>
        <p:spPr>
          <a:xfrm>
            <a:off x="5867280" y="4267080"/>
            <a:ext cx="2862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33520" y="533520"/>
            <a:ext cx="7924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Правила работы с кейс-технолог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✓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Кейс-технологии – это интерактивные технологии, это – форма в которой мы организуем активное обсуждение и познание жизненных ситу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✓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едагог активен в разработке заданий проблемного типа, ориентированных на практическую ситуацию. После инициативу и главенство нужно не бояться от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✓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Главные действующие лица в кейс-обучении – дети, коллектив детей. Педагог находится с ними в равной пози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едагог организует детей на ориентацию в проблемном поле. В этом ему помогают правильно поставленные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✓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Акцент в образовательной деятельности нужно перенести не на овладение готовым знанием, а на его выработку, на сотворчество детей и педаг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✓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ри работе с кейсом следует выдерживать технологические этапы. Этапы лучше наглядно обозначить симво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✓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Наглядность – это ведущий дидактический принцип и при работе с кейс-технолог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762120" y="533520"/>
            <a:ext cx="739116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роцессе обсуждения кейса педагог обычно старается воздержаться от ответов на вопросы. Вместо этого он задает вопросы, дает слово детям, чтобы они сами отвечали на 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1\Desktop\gk-quiz-islands-deserts.gif"/>
          <p:cNvPicPr/>
          <p:nvPr/>
        </p:nvPicPr>
        <p:blipFill>
          <a:blip r:embed="rId1"/>
          <a:stretch/>
        </p:blipFill>
        <p:spPr>
          <a:xfrm>
            <a:off x="1523880" y="3657600"/>
            <a:ext cx="5994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Традиционная классификация кейсов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одержание кей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Цель создания кейса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сновная обучающая, образовательная задача кей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актический кей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Жизненные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знание, понимание жиз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ренинг пове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бучающий кей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чебные (условные) ситу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нимание типичных характеристик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нализ, осмысли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Научно-исследовательский кей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сследовательские ситу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оздание моделей ситуаций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сследование, проектир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практических кейс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039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0-04-13T12:38:33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