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891-FAEF-4869-B2B0-1EC5F550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022-1F9D-4E3E-8307-13EE8B2B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613-94B3-46A2-B16F-958E2D23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559-9C58-4F14-B55F-A4C9BCEC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26DA-4D65-45A0-82FA-E40C99C7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6ABF-DBB4-441C-BD37-4B81E6BE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EF1E-8276-4327-8575-721E41C1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DFC2-DC41-4CC0-BB58-615CDD10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1FA6-C535-43B0-B8EB-D55F3E00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4BF4-8FA7-426B-BFE9-55655919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E7C9-13DE-4A09-94E9-B639EC5D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F7F-0605-4D0B-840B-3C519916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15B8-25A1-40D7-9947-437A01ED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DEC7-299A-48DF-937E-8C8C820A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790F-B87A-48C9-A5DF-4E299D4D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F95C-F3AF-44BF-9CA4-7182012B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6D99-DF27-473C-BF3D-F0F6FCA8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EA8-BC6E-489E-9124-A4A50512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016-5DBB-4FCA-8BC4-AD2362E9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A61-BB7D-4329-BFB4-1F097AA3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A81-D654-4FCA-A8BE-B0F78A0F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B17-D6CB-4C10-909A-A796FB26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933-E89C-4B84-93D4-18DF6DC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22A-F98E-41A2-A9AF-B55D234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AECC-8B34-4130-AF53-D93B20D829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F43E-C947-494F-B1F1-3C7E5D51F2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1030320" y="695160"/>
            <a:ext cx="7095960" cy="279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684360" y="213372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а-ча-ча - горит в комнате све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у-чу-чу - молоточком я сту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ч-оч-оч - наступает ноч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01800" indent="-1801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и-чи-чи - привезли нам кирпи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Samsung\Desktop\картинки\Свеча_11.jpg"/>
          <p:cNvPicPr/>
          <p:nvPr/>
        </p:nvPicPr>
        <p:blipFill>
          <a:blip r:embed="rId1"/>
          <a:stretch/>
        </p:blipFill>
        <p:spPr>
          <a:xfrm>
            <a:off x="7234200" y="4437000"/>
            <a:ext cx="1424160" cy="2421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138320" y="40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очитай чистоговор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900000" y="333360"/>
            <a:ext cx="76327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Ирина Петровна Токмак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(1929-2018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Users\Samsung\Desktop\картинки\токмакова.png"/>
          <p:cNvPicPr/>
          <p:nvPr/>
        </p:nvPicPr>
        <p:blipFill>
          <a:blip r:embed="rId1"/>
          <a:stretch/>
        </p:blipFill>
        <p:spPr>
          <a:xfrm>
            <a:off x="755640" y="1650960"/>
            <a:ext cx="3054240" cy="48736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9" name="TextBox 2"/>
          <p:cNvSpPr/>
          <p:nvPr/>
        </p:nvSpPr>
        <p:spPr>
          <a:xfrm>
            <a:off x="4067280" y="1773360"/>
            <a:ext cx="489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Токмакова – писательница, повести которой очень нравятся ее благодарным читателям, поэтесса, драматург, переводчик. Все ее творчество посвящено детям и предназначено для детской аудитории. Ее книги могут не только спасти от скуки, но и научить считать, писать и грамотно выражать свои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375280" y="209520"/>
            <a:ext cx="439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Леонид Львович  Ях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bard.ru/bio-foto/yahnin_l.jpg"/>
          <p:cNvPicPr/>
          <p:nvPr/>
        </p:nvPicPr>
        <p:blipFill>
          <a:blip r:embed="rId1"/>
          <a:stretch/>
        </p:blipFill>
        <p:spPr>
          <a:xfrm>
            <a:off x="468360" y="1125360"/>
            <a:ext cx="4270320" cy="42530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2" name="Picture 4" descr="http://www.ukazka.ru/img/g/uk192281.jpg"/>
          <p:cNvPicPr/>
          <p:nvPr/>
        </p:nvPicPr>
        <p:blipFill>
          <a:blip r:embed="rId2"/>
          <a:stretch/>
        </p:blipFill>
        <p:spPr>
          <a:xfrm>
            <a:off x="7020000" y="4546440"/>
            <a:ext cx="1508040" cy="226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rayknig.ru/cover/az/azbuka-vejlivyh-slov-80-50.jpg"/>
          <p:cNvPicPr/>
          <p:nvPr/>
        </p:nvPicPr>
        <p:blipFill>
          <a:blip r:embed="rId3"/>
          <a:stretch/>
        </p:blipFill>
        <p:spPr>
          <a:xfrm>
            <a:off x="4932360" y="4592520"/>
            <a:ext cx="1655640" cy="21718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5003640" y="1268280"/>
            <a:ext cx="388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ид Львович Яхнин — русский поэт, писатель, драматург и перевод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468360" y="2637000"/>
            <a:ext cx="8675640" cy="32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слушайтесь к ритму повторяющихся слов, и вы почувствуете, как звонко и весело звучит руч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 звучал руч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лова помогают почувствовать, как журчит ручей? Прочт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тате подчёркнутые слова. Как эти слова помогают представить весёлый руч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049"/>
              </a:lnSpc>
              <a:buClr>
                <a:srgbClr val="000000"/>
              </a:buClr>
              <a:buSzPct val="39000"/>
              <a:buFont typeface="Symbol" charset="2"/>
              <a:buChar char=""/>
              <a:tabLst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690480" y="204840"/>
            <a:ext cx="8425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И. Токманова «Руч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оем уч. с. 6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442800" y="1268280"/>
            <a:ext cx="751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автор следующего стихотворения загад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стихо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огада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стихотворение вырази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img-fotki.yandex.ru/get/9810/238977675.2a/0_ebe71_161bfcdb_orig.jpg"/>
          <p:cNvPicPr/>
          <p:nvPr/>
        </p:nvPicPr>
        <p:blipFill>
          <a:blip r:embed="rId1"/>
          <a:stretch/>
        </p:blipFill>
        <p:spPr>
          <a:xfrm>
            <a:off x="3995640" y="4005360"/>
            <a:ext cx="4761000" cy="26766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0" name="TextBox 2"/>
          <p:cNvSpPr/>
          <p:nvPr/>
        </p:nvSpPr>
        <p:spPr>
          <a:xfrm>
            <a:off x="1042920" y="17604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Л. Ульяницкая «Фонар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490320" y="189000"/>
            <a:ext cx="817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Европе одуванчик  считается сорняком, а в Кита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вощем. Совсем молоденькие листья одуванч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дут на приготовление са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www.mypriroda.ru/im/detskoe_tvorchestvo_works/big_oduvanchik-i-lutik-7.jpg"/>
          <p:cNvPicPr/>
          <p:nvPr/>
        </p:nvPicPr>
        <p:blipFill>
          <a:blip r:embed="rId1"/>
          <a:stretch/>
        </p:blipFill>
        <p:spPr>
          <a:xfrm>
            <a:off x="1258920" y="1557360"/>
            <a:ext cx="6491160" cy="474516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704520" y="1052640"/>
            <a:ext cx="625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 стихотворение-зага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отга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огада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 стихотворение вырази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pictar.ru/data/media/56/flowers949.jpg"/>
          <p:cNvPicPr/>
          <p:nvPr/>
        </p:nvPicPr>
        <p:blipFill>
          <a:blip r:embed="rId1"/>
          <a:stretch/>
        </p:blipFill>
        <p:spPr>
          <a:xfrm>
            <a:off x="1476360" y="3068640"/>
            <a:ext cx="5792760" cy="362124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5" name="TextBox 2"/>
          <p:cNvSpPr/>
          <p:nvPr/>
        </p:nvSpPr>
        <p:spPr>
          <a:xfrm>
            <a:off x="900000" y="189000"/>
            <a:ext cx="77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Л. Яхни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11280" y="26028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ное домашнее зада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. с. 69 придумать загадку, написать 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9:15:11Z</dcterms:created>
  <dc:creator>Samsung</dc:creator>
  <dc:description/>
  <dc:language>en-US</dc:language>
  <cp:lastModifiedBy>Мария Шувалова</cp:lastModifiedBy>
  <dcterms:modified xsi:type="dcterms:W3CDTF">2020-04-13T11:42:26Z</dcterms:modified>
  <cp:revision>10</cp:revision>
  <dc:subject/>
  <dc:title>Слайд 1</dc:title>
</cp:coreProperties>
</file>