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718C-876B-4046-BEAA-D45481BFE4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E56A-2ACD-43DB-BEF1-BACF3AE4E24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94AE-FF8E-46B7-8C24-9F6DDDA9A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4FB1-8AD1-46E2-90DA-257A8ACB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7B8A-77E1-4379-BB69-2C7EC501B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3BD2-8933-4D98-B6AC-7ACB9B22F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0FB6-FB81-4E41-BF11-C74C0BBE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79FE-89D5-44C3-BAA9-F504D9D1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596D-7E97-476C-87FB-90A8FDB6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D835-F673-4F33-AA9A-6A61D4C1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85FA-2187-4181-9E35-626DC232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0BFE-9154-4D42-BD08-A00A9DAA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738B-CE7B-4934-8B69-AD430906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EE4C-A7F7-4B6C-908E-6A7927BC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F132-A5FE-4ECA-94AD-59ACC011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83EB-C428-47AF-8FEB-B340D246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65DE-4C82-4031-82D2-0F259207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3A4A-348C-4D5F-8137-D62889CD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C1AF-87B4-4520-A17B-689DFF84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670F-5AAB-41AE-8948-6D73A139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3474-6B84-4F74-AE10-E2A92806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3769-15B8-4919-8FC3-54B0A5BE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1582-64D1-42FB-A25E-D1656FB1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6FD2-4865-42A4-8AC9-D22B66FC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DE63-DC53-4948-A66D-D1971591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6BF9-1D28-4745-BA2C-786D52DB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7AD5-8583-4088-BB1D-F403890C44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17EF-8A99-41DD-9A57-2B73967A2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nformatika.mksat.net/wp-content/uploads/2012/01/virt.jpg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одзаголовок 2"/>
          <p:cNvSpPr/>
          <p:nvPr/>
        </p:nvSpPr>
        <p:spPr>
          <a:xfrm>
            <a:off x="1476360" y="191628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ЧАЛА ПРОГРАММ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одзаголовок 2"/>
          <p:cNvSpPr/>
          <p:nvPr/>
        </p:nvSpPr>
        <p:spPr>
          <a:xfrm>
            <a:off x="1476360" y="348624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Заголовок 2"/>
          <p:cNvSpPr/>
          <p:nvPr/>
        </p:nvSpPr>
        <p:spPr>
          <a:xfrm>
            <a:off x="611280" y="189000"/>
            <a:ext cx="80755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стые типы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39640" y="1125360"/>
          <a:ext cx="8425080" cy="4510440"/>
        </p:xfrm>
        <a:graphic>
          <a:graphicData uri="http://schemas.openxmlformats.org/drawingml/2006/table">
            <a:tbl>
              <a:tblPr/>
              <a:tblGrid>
                <a:gridCol w="2160720"/>
                <a:gridCol w="2087640"/>
                <a:gridCol w="2808360"/>
                <a:gridCol w="1368360"/>
              </a:tblGrid>
              <a:tr h="73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значени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стимые значен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асть памят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очисл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ntege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32 768… 32 7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байта со знак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real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(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*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9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1.7*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бай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cha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льный символ алфав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ков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str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овательность символов длиной меньше 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айт на 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boolea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Rectangle 6"/>
          <p:cNvSpPr/>
          <p:nvPr/>
        </p:nvSpPr>
        <p:spPr>
          <a:xfrm>
            <a:off x="2124000" y="6086520"/>
            <a:ext cx="4824360" cy="387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ипы велич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ject 41" descr=""/>
          <p:cNvPicPr/>
          <p:nvPr/>
        </p:nvPicPr>
        <p:blipFill>
          <a:blip r:embed="rId2"/>
          <a:stretch/>
        </p:blipFill>
        <p:spPr>
          <a:xfrm>
            <a:off x="5940360" y="6086520"/>
            <a:ext cx="914400" cy="771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Заголовок 2"/>
          <p:cNvSpPr/>
          <p:nvPr/>
        </p:nvSpPr>
        <p:spPr>
          <a:xfrm>
            <a:off x="468360" y="18900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Общий вид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111320" y="1357200"/>
            <a:ext cx="7389720" cy="4359960"/>
          </a:xfrm>
          <a:prstGeom prst="rect">
            <a:avLst/>
          </a:prstGeom>
          <a:solidFill>
            <a:srgbClr val="c1f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FangSong"/>
              </a:rPr>
              <a:t>program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я программы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&gt;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800" spc="-1" strike="noStrike">
                <a:solidFill>
                  <a:srgbClr val="cc0000"/>
                </a:solidFill>
                <a:latin typeface="FangSong"/>
              </a:rPr>
              <a:t>const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&lt;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список постоянных значений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&gt;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800" spc="-1" strike="noStrike">
                <a:solidFill>
                  <a:srgbClr val="cc0000"/>
                </a:solidFill>
                <a:latin typeface="FangSong"/>
              </a:rPr>
              <a:t>var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&lt;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описание используемых переменных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&gt;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FangSong"/>
              </a:rPr>
              <a:t>begin</a:t>
            </a:r>
            <a:r>
              <a:rPr b="1" lang="ru-RU" sz="28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начало программного блока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оператор 1&gt;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оператор 2&gt;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оператор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FangSong"/>
              </a:rPr>
              <a:t>end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539640" y="558972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ператор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- языковые конструкции для записи действия, выполняемого над данными в процессе решения задач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10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Заголовок 2"/>
          <p:cNvSpPr/>
          <p:nvPr/>
        </p:nvSpPr>
        <p:spPr>
          <a:xfrm>
            <a:off x="611280" y="189000"/>
            <a:ext cx="8075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Оператор присваи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468360" y="981000"/>
            <a:ext cx="8424720" cy="14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сновное преобразование данных, выполняемое компьютером, - присваивание переменной нового значения, что означает изменение содержимого области памя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бщий вид операто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755640" y="4149720"/>
            <a:ext cx="7632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оманда присва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8"/>
          <p:cNvGraphicFramePr/>
          <p:nvPr/>
        </p:nvGraphicFramePr>
        <p:xfrm>
          <a:off x="7451640" y="4149720"/>
          <a:ext cx="91440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1640" y="414972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Text Box 7"/>
          <p:cNvSpPr/>
          <p:nvPr/>
        </p:nvSpPr>
        <p:spPr>
          <a:xfrm>
            <a:off x="395280" y="2708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FangSong"/>
              </a:rPr>
              <a:t>&lt;имя переменной&gt;:=&lt;выражение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15"/>
          <p:cNvSpPr/>
          <p:nvPr/>
        </p:nvSpPr>
        <p:spPr>
          <a:xfrm>
            <a:off x="3308400" y="4149720"/>
            <a:ext cx="4680000" cy="115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перативная памя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Заголовок 2"/>
          <p:cNvSpPr/>
          <p:nvPr/>
        </p:nvSpPr>
        <p:spPr>
          <a:xfrm>
            <a:off x="214200" y="189000"/>
            <a:ext cx="8786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Выполнение оператора присваи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348000" y="1557360"/>
            <a:ext cx="4680000" cy="107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цессор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4748040" y="2062080"/>
            <a:ext cx="1803600" cy="432000"/>
          </a:xfrm>
          <a:prstGeom prst="rect">
            <a:avLst/>
          </a:prstGeom>
          <a:solidFill>
            <a:srgbClr val="9febf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0 +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3740040" y="4294080"/>
            <a:ext cx="720720" cy="432000"/>
          </a:xfrm>
          <a:prstGeom prst="rect">
            <a:avLst/>
          </a:prstGeom>
          <a:solidFill>
            <a:srgbClr val="9febf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5251320" y="4294080"/>
            <a:ext cx="720720" cy="432000"/>
          </a:xfrm>
          <a:prstGeom prst="rect">
            <a:avLst/>
          </a:prstGeom>
          <a:solidFill>
            <a:srgbClr val="9febf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4"/>
          <p:cNvSpPr/>
          <p:nvPr/>
        </p:nvSpPr>
        <p:spPr>
          <a:xfrm>
            <a:off x="6692760" y="4294080"/>
            <a:ext cx="720720" cy="432000"/>
          </a:xfrm>
          <a:prstGeom prst="rect">
            <a:avLst/>
          </a:prstGeom>
          <a:solidFill>
            <a:srgbClr val="9febf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6"/>
          <p:cNvSpPr/>
          <p:nvPr/>
        </p:nvSpPr>
        <p:spPr>
          <a:xfrm>
            <a:off x="3379680" y="5662440"/>
            <a:ext cx="505080" cy="505080"/>
          </a:xfrm>
          <a:prstGeom prst="ellipse">
            <a:avLst/>
          </a:prstGeom>
          <a:solidFill>
            <a:srgbClr val="9feb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7"/>
          <p:cNvSpPr/>
          <p:nvPr/>
        </p:nvSpPr>
        <p:spPr>
          <a:xfrm>
            <a:off x="7701120" y="5734080"/>
            <a:ext cx="504720" cy="504720"/>
          </a:xfrm>
          <a:prstGeom prst="ellipse">
            <a:avLst/>
          </a:prstGeom>
          <a:solidFill>
            <a:srgbClr val="9feb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8"/>
          <p:cNvSpPr/>
          <p:nvPr/>
        </p:nvSpPr>
        <p:spPr>
          <a:xfrm flipV="1">
            <a:off x="3668760" y="4725720"/>
            <a:ext cx="43164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9"/>
          <p:cNvSpPr/>
          <p:nvPr/>
        </p:nvSpPr>
        <p:spPr>
          <a:xfrm flipV="1">
            <a:off x="4532400" y="249372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9"/>
          <p:cNvSpPr/>
          <p:nvPr/>
        </p:nvSpPr>
        <p:spPr>
          <a:xfrm>
            <a:off x="4172040" y="3286080"/>
            <a:ext cx="504720" cy="504720"/>
          </a:xfrm>
          <a:prstGeom prst="ellipse">
            <a:avLst/>
          </a:prstGeom>
          <a:solidFill>
            <a:srgbClr val="9feb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0"/>
          <p:cNvSpPr/>
          <p:nvPr/>
        </p:nvSpPr>
        <p:spPr>
          <a:xfrm>
            <a:off x="4765680" y="256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1"/>
          <p:cNvSpPr/>
          <p:nvPr/>
        </p:nvSpPr>
        <p:spPr>
          <a:xfrm>
            <a:off x="5611680" y="3718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0"/>
          <p:cNvSpPr/>
          <p:nvPr/>
        </p:nvSpPr>
        <p:spPr>
          <a:xfrm>
            <a:off x="5396040" y="3286080"/>
            <a:ext cx="504720" cy="504720"/>
          </a:xfrm>
          <a:prstGeom prst="ellipse">
            <a:avLst/>
          </a:prstGeom>
          <a:solidFill>
            <a:srgbClr val="9feb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2"/>
          <p:cNvSpPr/>
          <p:nvPr/>
        </p:nvSpPr>
        <p:spPr>
          <a:xfrm flipH="1" flipV="1">
            <a:off x="7340400" y="4726080"/>
            <a:ext cx="43164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3"/>
          <p:cNvSpPr/>
          <p:nvPr/>
        </p:nvSpPr>
        <p:spPr>
          <a:xfrm flipH="1" flipV="1">
            <a:off x="6835320" y="3718080"/>
            <a:ext cx="28908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4"/>
          <p:cNvSpPr/>
          <p:nvPr/>
        </p:nvSpPr>
        <p:spPr>
          <a:xfrm flipV="1">
            <a:off x="4100400" y="3718080"/>
            <a:ext cx="216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5"/>
          <p:cNvSpPr/>
          <p:nvPr/>
        </p:nvSpPr>
        <p:spPr>
          <a:xfrm>
            <a:off x="5611680" y="24940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6"/>
          <p:cNvSpPr/>
          <p:nvPr/>
        </p:nvSpPr>
        <p:spPr>
          <a:xfrm flipH="1" flipV="1">
            <a:off x="6260760" y="2493720"/>
            <a:ext cx="3589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6477120" y="3286080"/>
            <a:ext cx="504720" cy="504720"/>
          </a:xfrm>
          <a:prstGeom prst="ellipse">
            <a:avLst/>
          </a:prstGeom>
          <a:solidFill>
            <a:srgbClr val="9feb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4"/>
          <p:cNvSpPr/>
          <p:nvPr/>
        </p:nvSpPr>
        <p:spPr>
          <a:xfrm>
            <a:off x="1042920" y="2565360"/>
            <a:ext cx="128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:=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:=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:=a+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мер программы на языке Паска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gram  z1 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{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грамма для вычисления площади прямоугольника по заданным сторона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a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,b,s : integer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egi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riteln (‘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ведите стороны А и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’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ad (a); read (b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:=a*b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rite (‘S=‘,s,’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в.см.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’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  <a:ea typeface="Arial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2"/>
          <p:cNvSpPr/>
          <p:nvPr/>
        </p:nvSpPr>
        <p:spPr>
          <a:xfrm>
            <a:off x="468360" y="5734080"/>
            <a:ext cx="842472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ператор присваивания: 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мя переменно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&gt;:=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раж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468360" y="836640"/>
            <a:ext cx="8207280" cy="42912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Язык Паскаль – универсальный язык программир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8"/>
          <p:cNvSpPr/>
          <p:nvPr/>
        </p:nvSpPr>
        <p:spPr>
          <a:xfrm>
            <a:off x="611280" y="1917720"/>
            <a:ext cx="28872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900000" y="1557360"/>
            <a:ext cx="30956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лфавит язык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аска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826920" y="2637000"/>
            <a:ext cx="316872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атинские пропи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826920" y="3573360"/>
            <a:ext cx="316872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атинские стро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826920" y="4581360"/>
            <a:ext cx="3168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абские циф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8"/>
          <p:cNvSpPr/>
          <p:nvPr/>
        </p:nvSpPr>
        <p:spPr>
          <a:xfrm flipV="1">
            <a:off x="611280" y="1917720"/>
            <a:ext cx="0" cy="3024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8"/>
          <p:cNvSpPr/>
          <p:nvPr/>
        </p:nvSpPr>
        <p:spPr>
          <a:xfrm>
            <a:off x="611280" y="299736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8"/>
          <p:cNvSpPr/>
          <p:nvPr/>
        </p:nvSpPr>
        <p:spPr>
          <a:xfrm>
            <a:off x="611280" y="393372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8"/>
          <p:cNvSpPr/>
          <p:nvPr/>
        </p:nvSpPr>
        <p:spPr>
          <a:xfrm>
            <a:off x="611280" y="494172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8"/>
          <p:cNvSpPr/>
          <p:nvPr/>
        </p:nvSpPr>
        <p:spPr>
          <a:xfrm flipV="1">
            <a:off x="4572000" y="1844280"/>
            <a:ext cx="28728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4859280" y="1484280"/>
            <a:ext cx="2952720" cy="865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труктур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ограм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4788000" y="2708280"/>
            <a:ext cx="3168720" cy="504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головок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4788000" y="3716280"/>
            <a:ext cx="3168720" cy="504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исание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4788000" y="4724280"/>
            <a:ext cx="3168720" cy="505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исание 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8"/>
          <p:cNvSpPr/>
          <p:nvPr/>
        </p:nvSpPr>
        <p:spPr>
          <a:xfrm flipV="1">
            <a:off x="4572000" y="1846440"/>
            <a:ext cx="0" cy="3095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8"/>
          <p:cNvSpPr/>
          <p:nvPr/>
        </p:nvSpPr>
        <p:spPr>
          <a:xfrm>
            <a:off x="4572000" y="2925720"/>
            <a:ext cx="21600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8"/>
          <p:cNvSpPr/>
          <p:nvPr/>
        </p:nvSpPr>
        <p:spPr>
          <a:xfrm>
            <a:off x="4572000" y="4005360"/>
            <a:ext cx="21600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8"/>
          <p:cNvSpPr/>
          <p:nvPr/>
        </p:nvSpPr>
        <p:spPr>
          <a:xfrm flipV="1">
            <a:off x="4572000" y="4939920"/>
            <a:ext cx="216000" cy="32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  <a:ea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395280" y="1052640"/>
            <a:ext cx="84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informatika.mksat.net/wp-content/uploads/2012/01/virt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- Никлаус Ви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http://schools.keldysh.ru/sch444/MUSEUM/1_17-60.htm - Никлаус Вирт (информация о деятель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http://files.school-collection.edu.ru/dlrstore/dec21a7c-cec4-4b7a-96d7-d761c14a8582/9_76.swf - команда присва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бъект 4"/>
          <p:cNvSpPr/>
          <p:nvPr/>
        </p:nvSpPr>
        <p:spPr>
          <a:xfrm>
            <a:off x="468360" y="1413000"/>
            <a:ext cx="8362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107640" indent="207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язык программ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640" indent="207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640" indent="207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лфа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640" indent="207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лужебные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640" indent="207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ипы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640" indent="207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640" indent="207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ператор присва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684360" y="3149640"/>
            <a:ext cx="2173320" cy="27702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357120" y="804960"/>
            <a:ext cx="8675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Языки программирован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- это формальные языки, предназначенные для записи алгоритмов, исполнителем которых будет компьютер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Записи алгоритмов на языках программирования называютс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а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Язык Паскал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– универсальный язык программир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952720" y="3143160"/>
            <a:ext cx="6048360" cy="2775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иклаус Вирт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род. в 1934 г.) - швейцарский учёный, специалист в области информатики, один из известнейших теоретиков в области разработки языков программирования, профессор информатики (компьютерных наук). Разработчик языка Паскаль и ряда других языков программир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Заголовок 2"/>
          <p:cNvSpPr/>
          <p:nvPr/>
        </p:nvSpPr>
        <p:spPr>
          <a:xfrm>
            <a:off x="611280" y="189000"/>
            <a:ext cx="8075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Алфавит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68360" y="76500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лфавит языка программирования Паскаль - набор допустимых символов, которые можно использовать для записи программ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2"/>
          <p:cNvSpPr/>
          <p:nvPr/>
        </p:nvSpPr>
        <p:spPr>
          <a:xfrm>
            <a:off x="4572000" y="3068640"/>
            <a:ext cx="396072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, B, C, …, X Y, 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8"/>
          <p:cNvSpPr/>
          <p:nvPr/>
        </p:nvSpPr>
        <p:spPr>
          <a:xfrm>
            <a:off x="611280" y="2205000"/>
            <a:ext cx="22320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2843280" y="1916280"/>
            <a:ext cx="388944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лфавит языка Паска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826920" y="2924280"/>
            <a:ext cx="316872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атинские пропи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826920" y="3860640"/>
            <a:ext cx="316872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атинские стро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826920" y="4869000"/>
            <a:ext cx="316872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абские циф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826920" y="5805360"/>
            <a:ext cx="316872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пеци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мв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9"/>
          <p:cNvSpPr/>
          <p:nvPr/>
        </p:nvSpPr>
        <p:spPr>
          <a:xfrm>
            <a:off x="4572000" y="4005360"/>
            <a:ext cx="396072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, b, c,…, x, y, 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0"/>
          <p:cNvSpPr/>
          <p:nvPr/>
        </p:nvSpPr>
        <p:spPr>
          <a:xfrm>
            <a:off x="4572000" y="4941720"/>
            <a:ext cx="396072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, 1, 2, …, 7, 8, 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1"/>
          <p:cNvSpPr/>
          <p:nvPr/>
        </p:nvSpPr>
        <p:spPr>
          <a:xfrm>
            <a:off x="4572000" y="5734080"/>
            <a:ext cx="424800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Знаки арифметические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епинания, скобки и друг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8"/>
          <p:cNvSpPr/>
          <p:nvPr/>
        </p:nvSpPr>
        <p:spPr>
          <a:xfrm flipV="1">
            <a:off x="611280" y="2204640"/>
            <a:ext cx="0" cy="40323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8"/>
          <p:cNvSpPr/>
          <p:nvPr/>
        </p:nvSpPr>
        <p:spPr>
          <a:xfrm>
            <a:off x="611280" y="328464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8"/>
          <p:cNvSpPr/>
          <p:nvPr/>
        </p:nvSpPr>
        <p:spPr>
          <a:xfrm>
            <a:off x="611280" y="422100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8"/>
          <p:cNvSpPr/>
          <p:nvPr/>
        </p:nvSpPr>
        <p:spPr>
          <a:xfrm>
            <a:off x="611280" y="522936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8"/>
          <p:cNvSpPr/>
          <p:nvPr/>
        </p:nvSpPr>
        <p:spPr>
          <a:xfrm>
            <a:off x="611280" y="623736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8"/>
          <p:cNvSpPr/>
          <p:nvPr/>
        </p:nvSpPr>
        <p:spPr>
          <a:xfrm>
            <a:off x="3995640" y="3357720"/>
            <a:ext cx="576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8"/>
          <p:cNvSpPr/>
          <p:nvPr/>
        </p:nvSpPr>
        <p:spPr>
          <a:xfrm>
            <a:off x="3995640" y="4292640"/>
            <a:ext cx="576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8"/>
          <p:cNvSpPr/>
          <p:nvPr/>
        </p:nvSpPr>
        <p:spPr>
          <a:xfrm>
            <a:off x="3995640" y="5229360"/>
            <a:ext cx="576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8"/>
          <p:cNvSpPr/>
          <p:nvPr/>
        </p:nvSpPr>
        <p:spPr>
          <a:xfrm>
            <a:off x="3995640" y="6165720"/>
            <a:ext cx="576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Заголовок 2"/>
          <p:cNvSpPr/>
          <p:nvPr/>
        </p:nvSpPr>
        <p:spPr>
          <a:xfrm>
            <a:off x="611280" y="189000"/>
            <a:ext cx="8075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Алфавит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468360" y="98100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алфавит языка Паскаль включены неделимые элементы (составные символы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5651640" y="3286080"/>
            <a:ext cx="180000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611280" y="2422440"/>
            <a:ext cx="22320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2843280" y="2133720"/>
            <a:ext cx="388944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еделимые элемен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826920" y="3141720"/>
            <a:ext cx="331344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нак оп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сваи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826920" y="4078440"/>
            <a:ext cx="331344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наки больше или рав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ньше или рав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826920" y="5086440"/>
            <a:ext cx="331344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чало или 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ментар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5651640" y="4222800"/>
            <a:ext cx="180000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&gt; =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&lt;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5651640" y="515952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* и 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8"/>
          <p:cNvSpPr/>
          <p:nvPr/>
        </p:nvSpPr>
        <p:spPr>
          <a:xfrm flipV="1">
            <a:off x="611280" y="2422440"/>
            <a:ext cx="0" cy="30225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8"/>
          <p:cNvSpPr/>
          <p:nvPr/>
        </p:nvSpPr>
        <p:spPr>
          <a:xfrm>
            <a:off x="611280" y="350208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8"/>
          <p:cNvSpPr/>
          <p:nvPr/>
        </p:nvSpPr>
        <p:spPr>
          <a:xfrm>
            <a:off x="611280" y="443880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8"/>
          <p:cNvSpPr/>
          <p:nvPr/>
        </p:nvSpPr>
        <p:spPr>
          <a:xfrm>
            <a:off x="611280" y="544680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8"/>
          <p:cNvSpPr/>
          <p:nvPr/>
        </p:nvSpPr>
        <p:spPr>
          <a:xfrm>
            <a:off x="4140360" y="3573360"/>
            <a:ext cx="151128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8"/>
          <p:cNvSpPr/>
          <p:nvPr/>
        </p:nvSpPr>
        <p:spPr>
          <a:xfrm>
            <a:off x="4140360" y="4508640"/>
            <a:ext cx="151128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8"/>
          <p:cNvSpPr/>
          <p:nvPr/>
        </p:nvSpPr>
        <p:spPr>
          <a:xfrm>
            <a:off x="4140360" y="5445000"/>
            <a:ext cx="151128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Заголовок 2"/>
          <p:cNvSpPr/>
          <p:nvPr/>
        </p:nvSpPr>
        <p:spPr>
          <a:xfrm>
            <a:off x="611280" y="189000"/>
            <a:ext cx="8075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Словарь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42960" y="785880"/>
          <a:ext cx="8064360" cy="6003720"/>
        </p:xfrm>
        <a:graphic>
          <a:graphicData uri="http://schemas.openxmlformats.org/drawingml/2006/table">
            <a:tbl>
              <a:tblPr/>
              <a:tblGrid>
                <a:gridCol w="4032360"/>
                <a:gridCol w="403200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ебное слово языка Паск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 служебного сл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an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arra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и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begi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и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els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ач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f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f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of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procedu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ду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progra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рам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repea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тор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the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(увеличивая д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unti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(до тех пор, пок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v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н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hi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Заголовок 2"/>
          <p:cNvSpPr/>
          <p:nvPr/>
        </p:nvSpPr>
        <p:spPr>
          <a:xfrm>
            <a:off x="611280" y="189000"/>
            <a:ext cx="8075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Алфавит и словарь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68360" y="76500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мен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(констант, переменных, программ и других объектов) - любые отличные от служебных слов последовательности букв, цифр и символа подчеркивания, начинающиеся с буквы или символа подчерки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468360" y="2205000"/>
            <a:ext cx="3024000" cy="378072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авильные имена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  <a:ea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  <a:ea typeface="Arial"/>
              </a:rPr>
              <a:t>x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velichina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zzz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polnaja_summa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tri_plus_dva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  <a:ea typeface="Arial"/>
              </a:rPr>
              <a:t>s25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  <a:ea typeface="Arial"/>
              </a:rPr>
              <a:t>_k1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  <a:ea typeface="Arial"/>
              </a:rPr>
              <a:t>a1b88qq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  <a:ea typeface="Arial"/>
              </a:rPr>
              <a:t>oshibka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68360" y="587700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писные и строчные буквы в именах не различаются. Длина имени может быть люб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4140360" y="2205000"/>
            <a:ext cx="4752720" cy="362016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еправильные и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Ж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буква не латинского алфавита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polnaja  summa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- содержится символ (пробел), не являющийся буквой, цифрой или знаком подчерки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2as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- начинается с циф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Domby&amp;Son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- содержится символ &amp;, не являющийся буквой, цифрой или знаком подчерк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3" descr="MC900433954.PNG"/>
          <p:cNvPicPr/>
          <p:nvPr/>
        </p:nvPicPr>
        <p:blipFill>
          <a:blip r:embed="rId2"/>
          <a:stretch/>
        </p:blipFill>
        <p:spPr>
          <a:xfrm>
            <a:off x="2340000" y="378936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Заголовок 2"/>
          <p:cNvSpPr/>
          <p:nvPr/>
        </p:nvSpPr>
        <p:spPr>
          <a:xfrm>
            <a:off x="468360" y="18900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Структура программы на языке Паска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4572000" y="2349360"/>
            <a:ext cx="3960720" cy="100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лужебное слово </a:t>
            </a:r>
            <a:r>
              <a:rPr b="1" lang="en-US" sz="2800" spc="-1" strike="noStrike">
                <a:solidFill>
                  <a:srgbClr val="cc0000"/>
                </a:solidFill>
                <a:latin typeface="FangSong"/>
              </a:rPr>
              <a:t>program</a:t>
            </a:r>
            <a:r>
              <a:rPr b="1" lang="ru-RU" sz="2800" spc="-1" strike="noStrike">
                <a:solidFill>
                  <a:srgbClr val="000000"/>
                </a:solidFill>
                <a:latin typeface="FangSo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имя програм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8"/>
          <p:cNvSpPr/>
          <p:nvPr/>
        </p:nvSpPr>
        <p:spPr>
          <a:xfrm>
            <a:off x="611280" y="1701720"/>
            <a:ext cx="22320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2843280" y="1413000"/>
            <a:ext cx="388944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труктура програм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826920" y="2421000"/>
            <a:ext cx="316872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головок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826920" y="3932280"/>
            <a:ext cx="316872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исание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826920" y="5516640"/>
            <a:ext cx="316872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исание 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9"/>
          <p:cNvSpPr/>
          <p:nvPr/>
        </p:nvSpPr>
        <p:spPr>
          <a:xfrm>
            <a:off x="4572000" y="3860640"/>
            <a:ext cx="3960720" cy="100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исание констант(</a:t>
            </a:r>
            <a:r>
              <a:rPr b="1" lang="en-US" sz="2800" spc="-1" strike="noStrike">
                <a:solidFill>
                  <a:srgbClr val="cc0000"/>
                </a:solidFill>
                <a:latin typeface="FangSong"/>
              </a:rPr>
              <a:t>cons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 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исание переменных (</a:t>
            </a:r>
            <a:r>
              <a:rPr b="1" lang="en-US" sz="2800" spc="-1" strike="noStrike">
                <a:solidFill>
                  <a:srgbClr val="cc0000"/>
                </a:solidFill>
                <a:latin typeface="FangSong"/>
              </a:rPr>
              <a:t>va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4572000" y="5300640"/>
            <a:ext cx="396072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чинается словом </a:t>
            </a:r>
            <a:r>
              <a:rPr b="1" lang="en-US" sz="2800" spc="-1" strike="noStrike">
                <a:solidFill>
                  <a:srgbClr val="cc0000"/>
                </a:solidFill>
                <a:latin typeface="FangSong"/>
              </a:rPr>
              <a:t>beg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анчивается слово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FangSong"/>
              </a:rPr>
              <a:t>en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точк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8"/>
          <p:cNvSpPr/>
          <p:nvPr/>
        </p:nvSpPr>
        <p:spPr>
          <a:xfrm flipV="1">
            <a:off x="611280" y="1701720"/>
            <a:ext cx="0" cy="4175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8"/>
          <p:cNvSpPr/>
          <p:nvPr/>
        </p:nvSpPr>
        <p:spPr>
          <a:xfrm>
            <a:off x="611280" y="278136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8"/>
          <p:cNvSpPr/>
          <p:nvPr/>
        </p:nvSpPr>
        <p:spPr>
          <a:xfrm>
            <a:off x="611280" y="429264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8"/>
          <p:cNvSpPr/>
          <p:nvPr/>
        </p:nvSpPr>
        <p:spPr>
          <a:xfrm>
            <a:off x="611280" y="587700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8"/>
          <p:cNvSpPr/>
          <p:nvPr/>
        </p:nvSpPr>
        <p:spPr>
          <a:xfrm>
            <a:off x="3995640" y="2854440"/>
            <a:ext cx="576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8"/>
          <p:cNvSpPr/>
          <p:nvPr/>
        </p:nvSpPr>
        <p:spPr>
          <a:xfrm>
            <a:off x="3995640" y="4363920"/>
            <a:ext cx="576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8"/>
          <p:cNvSpPr/>
          <p:nvPr/>
        </p:nvSpPr>
        <p:spPr>
          <a:xfrm>
            <a:off x="3995640" y="5877000"/>
            <a:ext cx="576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Line 51"/>
          <p:cNvSpPr/>
          <p:nvPr/>
        </p:nvSpPr>
        <p:spPr>
          <a:xfrm>
            <a:off x="2916360" y="3429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2"/>
          <p:cNvSpPr/>
          <p:nvPr/>
        </p:nvSpPr>
        <p:spPr>
          <a:xfrm>
            <a:off x="4859280" y="3429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3"/>
          <p:cNvSpPr/>
          <p:nvPr/>
        </p:nvSpPr>
        <p:spPr>
          <a:xfrm>
            <a:off x="6948360" y="3429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Заголовок 2"/>
          <p:cNvSpPr/>
          <p:nvPr/>
        </p:nvSpPr>
        <p:spPr>
          <a:xfrm>
            <a:off x="468360" y="18900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Раздел описания переме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11280" y="3068640"/>
          <a:ext cx="7488000" cy="433440"/>
        </p:xfrm>
        <a:graphic>
          <a:graphicData uri="http://schemas.openxmlformats.org/drawingml/2006/table">
            <a:tbl>
              <a:tblPr/>
              <a:tblGrid>
                <a:gridCol w="790560"/>
                <a:gridCol w="2701800"/>
                <a:gridCol w="1997280"/>
                <a:gridCol w="1998360"/>
              </a:tblGrid>
              <a:tr h="7743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va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,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j: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nteg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x: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re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1f2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a: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cha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febf3"/>
                    </a:solidFill>
                  </a:tcPr>
                </a:tc>
              </a:tr>
            </a:tbl>
          </a:graphicData>
        </a:graphic>
      </p:graphicFrame>
      <p:sp>
        <p:nvSpPr>
          <p:cNvPr id="164" name="Text Box 47"/>
          <p:cNvSpPr/>
          <p:nvPr/>
        </p:nvSpPr>
        <p:spPr>
          <a:xfrm>
            <a:off x="1116000" y="3933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Целый ти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8"/>
          <p:cNvSpPr/>
          <p:nvPr/>
        </p:nvSpPr>
        <p:spPr>
          <a:xfrm>
            <a:off x="3564000" y="3933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щественный ти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0"/>
          <p:cNvSpPr/>
          <p:nvPr/>
        </p:nvSpPr>
        <p:spPr>
          <a:xfrm>
            <a:off x="6407280" y="3933720"/>
            <a:ext cx="25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имвольный ти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4"/>
          <p:cNvSpPr/>
          <p:nvPr/>
        </p:nvSpPr>
        <p:spPr>
          <a:xfrm flipH="1">
            <a:off x="1834920" y="3716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5"/>
          <p:cNvSpPr/>
          <p:nvPr/>
        </p:nvSpPr>
        <p:spPr>
          <a:xfrm flipH="1">
            <a:off x="6948360" y="37162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56"/>
          <p:cNvSpPr/>
          <p:nvPr/>
        </p:nvSpPr>
        <p:spPr>
          <a:xfrm>
            <a:off x="1835280" y="3716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7"/>
          <p:cNvSpPr/>
          <p:nvPr/>
        </p:nvSpPr>
        <p:spPr>
          <a:xfrm>
            <a:off x="8101080" y="3716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7"/>
          <p:cNvSpPr/>
          <p:nvPr/>
        </p:nvSpPr>
        <p:spPr>
          <a:xfrm>
            <a:off x="3492360" y="1916280"/>
            <a:ext cx="3929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мена переме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0"/>
          <p:cNvSpPr/>
          <p:nvPr/>
        </p:nvSpPr>
        <p:spPr>
          <a:xfrm flipH="1">
            <a:off x="1499760" y="2349360"/>
            <a:ext cx="2592360" cy="79236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1"/>
          <p:cNvSpPr/>
          <p:nvPr/>
        </p:nvSpPr>
        <p:spPr>
          <a:xfrm flipH="1">
            <a:off x="1857240" y="2421000"/>
            <a:ext cx="2232000" cy="72072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2"/>
          <p:cNvSpPr/>
          <p:nvPr/>
        </p:nvSpPr>
        <p:spPr>
          <a:xfrm flipH="1">
            <a:off x="4284360" y="2349360"/>
            <a:ext cx="718920" cy="79236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3"/>
          <p:cNvSpPr/>
          <p:nvPr/>
        </p:nvSpPr>
        <p:spPr>
          <a:xfrm>
            <a:off x="5796000" y="2349360"/>
            <a:ext cx="431640" cy="71928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Пользователь</cp:lastModifiedBy>
  <dcterms:modified xsi:type="dcterms:W3CDTF">2020-04-06T04:02:30Z</dcterms:modified>
  <cp:revision>109</cp:revision>
  <dc:subject/>
  <dc:title>Презентация PowerPoint</dc:title>
</cp:coreProperties>
</file>