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8C3E-CF70-4667-81E3-5887631280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3171-1B8F-4A3B-A481-D42DE8D20B5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3B5-F099-41B8-A17B-CC775301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274-E4BD-42CB-B2E1-845ACC65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340-D1B9-40ED-9E84-A994208E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53C-9646-455F-A222-89E2CCDD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D1F2-4742-4D7D-9D45-9BF92CE4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4709-E75E-4A7D-9787-85233E07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90D1-8A13-44B2-ACDE-FBE938E9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A3A9-4952-4AFC-9900-D5449C8F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0548-692B-4232-9E54-8A5BEBF2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C0A9-6E73-4BD6-99D6-26B099DC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2866-B638-4C6B-A483-8A06672C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D2B-175E-4A8A-AE4E-2710BFEC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D7E0-4FDD-4D21-AE7D-A04A4DAF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03A9-C6E2-4AC0-8CC6-C890E20A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317C-A0F8-4CD8-9CBE-8997BD0D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8F73-CDA4-42D4-AF29-2A61B98E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3C52-4E47-4626-9511-E653B875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E8B-AAE7-4B8B-98EE-8A3E3056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F36-F384-4C14-B356-1FC93FF8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77E9-7093-4F36-8E48-A03170BB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AF1-E234-410E-9F7C-441E28AD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F350-9DBF-4746-BD81-F9DFAC0D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7B3-1118-487F-A0A8-899312AD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7C8-A75A-4A06-AE88-A14A8468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B5C0-C0F8-49C9-AD7C-33F0DB8BF1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87A6-8371-454A-94D4-194B2C1B5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nformatika.mksat.net/wp-content/uploads/2012/01/virt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дзаголовок 2"/>
          <p:cNvSpPr/>
          <p:nvPr/>
        </p:nvSpPr>
        <p:spPr>
          <a:xfrm>
            <a:off x="1476360" y="191628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ЧАЛА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1476360" y="34862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Заголовок 2"/>
          <p:cNvSpPr/>
          <p:nvPr/>
        </p:nvSpPr>
        <p:spPr>
          <a:xfrm>
            <a:off x="611280" y="189000"/>
            <a:ext cx="80755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стые типы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39640" y="1125360"/>
          <a:ext cx="8425080" cy="4510440"/>
        </p:xfrm>
        <a:graphic>
          <a:graphicData uri="http://schemas.openxmlformats.org/drawingml/2006/table">
            <a:tbl>
              <a:tblPr/>
              <a:tblGrid>
                <a:gridCol w="2160720"/>
                <a:gridCol w="2087640"/>
                <a:gridCol w="2808360"/>
                <a:gridCol w="1368360"/>
              </a:tblGrid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че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ые знач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сть памят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очисл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nteg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32 768… 32 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байта со знак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1.7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бай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cha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льный символ алфав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о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tr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ь символов длиной меньше 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йт на 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boole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6"/>
          <p:cNvSpPr/>
          <p:nvPr/>
        </p:nvSpPr>
        <p:spPr>
          <a:xfrm>
            <a:off x="2124000" y="6086520"/>
            <a:ext cx="4824360" cy="387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ипы велич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ject 41" descr=""/>
          <p:cNvPicPr/>
          <p:nvPr/>
        </p:nvPicPr>
        <p:blipFill>
          <a:blip r:embed="rId2"/>
          <a:stretch/>
        </p:blipFill>
        <p:spPr>
          <a:xfrm>
            <a:off x="5940360" y="6086520"/>
            <a:ext cx="914400" cy="771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Общий вид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111320" y="1357200"/>
            <a:ext cx="7389720" cy="4359960"/>
          </a:xfrm>
          <a:prstGeom prst="rect">
            <a:avLst/>
          </a:prstGeom>
          <a:solidFill>
            <a:srgbClr val="c1f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FangSong"/>
              </a:rPr>
              <a:t>program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FangSong"/>
              </a:rPr>
              <a:t>const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&lt;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список постоянных значений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FangSong"/>
              </a:rPr>
              <a:t>var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&lt;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описание используемых переменных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FangSong"/>
              </a:rPr>
              <a:t>begin</a:t>
            </a: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начало программного блока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 1&gt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 2&gt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FangSong"/>
              </a:rPr>
              <a:t>end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39640" y="5589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ератор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языковые конструкции для записи действия, выполняемого над данными в процессе решения зада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Заголовок 2"/>
          <p:cNvSpPr/>
          <p:nvPr/>
        </p:nvSpPr>
        <p:spPr>
          <a:xfrm>
            <a:off x="611280" y="189000"/>
            <a:ext cx="80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Оператор присваи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68360" y="981000"/>
            <a:ext cx="842472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сновное преобразование данных, выполняемое компьютером, - присваивание переменной нового значения, что означает изменение содержимого области памя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щий вид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755640" y="4149720"/>
            <a:ext cx="763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манда присва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8"/>
          <p:cNvGraphicFramePr/>
          <p:nvPr/>
        </p:nvGraphicFramePr>
        <p:xfrm>
          <a:off x="7451640" y="4149720"/>
          <a:ext cx="91440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414972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395280" y="2708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FangSong"/>
              </a:rPr>
              <a:t>&lt;имя переменной&gt;:=&lt;выражение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15"/>
          <p:cNvSpPr/>
          <p:nvPr/>
        </p:nvSpPr>
        <p:spPr>
          <a:xfrm>
            <a:off x="3308400" y="4149720"/>
            <a:ext cx="468000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еративная памя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Заголовок 2"/>
          <p:cNvSpPr/>
          <p:nvPr/>
        </p:nvSpPr>
        <p:spPr>
          <a:xfrm>
            <a:off x="214200" y="189000"/>
            <a:ext cx="8786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Выполнение оператора присваи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348000" y="1557360"/>
            <a:ext cx="468000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цессор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4748040" y="2062080"/>
            <a:ext cx="180360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3740040" y="4294080"/>
            <a:ext cx="72072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5251320" y="4294080"/>
            <a:ext cx="72072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6692760" y="4294080"/>
            <a:ext cx="720720" cy="432000"/>
          </a:xfrm>
          <a:prstGeom prst="rect">
            <a:avLst/>
          </a:prstGeom>
          <a:solidFill>
            <a:srgbClr val="9feb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6"/>
          <p:cNvSpPr/>
          <p:nvPr/>
        </p:nvSpPr>
        <p:spPr>
          <a:xfrm>
            <a:off x="3379680" y="5662440"/>
            <a:ext cx="505080" cy="50508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7"/>
          <p:cNvSpPr/>
          <p:nvPr/>
        </p:nvSpPr>
        <p:spPr>
          <a:xfrm>
            <a:off x="7701120" y="5734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 flipV="1">
            <a:off x="3668760" y="4725720"/>
            <a:ext cx="43164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9"/>
          <p:cNvSpPr/>
          <p:nvPr/>
        </p:nvSpPr>
        <p:spPr>
          <a:xfrm flipV="1">
            <a:off x="4532400" y="249372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4172040" y="3286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4765680" y="256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1"/>
          <p:cNvSpPr/>
          <p:nvPr/>
        </p:nvSpPr>
        <p:spPr>
          <a:xfrm>
            <a:off x="5611680" y="3718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5396040" y="3286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H="1" flipV="1">
            <a:off x="7340400" y="4726080"/>
            <a:ext cx="4316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 flipH="1" flipV="1">
            <a:off x="6835320" y="3718080"/>
            <a:ext cx="2890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4100400" y="3718080"/>
            <a:ext cx="216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5611680" y="24940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 flipH="1" flipV="1">
            <a:off x="6260760" y="2493720"/>
            <a:ext cx="358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6477120" y="3286080"/>
            <a:ext cx="504720" cy="504720"/>
          </a:xfrm>
          <a:prstGeom prst="ellipse">
            <a:avLst/>
          </a:prstGeom>
          <a:solidFill>
            <a:srgbClr val="9feb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4"/>
          <p:cNvSpPr/>
          <p:nvPr/>
        </p:nvSpPr>
        <p:spPr>
          <a:xfrm>
            <a:off x="1042920" y="2565360"/>
            <a:ext cx="128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:=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:=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:=a+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программы на языке Паска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gram  z1 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{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грамма для вычисления площади прямоугольника по заданным сторона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,b,s : integer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gi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iteln (‘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ведите стороны А и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’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ad (a); read (b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:=a*b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ite (‘S=‘,s,’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в.см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’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"/>
          <p:cNvSpPr/>
          <p:nvPr/>
        </p:nvSpPr>
        <p:spPr>
          <a:xfrm>
            <a:off x="468360" y="5734080"/>
            <a:ext cx="8424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ератор присваивания: 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я переменно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&gt;:=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раж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468360" y="836640"/>
            <a:ext cx="820728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Язык Паскаль – универсальный язык программ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>
            <a:off x="611280" y="1917720"/>
            <a:ext cx="2887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900000" y="1557360"/>
            <a:ext cx="3095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лфавит язы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аска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826920" y="2637000"/>
            <a:ext cx="3168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тинские пропи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826920" y="3573360"/>
            <a:ext cx="316872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тинские стр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826920" y="4581360"/>
            <a:ext cx="3168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абские циф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 flipV="1">
            <a:off x="611280" y="1917720"/>
            <a:ext cx="0" cy="3024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>
            <a:off x="611280" y="299736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8"/>
          <p:cNvSpPr/>
          <p:nvPr/>
        </p:nvSpPr>
        <p:spPr>
          <a:xfrm>
            <a:off x="611280" y="393372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611280" y="494172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8"/>
          <p:cNvSpPr/>
          <p:nvPr/>
        </p:nvSpPr>
        <p:spPr>
          <a:xfrm flipV="1">
            <a:off x="4572000" y="1844280"/>
            <a:ext cx="28728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859280" y="1484280"/>
            <a:ext cx="2952720" cy="86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уктур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4788000" y="2708280"/>
            <a:ext cx="316872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головок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788000" y="3716280"/>
            <a:ext cx="316872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исание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788000" y="4724280"/>
            <a:ext cx="3168720" cy="50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исание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8"/>
          <p:cNvSpPr/>
          <p:nvPr/>
        </p:nvSpPr>
        <p:spPr>
          <a:xfrm flipV="1">
            <a:off x="4572000" y="1846440"/>
            <a:ext cx="0" cy="3095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8"/>
          <p:cNvSpPr/>
          <p:nvPr/>
        </p:nvSpPr>
        <p:spPr>
          <a:xfrm>
            <a:off x="4572000" y="292572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>
            <a:off x="4572000" y="400536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8"/>
          <p:cNvSpPr/>
          <p:nvPr/>
        </p:nvSpPr>
        <p:spPr>
          <a:xfrm flipV="1">
            <a:off x="4572000" y="4939920"/>
            <a:ext cx="216000" cy="32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95280" y="105264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informatika.mksat.net/wp-content/uploads/2012/01/virt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- Никлаус Ви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http://schools.keldysh.ru/sch444/MUSEUM/1_17-60.htm - Никлаус Вирт (информация о деятель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http://files.school-collection.edu.ru/dlrstore/dec21a7c-cec4-4b7a-96d7-d761c14a8582/9_76.swf - команда присва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зык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лужебн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ип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640" indent="207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ератор присва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684360" y="3149640"/>
            <a:ext cx="2173320" cy="2770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57120" y="804960"/>
            <a:ext cx="867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Языки программир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 это формальные языки, предназначенные для записи алгоритмов, исполнителем которых будет компьюте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писи алгоритмов на языках программирования называю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Язык Паскал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– универсальный язык программ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952720" y="3143160"/>
            <a:ext cx="6048360" cy="2775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иклаус Вир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род. в 1934 г.) - швейцарский учёный, специалист в области информатики, один из известнейших теоретиков в области разработки языков программирования, профессор информатики (компьютерных наук). Разработчик языка Паскаль и ряда других языков программ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Заголовок 2"/>
          <p:cNvSpPr/>
          <p:nvPr/>
        </p:nvSpPr>
        <p:spPr>
          <a:xfrm>
            <a:off x="611280" y="189000"/>
            <a:ext cx="80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Алфавит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68360" y="76500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лфавит языка программирования Паскаль - набор допустимых символов, которые можно использовать для записи программ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2"/>
          <p:cNvSpPr/>
          <p:nvPr/>
        </p:nvSpPr>
        <p:spPr>
          <a:xfrm>
            <a:off x="4572000" y="3068640"/>
            <a:ext cx="3960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, B, C, …, X Y, 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"/>
          <p:cNvSpPr/>
          <p:nvPr/>
        </p:nvSpPr>
        <p:spPr>
          <a:xfrm>
            <a:off x="611280" y="2205000"/>
            <a:ext cx="2232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843280" y="1916280"/>
            <a:ext cx="388944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лфавит языка Паска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826920" y="2924280"/>
            <a:ext cx="3168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тинские пропи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826920" y="3860640"/>
            <a:ext cx="316872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тинские стр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826920" y="4869000"/>
            <a:ext cx="3168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абские циф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826920" y="5805360"/>
            <a:ext cx="316872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еци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мв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9"/>
          <p:cNvSpPr/>
          <p:nvPr/>
        </p:nvSpPr>
        <p:spPr>
          <a:xfrm>
            <a:off x="4572000" y="4005360"/>
            <a:ext cx="39607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, b, c,…, x, y, 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0"/>
          <p:cNvSpPr/>
          <p:nvPr/>
        </p:nvSpPr>
        <p:spPr>
          <a:xfrm>
            <a:off x="4572000" y="4941720"/>
            <a:ext cx="3960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, 1, 2, …, 7, 8,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1"/>
          <p:cNvSpPr/>
          <p:nvPr/>
        </p:nvSpPr>
        <p:spPr>
          <a:xfrm>
            <a:off x="4572000" y="5734080"/>
            <a:ext cx="4248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наки арифметически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епинания, скобки и друг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8"/>
          <p:cNvSpPr/>
          <p:nvPr/>
        </p:nvSpPr>
        <p:spPr>
          <a:xfrm flipV="1">
            <a:off x="611280" y="2204640"/>
            <a:ext cx="0" cy="4032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8"/>
          <p:cNvSpPr/>
          <p:nvPr/>
        </p:nvSpPr>
        <p:spPr>
          <a:xfrm>
            <a:off x="611280" y="328464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611280" y="422100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>
            <a:off x="611280" y="522936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611280" y="623736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3995640" y="335772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3995640" y="429264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3995640" y="522936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3995640" y="616572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2"/>
          <p:cNvSpPr/>
          <p:nvPr/>
        </p:nvSpPr>
        <p:spPr>
          <a:xfrm>
            <a:off x="611280" y="189000"/>
            <a:ext cx="80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Алфавит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68360" y="981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алфавит языка Паскаль включены неделимые элементы (составные символы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5651640" y="3286080"/>
            <a:ext cx="1800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611280" y="2422440"/>
            <a:ext cx="2232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843280" y="2133720"/>
            <a:ext cx="388944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делимые элемен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826920" y="3141720"/>
            <a:ext cx="331344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к 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сваи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826920" y="4078440"/>
            <a:ext cx="331344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ки больше или рав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ньше или р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826920" y="5086440"/>
            <a:ext cx="331344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о или 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мента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5651640" y="4222800"/>
            <a:ext cx="1800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&gt;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&lt;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5651640" y="515952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* и 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 flipV="1">
            <a:off x="611280" y="2422440"/>
            <a:ext cx="0" cy="30225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8"/>
          <p:cNvSpPr/>
          <p:nvPr/>
        </p:nvSpPr>
        <p:spPr>
          <a:xfrm>
            <a:off x="611280" y="350208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611280" y="443880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611280" y="544680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8"/>
          <p:cNvSpPr/>
          <p:nvPr/>
        </p:nvSpPr>
        <p:spPr>
          <a:xfrm>
            <a:off x="4140360" y="3573360"/>
            <a:ext cx="15112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4140360" y="4508640"/>
            <a:ext cx="15112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4140360" y="5445000"/>
            <a:ext cx="15112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Заголовок 2"/>
          <p:cNvSpPr/>
          <p:nvPr/>
        </p:nvSpPr>
        <p:spPr>
          <a:xfrm>
            <a:off x="611280" y="189000"/>
            <a:ext cx="8075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Словарь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42960" y="785880"/>
          <a:ext cx="8064360" cy="6003720"/>
        </p:xfrm>
        <a:graphic>
          <a:graphicData uri="http://schemas.openxmlformats.org/drawingml/2006/table">
            <a:tbl>
              <a:tblPr/>
              <a:tblGrid>
                <a:gridCol w="4032360"/>
                <a:gridCol w="403200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ое слово языка Паск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служебного с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an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arra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beg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el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ач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f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of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proced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д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progra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pea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the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(увеличивая д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unti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(до тех пор, по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v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hi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Заголовок 2"/>
          <p:cNvSpPr/>
          <p:nvPr/>
        </p:nvSpPr>
        <p:spPr>
          <a:xfrm>
            <a:off x="611280" y="189000"/>
            <a:ext cx="8075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Алфавит и словарь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68360" y="76500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е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констант, переменных, программ и других объектов) - любые отличные от служебных слов последовательности букв, цифр и символа подчеркивания, начинающиеся с буквы или символа подчерки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68360" y="2205000"/>
            <a:ext cx="3024000" cy="37807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авильные имена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x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velichina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zzz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polnaja_summa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tri_plus_dva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s25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_k1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a1b88qq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oshibk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8360" y="5877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писные и строчные буквы в именах не различаются. Длина имени может быть люб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140360" y="2205000"/>
            <a:ext cx="4752720" cy="362016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правильные и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Ж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уква не латинского алфавита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polnaja  summa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 содержится символ (пробел), не являющийся буквой, цифрой или знаком подчерки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2as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 начинается с циф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Domby&amp;Son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 содержится символ &amp;, не являющийся буквой, цифрой или знаком подчерк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3" descr="MC900433954.PNG"/>
          <p:cNvPicPr/>
          <p:nvPr/>
        </p:nvPicPr>
        <p:blipFill>
          <a:blip r:embed="rId2"/>
          <a:stretch/>
        </p:blipFill>
        <p:spPr>
          <a:xfrm>
            <a:off x="2340000" y="378936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Структура программы на языке Паск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4572000" y="2349360"/>
            <a:ext cx="3960720" cy="100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ужебное слово 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program</a:t>
            </a: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имя програм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>
            <a:off x="611280" y="1701720"/>
            <a:ext cx="2232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843280" y="1413000"/>
            <a:ext cx="388944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уктура програм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826920" y="2421000"/>
            <a:ext cx="3168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головок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826920" y="3932280"/>
            <a:ext cx="3168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исание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826920" y="5516640"/>
            <a:ext cx="3168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исание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4572000" y="3860640"/>
            <a:ext cx="3960720" cy="100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исание констант(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cons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исание переменных (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va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4572000" y="5300640"/>
            <a:ext cx="396072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чинается словом 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анчивается слов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FangSong"/>
              </a:rPr>
              <a:t>en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точк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 flipV="1">
            <a:off x="611280" y="1701720"/>
            <a:ext cx="0" cy="4175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611280" y="278136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>
            <a:off x="611280" y="429264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611280" y="587700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3995640" y="285444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3995640" y="436392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3995640" y="5877000"/>
            <a:ext cx="576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51"/>
          <p:cNvSpPr/>
          <p:nvPr/>
        </p:nvSpPr>
        <p:spPr>
          <a:xfrm>
            <a:off x="291636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2"/>
          <p:cNvSpPr/>
          <p:nvPr/>
        </p:nvSpPr>
        <p:spPr>
          <a:xfrm>
            <a:off x="4859280" y="342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3"/>
          <p:cNvSpPr/>
          <p:nvPr/>
        </p:nvSpPr>
        <p:spPr>
          <a:xfrm>
            <a:off x="694836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Раздел описания перем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11280" y="3068640"/>
          <a:ext cx="7488000" cy="433440"/>
        </p:xfrm>
        <a:graphic>
          <a:graphicData uri="http://schemas.openxmlformats.org/drawingml/2006/table">
            <a:tbl>
              <a:tblPr/>
              <a:tblGrid>
                <a:gridCol w="790560"/>
                <a:gridCol w="2701800"/>
                <a:gridCol w="1997280"/>
                <a:gridCol w="1998360"/>
              </a:tblGrid>
              <a:tr h="7743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va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j: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nte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x: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1f2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a: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cha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9febf3"/>
                    </a:solidFill>
                  </a:tcPr>
                </a:tc>
              </a:tr>
            </a:tbl>
          </a:graphicData>
        </a:graphic>
      </p:graphicFrame>
      <p:sp>
        <p:nvSpPr>
          <p:cNvPr id="164" name="Text Box 47"/>
          <p:cNvSpPr/>
          <p:nvPr/>
        </p:nvSpPr>
        <p:spPr>
          <a:xfrm>
            <a:off x="1116000" y="393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лый т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8"/>
          <p:cNvSpPr/>
          <p:nvPr/>
        </p:nvSpPr>
        <p:spPr>
          <a:xfrm>
            <a:off x="3564000" y="3933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енный т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0"/>
          <p:cNvSpPr/>
          <p:nvPr/>
        </p:nvSpPr>
        <p:spPr>
          <a:xfrm>
            <a:off x="6407280" y="393372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имвольный т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4"/>
          <p:cNvSpPr/>
          <p:nvPr/>
        </p:nvSpPr>
        <p:spPr>
          <a:xfrm flipH="1">
            <a:off x="1834920" y="3716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5"/>
          <p:cNvSpPr/>
          <p:nvPr/>
        </p:nvSpPr>
        <p:spPr>
          <a:xfrm flipH="1">
            <a:off x="6948360" y="3716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6"/>
          <p:cNvSpPr/>
          <p:nvPr/>
        </p:nvSpPr>
        <p:spPr>
          <a:xfrm>
            <a:off x="1835280" y="3716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7"/>
          <p:cNvSpPr/>
          <p:nvPr/>
        </p:nvSpPr>
        <p:spPr>
          <a:xfrm>
            <a:off x="8101080" y="3716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7"/>
          <p:cNvSpPr/>
          <p:nvPr/>
        </p:nvSpPr>
        <p:spPr>
          <a:xfrm>
            <a:off x="3492360" y="1916280"/>
            <a:ext cx="392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ена переме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0"/>
          <p:cNvSpPr/>
          <p:nvPr/>
        </p:nvSpPr>
        <p:spPr>
          <a:xfrm flipH="1">
            <a:off x="1499760" y="2349360"/>
            <a:ext cx="2592360" cy="79236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1"/>
          <p:cNvSpPr/>
          <p:nvPr/>
        </p:nvSpPr>
        <p:spPr>
          <a:xfrm flipH="1">
            <a:off x="1857240" y="2421000"/>
            <a:ext cx="2232000" cy="72072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4284360" y="2349360"/>
            <a:ext cx="718920" cy="79236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796000" y="2349360"/>
            <a:ext cx="431640" cy="719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Пользователь</cp:lastModifiedBy>
  <dcterms:modified xsi:type="dcterms:W3CDTF">2020-04-06T04:02:30Z</dcterms:modified>
  <cp:revision>109</cp:revision>
  <dc:subject/>
  <dc:title>Презентация PowerPoint</dc:title>
</cp:coreProperties>
</file>