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9AE-6836-4C2D-8D31-1BA6BED4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955-B87F-4FED-818C-4E99470D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296-CF59-41CD-9772-C201FC38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C4F-5891-4292-AF2E-77AB5346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D35B-470F-486B-B707-8947288B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AAA0-47D9-4DD5-A40D-887F880D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E25-F5C3-480E-A958-1CCA1976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09FB-3FE0-49D7-BF34-8E67DC9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7A8B-E892-495F-BB4F-20B5DC6F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36CA-2183-48BA-B7FE-3B8DB4CA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0CBB-5F3F-4E3E-B6B6-01C6411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F92-C134-4B59-A7B3-F69F9301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CA95-D92C-41DB-8DB0-9671B26E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513F-2ACD-40E1-9C46-1ADCF36E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64FB-7E50-4BB3-ABBA-63C7CD4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4B02-85A0-4F34-BAD6-BEE3BDB8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6ADC-C93C-47F5-9CCD-22344A5D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D31A-7AA8-4FCB-A3F4-6AD09E69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7FD3-E91D-48F5-B8AC-DBCCF7E4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B69F-C0AD-4D4C-AAE5-872C02A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DF76-5AB3-44AD-8A28-0071A101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FCCA-7F99-4534-8822-817C8E2D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66B-A7FC-40D9-9097-6ECDD72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2772-1DDB-46AA-891F-5B2318D6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E8D2-DDDE-46FE-A2D8-5F81AF8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B068-E322-4F82-9D5C-82C9824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56BE7-2847-4935-80CC-9855DBB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C0FA-767C-4189-B5FB-5706E3ED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64CD-2CF7-41CF-A36A-F778A75D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57B1-BA43-409A-819B-CE358D3A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BB32-8BB0-481E-885A-91AF030F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AD2F6-F372-413E-B61D-6298187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D2A9-EDB2-41B7-B5B3-C9C9061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289-4FFF-41BE-B76C-6C62A761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E73C-F9DC-4F54-8D34-F404D75B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79402-8F23-4F28-B6C8-317DFF7C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F407-9948-48B9-856E-C94535D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B84D-56CF-405D-AD9B-DE57340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A1CA-4DC6-4202-BC98-44CF46E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5415-A42D-44F1-80DB-1037CAA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1BCA-0FE1-44A3-A47C-F6C3447A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6042-CF9B-4335-8AA6-5466C853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E710-601B-40EC-BA64-BFF235ED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8B9-4D89-4CAD-AF16-090ACCC9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E0B-73A3-48E6-9E71-108FE7BB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837-041D-463E-AF20-05C7D5FB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FB4-69BC-46D7-83A1-1C2E2FE7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1AF-C61C-4B90-9B21-E378E7E3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8218-C8C7-48A1-A310-B8A304191D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0AE2-667C-4D5E-BCE6-03A84A68A98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93E4-AEBC-4A4D-B217-148BA7AACBD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810-FFAB-49B3-A094-7D03C5CE571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050560" y="4198320"/>
            <a:ext cx="6715080" cy="9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Харченко  Татьяна  Александровна, учитель начальных классов КОУ ВО  «ЦЛПДО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1146240" y="189000"/>
            <a:ext cx="7961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временный урок – это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диалог, подразумевающий интерактивные формы обучения, динамичность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егодня учителю недостаточно только быть хорошим предметником, ему необходимо владеть новейшими информационными технологиями, учить детей принимать самостоятельные решения и нести за них ответственность. Настоящий педагог, воплощает в себе лучшие человеческие качества, неизменно пробуждает в сердцах учеников искреннее стремление к знания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791040" cy="2097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186920" y="1000080"/>
            <a:ext cx="780444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Trebuchet MS"/>
              </a:rPr>
              <a:t>Моделируя урок, необходимо придерживаться следующих правил: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онкретно определить тему, цели, тип урока и его место в развороте учебной программ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тобрать учебный материал (определить его содержание, объем, установить связь с ранее изученным, систему управлений, дополнительный материал для дифференцированной работы и домашнее задание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брать наиболее эффективные методы и приемы обучения в данном классе, разнообразные виды деятельности учащихся и учителя на всех этапах урок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4360" y="333360"/>
            <a:ext cx="8307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Современный урок строится на основе использования технических средств с применением как традиционных, так и инновационных педагогических технолог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Определить формы контроля за учебной деятельностью школьник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Продумать оптимальный темп урока, то есть рассчитать время на каждый его этап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Продумать форму подведения итогов уро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*Продумать содержание, объем и форму домашнего зад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1523880"/>
            <a:ext cx="7491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« Если мы будем учить сегодня так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как мы учили вчера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мы украдем у детей завтра»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Trebuchet MS"/>
              </a:rPr>
              <a:t>Джон Дью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500120" y="19080"/>
            <a:ext cx="7826400" cy="2784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500120" y="3142800"/>
            <a:ext cx="7491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Актуальный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[от лат. actualis – деятельный]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значает важный, существенный для настоящего времен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91040" cy="2004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амостоятельно и критически мыслить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идеть и формировать проблем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грамотно работать с информацией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быть коммуникабельными, уметь работать в коллективе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владевать навыками ИКТ-технолог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7fd13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5b6f"/>
                </a:solidFill>
                <a:latin typeface="Trebuchet MS"/>
              </a:rPr>
              <a:t>Ключевая роль на </a:t>
            </a:r>
            <a:r>
              <a:rPr b="1" lang="ru-RU" sz="2400" spc="-1" strike="noStrike">
                <a:solidFill>
                  <a:srgbClr val="4e5b6f"/>
                </a:solidFill>
                <a:latin typeface="Trebuchet MS"/>
              </a:rPr>
              <a:t>уроке</a:t>
            </a:r>
            <a:r>
              <a:rPr b="0" lang="ru-RU" sz="2400" spc="-1" strike="noStrike">
                <a:solidFill>
                  <a:srgbClr val="4e5b6f"/>
                </a:solidFill>
                <a:latin typeface="Trebuchet MS"/>
              </a:rPr>
              <a:t> принадлежит </a:t>
            </a:r>
            <a:r>
              <a:rPr b="0" lang="ru-RU" sz="2400" spc="-1" strike="noStrike">
                <a:solidFill>
                  <a:srgbClr val="c00000"/>
                </a:solidFill>
                <a:latin typeface="Trebuchet MS"/>
              </a:rPr>
              <a:t>учителю</a:t>
            </a:r>
            <a:r>
              <a:rPr b="0" lang="ru-RU" sz="2400" spc="-1" strike="noStrike">
                <a:solidFill>
                  <a:srgbClr val="4e5b6f"/>
                </a:solidFill>
                <a:latin typeface="Trebuchet MS"/>
              </a:rPr>
              <a:t>, так как на уроке дети должны получить возможность раскрыть свои способности, подготовиться к жизни в высокотехнологичном конкурентном мир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7fd13b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5b6f"/>
                </a:solidFill>
                <a:latin typeface="Trebuchet MS"/>
              </a:rPr>
              <a:t>Возможность получения качественного образования становится одной из наиболее важных жизненных ценностей гражда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00120" y="714240"/>
            <a:ext cx="7491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Современный урок – это понятный для нас урок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Современный урок – это весёлый, познавательный, интересный и нетрудный урок, на котором учитель и ученик свободно общаются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3.Современный урок – это разнообразный урок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4.Современный урок – это урок, на котором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выслушивают любое твоё мнение, урок, где человек учится быть человеко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5.Современный урок – это урок, на котором чувствуешь себя уверенно, и на нём не бывает стрессо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6.Современный урок - это урок, на котором решаются задачи, которые готовят нас к жизни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1792440" y="4206960"/>
            <a:ext cx="6765840" cy="1815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силивается </a:t>
            </a:r>
            <a:r>
              <a:rPr b="0" i="1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ориентация на достижение конкретно сформулированного ожидаемого результат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аким образом, повышается </a:t>
            </a:r>
            <a:r>
              <a:rPr b="0" i="1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технологичность урока</a:t>
            </a: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 возможно в силу системности урока. В соответствии с ожидаемым результатом можно подобрать адекватное содержание, структуру, методы, формы организации учебной деятельности дет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силивается </a:t>
            </a:r>
            <a:r>
              <a:rPr b="0" i="1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внимание к  развивающим  и воспитательным  задачам (результатам) уро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402920" y="1125360"/>
            <a:ext cx="648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временный урок - это урок, на котором учитель видит каждого ученика и старается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максимально возможно использовать его потенциал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то урок, на котором происходит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живое общение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всех участников на основе доверия и взаимопоним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временный урок - это использова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информационно-коммуникационных технолог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00120" y="714240"/>
            <a:ext cx="7491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ля современного урока характерна ориентация на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живое, личностно значимое знание уча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временный урок предполагает обеспечение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истемных, обобщенных знаний способов деятельно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временный урок опирается на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творческую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знавательную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деятельность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а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а современном модернизированном уроке максимально учитываются 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индивидуальные особенности уча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0:53:48Z</dcterms:created>
  <dc:creator>1</dc:creator>
  <dc:description/>
  <dc:language>en-US</dc:language>
  <cp:lastModifiedBy>Светлана</cp:lastModifiedBy>
  <dcterms:modified xsi:type="dcterms:W3CDTF">2020-04-13T09:11:57Z</dcterms:modified>
  <cp:revision>69</cp:revision>
  <dc:subject/>
  <dc:title>Океания-это тайна за семью печатями? </dc:title>
</cp:coreProperties>
</file>