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F4AE-0EE2-4975-AFB3-6022D503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F5D-FFB5-41EC-9CAE-0737164C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1861-F7D9-4169-A3F9-6CE657C2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BB82-F00D-4458-8D3C-B111A8F6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44F1-BF59-4A58-A95A-3F3D7745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16CE-DF29-4356-94CF-8A728333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3B8D-800A-492F-BA7F-8286C4B9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94AA-3A70-4B14-94CA-C76C855D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EB6F-76A2-45DE-98B4-7FFA7E3E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ED8E-FF55-4DA6-B2DE-5553FE1B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0F04-A69F-4A89-958C-A8BAB1F0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CCD-08AC-4D2B-B80A-4FF20B3A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55B3-B22A-40E0-8A87-B7AC1FD5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0E7E-F7A7-491E-9280-03A2CFA6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A40D-6E99-4216-A8FE-CA986557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F5E8-1378-4CB4-B8D5-B7BE3458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35B9-E36E-4A89-A049-3341047F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B69C9-DB67-457B-939C-4C3AF5E2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D8D8F-2391-46EA-867C-E4531CE3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53035-EC17-4631-A1B7-150725C6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81430-AE3B-41E5-BF2D-7AF87A7A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DC695-4EB2-409D-938D-3B443CC6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8BF-C1E8-4751-A7EA-47244429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E6B18-ADD3-4668-8277-1536FFCF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20500-CA4C-4B5E-BFFF-9AF09FE4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B4605-5787-4B98-A396-91AFEFBA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B5A48-727D-447E-ABCB-8CF06082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A7F0F-D5F4-4858-A3BD-B5D8B50E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C6556-ADA5-4A28-B7AA-57923110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43EE9-3F33-4626-86A9-5810B21C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73204-418E-4C13-A22D-2544D5F2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9276C-2D19-46AF-826C-7DD875D4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79C9F-6BB3-4EC9-AAA8-72A2E422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B1E8-F95E-4678-9B31-672C5191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0E62D-042C-40C4-85F4-9037AB45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5239C-606F-46A8-987D-84C3228C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A582B-996F-47D8-80BE-760C0E76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E757A-5B02-427F-8A0A-2AE45E50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58051-C6C3-4930-8B7B-6CFBD678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69F04-CD97-4089-A8A1-4A90648A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BE74B-DB56-4D02-BB8C-FB7466E6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8FE41-C278-49A4-BB29-4C2DAC37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D3EAE-DBA8-4D03-9396-4B5AC050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94E-23A2-457B-A2E0-C68316D6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B74F-9DF0-487C-9E9E-9E06AAC0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80B7-6CDB-4738-81DE-6EC5B46D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2B6B-1589-4A59-935F-1FDA6292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1B07-EDCE-4488-870F-A64175F0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A84C-19A9-4ED7-9E4E-F35545AA8E1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F41D-0CEA-4C2B-8DB0-71A26D4D419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4F18-04F2-4FC8-A5ED-5F179C89CF9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155E-9696-40CA-B8C2-69D5EC9D6E7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2050560" y="4198320"/>
            <a:ext cx="6715080" cy="95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Харченко  Татьяна  Александровна, учитель начальных классов КОУ ВО  «ЦЛПДО»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                  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1146240" y="189000"/>
            <a:ext cx="7961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500120" y="856800"/>
            <a:ext cx="7491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овременный урок – это 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диалог, подразумевающий интерактивные формы обучения, динамичность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егодня учителю недостаточно только быть хорошим предметником, ему необходимо владеть новейшими информационными технологиями, учить детей принимать самостоятельные решения и нести за них ответственность. Настоящий педагог, воплощает в себе лучшие человеческие качества, неизменно пробуждает в сердцах учеников искреннее стремление к знания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92440" y="4157640"/>
            <a:ext cx="6791040" cy="2097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1186920" y="1000080"/>
            <a:ext cx="780444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2060"/>
                </a:solidFill>
                <a:uFillTx/>
                <a:latin typeface="Trebuchet MS"/>
              </a:rPr>
              <a:t>Моделируя урок, необходимо придерживаться следующих правил: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онкретно определить тему, цели, тип урока и его место в развороте учебной программы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тобрать учебный материал (определить его содержание, объем, установить связь с ранее изученным, систему управлений, дополнительный материал для дифференцированной работы и домашнее задание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ыбрать наиболее эффективные методы и приемы обучения в данном классе, разнообразные виды деятельности учащихся и учителя на всех этапах урок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4360" y="333360"/>
            <a:ext cx="8307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Современный урок строится на основе использования технических средств с применением как традиционных, так и инновационных педагогических технолог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*Определить формы контроля за учебной деятельностью школьнико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*Продумать оптимальный темп урока, то есть рассчитать время на каждый его этап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*Продумать форму подведения итогов уро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*Продумать содержание, объем и форму домашнего зада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00120" y="1523880"/>
            <a:ext cx="7491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« Если мы будем учить сегодня так,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    </a:t>
            </a: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как мы учили вчера,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мы украдем у детей завтра»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                                            </a:t>
            </a:r>
            <a:r>
              <a:rPr b="0" i="1" lang="ru-RU" sz="2400" spc="-1" strike="noStrike">
                <a:solidFill>
                  <a:srgbClr val="c00000"/>
                </a:solidFill>
                <a:latin typeface="Trebuchet MS"/>
              </a:rPr>
              <a:t>Джон Дью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1500120" y="19080"/>
            <a:ext cx="7826400" cy="2784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500120" y="3142800"/>
            <a:ext cx="7491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Актуальный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[от лат. actualis – деятельный]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значает важный, существенный для настоящего времен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1792440" y="4187880"/>
            <a:ext cx="6791040" cy="20048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амостоятельно и критически мыслить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идеть и формировать проблему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грамотно работать с информацией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быть коммуникабельными, уметь работать в коллективе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владевать навыками ИКТ-технологий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7fd13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5b6f"/>
                </a:solidFill>
                <a:latin typeface="Trebuchet MS"/>
              </a:rPr>
              <a:t>Ключевая роль на </a:t>
            </a:r>
            <a:r>
              <a:rPr b="1" lang="ru-RU" sz="2400" spc="-1" strike="noStrike">
                <a:solidFill>
                  <a:srgbClr val="4e5b6f"/>
                </a:solidFill>
                <a:latin typeface="Trebuchet MS"/>
              </a:rPr>
              <a:t>уроке</a:t>
            </a:r>
            <a:r>
              <a:rPr b="0" lang="ru-RU" sz="2400" spc="-1" strike="noStrike">
                <a:solidFill>
                  <a:srgbClr val="4e5b6f"/>
                </a:solidFill>
                <a:latin typeface="Trebuchet MS"/>
              </a:rPr>
              <a:t> принадлежит </a:t>
            </a:r>
            <a:r>
              <a:rPr b="0" lang="ru-RU" sz="2400" spc="-1" strike="noStrike">
                <a:solidFill>
                  <a:srgbClr val="c00000"/>
                </a:solidFill>
                <a:latin typeface="Trebuchet MS"/>
              </a:rPr>
              <a:t>учителю</a:t>
            </a:r>
            <a:r>
              <a:rPr b="0" lang="ru-RU" sz="2400" spc="-1" strike="noStrike">
                <a:solidFill>
                  <a:srgbClr val="4e5b6f"/>
                </a:solidFill>
                <a:latin typeface="Trebuchet MS"/>
              </a:rPr>
              <a:t>, так как на уроке дети должны получить возможность раскрыть свои способности, подготовиться к жизни в высокотехнологичном конкурентном мире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7fd13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5b6f"/>
                </a:solidFill>
                <a:latin typeface="Trebuchet MS"/>
              </a:rPr>
              <a:t>Возможность получения качественного образования становится одной из наиболее важных жизненных ценностей граждан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500120" y="714240"/>
            <a:ext cx="74916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16956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1.Современный урок – это понятный для нас урок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2.Современный урок – это весёлый, познавательный, интересный и нетрудный урок, на котором учитель и ученик свободно общаются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3.Современный урок – это разнообразный урок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4.Современный урок – это урок, на котором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выслушивают любое твоё мнение, урок, где человек учится быть человеком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5.Современный урок – это урок, на котором чувствуешь себя уверенно, и на нём не бывает стрессо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6.Современный урок - это урок, на котором решаются задачи, которые готовят нас к жизни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1792440" y="4206960"/>
            <a:ext cx="6765840" cy="18158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усиливается </a:t>
            </a:r>
            <a:r>
              <a:rPr b="0" i="1" lang="ru-RU" sz="2000" spc="-1" strike="noStrike" u="sng">
                <a:solidFill>
                  <a:srgbClr val="404040"/>
                </a:solidFill>
                <a:uFillTx/>
                <a:latin typeface="Trebuchet MS"/>
              </a:rPr>
              <a:t>ориентация на достижение конкретно сформулированного ожидаемого результат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таким образом, повышается </a:t>
            </a:r>
            <a:r>
              <a:rPr b="0" i="1" lang="ru-RU" sz="2000" spc="-1" strike="noStrike" u="sng">
                <a:solidFill>
                  <a:srgbClr val="404040"/>
                </a:solidFill>
                <a:uFillTx/>
                <a:latin typeface="Trebuchet MS"/>
              </a:rPr>
              <a:t>технологичность урока</a:t>
            </a:r>
            <a:r>
              <a:rPr b="0" i="1" lang="ru-RU" sz="2000" spc="-1" strike="noStrike">
                <a:solidFill>
                  <a:srgbClr val="404040"/>
                </a:solidFill>
                <a:latin typeface="Trebuchet MS"/>
              </a:rPr>
              <a:t>,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то возможно в силу системности урока. В соответствии с ожидаемым результатом можно подобрать адекватное содержание, структуру, методы, формы организации учебной деятельности дете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усиливается </a:t>
            </a:r>
            <a:r>
              <a:rPr b="0" i="1" lang="ru-RU" sz="2000" spc="-1" strike="noStrike" u="sng">
                <a:solidFill>
                  <a:srgbClr val="404040"/>
                </a:solidFill>
                <a:uFillTx/>
                <a:latin typeface="Trebuchet MS"/>
              </a:rPr>
              <a:t>внимание к  развивающим  и воспитательным  задачам (результатам) урок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402920" y="1125360"/>
            <a:ext cx="6481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овременный урок - это урок, на котором учитель видит каждого ученика и старается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максимально возможно использовать его потенциал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Это урок, на котором происходит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живое общение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всех участников на основе доверия и взаимопонима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овременный урок - это использова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информационно-коммуникационных технолог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500120" y="714240"/>
            <a:ext cx="74916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Для современного урока характерна ориентация на 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живое, личностно значимое знание учащихс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овременный урок предполагает обеспечение 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системных, обобщенных знаний способов деятельност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овременный урок опирается на 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творческую</a:t>
            </a: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ознавательную 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деятельность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учащихс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На современном модернизированном уроке максимально учитываются 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индивидуальные особенности учащихс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0:53:48Z</dcterms:created>
  <dc:creator>1</dc:creator>
  <dc:description/>
  <dc:language>en-US</dc:language>
  <cp:lastModifiedBy>Светлана</cp:lastModifiedBy>
  <dcterms:modified xsi:type="dcterms:W3CDTF">2020-04-13T09:11:57Z</dcterms:modified>
  <cp:revision>69</cp:revision>
  <dc:subject/>
  <dc:title>Океания-это тайна за семью печатями? </dc:title>
</cp:coreProperties>
</file>