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024E7-5FBF-4108-BA5C-50F867F5E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66B31-60ED-4C73-9B92-CB7E9D628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6DADC-A949-46A9-9F5C-A9CC960C0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1ED62-782B-43E6-B03C-CDA5FE3D7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79249-5882-4D8B-9F9A-B923D3651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E60BE-2584-4DDD-A095-A099B328B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B98CE-B37D-42BC-A1D9-54305B954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35D1B-75D2-4555-B407-385B1EB85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2B11E-4830-4D13-A27B-15417140E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4AD5A-514D-4668-96DE-0E52E94EB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DD960-16E3-4D13-B90C-645C15525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21A9B-2961-49D3-95BE-9073AFD41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0409A-5C70-4203-B360-521AD2DFF069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best-gif.narod.ru/images/1022.gif" TargetMode="External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400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Списать слова, вставить пропущенные буквы, обозначить орфограмму графически</a:t>
            </a:r>
            <a:br>
              <a:rPr sz="2400"/>
            </a:b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Text Box 16"/>
          <p:cNvSpPr/>
          <p:nvPr/>
        </p:nvSpPr>
        <p:spPr>
          <a:xfrm>
            <a:off x="1619280" y="4508640"/>
            <a:ext cx="7056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6161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16161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61616"/>
                </a:solidFill>
                <a:latin typeface="Arial"/>
              </a:rPr>
              <a:t>ВЫР…СТИ, ПОЛ…ЖЕНИЕ,  ВЫР…ЩЕННЫЙ,  СР…ЩЕНИЕ,ИЗЛ…ГАТЬ, Р…СТОВЩИК, ПРЕДЛ…ГАТЬ, РАЗР…СЛИСЬ, </a:t>
            </a:r>
            <a:r>
              <a:rPr b="0" lang="ru-RU" sz="3600" spc="-1" strike="noStrike">
                <a:solidFill>
                  <a:srgbClr val="161616"/>
                </a:solidFill>
                <a:latin typeface="Arial"/>
              </a:rPr>
              <a:t>прик…саться</a:t>
            </a:r>
            <a:r>
              <a:rPr b="0" lang="ru-RU" sz="2800" spc="-1" strike="noStrike">
                <a:solidFill>
                  <a:srgbClr val="161616"/>
                </a:solidFill>
                <a:latin typeface="Arial"/>
              </a:rPr>
              <a:t>, ВЫБ…РАЕТ,ВБ…РЁТ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6161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61616"/>
                </a:solidFill>
                <a:latin typeface="Arial"/>
              </a:rPr>
              <a:t>       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Какой корень лишний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Arial"/>
              </a:rPr>
              <a:t>«Проверь себя»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Выр</a:t>
            </a: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сти, пол</a:t>
            </a: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жение, выр</a:t>
            </a: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щенный,   ср</a:t>
            </a: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щение, изл</a:t>
            </a: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гать, р</a:t>
            </a: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стовщик, предл</a:t>
            </a: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гать, разр</a:t>
            </a: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слись, прик</a:t>
            </a: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саться, сл</a:t>
            </a: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гаемое, выб</a:t>
            </a: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и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рает, вб</a:t>
            </a: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е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рёт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564000" y="1916280"/>
            <a:ext cx="4968720" cy="129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уквы е-и в корнях с чередованием</a:t>
            </a:r>
            <a:br>
              <a:rPr sz="3200"/>
            </a:b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7" name="Прямоугольник 4"/>
          <p:cNvSpPr/>
          <p:nvPr/>
        </p:nvSpPr>
        <p:spPr>
          <a:xfrm>
            <a:off x="6858000" y="6357960"/>
            <a:ext cx="2286000" cy="500040"/>
          </a:xfrm>
          <a:prstGeom prst="rect">
            <a:avLst/>
          </a:prstGeom>
          <a:solidFill>
            <a:srgbClr val="3366cc"/>
          </a:solidFill>
          <a:ln w="25560">
            <a:solidFill>
              <a:srgbClr val="2349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ezentacii.c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Письмо Ослику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601560" y="1484280"/>
            <a:ext cx="8229600" cy="475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243360" indent="-243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Давно соб…раюсь к тебе. Зап…раю бл…стящим ключиком свою дверь. Густой туман заст…лает тропинку. Но вот забл…стели первые лучи солнышка. Они заж…гают маленькие огонёчки в каждой капельке росы. Клочки тумана соб…раются в прохладных низинах, оп…раясь на травинки. Бл…стательная картина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43360" indent="-243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43360" indent="-24336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                    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43360" indent="-24336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                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43360" indent="-24336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43360" indent="-24336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Box 4"/>
          <p:cNvSpPr/>
          <p:nvPr/>
        </p:nvSpPr>
        <p:spPr>
          <a:xfrm>
            <a:off x="1973160" y="4094280"/>
            <a:ext cx="721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Box 4"/>
          <p:cNvSpPr/>
          <p:nvPr/>
        </p:nvSpPr>
        <p:spPr>
          <a:xfrm>
            <a:off x="1976400" y="4137120"/>
            <a:ext cx="721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4360" y="307800"/>
            <a:ext cx="8229600" cy="1176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ffff"/>
                </a:solidFill>
                <a:latin typeface="Arial"/>
              </a:rPr>
              <a:t>Сформулируйте правило написания букв –е, -и в следующих корнях: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1224000" y="1155600"/>
            <a:ext cx="2952720" cy="54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Б</a:t>
            </a:r>
            <a:r>
              <a:rPr b="0" lang="ru-RU" sz="2400" spc="-1" strike="noStrike">
                <a:solidFill>
                  <a:srgbClr val="cc0000"/>
                </a:solidFill>
                <a:latin typeface="Arial"/>
              </a:rPr>
              <a:t>Е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 – Б</a:t>
            </a:r>
            <a:r>
              <a:rPr b="0" lang="ru-RU" sz="2400" spc="-1" strike="noStrike">
                <a:solidFill>
                  <a:srgbClr val="cc0000"/>
                </a:solidFill>
                <a:latin typeface="Arial"/>
              </a:rPr>
              <a:t>И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 –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Д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Е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 – Д</a:t>
            </a:r>
            <a:r>
              <a:rPr b="0" lang="ru-RU" sz="2400" spc="-1" strike="noStrike">
                <a:solidFill>
                  <a:srgbClr val="cc0000"/>
                </a:solidFill>
                <a:latin typeface="Arial"/>
              </a:rPr>
              <a:t>И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 –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</a:t>
            </a:r>
            <a:r>
              <a:rPr b="0" lang="ru-RU" sz="2400" spc="-1" strike="noStrike">
                <a:solidFill>
                  <a:srgbClr val="cc0000"/>
                </a:solidFill>
                <a:latin typeface="Arial"/>
              </a:rPr>
              <a:t>Е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 – М</a:t>
            </a:r>
            <a:r>
              <a:rPr b="0" lang="ru-RU" sz="2400" spc="-1" strike="noStrike">
                <a:solidFill>
                  <a:srgbClr val="cc0000"/>
                </a:solidFill>
                <a:latin typeface="Arial"/>
              </a:rPr>
              <a:t>И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 –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П</a:t>
            </a:r>
            <a:r>
              <a:rPr b="0" lang="ru-RU" sz="2400" spc="-1" strike="noStrike">
                <a:solidFill>
                  <a:srgbClr val="cc0000"/>
                </a:solidFill>
                <a:latin typeface="Arial"/>
              </a:rPr>
              <a:t>Е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 – П</a:t>
            </a:r>
            <a:r>
              <a:rPr b="0" lang="ru-RU" sz="2400" spc="-1" strike="noStrike">
                <a:solidFill>
                  <a:srgbClr val="cc0000"/>
                </a:solidFill>
                <a:latin typeface="Arial"/>
              </a:rPr>
              <a:t>И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 –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СТ</a:t>
            </a:r>
            <a:r>
              <a:rPr b="0" lang="ru-RU" sz="2400" spc="-1" strike="noStrike">
                <a:solidFill>
                  <a:srgbClr val="cc0000"/>
                </a:solidFill>
                <a:latin typeface="Arial"/>
              </a:rPr>
              <a:t>Е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Л – СТ</a:t>
            </a:r>
            <a:r>
              <a:rPr b="0" lang="ru-RU" sz="2400" spc="-1" strike="noStrike">
                <a:solidFill>
                  <a:srgbClr val="cc0000"/>
                </a:solidFill>
                <a:latin typeface="Arial"/>
              </a:rPr>
              <a:t>И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Л –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Ж</a:t>
            </a:r>
            <a:r>
              <a:rPr b="0" lang="ru-RU" sz="2400" spc="-1" strike="noStrike">
                <a:solidFill>
                  <a:srgbClr val="cc0000"/>
                </a:solidFill>
                <a:latin typeface="Arial"/>
              </a:rPr>
              <a:t>Е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Г – Ж</a:t>
            </a:r>
            <a:r>
              <a:rPr b="0" lang="ru-RU" sz="2400" spc="-1" strike="noStrike">
                <a:solidFill>
                  <a:srgbClr val="cc0000"/>
                </a:solidFill>
                <a:latin typeface="Arial"/>
              </a:rPr>
              <a:t>И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Г –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БЛ</a:t>
            </a:r>
            <a:r>
              <a:rPr b="0" lang="ru-RU" sz="2400" spc="-1" strike="noStrike">
                <a:solidFill>
                  <a:srgbClr val="cc0000"/>
                </a:solidFill>
                <a:latin typeface="Arial"/>
              </a:rPr>
              <a:t>Е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Т – БЛ</a:t>
            </a:r>
            <a:r>
              <a:rPr b="0" lang="ru-RU" sz="2400" spc="-1" strike="noStrike">
                <a:solidFill>
                  <a:srgbClr val="cc0000"/>
                </a:solidFill>
                <a:latin typeface="Arial"/>
              </a:rPr>
              <a:t>И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Т 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AutoShape 9"/>
          <p:cNvSpPr/>
          <p:nvPr/>
        </p:nvSpPr>
        <p:spPr>
          <a:xfrm>
            <a:off x="3708360" y="1484280"/>
            <a:ext cx="934920" cy="4608720"/>
          </a:xfrm>
          <a:custGeom>
            <a:avLst/>
            <a:gdLst>
              <a:gd name="textAreaLeft" fmla="*/ 0 w 934920"/>
              <a:gd name="textAreaRight" fmla="*/ 337680 w 934920"/>
              <a:gd name="textAreaTop" fmla="*/ 119880 h 4608720"/>
              <a:gd name="textAreaBottom" fmla="*/ 4488840 h 460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76320">
            <a:solidFill>
              <a:srgbClr val="00b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Text Box 10"/>
          <p:cNvSpPr/>
          <p:nvPr/>
        </p:nvSpPr>
        <p:spPr>
          <a:xfrm flipV="1">
            <a:off x="4643280" y="3645000"/>
            <a:ext cx="1873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Text Box 11"/>
          <p:cNvSpPr/>
          <p:nvPr/>
        </p:nvSpPr>
        <p:spPr>
          <a:xfrm>
            <a:off x="4572000" y="2924280"/>
            <a:ext cx="934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99"/>
                </a:solidFill>
                <a:latin typeface="Arial"/>
              </a:rPr>
              <a:t>А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12"/>
          <p:cNvSpPr/>
          <p:nvPr/>
        </p:nvSpPr>
        <p:spPr>
          <a:xfrm flipV="1">
            <a:off x="4464000" y="2565000"/>
            <a:ext cx="576360" cy="576360"/>
          </a:xfrm>
          <a:prstGeom prst="line">
            <a:avLst/>
          </a:prstGeom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Line 13"/>
          <p:cNvSpPr/>
          <p:nvPr/>
        </p:nvSpPr>
        <p:spPr>
          <a:xfrm>
            <a:off x="5003640" y="2565360"/>
            <a:ext cx="432000" cy="576360"/>
          </a:xfrm>
          <a:prstGeom prst="line">
            <a:avLst/>
          </a:prstGeom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Прямоугольник 1"/>
          <p:cNvSpPr/>
          <p:nvPr/>
        </p:nvSpPr>
        <p:spPr>
          <a:xfrm>
            <a:off x="4429080" y="4857840"/>
            <a:ext cx="3581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Если есть суффикс а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В корне и пиши всегда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ffff"/>
                </a:solidFill>
                <a:latin typeface="Arial"/>
              </a:rPr>
              <a:t>В каком ряду у всех глаголов в корне пишется буква </a:t>
            </a:r>
            <a:r>
              <a:rPr b="0" lang="ru-RU" sz="3200" spc="-1" strike="noStrike">
                <a:solidFill>
                  <a:srgbClr val="cc0000"/>
                </a:solidFill>
                <a:latin typeface="Arial"/>
              </a:rPr>
              <a:t>И</a:t>
            </a:r>
            <a:r>
              <a:rPr b="0" lang="ru-RU" sz="3200" spc="-1" strike="noStrike">
                <a:solidFill>
                  <a:srgbClr val="ccffff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68360" y="1267920"/>
            <a:ext cx="8229600" cy="442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1) заж…гать, зап…рать, вым…рать, раст…рать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2) ст…лить, забл…стел, наб…рать, переж…гать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3) соб…ру, выт…реть, разд…ру, вым…реть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4) бл…стать, зам…реть, прод…раться, расст…латься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Line 5"/>
          <p:cNvSpPr/>
          <p:nvPr/>
        </p:nvSpPr>
        <p:spPr>
          <a:xfrm>
            <a:off x="1476360" y="1844640"/>
            <a:ext cx="6048360" cy="0"/>
          </a:xfrm>
          <a:prstGeom prst="line">
            <a:avLst/>
          </a:prstGeom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Line 6"/>
          <p:cNvSpPr/>
          <p:nvPr/>
        </p:nvSpPr>
        <p:spPr>
          <a:xfrm>
            <a:off x="971640" y="2349360"/>
            <a:ext cx="1944720" cy="0"/>
          </a:xfrm>
          <a:prstGeom prst="line">
            <a:avLst/>
          </a:prstGeom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ffff"/>
                </a:solidFill>
                <a:latin typeface="Arial"/>
              </a:rPr>
              <a:t>Объясните правописание корней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15640" y="1197000"/>
            <a:ext cx="4762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Серый зайка уд…рает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Сердце в пятках зам…рает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Расст…лаясь по тропинке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Мимо ёлки и осин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Он бл…стательно бежит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Выб…рает вираж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Обж…гает ветер ушки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Скок – поскок –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Беглец в избушк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Зап…рай, зайчиха, дверь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Нам не страшен жуткий зверь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                          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Н. Тимофеенк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" name="Picture 6" descr="Картинка 5 из 1534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668920" y="2487600"/>
            <a:ext cx="293364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оставить диктант  с чередующимися гласными –и, -е из 20 слов, обозначить орфограмм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писать сочинение на тему «Лесные санитары», употребив слова с чередующимися гласными Е – И в корнях сл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7T17:55:06Z</dcterms:created>
  <dc:creator>Mariajose</dc:creator>
  <dc:description/>
  <dc:language>en-US</dc:language>
  <cp:lastModifiedBy>Ксан</cp:lastModifiedBy>
  <dcterms:modified xsi:type="dcterms:W3CDTF">2020-04-13T11:48:55Z</dcterms:modified>
  <cp:revision>87</cp:revision>
  <dc:subject/>
  <dc:title>Diapositiva 1</dc:title>
</cp:coreProperties>
</file>