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3E6A-1E7C-4AEB-AD37-FF7668C95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0CD-72D7-4B6F-8974-B5E9968111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EB4-3EB1-4674-A403-9CE5D27A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3FD-C4D4-44FF-9000-5EAD35E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9A4-53A1-4360-B766-5641A6D1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79-EA1E-47B5-86C7-CDA1CECB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4BE3-BE4B-439F-BE56-C964A11D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CFB-A939-41AF-A08A-ACE04A94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89D7-F3DB-4095-AE23-0CB06CA1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FC4F-0C46-40F3-9B80-5468D12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9EA5-1623-4140-9CCA-C601AB5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62C5-C8D8-416A-8CDD-63C0FBC4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3D85-C1F0-4173-B28A-54F3A06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D27-EE8B-4CAF-A528-AA24331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0D98-58F1-4878-805D-B8C42657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023C-2F53-44BF-B0EE-DD9871B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FA3F-EC73-423D-8ECF-88180EDF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FEF-01EF-4707-B9E7-5E555FFE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32B3-7B95-4E3F-9A23-809EFA7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B189-ACC6-4FBB-BDA3-D7E3F24B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D5F0-ADDA-418A-AC2E-E57D34F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A015-9B3D-4821-A8B7-D2D7260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838F-0C61-4E2D-B038-280B1D4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DC40-7BC6-4D74-AEFE-EE7DA1D4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E0B-F5C8-4911-AC7D-5FF6FF4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D917-7AF9-4438-B93C-41F1A38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6298-A356-4E90-BF2F-7BFE4E0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FA1A-0999-4316-B3E7-33490F2B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EB2D-DAD8-4E3F-8BC8-1425E54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CFB3-F202-4A4E-A0F8-C31039E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A106-F22C-4451-99ED-DAC18901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8D3F-26A0-4327-B777-0CAF3D6A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FCB8-61C4-4EA5-B747-6F3614DC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AF02-0719-4A42-AAF2-F735A7CC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3CF1-4579-407B-B49E-BAF071B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286-7F30-4FBF-A7CF-FED084F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B4E7-71A6-4480-BE31-270F7D5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6CD2-7DFC-48E2-8C12-78350E0E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60A2-A1FB-4340-A6CB-D18D025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A1A8-763E-49FA-B28A-DD1419A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00C6-78AE-4788-97D0-91ED056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6246-BA79-486A-BEE7-E854848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4C8B-DD52-4AB3-9C33-EDC5E892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F2CB-D504-4A36-A6D2-FD3AFC49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8B4C-7BD1-4BA6-9461-24C26C04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08BC-B220-4FCA-A424-E681C968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594-88EC-47B5-938B-38011E35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B6D8-3941-48BA-BD47-053886D8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4E60-E0A5-4F3D-9A9D-7C0D8EE7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4E9D-A034-48A9-8985-9C6932C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DC1A-A785-4450-80FB-EBC93690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EEB5-8C2B-40FD-9A3B-00E5522F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70AFF-7AF7-4154-BE2F-B36273C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D501-8672-43D4-BF41-A8D5885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7532-1473-42AE-91E8-A3C0EE79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8605-A7C4-42A9-A26B-B4D37C5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00A9-BFE2-43C7-905B-25A6E4FE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888-2589-482A-ADEE-75CB0704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A7A5-A25B-4648-9160-244FF502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B436-0EE2-4625-9975-988BD505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CF83F-FC79-464A-8CD6-76D3A6E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FE0B3-0185-41D1-85CA-5651C20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15C1-BE9B-4956-8C7F-44EAC15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CC575-0849-4231-882A-EBAEEE2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4A7A-075C-413B-9D2F-A0779CBC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C19A-F20D-403B-AEB6-395F32F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7728-2D3D-4AF0-B35A-F78C87C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64B2-7B9D-47AE-A0C3-BFCE7B6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F83-5E8B-4BDB-9360-C1D353F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2A169-049B-4DEC-A73E-9B8AA54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D362-28F2-47BB-B7F4-9F0F9020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A9C-4F82-4A92-8D79-742E95FB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933DE-4570-475A-B96B-DA48EF22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911E-5F6C-498B-982F-BF4B0B9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B033-7D63-4F9A-8CBD-F6B42F95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F958-B394-42D9-ADA3-50AEE48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8F67-D0FD-4EE3-8BED-3F105F84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C4F8-820E-4F5C-9F70-519D4F4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1F70-F972-4112-BB0E-4EBEC22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9EE-ECE2-4BE1-BCF6-7279AE98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EF888-9B5D-4152-8B39-1EC2F7C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888CB-BB45-4AF9-821C-D92C227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3FE6-768C-4F66-BBA1-83FF0EF5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F7D5A-FE17-42BC-A002-4FB59A4C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8154-FAA5-4F58-B8E3-1791057E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6BC-1A76-4785-A752-0AE3545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057-9F32-45F2-89C9-9572C8F3EF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597-E77F-40A7-B2B3-C92DF8EE06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138A-E2BA-4A0F-ACC7-E6B0C8392E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4F2-3A9C-4F09-9610-7D78610F73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C0C-0D41-41A0-B65B-2607DCFF0F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0333-F880-49B9-8A63-1B72853E49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2864-08B9-4466-866F-B6B93F175D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Министерство науки и образования РБ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ГБОУ «Республиканская Мариинская школа-интернат»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Подзаголовок 2"/>
          <p:cNvSpPr/>
          <p:nvPr/>
        </p:nvSpPr>
        <p:spPr>
          <a:xfrm>
            <a:off x="1332000" y="5084640"/>
            <a:ext cx="7343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 проекта : Дабажалсанова И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ца 8 Б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БОУ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МШ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 проекта: Бардуева Г.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971640" y="836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Моя малая родина-село Занди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В Мухоршибирском районе в маленьком селе Зандин возрождают традиции"/>
          <p:cNvPicPr/>
          <p:nvPr/>
        </p:nvPicPr>
        <p:blipFill>
          <a:blip r:embed="rId1"/>
          <a:stretch/>
        </p:blipFill>
        <p:spPr>
          <a:xfrm>
            <a:off x="1403280" y="141300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дея создания дугана в селе Зандин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2000" y="1915920"/>
            <a:ext cx="7488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с Зандин богат своей историей. Согласно летописям в 1732 году здесь действовал буддийский дацан, первый среди родов хоринских бурят. В нача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 он был разрушен, но основание сохранилось. Именно на этом месте зандинцы решили восстановить храм, а в прошлом году воздвигли ступу - мемориал воинам-земляка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Мой дедушка Дабажалсанов Дмитрий Чимитович – настоящий патриот своего края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918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ощь при  создании Дугана жителями села Зандин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4067280" y="4005360"/>
            <a:ext cx="4825800" cy="2592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21120" cy="269100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4"/>
          <p:cNvSpPr/>
          <p:nvPr/>
        </p:nvSpPr>
        <p:spPr>
          <a:xfrm>
            <a:off x="1258920" y="126828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Бурятии дал распоряжение о строительстве и ремонте объектов инфраструктуры и ответил на вопросы ж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Цыденов вместе с правительственной делегацией 11 июня побывал с рабочей поездкой в Мухоршибирском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5819760" y="0"/>
            <a:ext cx="3324240" cy="2492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605480" cy="3357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4"/>
          <a:stretch/>
        </p:blipFill>
        <p:spPr>
          <a:xfrm>
            <a:off x="0" y="4525920"/>
            <a:ext cx="3106800" cy="2332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"/>
          <p:cNvPicPr/>
          <p:nvPr/>
        </p:nvPicPr>
        <p:blipFill>
          <a:blip r:embed="rId5"/>
          <a:stretch/>
        </p:blipFill>
        <p:spPr>
          <a:xfrm>
            <a:off x="5796000" y="434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"/>
          <p:cNvPicPr/>
          <p:nvPr/>
        </p:nvPicPr>
        <p:blipFill>
          <a:blip r:embed="rId6"/>
          <a:stretch/>
        </p:blipFill>
        <p:spPr>
          <a:xfrm>
            <a:off x="3348000" y="5176800"/>
            <a:ext cx="2208240" cy="1655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"/>
          <p:cNvPicPr/>
          <p:nvPr/>
        </p:nvPicPr>
        <p:blipFill>
          <a:blip r:embed="rId7"/>
          <a:stretch/>
        </p:blipFill>
        <p:spPr>
          <a:xfrm>
            <a:off x="3492360" y="0"/>
            <a:ext cx="2159280" cy="1628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"/>
          <p:cNvPicPr/>
          <p:nvPr/>
        </p:nvPicPr>
        <p:blipFill>
          <a:blip r:embed="rId8"/>
          <a:stretch/>
        </p:blipFill>
        <p:spPr>
          <a:xfrm>
            <a:off x="108000" y="2781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908360" cy="15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уган в селе Занд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Содержимое 3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416720" cy="4800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-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 проектной деятельности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58560" y="1989000"/>
            <a:ext cx="75610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проблематики сохранения малых се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циального опроса среди насел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буклетов о селе Зандин Мухоршибирского райо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41708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циальный опрос среди горожан «Сбор информации о проблемах малых деревень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759040" cy="3240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4265640" y="2565360"/>
            <a:ext cx="4846680" cy="3240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II этап проектной работ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38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жителей города Улан-Удэ с историей возникновения села Зандин Мухоршибирского района с помощью информационных  рекламных проспектов с целью ознакомления с проблемой сохранения малых сел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опрос среди населения города Улан-Удэ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25960" y="3429000"/>
            <a:ext cx="4103640" cy="3141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3816360" cy="317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1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дукт проектной деятельности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920" y="1196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го материала, буклета с различными видами рекламных проспектов об истории села Зандин, видеозаписи, альбома «Проблема хроники исчезающих деревень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5004000" cy="371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ружественное привет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1332000" y="1447920"/>
            <a:ext cx="7416720" cy="480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810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зультат проекта: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258560" y="1628280"/>
            <a:ext cx="7561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молодежь, живущая в эпоху цифровизации и культуры смешений жанров искусства, создает объемную картину фотовыставки «Мир фотографий села Зандин» и отобразит разные взгляды современного поколения на проблему сохранения малых роди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Ð¡ÑÐ¸ÑÐ¾ÑÐ²Ð¾ÑÐµÐ½Ð¸Ðµ &quot;ÐÐ¾Ñ ÐÑÑÑÑÐ¸Ñ ÑÐ»ÐµÐ·Ð¾Ñ Ð³Ð¾ÑÑÐºÐ¾Ð¹ Ð¿Ð»Ð°ÑÐµÑ&quot; Ð½Ð°Ð±Ð¸ÑÐ°ÐµÑ Ð¿Ð¾Ð¿ÑÐ»ÑÑÐ½Ð¾ÑÑÑ"/>
          <p:cNvPicPr/>
          <p:nvPr/>
        </p:nvPicPr>
        <p:blipFill>
          <a:blip r:embed="rId1"/>
          <a:stretch/>
        </p:blipFill>
        <p:spPr>
          <a:xfrm>
            <a:off x="1187280" y="1484280"/>
            <a:ext cx="7734600" cy="489744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977760" y="404640"/>
            <a:ext cx="81504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еприимная Бур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1187280" y="148428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край род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тия родн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ее тебя нет ничего на све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 в природе я родного кр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будут здесь мои родные дети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1258920" y="1496880"/>
            <a:ext cx="763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я нашего времени – возрождение в широких социальных слоях населения России интереса к истории и традиционной культуре свое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этого интереса – духовный кризис современного общества, объясняющийся утратой многими людьми своих исторических и национальных корней, как исчезновение малых дерев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е многих исторически сложившихся факторов на сегодняшний день большинство людей не знают истории, культуры, традиции, обычаи своего народа. Тема деревни близка каждому человеку, деревня – это наши истоки, корни, религия, пре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проект это культурно-познавательный экскурс в историю родного края, село Зандин Мухоршибирского района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перед обществом стоит вопрос сохранения малых сел,  необходимости решения этнокультурной проблематики, изменения отношения молодёжи и подрастающего поколения к воспитанию, к культуре бурятского народа и бережного отношения к своей истории родн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971640" y="62064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основание актуальности 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258920" y="61596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ысить познавательный интерес к изучению истории родн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7380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1042920" y="1180080"/>
            <a:ext cx="75614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ь любовь и уважение к малой родине, ее историческому прошлому, пред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чувство гордости к своим пред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чувство национального самосознания, веры и гум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олерантности, культуры межэтнического взаимодействия на основе взаимного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т моя деревня – вот мой дом родной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Заголовок 1"/>
          <p:cNvSpPr/>
          <p:nvPr/>
        </p:nvSpPr>
        <p:spPr>
          <a:xfrm>
            <a:off x="468360" y="0"/>
            <a:ext cx="82296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65324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7488000" cy="5937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тория возникновения села Зандин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58560" y="141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13 году хори-буряты покинули территорию Китая, они расселились на землях своей прежней родины - по Забайкалью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ем родном Мухоршибирском районе на конечном уступе хребта Шэлэ первый улус основал человек с воинским званием «Занги» (командир сотни). К сожалению имя его не сохранилось в памяти старожил улуса. Со временем улус стали называть Зандин, и речка-приток Тугнуя также стала носить это название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примечательное событие в истории улуса это возникновение здесь первого дацана хори-бурят. Согласно данным известных бурятских летописцев (Вандам Юмсунов «История происхождения 11 хоринских родов») в начал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в Бурятию прибыли 150 тибетских и монгольских лам, они соединились с селенгинским и хоринским этногруппам и были приписаны к каждому в отдельности роду. Они были образованны, помощь с их стороны учением и врачеванием была признана исключительно плодотворной, и был подан доклад с приложением поименного списка на величайшее правительственное усмотрение относительно возможности утверждения их в число лам. В следствие этого, милосердием её величества императрицы Елизаветы Петровны все 150 лам были утверждены в штат. Они были освобождены от всех податей и повинностей. С этого времени поднялся авторитет лам, и они стали пользоваться большими привилегиями и льготами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1T18:20:14Z</dcterms:created>
  <dc:creator>Галина</dc:creator>
  <dc:description/>
  <dc:language>en-US</dc:language>
  <cp:lastModifiedBy>Пользователь</cp:lastModifiedBy>
  <dcterms:modified xsi:type="dcterms:W3CDTF">2020-04-13T14:44:23Z</dcterms:modified>
  <cp:revision>380</cp:revision>
  <dc:subject/>
  <dc:title>Слайд 1</dc:title>
</cp:coreProperties>
</file>