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E1E-F3A0-4C89-A2C1-2D02D337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45A-D78B-4B27-8000-FBBE2109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45B-EC98-4EED-BA74-8F3019F3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355-FD20-4B63-8631-14C51E0A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B61-7BA3-4DFC-8D77-2A3F96AE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6CD-54EB-4590-A1FD-6703426C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DA4-E7BC-43B9-A688-0DD88AC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38E-4094-49A1-9464-53EF9DE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EAA-6F55-4897-82A4-4CD04DF7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38B-30E7-4AE2-945E-1A53D355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64F-7D21-4846-9FB5-C075EDA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74B-25CF-4C82-8B9A-717331D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038-3F72-4BB8-B03E-A17ECEBC17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Организация взаимодействия с семьями воспитанников на основе технологии сотрудничества - партнерских отношений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»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2217083-1732434db88dccc7"/>
          <p:cNvPicPr/>
          <p:nvPr/>
        </p:nvPicPr>
        <p:blipFill>
          <a:blip r:embed="rId1"/>
          <a:stretch/>
        </p:blipFill>
        <p:spPr>
          <a:xfrm>
            <a:off x="6875640" y="333360"/>
            <a:ext cx="19764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Основные профессиональные качества, характеризующие педагога нового уровн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0920" y="1268280"/>
            <a:ext cx="85708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проявление активной позиции и устойчивый интерес к общению, построению совместной деятельности с детьми, ориентирование на получение успешных совместных результат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умение устанавливать с детьми партнерские отношения, основанные на взаимном интересе и уважен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умение выстраивать общение с родителями воспитанников на основе диалога, проявляя при этом собственную позицию, позитивный настрой и применяя в рамках взаимодействия разнообразные методы, формы работы, в том числе нетрадиционны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95280" y="549360"/>
            <a:ext cx="8353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тремление к обсуждению с коллегами своего профессионального опы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умение конструктивно воспринимать критику со стороны коллег, родителей воспитанников и администрации ДО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готовность к постоянному личностному и профессиональному росту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умение аргументированно отстаивать свою профессиональную точку зрения в общении с родителями детей, коллегами, администрацией ДОО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открытость к установлению контактов с коллегами (воспитателями, специалистами, учителям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488880" y="692280"/>
            <a:ext cx="81154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умение создавать соответствующие условия (среду) для взаимодействия с детьми, родителями воспитанников, коллега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умение транслировать свои профессиональные достижения на мероприятиях психолого-педагогической направленности разных уровней (внутри своей организации, на окружном, городском, всероссийском и международном уровнях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80360" cy="45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основе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новой концепци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взаимодействия семьи и ДОО лежит идея о том, что за воспитание детей несут ответственность родители, а все другие социальные институты призваны помочь, поддержать, направить, дополнить их воспитательную деятельность.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28036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Главный момент в контексте «семья – детский сад»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- личное взаимодействие педагога и родителей по поводу трудностей и радостей, успехов и неудач, сомнений и размышлений в процессе воспитания конкретного ребенка в конкретной семье.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guvernantki"/>
          <p:cNvPicPr/>
          <p:nvPr/>
        </p:nvPicPr>
        <p:blipFill>
          <a:blip r:embed="rId1"/>
          <a:stretch/>
        </p:blipFill>
        <p:spPr>
          <a:xfrm>
            <a:off x="324000" y="4714920"/>
            <a:ext cx="29318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280360" cy="423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заимодействие родителей и педагогов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в воспитании дошкольников рассматривается как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заимная деятельность ответственных взрослых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, позволяющая совместно выявлять, осознавать и решать проблемы воспитания детей, а также обеспечивающая необходимые связи между воспитывающими взрослыми, позитивно отражающиеся на физическом, психическом и социальном здоровье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home_2020"/>
          <p:cNvPicPr/>
          <p:nvPr/>
        </p:nvPicPr>
        <p:blipFill>
          <a:blip r:embed="rId1"/>
          <a:stretch/>
        </p:blipFill>
        <p:spPr>
          <a:xfrm>
            <a:off x="317520" y="4791240"/>
            <a:ext cx="233352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1"/>
          <p:cNvSpPr/>
          <p:nvPr/>
        </p:nvSpPr>
        <p:spPr>
          <a:xfrm>
            <a:off x="468360" y="620640"/>
            <a:ext cx="4176720" cy="1638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ВЗАИМОДЕЙСТВИЕ С РОДИТЕЛЯМИ НА ОСНОВЕ ЛИЧНОСТНО-ОРИЕНТИРОВАННОГО ПОДХ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611280" y="3068640"/>
            <a:ext cx="4033800" cy="19447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бщение «на равных», где никому не принадлежит привилегия указывать, контролировать, оцени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4859280" y="620640"/>
            <a:ext cx="3828960" cy="1636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ОРГАНИЗАЦИЯ РАБОТЫ С РОДИТЕЛ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4932360" y="2924280"/>
            <a:ext cx="3665520" cy="2376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посредственное воздействие педагога на семью. Перед педагогом стоит задача научить родителей, как надо воспитывать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411280" y="2276640"/>
            <a:ext cx="0" cy="792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6773760" y="2259000"/>
            <a:ext cx="0" cy="647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46880" cy="472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сновная цель все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форм и видов взаимодействия ДОО с семьёй – установление доверительных отношений между детьми, родителями и педагогами, объединение их в одну команду, воспитание потребности делиться друг с другом своими проблемами и совместно их реш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image001_333"/>
          <p:cNvPicPr/>
          <p:nvPr/>
        </p:nvPicPr>
        <p:blipFill>
          <a:blip r:embed="rId1"/>
          <a:stretch/>
        </p:blipFill>
        <p:spPr>
          <a:xfrm>
            <a:off x="428760" y="4572000"/>
            <a:ext cx="20271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оказателями степени включения родителя в деятельность ДОО явля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00040" y="185724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формированность представлений родителей о сф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едагогической деятельности, т.е. налич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едставл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 педагогической деятельности в цел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 специфике работы с детьми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б особенностях образовательного процесса в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школьной организ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 деятельности воспитател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 возможных результатах деятельности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468360" y="6922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ладение необходимыми практическими умениями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выками воспитания и обучения детей дошколь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озра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a5002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тепень проявления интереса и активное в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образовательный процесс в детском са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7" descr="Мы играем!"/>
          <p:cNvPicPr/>
          <p:nvPr/>
        </p:nvPicPr>
        <p:blipFill>
          <a:blip r:embed="rId1"/>
          <a:stretch/>
        </p:blipFill>
        <p:spPr>
          <a:xfrm>
            <a:off x="357120" y="3500280"/>
            <a:ext cx="40924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Личностно-ориентированный подход в организации взаимодействия ДОО и семьи строится на основе социального партнер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755640" y="2421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емья и ДОО – два важных института социализации дет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Их воспитательные функции различны, но для всестороннего развития ребенка необходимо их взаимодействие.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flipH="1">
            <a:off x="467640" y="2133720"/>
            <a:ext cx="8496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УСПЕХОВ В СОТРУДНИЧЕСТВ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Роль детского сада в развитии ребен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134136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олучает дошкольное образова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риобретает умения взаимодействовать с другими детьми и взрослыми,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рганизовывать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собственную деятельность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Мы играем!"/>
          <p:cNvPicPr/>
          <p:nvPr/>
        </p:nvPicPr>
        <p:blipFill>
          <a:blip r:embed="rId1"/>
          <a:stretch/>
        </p:blipFill>
        <p:spPr>
          <a:xfrm>
            <a:off x="357120" y="3714840"/>
            <a:ext cx="41436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Особенности семейного воспит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95280" y="134136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собый эмоциональный микроклимат, благодаря которому у ребёнка формируется отношение к себе, что определяет его чувство самоценнос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лияние на ценностные ориентации, мировоззрение ребёнка в целом, его поведение в разных сферах общественной жиз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именно родители - их личностные качества во многом определяют результативность воспитательной функции семь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формирования нравственности у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476280"/>
            <a:ext cx="84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Факторы, влияющие на качество взаимодействия семьи и детского сад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95280" y="162864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жидания родителей и педагогов друг от друга (цели, взаимопомощь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оследовательность  и единство требований в процессе воспитания и обучения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Мы играем!"/>
          <p:cNvPicPr/>
          <p:nvPr/>
        </p:nvPicPr>
        <p:blipFill>
          <a:blip r:embed="rId1"/>
          <a:stretch/>
        </p:blipFill>
        <p:spPr>
          <a:xfrm>
            <a:off x="357120" y="4286160"/>
            <a:ext cx="32385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Достижение успеха в воспитании и обучении детей дошкольников напрямую зависи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68360" y="249228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т того, насколько грамотно педагог строит процесс общения и взаимодействия с воспитанникам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т того, насколько эффективно он устанавливает контакт с родителями, чтобы понять их запросы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589140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артнёрское взаимодействие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значает общение на равных с учетом интересов и потребностей всех сторон.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частники этого процесса становятся его субъект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Факторы, вызывающие затруднения при организации взаимодействия ДОО и семь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68360" y="198900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екоторые педагоги, продолжают придерживаться учебно-дисциплинарной модели, используют в основном авторитарные методы и приемы работы с деть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едагоги недостаточно открыты для продуктивного общения с родителями воспитанник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ак правило, сосредоточены на деятельности внутри ДОО, их внешние контакты сведены к минимуму.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5"/>
          <p:cNvSpPr/>
          <p:nvPr/>
        </p:nvSpPr>
        <p:spPr>
          <a:xfrm>
            <a:off x="250920" y="620640"/>
            <a:ext cx="85676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411280" y="692280"/>
            <a:ext cx="4248360" cy="8967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ОБУЧ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8360" y="3716280"/>
            <a:ext cx="3672000" cy="1513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</a:rPr>
              <a:t>ОРГАНИЗАЦИЯ ОБРАЗОВАТЕЛЬНОГО ПРОЦЕССА В ДО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003640" y="3716280"/>
            <a:ext cx="3602160" cy="1513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</a:rPr>
              <a:t>ОРГАНИЗАЦИЯ ОБРАЗОВАТЕЛЬНОГО ПРОЦЕССА В СЕМЬ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>
            <a:off x="2411280" y="1557360"/>
            <a:ext cx="0" cy="2158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6659640" y="1557360"/>
            <a:ext cx="71280" cy="2158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2217083-1732434db88dccc7"/>
          <p:cNvPicPr/>
          <p:nvPr/>
        </p:nvPicPr>
        <p:blipFill>
          <a:blip r:embed="rId1"/>
          <a:stretch/>
        </p:blipFill>
        <p:spPr>
          <a:xfrm>
            <a:off x="7427880" y="411120"/>
            <a:ext cx="13413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Леготкина</cp:lastModifiedBy>
  <dcterms:modified xsi:type="dcterms:W3CDTF">2001-12-31T20:25:57Z</dcterms:modified>
  <cp:revision>13</cp:revision>
  <dc:subject/>
  <dc:title>Слайд 1</dc:title>
</cp:coreProperties>
</file>