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CFBCE-E1C0-46C8-96B2-2D5F1A90B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3B403-08C9-48E7-BB40-32418C7B8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6A8EF-AB5A-4A29-8B61-E09FEE255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C05ED-35F4-4B49-B443-7FD5F0B3A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58C96-D713-4316-B72A-2A348BD5F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B5212-D203-4AD9-B781-C0D472A79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AD019-22EF-4254-9AA8-C69159552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2E672-3F2D-4D0E-9765-22E22C1E5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C7237-7BEB-4C66-8519-3D7DA5011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862BE9-72B2-4DBA-9012-B56DA0AF4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015E3-D902-4590-812A-ECFBE5CDD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ED09E-E1DE-4CDA-A309-C31B745EC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ED1EC-3238-4B7A-8D9B-B94082ECB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5378E-408E-4D74-83B4-C499FB69F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C5ADF-3239-4DF8-9D81-0625861DD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72F0B-3AB1-45C8-AE97-0369A7C3B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3137C-3D4D-43C6-875E-723CB0A43A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65FB5-E6C2-4603-A6C8-606644E6F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38C41-2C85-4E0E-8162-0860FA071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FD6D5-87BB-42EE-A90F-81CACB46E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7C1FF-C5A2-4AAB-838B-C11AA2B2C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9FABD-21A3-43EC-97A1-8F1597F8B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0E34F-80B7-4651-A02D-058C2C2C1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A2A80-3498-4BD3-A639-94B244CAF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Rectangle 8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F9F61-1B90-4FA4-8AA9-CCDEC18EB52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Group 3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Rectangle 4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1" name="Rectangle 5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3333cc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grpSp>
          <p:nvGrpSpPr>
            <p:cNvPr id="52" name="Group 6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Rectangle 7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  <p:sp>
            <p:nvSpPr>
              <p:cNvPr id="54" name="Rectangle 8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cf01"/>
                  </a:gs>
                  <a:gs pos="100000">
                    <a:srgbClr val="fffff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ahoma"/>
                </a:endParaRPr>
              </a:p>
            </p:txBody>
          </p:sp>
        </p:grpSp>
        <p:sp>
          <p:nvSpPr>
            <p:cNvPr id="55" name="Rectangle 9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ff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6" name="Rectangle 10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  <p:sp>
          <p:nvSpPr>
            <p:cNvPr id="57" name="Rectangle 11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1c1c1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ahoma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96C18-2E81-4A80-94BE-90FB4008B994}" type="slidenum">
              <a:rPr b="0" lang="ru-RU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92280"/>
            <a:ext cx="7772400" cy="1800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Слова, обозначающие предметы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403280" y="4797000"/>
            <a:ext cx="737712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62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Назови и соедини первые звуки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23640" y="1125000"/>
            <a:ext cx="86310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3" name="Picture 5" descr="i?id=33956355-47-72&amp;n=21"/>
          <p:cNvPicPr/>
          <p:nvPr/>
        </p:nvPicPr>
        <p:blipFill>
          <a:blip r:embed="rId1"/>
          <a:stretch/>
        </p:blipFill>
        <p:spPr>
          <a:xfrm>
            <a:off x="324000" y="2276640"/>
            <a:ext cx="1944360" cy="208728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i?id=341814628-62-72&amp;n=21"/>
          <p:cNvPicPr/>
          <p:nvPr/>
        </p:nvPicPr>
        <p:blipFill>
          <a:blip r:embed="rId2"/>
          <a:stretch/>
        </p:blipFill>
        <p:spPr>
          <a:xfrm>
            <a:off x="1763640" y="3357720"/>
            <a:ext cx="2038320" cy="20890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9" descr="i?id=97623123-10-72&amp;n=21"/>
          <p:cNvPicPr/>
          <p:nvPr/>
        </p:nvPicPr>
        <p:blipFill>
          <a:blip r:embed="rId3"/>
          <a:stretch/>
        </p:blipFill>
        <p:spPr>
          <a:xfrm>
            <a:off x="3492360" y="1484280"/>
            <a:ext cx="1944720" cy="24480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1" descr="i?id=190939673-31-72&amp;n=21"/>
          <p:cNvPicPr/>
          <p:nvPr/>
        </p:nvPicPr>
        <p:blipFill>
          <a:blip r:embed="rId4"/>
          <a:stretch/>
        </p:blipFill>
        <p:spPr>
          <a:xfrm>
            <a:off x="4932360" y="2708280"/>
            <a:ext cx="2089080" cy="20160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3" descr="i?id=118545754-17-72&amp;n=21"/>
          <p:cNvPicPr/>
          <p:nvPr/>
        </p:nvPicPr>
        <p:blipFill>
          <a:blip r:embed="rId5"/>
          <a:stretch/>
        </p:blipFill>
        <p:spPr>
          <a:xfrm>
            <a:off x="6372360" y="3860640"/>
            <a:ext cx="2536560" cy="23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475920"/>
            <a:ext cx="7792920" cy="57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Прочитайте.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1125000"/>
            <a:ext cx="7772400" cy="500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предели    «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буквы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» - «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слова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»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Чем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слова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отличаются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от букв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А                           афиш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У                           утёнок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Ш                          шишк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Р                           робо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Т                           тор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И                           иголк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550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333399"/>
                </a:solidFill>
                <a:latin typeface="Tahoma"/>
              </a:rPr>
              <a:t>Запомни!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1268280"/>
            <a:ext cx="7772400" cy="486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В словах есть смысл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Слова имеют значение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Можно ли из букв составить слово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76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Составь слово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     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                     Д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Р                  Е                  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М                            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3840"/>
            <a:ext cx="7792920" cy="911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Tahoma"/>
              </a:rPr>
              <a:t>Измени буквы.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3000"/>
          </a:bodyPr>
          <a:p>
            <a:pPr marL="25020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 u="sng">
                <a:solidFill>
                  <a:srgbClr val="000000"/>
                </a:solidFill>
                <a:uFillTx/>
                <a:latin typeface="Tahoma"/>
              </a:rPr>
              <a:t>Ж (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ивые</a:t>
            </a:r>
            <a:r>
              <a:rPr b="0" lang="ru-RU" sz="5400" spc="-1" strike="noStrike">
                <a:solidFill>
                  <a:srgbClr val="000000"/>
                </a:solidFill>
                <a:latin typeface="Tahoma"/>
              </a:rPr>
              <a:t> )   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25020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ahoma"/>
              </a:rPr>
              <a:t>                          </a:t>
            </a:r>
            <a:r>
              <a:rPr b="0" lang="ru-RU" sz="5400" spc="-1" strike="noStrike">
                <a:solidFill>
                  <a:srgbClr val="000000"/>
                </a:solidFill>
                <a:latin typeface="Tahoma"/>
              </a:rPr>
              <a:t>К(то)?                            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25020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ahoma"/>
              </a:rPr>
              <a:t>             </a:t>
            </a:r>
            <a:r>
              <a:rPr b="0" i="1" lang="ru-RU" sz="5400" spc="-1" strike="noStrike" u="sng">
                <a:solidFill>
                  <a:srgbClr val="000000"/>
                </a:solidFill>
                <a:uFillTx/>
                <a:latin typeface="Tahoma"/>
              </a:rPr>
              <a:t>Н (</a:t>
            </a: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еживые</a:t>
            </a:r>
            <a:r>
              <a:rPr b="0" lang="ru-RU" sz="5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  <a:p>
            <a:pPr marL="25020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</a:t>
            </a:r>
            <a:r>
              <a:rPr b="0" lang="ru-RU" sz="5400" spc="-1" strike="noStrike">
                <a:solidFill>
                  <a:srgbClr val="000000"/>
                </a:solidFill>
                <a:latin typeface="Tahoma"/>
              </a:rPr>
              <a:t>Ч(то)?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Объект 3" descr=""/>
          <p:cNvPicPr/>
          <p:nvPr/>
        </p:nvPicPr>
        <p:blipFill>
          <a:blip r:embed="rId1"/>
          <a:stretch/>
        </p:blipFill>
        <p:spPr>
          <a:xfrm>
            <a:off x="2340000" y="0"/>
            <a:ext cx="4824360" cy="682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Молодцы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09T11:18:03Z</dcterms:created>
  <dc:creator>Светлана</dc:creator>
  <dc:description/>
  <dc:language>en-US</dc:language>
  <cp:lastModifiedBy>Михаил</cp:lastModifiedBy>
  <dcterms:modified xsi:type="dcterms:W3CDTF">2020-04-13T17:59:03Z</dcterms:modified>
  <cp:revision>5</cp:revision>
  <dc:subject/>
  <dc:title>Слова, обозначающие предметы.</dc:title>
</cp:coreProperties>
</file>