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3CF-5866-4BAF-863C-11FC330D2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219-6E42-4450-AAF7-A5107454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9391-5AD1-4B5C-9B63-D5A1EBDDF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DB1D-D0C2-4A4D-A5C7-350377E22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CDBFC-34B9-4E7B-AEBF-D9D621660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C62B-E839-42B4-877D-91801F28C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219D0-3B1D-4DFA-A82B-B870B5A1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EFBCF-FF59-4FEA-A6BC-050225594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7B46-6188-41E4-962B-8B8EF953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3C0B-890E-4C02-A997-129D63FA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0BEA-B13A-4C47-9A1B-F829B3AB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C3D-4AFA-47E0-83F7-33BAE596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49501-29EC-419E-83A6-D3F596DC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D8644-F249-4EBF-B55E-667D647D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37096-7EDA-4666-82DE-5B3154A1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1EA8-58EE-4F86-9917-3F525B0ED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0657-A73A-4818-88A5-9BDCB2DEA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9E4F-C3AA-4978-B81E-AE5ABB8F7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85B3-060A-49DD-82E0-DA153B053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E97A-F317-4BC9-BCDE-BA1AADCCC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3D38F-41E4-4A4F-BF52-112114FC9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5AB-CD94-4B98-98F3-BE172EDBB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2EEB-4B7F-4F69-847D-C0E08A89C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8E4EA-9681-41DA-9180-073E56CD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FEFD-7AE4-4983-8053-8C1EBBCD9EC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E520-EB90-4933-B8E2-95D8A42B5311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лова, обозначающие предметы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73771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зови и соедини первые зву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631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5" descr="i?id=33956355-47-72&amp;n=21"/>
          <p:cNvPicPr/>
          <p:nvPr/>
        </p:nvPicPr>
        <p:blipFill>
          <a:blip r:embed="rId1"/>
          <a:stretch/>
        </p:blipFill>
        <p:spPr>
          <a:xfrm>
            <a:off x="324000" y="2276640"/>
            <a:ext cx="1944360" cy="208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341814628-62-72&amp;n=21"/>
          <p:cNvPicPr/>
          <p:nvPr/>
        </p:nvPicPr>
        <p:blipFill>
          <a:blip r:embed="rId2"/>
          <a:stretch/>
        </p:blipFill>
        <p:spPr>
          <a:xfrm>
            <a:off x="1763640" y="3357720"/>
            <a:ext cx="2038320" cy="208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i?id=97623123-10-72&amp;n=21"/>
          <p:cNvPicPr/>
          <p:nvPr/>
        </p:nvPicPr>
        <p:blipFill>
          <a:blip r:embed="rId3"/>
          <a:stretch/>
        </p:blipFill>
        <p:spPr>
          <a:xfrm>
            <a:off x="3492360" y="148428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?id=190939673-31-72&amp;n=21"/>
          <p:cNvPicPr/>
          <p:nvPr/>
        </p:nvPicPr>
        <p:blipFill>
          <a:blip r:embed="rId4"/>
          <a:stretch/>
        </p:blipFill>
        <p:spPr>
          <a:xfrm>
            <a:off x="4932360" y="2708280"/>
            <a:ext cx="208908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i?id=118545754-17-72&amp;n=21"/>
          <p:cNvPicPr/>
          <p:nvPr/>
        </p:nvPicPr>
        <p:blipFill>
          <a:blip r:embed="rId5"/>
          <a:stretch/>
        </p:blipFill>
        <p:spPr>
          <a:xfrm>
            <a:off x="6372360" y="3860640"/>
            <a:ext cx="2536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читайте.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125000"/>
            <a:ext cx="777240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   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укв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» -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ло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е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ов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личают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т букв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                           афиш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                          утён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                          шиш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                           роб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                           тор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                          игол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Запомни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268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словах есть смысл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ва имеют знач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и из букв составить слово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ставь слов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                     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                  Е                  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                            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змени буквы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000000"/>
                </a:solidFill>
                <a:uFillTx/>
                <a:latin typeface="Tahoma"/>
              </a:rPr>
              <a:t>Ж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вые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)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(то)?                      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i="1" lang="ru-RU" sz="5400" spc="-1" strike="noStrike" u="sng">
                <a:solidFill>
                  <a:srgbClr val="000000"/>
                </a:solidFill>
                <a:uFillTx/>
                <a:latin typeface="Tahoma"/>
              </a:rPr>
              <a:t>Н (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еживые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Ч(то)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Объект 3" descr=""/>
          <p:cNvPicPr/>
          <p:nvPr/>
        </p:nvPicPr>
        <p:blipFill>
          <a:blip r:embed="rId1"/>
          <a:stretch/>
        </p:blipFill>
        <p:spPr>
          <a:xfrm>
            <a:off x="2340000" y="0"/>
            <a:ext cx="48243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лодцы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1:18:03Z</dcterms:created>
  <dc:creator>Светлана</dc:creator>
  <dc:description/>
  <dc:language>en-US</dc:language>
  <cp:lastModifiedBy>Михаил</cp:lastModifiedBy>
  <dcterms:modified xsi:type="dcterms:W3CDTF">2020-04-13T17:59:03Z</dcterms:modified>
  <cp:revision>5</cp:revision>
  <dc:subject/>
  <dc:title>Слова, обозначающие предметы.</dc:title>
</cp:coreProperties>
</file>