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D5A-9DBF-40E6-AF0D-4F2D80DA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8FC-5370-49DE-BE47-5EAF67A3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312-33AC-4674-A611-A84676EC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AAA-A009-434D-942C-5C4FB546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BED9-20CE-4FE7-A2AE-D05A4D9E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E151-D1FB-45FD-AE65-C99A3E02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2A93-6A6E-4AE5-831C-F0FC2F8F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5917-860E-4CEE-AFD8-5E6E0E07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D569-1DA3-4539-AACD-5A018CBA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08A0-0F26-4840-9663-6C5A8D47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3443-2A0A-4BB8-8E7F-8F5854F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A0E-EA5F-477A-8CBF-24520F8E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6CBA-36C5-488E-87B9-D9FBB6A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CA2C-5B3E-46DE-B82B-81BA7523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71A8-7AA5-4C13-8C44-507DD207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5B23-EA9A-4834-B37B-07043DE3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8824-BC3F-479B-9A82-ACB206A4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4C7-17EF-48DA-B4B2-3637ADC7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6BF-668E-47E7-8104-A4294403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894-E021-45E5-A116-1D4FA7C2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001-71B5-4239-B7F8-3F82909F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0B1-6673-40A9-B85D-6C4BC09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1B5-EB1C-4344-94C6-150DC78B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D39-5B07-4D66-8615-36B5B4D6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5440-A24F-4119-A2EC-8221AF877F2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A5C9-8AD6-4DDC-991D-1C6D32B4EE8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21600" y="929520"/>
            <a:ext cx="7373160" cy="2189880"/>
          </a:xfrm>
          <a:prstGeom prst="rect">
            <a:avLst/>
          </a:prstGeom>
          <a:solidFill>
            <a:srgbClr val="c8b5e9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Введение в органическую химию.</a:t>
            </a:r>
            <a:br>
              <a:rPr sz="3600"/>
            </a:b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Предельные углеводороды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имические свойства  предельных углеводоро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предельных углеводородов характерны следующие  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химические реакци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мещения (по свободно-радикальному механизму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кисления (полное и неполное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ложения (крекинг, дегидрирование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омер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предельных углеводородов  совсем не характерны реакции присоедин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59680" y="364320"/>
            <a:ext cx="7722360" cy="143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акции замещ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560" y="2420640"/>
            <a:ext cx="831708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Реакция хлорирования на свет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4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 algn="ctr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Cl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                  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первая стадия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хлормет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2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Cl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вторая стадия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дихлормет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Cl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третья стадия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р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ихлормет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. СН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Cl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000" spc="-1" strike="noStrike" baseline="-10000">
                <a:solidFill>
                  <a:srgbClr val="003366"/>
                </a:solidFill>
                <a:latin typeface="Arial"/>
              </a:rPr>
              <a:t>четвертая стадия</a:t>
            </a:r>
            <a:r>
              <a:rPr b="1" lang="en-US" sz="2000" spc="-1" strike="noStrike" baseline="-10000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тетрахлормет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Реакция нитрования(реакция Коновалрв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16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16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400" spc="-1" strike="noStrike" baseline="-10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+H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акции окисл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ное окисление –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гор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 2О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 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→С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 2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2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еполное окисл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[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]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→метиловый спирт,                                                                                                                                                                                                                                    м          метаналь (формальдегид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метановая (муравьиная)кисл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акции разлож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крекинг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(реакции идут при нагревании с разрывом углеродной цеп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ru-RU" sz="2400" spc="-1" strike="noStrike" baseline="-10000">
                <a:solidFill>
                  <a:srgbClr val="003366"/>
                </a:solidFill>
                <a:latin typeface="Arial"/>
              </a:rPr>
              <a:t>150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0</a:t>
            </a:r>
            <a:r>
              <a:rPr b="0" lang="ru-RU" sz="2400" spc="-1" strike="noStrike" baseline="-10000">
                <a:solidFill>
                  <a:srgbClr val="003366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2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→ 2С+2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2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→ 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+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тщепление молекулы водорода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(дегидрировани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2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→ 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+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акции изомер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реакциях изомеризации не меняется количественный и качественный состав веществ,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меняется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лишь их пространственное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стро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а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утан                          изобута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менение предельных углеводоро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ельные углеводороды находят свое применение как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пливо (бензин, керосин, мазут и др.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творители 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имическое сырье (для получения алкенов ацетилена, бутадиена и др.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ырье для синтеза ( водорода, сажи, парафина, сероуглерода и др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предел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b1edb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Предельные углеводород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то органические вещества, состоящие только из углерода и водорода, соответствующие общей формуле С</a:t>
            </a:r>
            <a:r>
              <a:rPr b="1" lang="en-US" sz="2400" spc="-1" strike="noStrike" baseline="2000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400" spc="-1" strike="noStrike" baseline="2000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24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400" spc="-1" strike="noStrike" baseline="-10000">
                <a:solidFill>
                  <a:srgbClr val="003366"/>
                </a:solidFill>
                <a:latin typeface="Arial"/>
              </a:rPr>
              <a:t> +2</a:t>
            </a:r>
            <a:r>
              <a:rPr b="1" lang="en-US" sz="2400" spc="-1" strike="noStrike" baseline="-10000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 этих веществ только простые одинарные связи между атомами углерода, которые соединяются с максимально возможным количеством числом атомов водорода. Их поэтому называют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предельными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насыще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зоме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Изомер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вещества, имеющие одинаковый качественный и количественный состав, но отличающиеся по своему строению и свойств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Изомер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это явление существования веществ с одинаковым качественным и количественным составом, но отличающимся по своему строению и свойств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меры изомер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вещества с общей молекулярной формулой 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уществуют 2 изомера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утан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ип.=-0,5</a:t>
            </a:r>
            <a:r>
              <a:rPr b="0" lang="ru-RU" sz="2800" spc="-1" strike="noStrike" baseline="30000">
                <a:solidFill>
                  <a:srgbClr val="003366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изобутан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ип.=-11,7</a:t>
            </a:r>
            <a:r>
              <a:rPr b="0" lang="ru-RU" sz="2800" spc="-1" strike="noStrike" baseline="30000">
                <a:solidFill>
                  <a:srgbClr val="003366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омологический ряд предельных углеводородов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             таблиц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2349360"/>
          <a:ext cx="7704360" cy="4407120"/>
        </p:xfrm>
        <a:graphic>
          <a:graphicData uri="http://schemas.openxmlformats.org/drawingml/2006/table">
            <a:tbl>
              <a:tblPr/>
              <a:tblGrid>
                <a:gridCol w="1022400"/>
                <a:gridCol w="1712880"/>
                <a:gridCol w="1886040"/>
                <a:gridCol w="1541520"/>
                <a:gridCol w="154152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ществ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ществ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 радикал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радикал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Н</a:t>
                      </a:r>
                      <a:r>
                        <a:rPr b="1" lang="ru-RU" sz="18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Н</a:t>
                      </a:r>
                      <a:r>
                        <a:rPr b="1" lang="ru-RU" sz="18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п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п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у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у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ен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ен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аблица (продолжение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854280"/>
                <a:gridCol w="1584360"/>
                <a:gridCol w="1871640"/>
                <a:gridCol w="1584360"/>
                <a:gridCol w="179856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екс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екс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еп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еп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кт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кт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он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он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И т.д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ка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С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1800" spc="-1" strike="noStrike" baseline="-10000">
                          <a:solidFill>
                            <a:srgbClr val="003366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ци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молог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Гомологи –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ещества, расположенные в порядке возрастания относительных молекулярных масс, сходных по строению и свойствам, но отличающихся друг от друга по составу на одну или несколько групп -СН</a:t>
            </a:r>
            <a:r>
              <a:rPr b="1" lang="ru-RU" sz="24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Гомологический ряд-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ряд веществ, расположенных в порядке возрастания относительных молекулярных масс, сходных по строению и свойствам, но отличающихся друг от друга по составу на одну или несколько групп -СН</a:t>
            </a:r>
            <a:r>
              <a:rPr b="1" lang="ru-RU" sz="2400" spc="-1" strike="noStrike" baseline="-1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изические свойства предельных углеводоро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Агрегатное состоя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 первые четыре члена гомологического ряда(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 – газы, 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15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жидкости, 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более тяжелые – твердые вещест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Температура кипения и плав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степенно увеличиваются  с ростом молекулярной массы вещест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Растворимость в вод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плоха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хождение в природе и получение предельных углеводоро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ельные углеводороды встречаютс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иродном газе (98%- метан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опутном нефтяном газе (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;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нефти (С</a:t>
            </a:r>
            <a:r>
              <a:rPr b="0" lang="ru-RU" sz="2800" spc="-1" strike="noStrike" baseline="-10000">
                <a:solidFill>
                  <a:srgbClr val="003366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С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50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√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каменном уг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ают их из природного сырь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3:36:17Z</dcterms:created>
  <dc:creator>Admin</dc:creator>
  <dc:description/>
  <dc:language>en-US</dc:language>
  <cp:lastModifiedBy>Admin</cp:lastModifiedBy>
  <dcterms:modified xsi:type="dcterms:W3CDTF">2020-04-13T12:21:09Z</dcterms:modified>
  <cp:revision>6</cp:revision>
  <dc:subject/>
  <dc:title>Предельные углеводороды (Презентация по химии для учащихся 9 класса)</dc:title>
</cp:coreProperties>
</file>