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A04-77E6-4588-831E-9F72DC1B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969-06FA-44A4-9CAE-C1AABE3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EE9-735B-4589-8003-7BAC8F77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0E9-A06D-4C9D-85C6-3C4C3512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B013-9BCE-4520-A0AF-99E75D63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D971-CCAF-418D-BB5C-225DF1E8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156-6A77-4457-B80A-3337976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16C-765C-44AA-A129-75C4617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AF1B-FA5D-4A08-95DA-3E60567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F54-CAFE-4734-9D0D-52A93825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9EF-4D90-4B68-8955-8A44B91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A46-620C-47AC-A4ED-1CC24CF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3E11-78BB-4B7E-A0A8-1056CF3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897-F747-43D8-9808-94FE67C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2973-4F44-4CE2-BBBE-5DBCD5F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E0A-2B94-491C-A920-2D9BB660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5E4F-B9B4-4055-B7EC-63D0A70D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90A-AEE9-4A75-96B7-8D2A0F0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176-F0CB-4386-ADFF-AD00704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DB2-1B99-49F7-A8E6-5151B05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39F-75AB-4F19-8C5C-B3D61AC2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A7D-07A8-44F1-9249-59FDD0B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D41-3A52-4636-8620-D35F28F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41E-2A8B-4432-8672-4AF5E83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D95-C0AF-49E6-BC85-8AC4B0DF07C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5BE-CA97-43EA-95B1-068C4AC63B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21600" y="929520"/>
            <a:ext cx="7373160" cy="2189880"/>
          </a:xfrm>
          <a:prstGeom prst="rect">
            <a:avLst/>
          </a:prstGeom>
          <a:solidFill>
            <a:srgbClr val="c8b5e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ведение в органическую химию.</a:t>
            </a:r>
            <a:br>
              <a:rPr sz="3600"/>
            </a:b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Предельные углеводороды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имические свойства 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едельных углеводородов характерны следующие 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химические реакци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щения (по свободно-радикальному механизму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исления (полное и неполное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ложения (крекинг, дегидрирование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омер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едельных углеводородов  совсем не характерны реакции присоедин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9680" y="364320"/>
            <a:ext cx="7722360" cy="143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заме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8317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Реакция хлорирования на све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 algn="ctr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перва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втора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треть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и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. 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четверта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тетра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Реакция нитрования(реакция Коновалрв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16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16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+H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окисл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ное окисление –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гор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2О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 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С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 2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2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полное окис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метиловый спирт,                                                                                                                                                                                                                                    м          метаналь (формальдегид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метановая (муравьиная)кисл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разлож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крекинг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(реакции идут при нагревании с разрывом углеродной цеп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ru-RU" sz="2400" spc="-1" strike="noStrike" baseline="-10000">
                <a:solidFill>
                  <a:srgbClr val="003366"/>
                </a:solidFill>
                <a:latin typeface="Arial"/>
              </a:rPr>
              <a:t>150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ru-RU" sz="2400" spc="-1" strike="noStrike" baseline="-10000">
                <a:solidFill>
                  <a:srgbClr val="0033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 2С+2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 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+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щепление молекулы водорода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(дегидриров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 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+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изомер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реакциях изомеризации не меняется количественный и качественный состав веществ,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меняетс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лишь их пространственное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стро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утан                          изобута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нение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ельные углеводороды находят свое применение как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пливо (бензин, керосин, мазут и др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творители 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имическое сырье (для получения алкенов ацетилена, бутадиена и др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ырье для синтеза ( водорода, сажи, парафина, сероуглерода и д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реде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b1edb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Предельные углеводород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то органические вещества, состоящие только из углерода и водорода, соответствующие общей формуле С</a:t>
            </a:r>
            <a:r>
              <a:rPr b="1" lang="en-US" sz="2400" spc="-1" strike="noStrike" baseline="2000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400" spc="-1" strike="noStrike" baseline="2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 +2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 этих веществ только простые одинарные связи между атомами углерода, которые соединяются с максимально возможным количеством числом атомов водорода. Их поэтому называют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едельным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насыще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зоме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Изомер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вещества, имеющие одинаковый качественный и количественный состав, но отличающиеся по своему строению и свойств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Изомер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это явление существования веществ с одинаковым качественным и количественным составом, но отличающимся по своему строению и свойств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ры изомер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вещества с общей молекулярной формулой 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уществуют 2 изомер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утан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п.=-0,5</a:t>
            </a:r>
            <a:r>
              <a:rPr b="0" lang="ru-RU" sz="28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изобутан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п.=-11,7</a:t>
            </a:r>
            <a:r>
              <a:rPr b="0" lang="ru-RU" sz="28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омологический ряд предельных углеводород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             таб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2349360"/>
          <a:ext cx="7704360" cy="4407120"/>
        </p:xfrm>
        <a:graphic>
          <a:graphicData uri="http://schemas.openxmlformats.org/drawingml/2006/table">
            <a:tbl>
              <a:tblPr/>
              <a:tblGrid>
                <a:gridCol w="1022400"/>
                <a:gridCol w="1712880"/>
                <a:gridCol w="1886040"/>
                <a:gridCol w="1541520"/>
                <a:gridCol w="15415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 радикал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радикал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Н</a:t>
                      </a:r>
                      <a:r>
                        <a:rPr b="1" lang="ru-RU" sz="18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Н</a:t>
                      </a:r>
                      <a:r>
                        <a:rPr b="1" lang="ru-RU" sz="18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п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п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у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у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н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н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аблица (продолжение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854280"/>
                <a:gridCol w="1584360"/>
                <a:gridCol w="1871640"/>
                <a:gridCol w="1584360"/>
                <a:gridCol w="179856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кс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кс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п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п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к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к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н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н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к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ц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молог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Гомологи –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ещества, расположенные в порядке возрастания относительных молекулярных масс, сходных по строению и свойствам, но отличающихся друг от друга по составу на одну или несколько групп -С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Гомологический ряд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ряд веществ, расположенных в порядке возрастания относительных молекулярных масс, сходных по строению и свойствам, но отличающихся друг от друга по составу на одну или несколько групп -С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изические свойства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Агрегатное состоя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 первые четыре члена гомологического ряда(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– газы, 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жидкости, 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более тяжелые – твердые вещ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Температура кипения и плав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степенно увеличиваются  с ростом молекулярной массы вещ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Растворимость в вод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плох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хождение в природе и получение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ельные углеводороды встречаю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иродном газе (98%- метан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опутном нефтяном газе (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;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ефти (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5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аменном уг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ают их из природного сырь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3:36:17Z</dcterms:created>
  <dc:creator>Admin</dc:creator>
  <dc:description/>
  <dc:language>en-US</dc:language>
  <cp:lastModifiedBy>Admin</cp:lastModifiedBy>
  <dcterms:modified xsi:type="dcterms:W3CDTF">2020-04-13T12:21:09Z</dcterms:modified>
  <cp:revision>6</cp:revision>
  <dc:subject/>
  <dc:title>Предельные углеводороды (Презентация по химии для учащихся 9 класса)</dc:title>
</cp:coreProperties>
</file>