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12.wmf" ContentType="image/x-wmf"/>
  <Override PartName="/ppt/media/image27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510-52EB-47D4-A274-BDA5C2B4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49E-E77F-48D9-9A57-CC77627A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4FD-C823-4DF6-8421-69381815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DE2-3477-4BCD-B99B-6F0D00AD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70BF-EB7B-45BD-89B1-FEAF8768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A55-4938-4832-A663-140273B6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C5E-2FFB-464C-92CC-2BC1D237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D59D-354C-4E46-9026-9739728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9704-BD9B-4FAB-B1A9-2B63E02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B7C8-D1AF-48CA-901F-6BE2587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711-98F6-49C7-83C0-CD7844B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C05-123F-4D33-BA4A-56CEE28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C637-351D-4C34-ADF1-0B2EEDF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4FF8-D660-45EA-AD6F-275618A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0B1F-5A60-4070-BF51-D07600AA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2739-FE81-42F8-9F39-D2F35DDF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A031-7B3D-4F01-84EC-ABAF451B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C83-9074-4E96-BF27-78540BBC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68-A715-4C36-AFB2-881C7DE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E56-B613-4429-81C6-06F58C4A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37F-2271-4D25-AB55-7016B04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3D1-1340-4FC2-A2DC-B697BD0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CC2-EB66-4349-9FF0-E275CBF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A25-D495-4734-9D36-9D0C418F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prstGeom prst="pie">
            <a:avLst/>
          </a:pr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051F-5B45-4139-8BEF-5D3F6CE0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prstGeom prst="pie">
            <a:avLst/>
          </a:pr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prstGeom prst="pie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09C-BA4D-4252-A5E0-9790304DF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Автоматизац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звук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 словах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685800" y="30481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28600" y="4495680"/>
            <a:ext cx="208764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3" name="19bc8e901988684.mp3" descr=""/>
          <p:cNvPicPr/>
          <p:nvPr/>
        </p:nvPicPr>
        <p:blipFill>
          <a:blip r:embed="rId1"/>
          <a:stretch/>
        </p:blipFill>
        <p:spPr>
          <a:xfrm>
            <a:off x="685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моги Буратино подобрать к картинкам левого столбика подходящие картинки из правого столбика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(например: карась -осётр).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379080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724280" y="1600200"/>
            <a:ext cx="355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26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Спасибо за работу.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5236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1295280" y="449568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1295280" y="450360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77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066680" y="50292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егодня к вам в гости пришёл Петрушка. Он будет слушать и смотреть, как ты будешь заниматься.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ссмотри картинки, вспомни, как называются упражнения для язычка, выполни их перед зеркалом.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160720" cy="236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2"/>
          <a:stretch/>
        </p:blipFill>
        <p:spPr>
          <a:xfrm>
            <a:off x="3124080" y="1444680"/>
            <a:ext cx="2438640" cy="2219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213336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"/>
          <p:cNvPicPr/>
          <p:nvPr/>
        </p:nvPicPr>
        <p:blipFill>
          <a:blip r:embed="rId4"/>
          <a:stretch/>
        </p:blipFill>
        <p:spPr>
          <a:xfrm>
            <a:off x="6539040" y="1447920"/>
            <a:ext cx="19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3"/>
          <p:cNvPicPr/>
          <p:nvPr/>
        </p:nvPicPr>
        <p:blipFill>
          <a:blip r:embed="rId5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8"/>
          <p:cNvGraphicFramePr/>
          <p:nvPr/>
        </p:nvGraphicFramePr>
        <p:xfrm>
          <a:off x="609480" y="4114800"/>
          <a:ext cx="198756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114800"/>
                    <a:ext cx="1987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ови картинки со звуком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, определ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есто звука в слове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Picture 4" descr="рубашка"/>
          <p:cNvPicPr/>
          <p:nvPr/>
        </p:nvPicPr>
        <p:blipFill>
          <a:blip r:embed="rId1"/>
          <a:stretch/>
        </p:blipFill>
        <p:spPr>
          <a:xfrm>
            <a:off x="4924440" y="1066680"/>
            <a:ext cx="1795320" cy="22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828800" cy="1919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5"/>
          <a:stretch/>
        </p:blipFill>
        <p:spPr>
          <a:xfrm>
            <a:off x="7010280" y="914400"/>
            <a:ext cx="18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6"/>
          <a:stretch/>
        </p:blipFill>
        <p:spPr>
          <a:xfrm>
            <a:off x="7688160" y="3124080"/>
            <a:ext cx="1125720" cy="2895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7"/>
          <a:stretch/>
        </p:blipFill>
        <p:spPr>
          <a:xfrm>
            <a:off x="2743200" y="3962520"/>
            <a:ext cx="21240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8"/>
          <a:stretch/>
        </p:blipFill>
        <p:spPr>
          <a:xfrm>
            <a:off x="4952880" y="3733920"/>
            <a:ext cx="26244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пражнение «Подбери слово-предмет».</a:t>
            </a: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Образец: спелый, сочный — ... (арбуз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48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42"/>
          <p:cNvSpPr/>
          <p:nvPr/>
        </p:nvSpPr>
        <p:spPr>
          <a:xfrm>
            <a:off x="304920" y="4267080"/>
            <a:ext cx="2181240" cy="1857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пражнение «4 лишний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61640" y="2480760"/>
            <a:ext cx="2810520" cy="2200680"/>
          </a:xfrm>
          <a:prstGeom prst="rect">
            <a:avLst/>
          </a:prstGeom>
          <a:solidFill>
            <a:srgbClr val="008000"/>
          </a:solidFill>
          <a:ln w="25560">
            <a:solidFill>
              <a:srgbClr val="b97702"/>
            </a:solidFill>
            <a:round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Рассмотри картинки, назови.Най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df5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4"/>
          <p:cNvSpPr/>
          <p:nvPr/>
        </p:nvSpPr>
        <p:spPr>
          <a:xfrm>
            <a:off x="152280" y="1143000"/>
            <a:ext cx="2362320" cy="1752480"/>
          </a:xfrm>
          <a:prstGeom prst="roundRect">
            <a:avLst>
              <a:gd name="adj" fmla="val 18269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9" name="Picture 30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9800" y="1219320"/>
            <a:ext cx="1727280" cy="1644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33520" y="4343400"/>
            <a:ext cx="1798560" cy="1676520"/>
          </a:xfrm>
          <a:prstGeom prst="rect">
            <a:avLst/>
          </a:prstGeom>
          <a:ln w="0">
            <a:noFill/>
          </a:ln>
        </p:spPr>
      </p:pic>
      <p:sp>
        <p:nvSpPr>
          <p:cNvPr id="171" name="Скругленный прямоугольник 46"/>
          <p:cNvSpPr/>
          <p:nvPr/>
        </p:nvSpPr>
        <p:spPr>
          <a:xfrm>
            <a:off x="6019920" y="990720"/>
            <a:ext cx="2286000" cy="1838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248520" y="1143000"/>
            <a:ext cx="1831680" cy="1600200"/>
          </a:xfrm>
          <a:prstGeom prst="rect">
            <a:avLst/>
          </a:prstGeom>
          <a:ln w="0">
            <a:noFill/>
          </a:ln>
        </p:spPr>
      </p:pic>
      <p:sp>
        <p:nvSpPr>
          <p:cNvPr id="173" name="Скругленный прямоугольник 45"/>
          <p:cNvSpPr/>
          <p:nvPr/>
        </p:nvSpPr>
        <p:spPr>
          <a:xfrm>
            <a:off x="5943600" y="4267080"/>
            <a:ext cx="2428920" cy="1928880"/>
          </a:xfrm>
          <a:prstGeom prst="roundRect">
            <a:avLst>
              <a:gd name="adj" fmla="val 16667"/>
            </a:avLst>
          </a:prstGeom>
          <a:solidFill>
            <a:srgbClr val="e7b016"/>
          </a:solidFill>
          <a:ln w="25560">
            <a:solidFill>
              <a:srgbClr val="f6e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4" name="Picture 35" descr="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6248520" y="4343400"/>
            <a:ext cx="1703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пражнение «Весёлый поезд»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омоги пассажирам отправиться в путешествие на весёлом поезде. Назови каждого пассажира, выделяя звук Р. Прохлопай в ладоши количество слогов в каждом слове, и ты узнаешь, кто в каком вагоне поедет (количество слогов в слове совпадает с количеством окошек вагонч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07960" y="990720"/>
            <a:ext cx="4064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Что забыл нарисовать художник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смотри внимательн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тинки, которые нарисо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ие детали он забыл нарисовать у этих предме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апример: самовар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ез к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45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гадай загадку, выложи из фишек слово-отгадку, проверь ответ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76920" y="5029200"/>
          <a:ext cx="4038480" cy="94464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256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752480"/>
            <a:ext cx="49528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ог нет, да не догон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 хвостом, а не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 воде она 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ет клюва, а клю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401</cp:lastModifiedBy>
  <dcterms:modified xsi:type="dcterms:W3CDTF">2020-04-13T11:41:19Z</dcterms:modified>
  <cp:revision>41</cp:revision>
  <dc:subject/>
  <dc:title>ThemeGallery PowerTemplate</dc:title>
</cp:coreProperties>
</file>