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6.jpeg" ContentType="image/jpeg"/>
  <Override PartName="/ppt/media/chimes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503-8D51-4EF1-A8DD-86B90D60E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FEE8-D15D-431E-A3C5-DE23BEABFC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EC2E-E51A-46D8-B692-8A7C72346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8E06-1FD9-4578-8A87-A76E78FAB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9B9-2D75-48D5-99E4-2C145F28F4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12C-740B-4EB9-A34C-2D990401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D8D-D6F5-4418-AEE2-00616192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139-23B5-468B-971A-A921BBC8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FEB-40A6-427D-8862-C76DB84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2CC-928C-4B8A-BF35-E3344446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811F-78BA-4571-9E6B-28A2BF2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3AA5-158D-4039-AFD6-B87496F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6AEF-B906-4E3A-9787-613CFBC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392F-28C6-43D0-A644-55036BA7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0D5F-C6E2-4ED6-B1CD-95E9FB83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CEA-374B-4414-A3CC-F89AC27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7D5-7090-494A-8084-FA5A6BE2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CFA6-628C-42EB-AD08-BE3D7BF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9C7A-6178-4759-86D8-C0A4EE3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8888-428B-4F5F-B8EE-F00E060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36B-54D5-4860-86A3-C0B8265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C04B-93D7-4E40-BD2A-2CF76415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3543-E105-44E4-8C98-2AD1F709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CA9F-5AF2-4B11-BBA6-1F10516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ACFD-634F-4B69-89DD-E9222490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691B-30CF-45D5-94BD-B9A267A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CEE9-29DC-46F6-949C-D9965D4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056-3735-4ED6-ACD8-92C6253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9975-8BB6-4F79-A321-6D6B0A1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36FB-8F0D-4220-B6CF-BA2F4F8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070D-5470-4E6D-ABE7-FB40267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7C70-367C-4D6B-B142-6C7D0CD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FC7F-AE48-4D63-932C-593D02E4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4B29-8773-4FBB-8556-DA9C9CBA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D215-8B15-413D-96A9-45FE4F3F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0CA3-88CA-428B-AC31-826D7FFB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3385-C412-4C1E-88F9-84BC4A6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B91C-619F-4A5F-A437-634C8AE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B86-03CD-4A4E-B944-73013A68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D283-78E4-4FF3-B859-0601C634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4165-C168-443E-83ED-54810A7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F605-95D6-48C2-98F4-9E342BFA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B0D3-F940-4287-AAEB-08A4E64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8F0D-882B-411A-8ED4-3E13D07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5501-F676-4820-BAAD-2177D30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21A4-E024-4FAB-9520-17A83CD5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461B-04FB-4E51-9D07-3945E189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848D-0DCF-4724-8331-0896A82C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9844-3D73-423E-910B-03B2A985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069-EB9E-4F84-9F73-C81477D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F6F3-7D7E-4B2F-9300-AEEF3D1B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C4A9-E835-4AC6-BB7C-EC575E7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FC92-B053-4E05-86BC-DAD0079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F794F-0FCE-49AF-B955-6301ED0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0B08-0507-4426-A6B1-5C7C1C8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15AC-4764-4337-8B8D-3AF58C6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1990-2A65-4C93-838F-71EA7B8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C438-0DF8-4B6B-93EC-34858A6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2726-AFC4-4537-B05C-217B13A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A4A8-453E-491E-9020-A087A149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99B-7C8B-4EB6-8A36-709AE562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CFEEF-48A7-4A95-95F8-594A297A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CE4-4851-459D-8015-C3CFD50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7F9-C7B1-4ED9-8D36-36AB65D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E07-64DB-4CC0-9F9E-CA69604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0D1-9DDB-4CB8-BE50-344DBCB8B0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5D74-60E8-49DF-BDA9-BC1F4A9996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038F-E234-4029-A4E9-6D8D081570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C6A-C36F-4E13-8F8E-A08D6CF5E7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395A-883C-4CBD-873F-3AA08A2A82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" Target="slide3.xml"/><Relationship Id="rId10" Type="http://schemas.openxmlformats.org/officeDocument/2006/relationships/image" Target="../media/image7.jpeg"/><Relationship Id="rId11" Type="http://schemas.openxmlformats.org/officeDocument/2006/relationships/slide" Target="slide3.xml"/><Relationship Id="rId12" Type="http://schemas.openxmlformats.org/officeDocument/2006/relationships/image" Target="../media/image8.jpeg"/><Relationship Id="rId13" Type="http://schemas.openxmlformats.org/officeDocument/2006/relationships/slide" Target="slide3.xml"/><Relationship Id="rId14" Type="http://schemas.openxmlformats.org/officeDocument/2006/relationships/image" Target="../media/image9.jpe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slide" Target="slide3.xml"/><Relationship Id="rId6" Type="http://schemas.openxmlformats.org/officeDocument/2006/relationships/image" Target="../media/image7.jpeg"/><Relationship Id="rId7" Type="http://schemas.openxmlformats.org/officeDocument/2006/relationships/slide" Target="slide3.xml"/><Relationship Id="rId8" Type="http://schemas.openxmlformats.org/officeDocument/2006/relationships/image" Target="../media/image9.jpeg"/><Relationship Id="rId9" Type="http://schemas.openxmlformats.org/officeDocument/2006/relationships/slide" Target="slide3.xml"/><Relationship Id="rId10" Type="http://schemas.openxmlformats.org/officeDocument/2006/relationships/image" Target="../media/image5.jpeg"/><Relationship Id="rId11" Type="http://schemas.openxmlformats.org/officeDocument/2006/relationships/slide" Target="slide3.xml"/><Relationship Id="rId12" Type="http://schemas.openxmlformats.org/officeDocument/2006/relationships/image" Target="../media/image8.jpe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" Target="slide4.xml"/><Relationship Id="rId6" Type="http://schemas.openxmlformats.org/officeDocument/2006/relationships/image" Target="../media/image9.jpeg"/><Relationship Id="rId7" Type="http://schemas.openxmlformats.org/officeDocument/2006/relationships/slide" Target="slide4.xml"/><Relationship Id="rId8" Type="http://schemas.openxmlformats.org/officeDocument/2006/relationships/image" Target="../media/image5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image" Target="../media/image1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extBox 1" descr=""/>
          <p:cNvPicPr/>
          <p:nvPr/>
        </p:nvPicPr>
        <p:blipFill>
          <a:blip r:embed="rId1"/>
          <a:stretch/>
        </p:blipFill>
        <p:spPr>
          <a:xfrm>
            <a:off x="1523880" y="1401840"/>
            <a:ext cx="6669360" cy="142056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2000160" y="3498840"/>
            <a:ext cx="5248440" cy="433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58040" y="528624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57960" y="4071960"/>
            <a:ext cx="1501920" cy="1117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000760" y="5357880"/>
            <a:ext cx="156024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71880" y="4286160"/>
            <a:ext cx="156672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857240" y="5643720"/>
            <a:ext cx="1474920" cy="103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85880" y="4429080"/>
            <a:ext cx="1517760" cy="10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extBox 1" descr=""/>
          <p:cNvPicPr/>
          <p:nvPr/>
        </p:nvPicPr>
        <p:blipFill>
          <a:blip r:embed="rId1"/>
          <a:stretch/>
        </p:blipFill>
        <p:spPr>
          <a:xfrm>
            <a:off x="2786040" y="2073240"/>
            <a:ext cx="299232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455040" y="1285920"/>
            <a:ext cx="830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 тобой шесть перепутанных  карти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язанных  одним сюж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бе необходимо разложить картиночки по поряд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то за чем ид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жми на нужную картинку левой кнопкой мы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75160" y="64296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2240" y="64296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00240" y="64296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64296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571760" y="714240"/>
            <a:ext cx="1474560" cy="10321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72240" y="64296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00240" y="64296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64296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9"/>
          <a:stretch/>
        </p:blipFill>
        <p:spPr>
          <a:xfrm>
            <a:off x="1571760" y="714240"/>
            <a:ext cx="1474560" cy="10321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0"/>
          <a:stretch/>
        </p:blipFill>
        <p:spPr>
          <a:xfrm>
            <a:off x="0" y="5000760"/>
            <a:ext cx="1560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000240" y="64296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4"/>
          <a:stretch/>
        </p:blipFill>
        <p:spPr>
          <a:xfrm>
            <a:off x="1571760" y="714240"/>
            <a:ext cx="1474560" cy="10321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5"/>
          <a:stretch/>
        </p:blipFill>
        <p:spPr>
          <a:xfrm>
            <a:off x="142920" y="492912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6"/>
          <a:stretch/>
        </p:blipFill>
        <p:spPr>
          <a:xfrm>
            <a:off x="1643040" y="4929120"/>
            <a:ext cx="157176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3000240" y="64296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3"/>
          <a:stretch/>
        </p:blipFill>
        <p:spPr>
          <a:xfrm>
            <a:off x="1571760" y="714240"/>
            <a:ext cx="1474560" cy="1032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4"/>
          <a:stretch/>
        </p:blipFill>
        <p:spPr>
          <a:xfrm>
            <a:off x="142920" y="492912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5"/>
          <a:stretch/>
        </p:blipFill>
        <p:spPr>
          <a:xfrm>
            <a:off x="3143160" y="492912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6"/>
          <a:stretch/>
        </p:blipFill>
        <p:spPr>
          <a:xfrm>
            <a:off x="1643040" y="4929120"/>
            <a:ext cx="157176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3000240" y="64296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3"/>
          <a:stretch/>
        </p:blipFill>
        <p:spPr>
          <a:xfrm>
            <a:off x="142920" y="492912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3143160" y="492912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5"/>
          <a:stretch/>
        </p:blipFill>
        <p:spPr>
          <a:xfrm>
            <a:off x="1643040" y="492912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6"/>
          <a:stretch/>
        </p:blipFill>
        <p:spPr>
          <a:xfrm>
            <a:off x="4643280" y="4929120"/>
            <a:ext cx="16351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6048360" y="714240"/>
            <a:ext cx="1500120" cy="11178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42920" y="492912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3143160" y="492912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4"/>
          <a:stretch/>
        </p:blipFill>
        <p:spPr>
          <a:xfrm>
            <a:off x="1643040" y="492912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5"/>
          <a:stretch/>
        </p:blipFill>
        <p:spPr>
          <a:xfrm>
            <a:off x="4643280" y="4929120"/>
            <a:ext cx="1474920" cy="1032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6"/>
          <a:stretch/>
        </p:blipFill>
        <p:spPr>
          <a:xfrm>
            <a:off x="6072120" y="4929120"/>
            <a:ext cx="15670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4"/>
          <p:cNvSpPr/>
          <p:nvPr/>
        </p:nvSpPr>
        <p:spPr>
          <a:xfrm>
            <a:off x="469440" y="3429000"/>
            <a:ext cx="5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6407280" y="3429000"/>
            <a:ext cx="71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897080" y="3429000"/>
            <a:ext cx="73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3342960" y="3357720"/>
            <a:ext cx="6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1836720" y="3429000"/>
            <a:ext cx="70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9"/>
          <p:cNvSpPr/>
          <p:nvPr/>
        </p:nvSpPr>
        <p:spPr>
          <a:xfrm>
            <a:off x="7981200" y="3357720"/>
            <a:ext cx="70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7030a0"/>
                </a:solidFill>
                <a:latin typeface="Cambria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0"/>
          <p:cNvSpPr/>
          <p:nvPr/>
        </p:nvSpPr>
        <p:spPr>
          <a:xfrm>
            <a:off x="5036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1"/>
          <p:cNvSpPr/>
          <p:nvPr/>
        </p:nvSpPr>
        <p:spPr>
          <a:xfrm>
            <a:off x="343260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2"/>
          <p:cNvSpPr/>
          <p:nvPr/>
        </p:nvSpPr>
        <p:spPr>
          <a:xfrm>
            <a:off x="186084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3"/>
          <p:cNvSpPr/>
          <p:nvPr/>
        </p:nvSpPr>
        <p:spPr>
          <a:xfrm>
            <a:off x="50043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6575760" y="500076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5"/>
          <p:cNvSpPr/>
          <p:nvPr/>
        </p:nvSpPr>
        <p:spPr>
          <a:xfrm>
            <a:off x="8147520" y="4929120"/>
            <a:ext cx="50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42920" y="4929120"/>
            <a:ext cx="1560600" cy="1143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3143160" y="4929120"/>
            <a:ext cx="1517760" cy="1071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1643040" y="4929120"/>
            <a:ext cx="157176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4"/>
          <a:stretch/>
        </p:blipFill>
        <p:spPr>
          <a:xfrm>
            <a:off x="4643280" y="4929120"/>
            <a:ext cx="1474920" cy="103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5"/>
          <a:stretch/>
        </p:blipFill>
        <p:spPr>
          <a:xfrm>
            <a:off x="6072120" y="4929120"/>
            <a:ext cx="1567080" cy="114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6"/>
          <a:stretch/>
        </p:blipFill>
        <p:spPr>
          <a:xfrm>
            <a:off x="7642080" y="4929120"/>
            <a:ext cx="1501920" cy="1117800"/>
          </a:xfrm>
          <a:prstGeom prst="rect">
            <a:avLst/>
          </a:prstGeom>
          <a:ln w="0">
            <a:noFill/>
          </a:ln>
        </p:spPr>
      </p:pic>
      <p:pic>
        <p:nvPicPr>
          <p:cNvPr id="374" name="TextBox 26" descr=""/>
          <p:cNvPicPr/>
          <p:nvPr/>
        </p:nvPicPr>
        <p:blipFill>
          <a:blip r:embed="rId7"/>
          <a:stretch/>
        </p:blipFill>
        <p:spPr>
          <a:xfrm>
            <a:off x="2498760" y="1285920"/>
            <a:ext cx="4719600" cy="1019160"/>
          </a:xfrm>
          <a:prstGeom prst="rect">
            <a:avLst/>
          </a:prstGeom>
          <a:ln w="0">
            <a:noFill/>
          </a:ln>
        </p:spPr>
      </p:pic>
      <p:pic>
        <p:nvPicPr>
          <p:cNvPr id="375" name="j0214098.wav" descr=""/>
          <p:cNvPicPr/>
          <p:nvPr/>
        </p:nvPicPr>
        <p:blipFill>
          <a:blip r:embed="rId8"/>
          <a:stretch/>
        </p:blipFill>
        <p:spPr>
          <a:xfrm>
            <a:off x="4357800" y="2214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7:33Z</dcterms:created>
  <dc:creator>ОЕМ</dc:creator>
  <dc:description/>
  <dc:language>en-US</dc:language>
  <cp:lastModifiedBy>Психологи</cp:lastModifiedBy>
  <dcterms:modified xsi:type="dcterms:W3CDTF">2020-04-13T12:56:59Z</dcterms:modified>
  <cp:revision>7</cp:revision>
  <dc:subject/>
  <dc:title>Слайд 1</dc:title>
</cp:coreProperties>
</file>