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680-1B33-49D2-BF4A-30C1D9EE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C9D-A517-48DE-A44E-8655042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764-73D2-4E17-9E1C-482CD40A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DEA-F203-4715-967E-589DEC1B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D9DC-0E21-426F-B0C3-450EF677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255D-64CD-436D-8039-E5233C1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CBC2-D946-45D2-8FDE-69EC8734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6D4-A604-4B72-9D12-9D6D97F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D20E-7069-420F-9ED7-77A5403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E03F-85E3-4353-8FBC-B24CAA3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60CE-DCC9-4355-BD5D-A124E45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016-65AB-4A44-A2A7-C3AAECAF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C965-5CB2-4DDE-A9BB-1BE19B9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D79-47D2-4D0E-BDF6-07EA09F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628-16E5-46FC-A1CA-8066F640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F832-6B3E-448C-988E-15DC36AC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02BE-35E1-40FC-89F5-EB6B3B0C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BA48-B688-4B8E-89D8-21183127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230A-C151-4588-9394-D582FB7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3B88-7785-4DBE-B992-C7C9D948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03D1-D0B3-4F43-8C41-6BF6CE2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FEAA-44BC-464D-9F97-52FD873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1C1-0F41-4FD5-BF8F-BC75D15A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00B0-DF2F-4230-981E-41C8B140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9271-B161-452C-B614-8D0C736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4C22-3B0B-4C98-8D8D-8BD4BF4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51FA-F602-4329-A1E5-DFE398A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C1B2-D1C6-4B4B-B1F6-1C46C3F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0172-C3F8-4583-BE88-86D6C484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EBEA-E60D-41B3-A004-F6CC10EC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6847-9E09-4C2F-A368-788EDEC6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9E4C-071D-436B-B4C3-64F88140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D1C4-6960-4B9E-A666-E88D20C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445-9FAD-4689-BA89-D9411282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E423-6694-41C2-93A6-40629912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E35E-591F-401B-9D00-54E37A8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A7AE8-E50B-4F3F-B6D6-827181D8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26C3-3D81-436F-96A7-9521C27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3C0D-78D9-4803-A7B6-1296BA40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F1E9-596A-45ED-ABD1-4914661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8C94-9523-4BB2-8C95-33C86EA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DD94-8856-4477-9541-CA4D162F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2165-FD2A-484B-8458-1C18CF71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D78A-A850-4A5C-903A-43FBAD09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3DD-5C3B-49CE-BE41-51EB826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BB6AC-3286-4112-B31A-7BA6EC5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3960-36DF-498C-857E-0AC19B8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A97F-991A-4DD2-9ED0-9079F88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74A0-DC15-40CD-B57D-129B874E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88F0-2945-4E10-9C0F-0F793C2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1F76-70EF-41C9-A876-B455AEA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BB26-977E-4E3E-94EE-73CF3A2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50A2-36A0-49E2-B105-44858F1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4F3D-02C2-478B-BEDB-A4A6539D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A69C-33D7-4763-BCDA-BE9C6A7E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974-E78F-4686-8384-3301F8D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5CDC-789C-4C06-AD29-94122D72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B2E-808F-496C-8982-9353024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8D7-C8D9-42A1-9E73-BEBA22A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F94-F36E-44BD-BE1D-295E4D1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2A8-DB33-4DFD-890E-D52C05AA38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4B8-F4CF-465B-A016-4FDC97D5410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F221-257A-442D-9DF9-E8565BC0E2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CE4C-BB21-4242-93F6-DE2ADC3B9B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9ABD-BF72-401C-93C5-0F81E6865B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Демдек адының синтаксистиг хүлээлгез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C:\Users\Kan-Demir\Desktop\IMG_1068-10-11-19-08-08 (3).JPG"/>
          <p:cNvPicPr/>
          <p:nvPr/>
        </p:nvPicPr>
        <p:blipFill>
          <a:blip r:embed="rId1"/>
          <a:stretch/>
        </p:blipFill>
        <p:spPr>
          <a:xfrm>
            <a:off x="0" y="0"/>
            <a:ext cx="2013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4040280" cy="576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Verdana"/>
              </a:rPr>
              <a:t>Д.а. синтаксистиг  хүлээлгелер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785840" y="357120"/>
            <a:ext cx="4041720" cy="7207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Д.а. морфологтуг сайгарылгазының чурум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052280"/>
            <a:ext cx="42465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.а. домакка тодарадылга азы сөглекчи болу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164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Чугаа кезээ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Айтыры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Укталбаан азы укталган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 Шынарның азы хамаарылганың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Шынарның  д.а. болза, чадазы (кошкадыр, өйүнде, күштелдирер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Синтаксистиг ролю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Verdana"/>
              </a:rPr>
              <a:t>ЧИЖЭЭ,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эки- д.а., кандыг?, укталбаан, шынарның, өйүнде чада, домакта тодарадылг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хема 8" descr=""/>
          <p:cNvPicPr/>
          <p:nvPr/>
        </p:nvPicPr>
        <p:blipFill>
          <a:blip r:embed="rId1"/>
          <a:stretch/>
        </p:blipFill>
        <p:spPr>
          <a:xfrm>
            <a:off x="249120" y="2060640"/>
            <a:ext cx="4114800" cy="45352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539640" y="278136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кандыг?  чулуг? (тодарады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буянны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2357280" y="515772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Verdana"/>
              </a:rPr>
              <a:t>кандыгыл? сөглек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468360" y="623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Эк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ениң кызы </a:t>
            </a:r>
            <a:r>
              <a:rPr b="1" lang="ru-RU" sz="2000" spc="-1" strike="noStrike">
                <a:solidFill>
                  <a:srgbClr val="262626"/>
                </a:solidFill>
                <a:latin typeface="Verdana"/>
              </a:rPr>
              <a:t>шев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унум 6.wma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58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78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Бердинген домактарда демдек адының хүлээлгезин тодарадыр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Капля 9"/>
          <p:cNvSpPr/>
          <p:nvPr/>
        </p:nvSpPr>
        <p:spPr>
          <a:xfrm>
            <a:off x="684360" y="1773360"/>
            <a:ext cx="3311280" cy="2087280"/>
          </a:xfrm>
          <a:prstGeom prst="pi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дик дагда  кызыл чечектер у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Капля 11"/>
          <p:cNvSpPr/>
          <p:nvPr/>
        </p:nvSpPr>
        <p:spPr>
          <a:xfrm>
            <a:off x="4835520" y="1814400"/>
            <a:ext cx="3336840" cy="2027520"/>
          </a:xfrm>
          <a:prstGeom prst="pi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уга хөректээштиг  оол хой кадарып чораа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Капля 12"/>
          <p:cNvSpPr/>
          <p:nvPr/>
        </p:nvSpPr>
        <p:spPr>
          <a:xfrm>
            <a:off x="630360" y="4330800"/>
            <a:ext cx="3220920" cy="2276280"/>
          </a:xfrm>
          <a:prstGeom prst="pi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лыг оол томаанны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Капля 13"/>
          <p:cNvSpPr/>
          <p:nvPr/>
        </p:nvSpPr>
        <p:spPr>
          <a:xfrm>
            <a:off x="5124600" y="4456080"/>
            <a:ext cx="3263760" cy="2141640"/>
          </a:xfrm>
          <a:prstGeom prst="pi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ва чуртувустуң даглары бед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емдек адының морфологтуг сайгарылгазын кылыр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600" y="642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Д.а. морфологтуг сайгарылгазының чурум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42884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Чугаа кезэ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Айтыры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Укталбаан азы укталг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Шынарның азы хамаарылганың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Шынарның  д.а. болза, чадазы (кошкадыр, өйүнде, күштелдирер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Синтаксистиг рол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2920" y="1142640"/>
            <a:ext cx="3930840" cy="34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Чай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Бед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072120" y="3286080"/>
            <a:ext cx="2737080" cy="1806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143760" y="1500120"/>
            <a:ext cx="2736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аал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85880" y="1499760"/>
            <a:ext cx="7786800" cy="47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ргежилге 405, 4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857840" y="1785960"/>
            <a:ext cx="3735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13:01:28Z</dcterms:created>
  <dc:creator>Пользователь</dc:creator>
  <dc:description/>
  <dc:language>en-US</dc:language>
  <cp:lastModifiedBy>2018</cp:lastModifiedBy>
  <dcterms:modified xsi:type="dcterms:W3CDTF">2020-04-13T01:28:51Z</dcterms:modified>
  <cp:revision>45</cp:revision>
  <dc:subject/>
  <dc:title>Слайд 1</dc:title>
</cp:coreProperties>
</file>