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A1B-7F50-41A0-9F7A-C66B5977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BA5E-47D4-4434-8F16-AE0538DD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E5F-6F40-4F97-907C-3C59D378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467-675C-4EE0-972F-908D2584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2A97-E2CF-4EDE-AF59-D660067A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C6CA-D954-4014-B36F-B55BFEAE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6D86-3E54-4EB5-B408-57BEFAAA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34AE-BCF4-46E0-B5AD-52CC50EE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DDBF-B0A7-4C5B-860E-295EB847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CCE4-1D4B-453A-BC27-E3C9A195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9563-7B6D-4738-B808-0E982A4A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2E5-E543-411B-AE6E-BE0CD1E4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BE24-B4D0-4DA2-8464-7F5E9C35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22C3-DE4B-46E8-A53A-C2205268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CBAE-1BC8-4A4F-9F8B-0720BD10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972D-8E51-443F-A444-AA84376E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3BA4-8B28-46F1-94A5-0775A834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836DC-B25D-4FF1-9DDE-4EC6DFCF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9BCBE-78FA-40F5-A925-BBA94BB9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5876E-5A62-413B-AEB6-5AC93C35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868B0-3392-4F95-A317-3B78BCF1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F8E4D-6E23-486D-848B-134C366D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2AA-FDA5-4068-AB28-7AC06230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92009-6EC1-4F18-8445-3578F554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5939-0AA2-4B6C-800E-C443DB3B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DCEF-9C79-471E-8DA5-C5BF19B6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EC941-2FC8-4E15-ACA2-F8BBC547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E3D3-236A-4B3E-BB3B-B16548A7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9CA15-1CE5-4D18-AFBF-4BA2E32F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C801D-7AAC-49C7-B66F-C0E316B4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D2AF1-C665-41D7-8040-20E588EE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17E87-0579-43DE-AA2C-7E683EAF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542DE-5579-4B82-8294-1AD7EEC2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3D1-4F1A-4B9E-9465-4AC9BB80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E651A-0609-49CF-98F1-72848377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317CB-1D27-4A67-8CE1-378D70E3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93108-D797-482C-9459-329C17ED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8C38E-3FBB-483E-ADE3-2B47BA72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D09E7-078E-4CDE-B851-D3236896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5CC4B-9878-4A4F-8E7D-DE03D138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5BB4C-8AE5-49EB-92A3-61BF89EE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AB45E-DA3B-4526-9E76-BAB7F315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8F5B1-218D-49D0-8E6D-55A459AA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B45FC-D619-4672-987C-D486141A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017-5802-49CB-8C64-E85BA5FD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AE352-C271-4DF4-AE5D-E5C0ED39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871E-9D32-4F71-9E70-6E7FA43B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30007-87BA-4FC8-857E-D95D8CEA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3A44F-734E-4F47-9518-D545D1D9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7FB72-FC00-4D00-A712-3A779707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9FBFE-28A7-466D-AE89-95CC0B32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C664D-1FA0-47B9-813A-28B7728F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B348E-9CE1-4379-9893-F0A0287A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75798-9F90-4E98-A422-EBDD7F4E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E7301-6B23-4DF8-B991-76BFF871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D0E-EC41-4961-A528-2A180B5F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07629-AFCD-4C0E-B55A-F09E6A85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520-A99F-4AD6-B953-328CADFA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A0F-E825-4893-8FF1-F33F3A8F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92A-2622-4DA5-9E8C-D3A37970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AB15-7F50-404D-B5E9-4CC8D1FA295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CEEF-7383-4861-B5B3-D22DA15FB05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8989-0274-4E16-A83C-20747905436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DDF1-22FE-4EA4-A007-3D439964AB3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058F-2E9D-417E-9885-E19D6F6A93E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4240" y="-28620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Демдек адының синтаксистиг хүлээлгези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2" descr="C:\Users\Kan-Demir\Desktop\IMG_1068-10-11-19-08-08 (3).JPG"/>
          <p:cNvPicPr/>
          <p:nvPr/>
        </p:nvPicPr>
        <p:blipFill>
          <a:blip r:embed="rId1"/>
          <a:stretch/>
        </p:blipFill>
        <p:spPr>
          <a:xfrm>
            <a:off x="0" y="0"/>
            <a:ext cx="20131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99680" y="428760"/>
            <a:ext cx="4040280" cy="576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Verdana"/>
              </a:rPr>
              <a:t>Д.а. синтаксистиг  хүлээлгелери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785840" y="357120"/>
            <a:ext cx="4041720" cy="7207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Д.а. морфологтуг сайгарылгазының чурум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052280"/>
            <a:ext cx="4246560" cy="554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.а. домакка тодарадылга азы сөглекчи болу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1640" y="1052280"/>
            <a:ext cx="4321080" cy="554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. Чугаа кезээ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 Айтырыы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3. Укталбаан азы укталган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4. Шынарның азы хамаарылганың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5. Шынарның  д.а. болза, чадазы (кошкадыр, өйүнде, күштелдирер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. Синтаксистиг ролю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Verdana"/>
              </a:rPr>
              <a:t>ЧИЖЭЭ,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эки- д.а., кандыг?, укталбаан, шынарның, өйүнде чада, домакта тодарадылг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Схема 8" descr=""/>
          <p:cNvPicPr/>
          <p:nvPr/>
        </p:nvPicPr>
        <p:blipFill>
          <a:blip r:embed="rId1"/>
          <a:stretch/>
        </p:blipFill>
        <p:spPr>
          <a:xfrm>
            <a:off x="249120" y="2060640"/>
            <a:ext cx="4114800" cy="45352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9"/>
          <p:cNvSpPr/>
          <p:nvPr/>
        </p:nvSpPr>
        <p:spPr>
          <a:xfrm>
            <a:off x="539640" y="278136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кандыг?  чулуг? (тодарадыл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буянны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2357280" y="515772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Verdana"/>
              </a:rPr>
              <a:t>кандыгыл? сөглек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468360" y="623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Verdana"/>
              </a:rPr>
              <a:t>Эки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иениң кызы </a:t>
            </a:r>
            <a:r>
              <a:rPr b="1" lang="ru-RU" sz="2000" spc="-1" strike="noStrike">
                <a:solidFill>
                  <a:srgbClr val="262626"/>
                </a:solidFill>
                <a:latin typeface="Verdana"/>
              </a:rPr>
              <a:t>шев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унум 6.wma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586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7840" y="549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Бердинген домактарда демдек адының хүлээлгезин тодарадыр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Капля 9"/>
          <p:cNvSpPr/>
          <p:nvPr/>
        </p:nvSpPr>
        <p:spPr>
          <a:xfrm>
            <a:off x="684360" y="1773360"/>
            <a:ext cx="3311280" cy="2087280"/>
          </a:xfrm>
          <a:prstGeom prst="pie">
            <a:avLst/>
          </a:prstGeom>
          <a:solidFill>
            <a:srgbClr val="ffff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дик дагда  кызыл чечектер ун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Капля 11"/>
          <p:cNvSpPr/>
          <p:nvPr/>
        </p:nvSpPr>
        <p:spPr>
          <a:xfrm>
            <a:off x="4835520" y="1814400"/>
            <a:ext cx="3336840" cy="2027520"/>
          </a:xfrm>
          <a:prstGeom prst="pie">
            <a:avLst/>
          </a:prstGeom>
          <a:solidFill>
            <a:srgbClr val="ffff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уга хөректээштиг  оол хой кадарып чораан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Капля 12"/>
          <p:cNvSpPr/>
          <p:nvPr/>
        </p:nvSpPr>
        <p:spPr>
          <a:xfrm>
            <a:off x="630360" y="4330800"/>
            <a:ext cx="3220920" cy="2276280"/>
          </a:xfrm>
          <a:prstGeom prst="pie">
            <a:avLst/>
          </a:prstGeom>
          <a:solidFill>
            <a:srgbClr val="ffc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лыг оол томаанны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Капля 13"/>
          <p:cNvSpPr/>
          <p:nvPr/>
        </p:nvSpPr>
        <p:spPr>
          <a:xfrm>
            <a:off x="5124600" y="4456080"/>
            <a:ext cx="3263760" cy="2141640"/>
          </a:xfrm>
          <a:prstGeom prst="pie">
            <a:avLst/>
          </a:prstGeom>
          <a:solidFill>
            <a:srgbClr val="ffc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ва чуртувустуң даглары бед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Демдек адының морфологтуг сайгарылгазын кылыр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42600" y="6426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Д.а. морфологтуг сайгарылгазының чурум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960" y="142884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Чугаа кезээ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Айтыры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Укталбаан азы укталга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Шынарның азы хамаарылганың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Шынарның  д.а. болза, чадазы (кошкадыр, өйүнде, күштелдирер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Синтаксистиг рол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2920" y="1142640"/>
            <a:ext cx="3930840" cy="34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Чайг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Бед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072120" y="3286080"/>
            <a:ext cx="2737080" cy="1806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6143760" y="1500120"/>
            <a:ext cx="2736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наалг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85880" y="1499760"/>
            <a:ext cx="7786800" cy="47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ргежилге 405, 4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4857840" y="1785960"/>
            <a:ext cx="37353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31T13:01:28Z</dcterms:created>
  <dc:creator>Пользователь</dc:creator>
  <dc:description/>
  <dc:language>en-US</dc:language>
  <cp:lastModifiedBy>2018</cp:lastModifiedBy>
  <dcterms:modified xsi:type="dcterms:W3CDTF">2020-04-13T01:28:51Z</dcterms:modified>
  <cp:revision>45</cp:revision>
  <dc:subject/>
  <dc:title>Слайд 1</dc:title>
</cp:coreProperties>
</file>