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5CB-6018-4370-9B05-3C49E7BB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920-4DAB-4002-BC54-B6671BD7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D11-BA1C-4A88-A06F-B43AE76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C3F-4DAA-4C80-BA3E-099314CB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7D0-BFB3-4721-936F-A5C3183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991-26DE-4175-9129-9FFE44E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589-D9FD-432D-B441-BF7B4FC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62A-4967-4A9C-B361-897AA355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516-6055-4986-86C8-30D8D712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C39-93A7-43D9-89C3-90AEC6C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F26-739C-485F-A83D-3BA60DF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372-4F6C-473E-A528-8A29926C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112A-9A2D-4A64-AC67-3CCFE48B2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riumphchepassione.com/immagini/union-jack-flag-bandie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ebloger.ru/data/original2/a6d6f333ceZBOKVEX_10217_8d299c94d9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8454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стопримечательности Лондона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можно посетить в Лонд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5600" y="4076280"/>
            <a:ext cx="42084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ликов Станислав Серг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к 8 В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ГБОУ «Казачья кадетская школа имени графа И.И. Воронцова-Дашкова»                                                                                   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драшов Максим Глебов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0_5e94_2408096a_XL"/>
          <p:cNvPicPr/>
          <p:nvPr/>
        </p:nvPicPr>
        <p:blipFill>
          <a:blip r:embed="rId1"/>
          <a:stretch/>
        </p:blipFill>
        <p:spPr>
          <a:xfrm rot="20974800">
            <a:off x="5435640" y="1341360"/>
            <a:ext cx="322884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i-84"/>
          <p:cNvPicPr/>
          <p:nvPr/>
        </p:nvPicPr>
        <p:blipFill>
          <a:blip r:embed="rId2"/>
          <a:stretch/>
        </p:blipFill>
        <p:spPr>
          <a:xfrm rot="21337800">
            <a:off x="684360" y="4508280"/>
            <a:ext cx="294300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Картинка 5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916280"/>
            <a:ext cx="507708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Картинка 68 из 64000">
            <a:hlinkClick r:id="rId5"/>
          </p:cNvPr>
          <p:cNvPicPr/>
          <p:nvPr/>
        </p:nvPicPr>
        <p:blipFill>
          <a:blip r:embed="rId6"/>
          <a:stretch/>
        </p:blipFill>
        <p:spPr>
          <a:xfrm rot="20097600">
            <a:off x="3571920" y="4633560"/>
            <a:ext cx="175572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0-london_master"/>
          <p:cNvPicPr/>
          <p:nvPr/>
        </p:nvPicPr>
        <p:blipFill>
          <a:blip r:embed="rId7"/>
          <a:stretch/>
        </p:blipFill>
        <p:spPr>
          <a:xfrm rot="20730000">
            <a:off x="411120" y="1606320"/>
            <a:ext cx="301932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7 Королевский теат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вент-Гарден» (Theatre Royal, Covent Ga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ент-Гарден – самый известный театр Лондона, который с 1946 года служит местом проведения балетных и оперных спектаклей, является домашней сценой Лондонского Королевского балета и Лондонской Королевской оперы. Находится Королевский театр Лондона в районе Ковент-Гарден, который и дал ему свое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573262_6"/>
          <p:cNvPicPr/>
          <p:nvPr/>
        </p:nvPicPr>
        <p:blipFill>
          <a:blip r:embed="rId1"/>
          <a:stretch/>
        </p:blipFill>
        <p:spPr>
          <a:xfrm>
            <a:off x="4232160" y="2565360"/>
            <a:ext cx="4911840" cy="403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lyc\Desktop\original.jpg"/>
          <p:cNvPicPr/>
          <p:nvPr/>
        </p:nvPicPr>
        <p:blipFill>
          <a:blip r:embed="rId2"/>
          <a:stretch/>
        </p:blipFill>
        <p:spPr>
          <a:xfrm>
            <a:off x="108000" y="2781360"/>
            <a:ext cx="4094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8 Лондонская национальная галер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he National Gall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циональная галерея в Лондоне (The National Gallery) относится к одной из ключевых достопримечательностей столицы Великобр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расположена в самом центре города, на известной Трафальгарской площади, и содержит порядка 2300 шедевров, представляющих западноевропейское искусство со второй половины XIII до начала XX столетия, при этом все полотна в экспозиции выставлены в хронологическ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ндонская Национальная галерея была создана в мае 182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573262_7"/>
          <p:cNvPicPr/>
          <p:nvPr/>
        </p:nvPicPr>
        <p:blipFill>
          <a:blip r:embed="rId1"/>
          <a:stretch/>
        </p:blipFill>
        <p:spPr>
          <a:xfrm>
            <a:off x="4932360" y="3429000"/>
            <a:ext cx="403236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Users\lyc\Desktop\londonskaya-natsionalnaya-galereya_89.jpg"/>
          <p:cNvPicPr/>
          <p:nvPr/>
        </p:nvPicPr>
        <p:blipFill>
          <a:blip r:embed="rId2"/>
          <a:stretch/>
        </p:blipFill>
        <p:spPr>
          <a:xfrm>
            <a:off x="179280" y="3429000"/>
            <a:ext cx="4608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9 Здание Парламен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(UK Parlia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89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ламент в Лондоне – настоящая достопримечательность Британской столицы, его визитная карточка. Это место, где работает правительство Великобритании. Здесь заседают Палата Общин и Палата Лор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ынешний парламент Великобритании размещается в знаменитом Вестминстерском двор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ание построено на берегу Темзы в середине XIX века. В здании Парламента три главных башни: самая высокая, но не самая известная – башня Виктории, центральная башня и, конечно же, башня Елизаветы, всемирно известная, как Биг Б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 же здание Парламента включает в себя боле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100 помещ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573262_8"/>
          <p:cNvPicPr/>
          <p:nvPr/>
        </p:nvPicPr>
        <p:blipFill>
          <a:blip r:embed="rId1"/>
          <a:stretch/>
        </p:blipFill>
        <p:spPr>
          <a:xfrm>
            <a:off x="5003640" y="422100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lyc\Desktop\2079515.jpg"/>
          <p:cNvPicPr/>
          <p:nvPr/>
        </p:nvPicPr>
        <p:blipFill>
          <a:blip r:embed="rId2"/>
          <a:stretch/>
        </p:blipFill>
        <p:spPr>
          <a:xfrm>
            <a:off x="108000" y="4437000"/>
            <a:ext cx="46958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10 Музей естествознания (Natural History Muse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439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ей естествознания входит в тройку самых крупных музеев Лондона, его коллекции насчитывают порядка 70 миллионов экспонатов, из которых более шести миллионов растений, пятьдесят пять миллионов представителей животного мира, причем половина из них — насекомые, около пятисот тысяч минералов и камней, и около девяти миллионов экземпляров палеонтологических оста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73262_9"/>
          <p:cNvPicPr/>
          <p:nvPr/>
        </p:nvPicPr>
        <p:blipFill>
          <a:blip r:embed="rId1"/>
          <a:stretch/>
        </p:blipFill>
        <p:spPr>
          <a:xfrm>
            <a:off x="4788000" y="1243080"/>
            <a:ext cx="374472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24300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11 Трафальга́рская площадь (Trafalgar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85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 главных туристических центров Лондона и всей Великобритании является Трафальгарская площадь, главная площадь Лондона на которой проводится большинство официальных торжеств и праздников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здесь в преддверии Новогодних и Рождественских праздников устанавливается главная городская елка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фальгарская площадь была построена в 1820 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573262_10"/>
          <p:cNvPicPr/>
          <p:nvPr/>
        </p:nvPicPr>
        <p:blipFill>
          <a:blip r:embed="rId1"/>
          <a:stretch/>
        </p:blipFill>
        <p:spPr>
          <a:xfrm>
            <a:off x="4284720" y="620640"/>
            <a:ext cx="4319640" cy="2482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C:\Users\lyc\Desktop\trafalgarskaya-ploshchad_89.jpg"/>
          <p:cNvPicPr/>
          <p:nvPr/>
        </p:nvPicPr>
        <p:blipFill>
          <a:blip r:embed="rId2"/>
          <a:stretch/>
        </p:blipFill>
        <p:spPr>
          <a:xfrm>
            <a:off x="6300720" y="3103560"/>
            <a:ext cx="2843280" cy="3754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:\Users\lyc\Desktop\trafalgarskaya-ploshchad_86.jpg"/>
          <p:cNvPicPr/>
          <p:nvPr/>
        </p:nvPicPr>
        <p:blipFill>
          <a:blip r:embed="rId3"/>
          <a:stretch/>
        </p:blipFill>
        <p:spPr>
          <a:xfrm>
            <a:off x="4052880" y="3213000"/>
            <a:ext cx="22478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4:17:35Z</dcterms:created>
  <dc:creator>User</dc:creator>
  <dc:description/>
  <dc:language>en-US</dc:language>
  <cp:lastModifiedBy>lyc</cp:lastModifiedBy>
  <dcterms:modified xsi:type="dcterms:W3CDTF">2020-04-13T20:07:37Z</dcterms:modified>
  <cp:revision>59</cp:revision>
  <dc:subject/>
  <dc:title>London </dc:title>
</cp:coreProperties>
</file>