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990-9F81-46FF-80A4-9D1F801F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311-A183-4395-A737-BB7E1D71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6DC-1FB3-41F8-B90D-A5AFFACF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212-069B-4665-BF00-A15044E6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BDC4-3364-4C33-8F96-F1D8177B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1B8D-4CF3-49A4-A536-D796DD0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00EB-62B0-45B0-A336-1BCC33A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B59F-F6B5-4F91-B191-1F1BD79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50DB-3D6A-4E66-8A18-5634E159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89AE-FE54-4B61-B360-E4BA256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94DB-03F5-4B6F-A761-439E473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8D6-3884-46BE-9671-E99729A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E380-70E8-4D0D-B268-92E45091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4FA-2B9D-409F-B06C-974E2CC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ABD-BD60-4DC0-B759-A9C1FAC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0A4C-2337-4A00-94BD-F41EB699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0B0-0A41-4174-96C5-70D2A3BD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5F0A-B15C-4F12-A393-BCD8B923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9830-E92A-47A7-9D96-ED3407F3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2D72-D9BF-44A9-A986-5D5FF64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66BF-35C3-49DF-96B8-747B4AD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8302-A8C1-4392-9FD3-F73AF1EE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03E-C03D-43D6-9F5B-9DA65D44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1306-4DE5-4C0E-9792-54E1815F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98EB-5E41-48EB-95E0-BD8ED23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A7E7-F6F7-4811-ADD2-E37D79C0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4C14-ADC7-45A9-9C1F-78615367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4107-70F5-4897-BE08-3317FBE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D23D-4BF0-49C3-8797-91552E96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41F2-DE14-463D-9E26-4BA15C5B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645E-552D-43BD-8F98-A0318DF1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5720-E319-4C83-B270-B92C25D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475C-46FA-4E8F-BA24-C1E2F984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153-977F-48C8-A965-54104063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457D-EE8F-4E36-8DC9-C001533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F6B9-AC70-4781-A19F-EFF2F1A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9063-9D1E-4BE1-89BE-9CC14385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554E-904E-42DA-A6B8-5F2BC6F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D034-49E5-4D3D-B9A8-BD1BEB0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4015-2BFF-4C90-AC42-89F7C3A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5C34-0D4F-4EE0-9E6D-96B535DC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0215-9D80-4A34-8105-A2D0BB7E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20E7E-7224-473E-B875-010D39B8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9BB-6DF8-47AC-9539-F9EEBA74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915-21FF-4F1D-8C26-FC47C4C4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5EE-1A82-4A9A-8EA4-ECEF1C1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CB8-71DB-45AA-9B27-E2491F3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BC4-31D6-4F19-A977-9957506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60393-98D1-42F1-8381-43530203025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FA8EE-D156-42AC-B940-3F01D06C941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BA1B1-5C83-46F1-BB2A-D96C07C4F95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E60F2-14F9-44A9-8337-C37DCF4F8C4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Семья\Мои документы\презентации\Шаблоны презентаций\Готовые фоны для презентаций\фон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53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Экологические факторы, влияющие на живые организмы</a:t>
            </a:r>
            <a:br>
              <a:rPr sz="60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                   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D:\набор фотографий\природа\61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СТНАЯ ИСТОРИЯ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009_Дождь.mp3" descr=""/>
          <p:cNvPicPr/>
          <p:nvPr/>
        </p:nvPicPr>
        <p:blipFill>
          <a:blip r:embed="rId2"/>
          <a:stretch/>
        </p:blipFill>
        <p:spPr>
          <a:xfrm>
            <a:off x="3478320" y="37958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607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C:\Documents and Settings\Семья\Мои документы\презентации\Шаблоны презентаций\Готовые фоны для презентаций\BG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ВОПРОСЫ ДЛЯ ОБСУЖД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2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вы думаете, почему сказка называется «Грустная история?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2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люди вели себя в сказ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2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как вы будете вести себя в лесу? А на другой природной территори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just">
              <a:lnSpc>
                <a:spcPct val="12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ведите свои примеры негативного влияния человека на живые организмы. К чему это может привес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Семья\Мои документы\презентации\Шаблоны презентаций\Готовые фоны для презентаций\фон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ределите факторы среды в три колонки: лесной пожар, погоня за зайцем, выпавший снег, выбросы в атмосферу, поедание малины медведем, знойная жара, сброс сточных вод в реку, опыление растения, дождь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Семья\Мои документы\презентации\Шаблоны презентаций\Готовые фоны для презентаций\фон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олните определение: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реда обитания</a:t>
            </a: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……….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сто обитания</a:t>
            </a: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наиболее …….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Семья\Мои документы\презентации\Шаблоны презентаций\Готовые фоны для презентаций\BG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и колонки написать слова согласно среде обитания: корень моркови лиса, медуза, водоросли, ель, гриб, акула, крот, медведь, пингвин, червяк, морская звезда, личинка майского жу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D:\набор фотографий\природа\taiga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45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D:\набор фотографий\природа\Sample_Picture02.JPG"/>
          <p:cNvPicPr/>
          <p:nvPr/>
        </p:nvPicPr>
        <p:blipFill>
          <a:blip r:embed="rId2"/>
          <a:stretch/>
        </p:blipFill>
        <p:spPr>
          <a:xfrm>
            <a:off x="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D:\набор фотографий\природа\6169.JPG"/>
          <p:cNvPicPr/>
          <p:nvPr/>
        </p:nvPicPr>
        <p:blipFill>
          <a:blip r:embed="rId3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29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ЕМНО - ВОЗДУШНАЯ СРЕД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3" descr="D:\набор фотографий\природа\Безымянный-1.bmp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44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D:\набор фотографий\природа\6224.JPG"/>
          <p:cNvPicPr/>
          <p:nvPr/>
        </p:nvPicPr>
        <p:blipFill>
          <a:blip r:embed="rId5"/>
          <a:stretch/>
        </p:blipFill>
        <p:spPr>
          <a:xfrm>
            <a:off x="2484360" y="1700280"/>
            <a:ext cx="4910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D:\набор фотографий\природа\6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НАЯ СРЕДА ОБИТ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D:\набор фотографий\природа\6058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572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ЧВЕННАЯ СРЕД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Picture 3" descr="D:\набор фотографий\животные\волчьи\6247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набор фотографий\животные\обезьяны\6001.JPG"/>
          <p:cNvPicPr/>
          <p:nvPr/>
        </p:nvPicPr>
        <p:blipFill>
          <a:blip r:embed="rId2"/>
          <a:stretch/>
        </p:blipFill>
        <p:spPr>
          <a:xfrm>
            <a:off x="6912000" y="4857840"/>
            <a:ext cx="223200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D:\набор фотографий\животные\волчьи\6071.JPG"/>
          <p:cNvPicPr/>
          <p:nvPr/>
        </p:nvPicPr>
        <p:blipFill>
          <a:blip r:embed="rId3"/>
          <a:stretch/>
        </p:blipFill>
        <p:spPr>
          <a:xfrm>
            <a:off x="4643280" y="48578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D:\набор фотографий\животные\грызуны\6223.JPG"/>
          <p:cNvPicPr/>
          <p:nvPr/>
        </p:nvPicPr>
        <p:blipFill>
          <a:blip r:embed="rId4"/>
          <a:stretch/>
        </p:blipFill>
        <p:spPr>
          <a:xfrm>
            <a:off x="4643280" y="1571760"/>
            <a:ext cx="2230560" cy="1500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D:\набор фотографий\животные\грызуны\6278.JPG"/>
          <p:cNvPicPr/>
          <p:nvPr/>
        </p:nvPicPr>
        <p:blipFill>
          <a:blip r:embed="rId5"/>
          <a:stretch/>
        </p:blipFill>
        <p:spPr>
          <a:xfrm>
            <a:off x="2428920" y="3075120"/>
            <a:ext cx="2214360" cy="175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D:\набор фотографий\животные\кошачьи\6155.JPG"/>
          <p:cNvPicPr/>
          <p:nvPr/>
        </p:nvPicPr>
        <p:blipFill>
          <a:blip r:embed="rId6"/>
          <a:stretch/>
        </p:blipFill>
        <p:spPr>
          <a:xfrm>
            <a:off x="2428920" y="4857840"/>
            <a:ext cx="221436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D:\набор фотографий\животные\медведи\11.jpg"/>
          <p:cNvPicPr/>
          <p:nvPr/>
        </p:nvPicPr>
        <p:blipFill>
          <a:blip r:embed="rId7"/>
          <a:stretch/>
        </p:blipFill>
        <p:spPr>
          <a:xfrm>
            <a:off x="4643280" y="3071880"/>
            <a:ext cx="2291040" cy="1790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D:\набор фотографий\животные\рогатые, копытные\6204.JPG"/>
          <p:cNvPicPr/>
          <p:nvPr/>
        </p:nvPicPr>
        <p:blipFill>
          <a:blip r:embed="rId8"/>
          <a:stretch/>
        </p:blipFill>
        <p:spPr>
          <a:xfrm>
            <a:off x="0" y="164304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D:\набор фотографий\животные\хамелионы, ящерицы, змеи\6218.JPG"/>
          <p:cNvPicPr/>
          <p:nvPr/>
        </p:nvPicPr>
        <p:blipFill>
          <a:blip r:embed="rId9"/>
          <a:stretch/>
        </p:blipFill>
        <p:spPr>
          <a:xfrm>
            <a:off x="2357280" y="16430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D:\набор фотографий\животные\хамелионы, ящерицы, змеи\6222.JPG"/>
          <p:cNvPicPr/>
          <p:nvPr/>
        </p:nvPicPr>
        <p:blipFill>
          <a:blip r:embed="rId10"/>
          <a:stretch/>
        </p:blipFill>
        <p:spPr>
          <a:xfrm>
            <a:off x="6929280" y="3071880"/>
            <a:ext cx="2214720" cy="1770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D:\набор фотографий\птицы\6009.JPG"/>
          <p:cNvPicPr/>
          <p:nvPr/>
        </p:nvPicPr>
        <p:blipFill>
          <a:blip r:embed="rId11"/>
          <a:stretch/>
        </p:blipFill>
        <p:spPr>
          <a:xfrm>
            <a:off x="0" y="0"/>
            <a:ext cx="242244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D:\набор фотографий\птицы\6325.JPG"/>
          <p:cNvPicPr/>
          <p:nvPr/>
        </p:nvPicPr>
        <p:blipFill>
          <a:blip r:embed="rId12"/>
          <a:stretch/>
        </p:blipFill>
        <p:spPr>
          <a:xfrm>
            <a:off x="4643280" y="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D:\набор фотографий\растения\6192.JPG"/>
          <p:cNvPicPr/>
          <p:nvPr/>
        </p:nvPicPr>
        <p:blipFill>
          <a:blip r:embed="rId13"/>
          <a:stretch/>
        </p:blipFill>
        <p:spPr>
          <a:xfrm>
            <a:off x="0" y="3143160"/>
            <a:ext cx="2428920" cy="172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D:\набор фотографий\растения\mushroom072.jpg"/>
          <p:cNvPicPr/>
          <p:nvPr/>
        </p:nvPicPr>
        <p:blipFill>
          <a:blip r:embed="rId14"/>
          <a:stretch/>
        </p:blipFill>
        <p:spPr>
          <a:xfrm>
            <a:off x="2357280" y="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3" descr="D:\набор фотографий\растения\ashberry_01.jpg"/>
          <p:cNvPicPr/>
          <p:nvPr/>
        </p:nvPicPr>
        <p:blipFill>
          <a:blip r:embed="rId15"/>
          <a:stretch/>
        </p:blipFill>
        <p:spPr>
          <a:xfrm>
            <a:off x="0" y="4875120"/>
            <a:ext cx="2428920" cy="1982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4" descr="D:\набор фотографий\растения\6193.JPG"/>
          <p:cNvPicPr/>
          <p:nvPr/>
        </p:nvPicPr>
        <p:blipFill>
          <a:blip r:embed="rId16"/>
          <a:stretch/>
        </p:blipFill>
        <p:spPr>
          <a:xfrm>
            <a:off x="6869160" y="1500120"/>
            <a:ext cx="2274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2" descr="D:\набор фотографий\животные\6104.JPG"/>
          <p:cNvPicPr/>
          <p:nvPr/>
        </p:nvPicPr>
        <p:blipFill>
          <a:blip r:embed="rId1"/>
          <a:stretch/>
        </p:blipFill>
        <p:spPr>
          <a:xfrm>
            <a:off x="0" y="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набор фотографий\рыбы\Изображение 1248.jpg"/>
          <p:cNvPicPr/>
          <p:nvPr/>
        </p:nvPicPr>
        <p:blipFill>
          <a:blip r:embed="rId2"/>
          <a:stretch/>
        </p:blipFill>
        <p:spPr>
          <a:xfrm>
            <a:off x="2928960" y="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D:\набор фотографий\рыбы\EEL_02.JPG"/>
          <p:cNvPicPr/>
          <p:nvPr/>
        </p:nvPicPr>
        <p:blipFill>
          <a:blip r:embed="rId3"/>
          <a:stretch/>
        </p:blipFill>
        <p:spPr>
          <a:xfrm>
            <a:off x="0" y="1928880"/>
            <a:ext cx="2928960" cy="235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D:\набор фотографий\рыбы\I427047.JPG"/>
          <p:cNvPicPr/>
          <p:nvPr/>
        </p:nvPicPr>
        <p:blipFill>
          <a:blip r:embed="rId4"/>
          <a:stretch/>
        </p:blipFill>
        <p:spPr>
          <a:xfrm>
            <a:off x="0" y="428616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D:\набор фотографий\рыбы\I141017.JPG"/>
          <p:cNvPicPr/>
          <p:nvPr/>
        </p:nvPicPr>
        <p:blipFill>
          <a:blip r:embed="rId5"/>
          <a:stretch/>
        </p:blipFill>
        <p:spPr>
          <a:xfrm>
            <a:off x="4572000" y="4270320"/>
            <a:ext cx="4572000" cy="2587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D:\набор фотографий\рыбы\WaterWorld_09.jpg"/>
          <p:cNvPicPr/>
          <p:nvPr/>
        </p:nvPicPr>
        <p:blipFill>
          <a:blip r:embed="rId6"/>
          <a:stretch/>
        </p:blipFill>
        <p:spPr>
          <a:xfrm>
            <a:off x="5786280" y="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D:\набор фотографий\рыбы\Изображение 1170.jpg"/>
          <p:cNvPicPr/>
          <p:nvPr/>
        </p:nvPicPr>
        <p:blipFill>
          <a:blip r:embed="rId7"/>
          <a:stretch/>
        </p:blipFill>
        <p:spPr>
          <a:xfrm>
            <a:off x="5786280" y="235728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КОЛОГИЧЕСКИЕ ФАКТОРЫ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80880" y="1071720"/>
            <a:ext cx="6905880" cy="5024160"/>
          </a:xfrm>
          <a:prstGeom prst="rightArrow">
            <a:avLst>
              <a:gd name="adj1" fmla="val 79306"/>
              <a:gd name="adj2" fmla="val 32397"/>
            </a:avLst>
          </a:prstGeom>
          <a:gradFill rotWithShape="0">
            <a:gsLst>
              <a:gs pos="0">
                <a:srgbClr val="ffffff"/>
              </a:gs>
              <a:gs pos="100000">
                <a:srgbClr val="90c2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214200" y="2209680"/>
            <a:ext cx="571500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a021"/>
              </a:gs>
              <a:gs pos="100000">
                <a:srgbClr val="88bd6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биотические (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ет, вода, температур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214200" y="3352680"/>
            <a:ext cx="571500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тические  (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живые организмы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214200" y="4495680"/>
            <a:ext cx="571500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a3c"/>
              </a:gs>
              <a:gs pos="100000">
                <a:srgbClr val="b8da7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ропогенные (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ияние человек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7215120" y="2286000"/>
            <a:ext cx="1928880" cy="2286000"/>
          </a:xfrm>
          <a:custGeom>
            <a:avLst/>
            <a:gdLst>
              <a:gd name="textAreaLeft" fmla="*/ 51120 w 1928880"/>
              <a:gd name="textAreaRight" fmla="*/ 1877760 w 1928880"/>
              <a:gd name="textAreaTop" fmla="*/ 51120 h 2286000"/>
              <a:gd name="textAreaBottom" fmla="*/ 2234880 h 2286000"/>
            </a:gdLst>
            <a:ahLst/>
            <a:rect l="textAreaLeft" t="textAreaTop" r="textAreaRight" b="textAreaBottom"/>
            <a:pathLst>
              <a:path w="21600" h="25598">
                <a:moveTo>
                  <a:pt x="1967" y="0"/>
                </a:moveTo>
                <a:arcTo wR="1967" hR="1967" stAng="16200000" swAng="-5400000"/>
                <a:lnTo>
                  <a:pt x="0" y="23631"/>
                </a:lnTo>
                <a:arcTo wR="1967" hR="1967" stAng="10800000" swAng="-5400000"/>
                <a:lnTo>
                  <a:pt x="19633" y="25598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solidFill>
            <a:srgbClr val="6d64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ЫЕ ОРГАН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2:38:06Z</dcterms:created>
  <dc:creator>Семья</dc:creator>
  <dc:description/>
  <dc:language>en-US</dc:language>
  <cp:lastModifiedBy>Виталий</cp:lastModifiedBy>
  <dcterms:modified xsi:type="dcterms:W3CDTF">2020-04-13T17:35:51Z</dcterms:modified>
  <cp:revision>23</cp:revision>
  <dc:subject/>
  <dc:title>Среда обитания и экологические факторы, влияющие на живые организмы </dc:title>
</cp:coreProperties>
</file>