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B490-0313-4DA7-BCD7-E7DC235A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B7CF-E704-453E-8FC2-45412EFE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F3AF-A8C5-4F64-97E9-58687F1D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941-4D0C-43B1-8D98-DBFFDD42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F931-78D5-4C59-8F6A-29505849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6821-6F78-4CD0-808A-9FC62E39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5228-D351-4754-B95F-B7A2E3A5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33AC-7BCC-4FF0-8BE4-4B1601D1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DC9C-337D-4379-A827-8B87BB9B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AEAD-BA61-4595-AEF3-A4665A70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4899-6C8A-41D2-816B-A86FE375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0EF-4761-4968-A826-C4D6A2C7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0FA1-4DBF-4A8F-B530-D3F7DE2E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DBF8-C2BA-4638-B49F-F7CA7CCC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4515-2BCA-47FC-BBDC-F4D7DD0A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B55D-7012-4230-BC48-56FDD618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28DE-FCFD-4ACD-9558-B3312C4F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CF883-C3CE-4583-9265-04A2F6D4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AAF7C-73F3-44AF-A7F5-EB419162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1E30D-5B8E-4F25-A26A-AE4AF06E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2AD20-D30D-418E-86CE-4E43069A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D3E4B-CB34-4F44-99BB-7B7F6BBC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44E-1C81-4F8A-89D3-BB0C4084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71392-6AF0-4A32-8973-740E1041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BB829-72E3-4CF2-998B-126BA0F5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7C562-A9F0-40C7-AB62-ED54D7B6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F1515-221E-4A17-BBC2-25448E62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45A0B-AC5D-4E75-9215-0C7BC8AB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A7E30-913F-4D83-B635-43226721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608DC-D6E3-4984-923F-87659821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80C8E-038F-41E7-8C30-5BC97E99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C7549-5EBA-4067-AC77-57B5CA0B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BCCC1-B23B-4AB8-A3AE-09296FCE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327A-7040-4C74-B1F2-3500FB86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C23CD-3C18-4D65-B36C-C6C853EF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AD62F-A691-4128-811B-D7BAF46C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AB01E-ED66-4541-BAAB-ED71CFB7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D307C-2B09-4D24-ABDA-736990D4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5CA52-A389-46A5-ADF5-E9EC4E98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61C1A-FA6F-4A38-8A3E-2598DCFE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004E5-E8B3-4E5F-970B-D5398C73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D7E6F-8832-4F85-BF2A-83DAC3F5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2FE5D-117F-4F3D-97C9-46789379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0AAEB-820B-4E8F-B5E3-298391AC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1EA-1C34-4D23-BD56-0A938E4C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8AD35-E435-4729-8A7A-13BF629A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43BB4-5A9E-4868-A211-87B6379C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53C34-EBDB-453E-A37C-C4EF1A1A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1A697-E3E1-4B32-947F-651C34E1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64FDF-D725-4AE2-97E7-D9EE127D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F9FF7-6C7F-47D4-8A0C-4A86FF72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19E79-3113-4279-B900-692962B5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195CB-2E55-4BC3-9308-382F06A6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B44DA-F04C-4E0F-A2E7-6AB41FA3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E4FC9-7039-4798-ADAE-1428D39E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E9C-C61F-41CB-A427-4D2162DE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7EFF1-5641-45ED-ACAB-EC97B3A2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5253F-F488-4C43-B542-BD322357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909DF-56C6-4092-9562-A6D23BF3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7904A-7155-4E7B-A7AD-602A3D51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AAF9D-C8A7-4D1E-B3BF-13524997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A302E-17C8-44D1-BB55-9DCBAEAF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7E1F4-7E51-4234-8C7F-067E0384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99BFA-0BBD-4B90-85A4-9FD64E5A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36C37-465D-42BD-9467-8B062540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41DCE-095D-47E9-B158-45A457C5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6D5-AAC3-4CE6-B32F-8401B885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53E51-0166-44DA-8C79-27024DCC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DF665-EF31-4059-85B1-08F42496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4EF23-58A9-4F7B-8140-03EE1230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BB446-4B2D-435E-B1CE-A265B870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5FB50-7161-4A62-95F9-C3597EA2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6885D-6E93-4A0C-8DE4-227C94C5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40F5F-B1BE-4D83-8E95-FE7DDBFD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D5DE0-65C7-45E0-A747-EAE9349E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2F914-EED8-44EF-8D56-FDEC4241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A7806-C06D-4A01-9263-67B780C8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AD8E-8F30-4914-AE1A-6ABDF2C6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5EB8E-46A6-4EE0-90F2-D6C1FFF5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B23C4-D2A9-4230-8C13-258A536B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842D1-AB9A-445E-81BC-1B3F3AAE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B7E73-CC7D-4F51-BC9B-918CE726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23352-D0BB-4D02-B745-7576EEA7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B8E-8EAF-4A04-97F4-8C683776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3e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1b6f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584d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5bd07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a5d0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1aa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1aab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1aa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E34A-3BE5-4484-9B20-24B68535FEEC}" type="slidenum">
              <a:rPr b="0" lang="ru-RU" sz="1000" spc="-1" strike="noStrike">
                <a:solidFill>
                  <a:srgbClr val="91aab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d"/>
            </a:gs>
            <a:gs pos="100000">
              <a:srgbClr val="5b71b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1b6f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584d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5bd07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a5d0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1aa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1aab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1aa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94B8-BC9A-4C7F-B927-BEF6B8EF9E17}" type="slidenum">
              <a:rPr b="0" lang="ru-RU" sz="1000" spc="-1" strike="noStrike">
                <a:solidFill>
                  <a:srgbClr val="91aab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d"/>
            </a:gs>
            <a:gs pos="100000">
              <a:srgbClr val="5b71b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1b6f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584d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5bd07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a5d0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1aa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1aab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1aa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B25F-468E-4911-A5FC-01F7A4CB04BC}" type="slidenum">
              <a:rPr b="0" lang="ru-RU" sz="1000" spc="-1" strike="noStrike">
                <a:solidFill>
                  <a:srgbClr val="91aab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3e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1b6f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584d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5bd07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a5d0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1aa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1aab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1aa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618F-BA80-4E04-BEC0-C8E6179E4E22}" type="slidenum">
              <a:rPr b="0" lang="ru-RU" sz="1000" spc="-1" strike="noStrike">
                <a:solidFill>
                  <a:srgbClr val="91aab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3e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1b6f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584d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5bd07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a5d0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1aa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1aab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1aa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CECD-23A1-4B7E-97D5-33EA53711B6E}" type="slidenum">
              <a:rPr b="0" lang="ru-RU" sz="1000" spc="-1" strike="noStrike">
                <a:solidFill>
                  <a:srgbClr val="91aab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3e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1b6f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584d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5bd07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a5d0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1aa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1aab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1aa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B9B3-41C5-4CE0-8E13-53FAE8DA0AD9}" type="slidenum">
              <a:rPr b="0" lang="ru-RU" sz="1000" spc="-1" strike="noStrike">
                <a:solidFill>
                  <a:srgbClr val="91aab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3e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1b6f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584d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5bd07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a5d0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1aa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71B0-EC87-4256-B983-10A2ED2ABDCD}" type="slidenum">
              <a:rPr b="0" lang="ru-RU" sz="1000" spc="-1" strike="noStrike">
                <a:solidFill>
                  <a:srgbClr val="91aab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1189080" y="1432080"/>
            <a:ext cx="75582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ля монолога характерны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ная лекс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ернутость высказы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онч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гическая заверш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Эти две формы речи отличаются и мотивами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Монологическая реч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тимулируется внутренними мотивами, и её содержание выбирает сам говорящ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Диалогическая реч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тимулируется не только внутренними, но и внешними мотивами (ситуация, в которой происходит диалог, реплики собеседника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1258920" y="5157720"/>
            <a:ext cx="7416720" cy="1368360"/>
          </a:xfrm>
          <a:prstGeom prst="rect">
            <a:avLst/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ледовательно, монологическая речь явля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олее сложным, производным, более организованным вид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ечи и поэтому требует специального речевого вос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Связная речь может быть </a:t>
            </a:r>
            <a:r>
              <a:rPr b="0" i="1" lang="ru-RU" sz="3600" spc="-1" strike="noStrike">
                <a:solidFill>
                  <a:srgbClr val="ffffff"/>
                </a:solidFill>
                <a:latin typeface="Franklin Gothic Book"/>
              </a:rPr>
              <a:t>ситуативной и контекстной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Ситуативная речь-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вязана с конкретной наглядной ситуацией и не отражает полностью содержание мысли в речевых формах. Она понятна только при учете той ситуации, о которой рассказываетс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03640" y="162864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В контекстной речи –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одержание понятно из самого контекста. Сложность данной речи состоит в том, что здесь требуется построение высказывания без учета конкретной ситуации, с опорой только на языковые средст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539280" y="98100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сихологи подчеркивают, что в связной речи отчетливо выступает тесная связь речевого и умственного воспитания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язная речь выполняет важнейшие социальные  функции: помогает ребенку устанавливать связи с окружающими людьми, определяет и регулирует нормы поведения в обществе, является решающим условием для развития его лич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Особенности развития связной речи в дошкольном детстве.</a:t>
            </a:r>
            <a:endParaRPr b="0" lang="en-US" sz="43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4360" y="2060640"/>
            <a:ext cx="7991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нимание речи- начальный этап в развитии функций р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рождается намеренность голосовой реакции, формируется речевой слух,. Произвольное произно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Franklin Gothic Book"/>
              </a:rPr>
              <a:t>К концу первого – началу второго года жизни</a:t>
            </a:r>
            <a:endParaRPr b="0" lang="en-US" sz="43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39280" y="184464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бенок начинает использовать слова для обращения к взрослом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являются первые предложения из двух с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являются первые осмысленные сло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чь выступает как средство познания и как средство установления конта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На третьем году жизн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ыстрыми темпами развивается как понимание речи, так и активная реч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растает словарный запас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ложняется структура предлож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ти начинают использовать самую простую диалогическую реч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чь  связана с непосредственным опытом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ети 4-5 ле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ивно вступаю в разговор, могут поддержать бесе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сказывают сказки и короткие расска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и рассказывают по игрушкам и картинк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ют формулировать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зы в большинстве копируют образец взросл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Franklin Gothic Book"/>
              </a:rPr>
              <a:t>Дети старшего дошкольного возраста</a:t>
            </a:r>
            <a:endParaRPr b="0" lang="en-US" sz="43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95280" y="1989000"/>
            <a:ext cx="8507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ивно участвуют в разговоре, бесед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но и точно отвечают на вопросы, формулируют вопрос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статочно хорошо участвуют в диалог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Franklin Gothic Book"/>
              </a:rPr>
              <a:t>Пять основных групп диалогических умений:</a:t>
            </a:r>
            <a:endParaRPr b="0" lang="en-US" sz="43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39280" y="177336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Собственно речевые умения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: вступать в общение, поддерживать и завершать общение, говорить выразительно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Умение речевого этикет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бращение, знакомство, приветствие, просьб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Умение общаться: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в паре, коллективе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Умение общаться для планирования совместных действий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еречевые (невербальные) умения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использование мимики, жест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6840" y="1052280"/>
            <a:ext cx="8435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связной речью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нимают смысловое развернутое высказывание, обеспечивающее общение и взаимопонимани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Связность,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читал </a:t>
            </a:r>
            <a:r>
              <a:rPr b="0" i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Л.С. Рубенштейн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, это «адекватность речевого оформления мысли говорящего или пишущего с точки зрения её понятности для слушателя или читателя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ледовательно, основной характеристикой связной речи является её понятность для собеседника.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Содержание требований к диалогической речи по возрастным группам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457200" y="1600200"/>
          <a:ext cx="8229600" cy="5059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нний возра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тей учат выражать просьбы и желания словом, отвечать на вопросы взрослых (кто это?, что делает? Какая?) Побуждают обращаться к взрослом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ладший дошкольный возра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обходимо чтобы каждый малыш легко вступал в общение со взрослым и детьми, выражал свои мысли словами, понятно отвечал на вопросы, делился своими впечатлениями, прививать привычку пользовать речевым этикетом, здороваться, говорить спасибо, стимулировать попытки детей задавать вопросы (кто?, где?, что делаешь, зачем?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Содержание требований к диалогической речи по возрастным группам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457200" y="1600200"/>
          <a:ext cx="8229600" cy="4809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дошкольный возр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тей приучают охотно вступать в общение со взрослыми и сверстниками, отвечать на вопросы и задавать их по поведу предметов, их качества, действий с ними; педагог поддерживает стремление рассказывать  о своих наблюдениях, переживаниях; педагог больше внимания уделяет качеству ответов детей: учит отвечать, как в краткой, так и в распространенной форм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тепенно приучает детей к участию коллективной беседе, продолжается воспитание культуры общения детей: приветствовать знакомых и родных с применением разных форм речевого этикет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Содержание требований к диалогической речи по возрастным группам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рший дошкольный возр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ледует учить более точно отвечать на вопросы, отвечать на один и тот же вопрос по разному; закреплять умение участвовать в общей беседе, внимательно слушать собеседника, не перебивая его и не отвлекаясь; особое внимание следует уделить умению ребенка формулировать вопрос; следует поощрять разговоры детей по поводу вещей, не находящихся в поле зрения ребенка, содержательное общение детей по поводу игр, прочитанных книг, просмотренных кинофильмо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ти на данном этапе должны овладеть речевым этикетом общения, через образец педагог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ересказ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осмысленное воспроизведение литературного образца в устной речи. При пересказе ребенок передает готовое авторское содержание и заимствует готовые речевые формы (словарь, грамматические конструкции, связк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219640" y="17002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Рассказ 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самостоятельное развернутое изложение ребенком определенного содержания. В методике традиционно термином «рассказ» принято обозначать самостоятельно созданные детьми монологи разного типа (описание, повествование, рассужд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Всякое связное монологическое высказывание характеризуется рядом признаков:</a:t>
            </a:r>
            <a:endParaRPr b="0" lang="en-US" sz="29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064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Целостность (единство темы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уктурное оформление (начало, середина и конец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ъем высказыва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вязность (логические связки между предложениями и частями монолога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лавность (отсутствие длительных пауз в процессе рассказывания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98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98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98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98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ля достижения связной речи необходим ряд умений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31b6f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ние понимать и осмысливать тему, определять ее границ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31b6f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бирать необходимый материа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31b6f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олагать материал в нужной последова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31b6f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ьзоваться средствами языка в соответствии с литературными нормами задачами высказы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31b6f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оить речь преднамеренно и произво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98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98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98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98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98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98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языке сложились типичные способы соединения фраз в тексте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Цепная –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иболее распространенная связь при которой основными средствами являются местоимения и синонимическая заме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араллельная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данной связи предложения не сцепляются, а сопоставляются или противопоставляю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Лучевая –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анная связь чаще всего используется в описании, когда называется, а затем характеризуется объек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язанные высказывания детей можно охарактеризовать с разных точек зрения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457200" y="1600200"/>
          <a:ext cx="8229600" cy="5008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 функции (назначению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веств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сужд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таминацию (смешанные текст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точнику высказыван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 карти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 опы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 игрушкам и предмета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ворческие расска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дущему психическому процессу, на который опирается ребен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 восприя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 памя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 воображени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зависимости от функции (назначения) выделяют четыре типа монологов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1258920" y="2637000"/>
            <a:ext cx="216072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ис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2916360" y="3500280"/>
            <a:ext cx="2016000" cy="865440"/>
          </a:xfrm>
          <a:prstGeom prst="rect">
            <a:avLst/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еств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3995640" y="4581360"/>
            <a:ext cx="2160720" cy="79236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уж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5148360" y="5589720"/>
            <a:ext cx="2303280" cy="79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таминац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зависимости от ведущего психического процесса выделяют три типа монолог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60" name="Organization Chart 2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361" name="_s1028"/>
            <p:cNvCxnSpPr>
              <a:stCxn id="362" idx="0"/>
              <a:endCxn id="363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64" name="_s1029"/>
            <p:cNvCxnSpPr>
              <a:stCxn id="365" idx="0"/>
              <a:endCxn id="363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66" name="_s1030"/>
            <p:cNvCxnSpPr>
              <a:stCxn id="367" idx="0"/>
              <a:endCxn id="363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63" name="_s1031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монолог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_s1032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Рассказывани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по восприятию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_s1033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Рассказывани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по памят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_s1034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00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Рассказывани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по воображению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ВЯЗНАЯ РЕЧЬ - ЭТО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ЧЬ, КОТОРАЯ ОТРАЖАЕТ ВСЕ СУЩЕСТВЕННЫЕ  СТОРОНЫ ПРЕДМЕТНОГО СОДЕРЖАНИЯ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чь может быть несвязной по двум причинам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ибо потому, что эти связи не осознаны и не представлены в мысли говорящего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ибо эти связи не выявлены надлежащим образом в его реч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азвития монологической речи в возрастных группах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106800"/>
                <a:gridCol w="512280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нний возр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здаются предпосылки для развития монологической речи. Детей учат слышать и понимать доступные им по содержанию рассказы и сказки и повторять отдельные реплики и фразы. В двух фразах рассказывать по картине или об увиденном на улиц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торая младш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тей учат пересказывать хорошо знакомые им сказки и рассказы, а также рассказывать по наглядному материалу (описание игрушки, рассказывание по картине с близким детскому опыту сюжету).Детей подводят к составлению коротких описаний игрушек и карти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азвития монологической речи в возрастных группах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539640" y="2060640"/>
          <a:ext cx="8229600" cy="4114800"/>
        </p:xfrm>
        <a:graphic>
          <a:graphicData uri="http://schemas.openxmlformats.org/drawingml/2006/table">
            <a:tbl>
              <a:tblPr/>
              <a:tblGrid>
                <a:gridCol w="3106800"/>
                <a:gridCol w="5122800"/>
              </a:tblGrid>
              <a:tr h="41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яя групп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ти пересказывают содержание сказок и рассказов не только знакомых, но и впервые услышанных. Рассказыванию по картине учатся сначала по вопросам воспитателя, затем самостоятельно стоить высказывания описательного и повествовательного рассказ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обходимо обращать внимание на структурное оформление описаний и повествовании, дается представление о разных значениях рассказов («Однажды, «Как то раз») средствах связи между предложения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азвития монологической речи в возрастных группах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68360" y="1600200"/>
          <a:ext cx="8218440" cy="4525920"/>
        </p:xfrm>
        <a:graphic>
          <a:graphicData uri="http://schemas.openxmlformats.org/drawingml/2006/table">
            <a:tbl>
              <a:tblPr/>
              <a:tblGrid>
                <a:gridCol w="410364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ршая групп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ти связно, последовательно пересказывают литературные произведения без помощи воспитателя, выразительно передавая диалоги героев. По серии сюжетных картинок, по игрушкам учатся составлять повествовательные рассказы: указывать место и время действия, развивать сюжет, соблюдать композицию и последовательность изложения, а в рассказах по одной картине –придумывать последующие действ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азвития монологической речи в возрастных группах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57200" y="1773360"/>
          <a:ext cx="8229600" cy="4724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7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готовительная к школе групп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тей учат строить разные типы текстов (описание,, повествование, рассуждение) с соблюдением их структуры, с использованием разных типов внутритекстовых связей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ложняются задачи и содержание обучения рассказыванию по игрушкам и картинкам, на темы из личного опыта, творческому рассказыванию без наглядного материала. Дети сами анализируют и оценивают рассказы с точки зрения из содержания, структуры, связанност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6840" y="1125000"/>
            <a:ext cx="7859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звитие связной речи в процессе формирования воображения у дет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spcBef>
                <a:spcPts val="90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достаточное развитие лексико-грамматических средств языка и связной речи и недостаточное развитие психических процессов слились воедин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ля того, чтобы научить детей связному, последовательному рассказыванию, необходимо развивать не только речевые навыки детей, но и психические процесс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м больше ребёнок видел, слышал, пережил и усвоил, тем значительнее и продуктивнее будет деятельность его воображ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лово даёт ребёнку возможность представить и преобразовать предмет в его отсутств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процессе выполнения игр и упражнений у детей активизируется способность к анализу, синтезу, сравнению и обобще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Цель работ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и работе над развитие связной речи повысить уровень развития творческого воображения у детей среднего и старшего дошкольного возрас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610920" y="907920"/>
            <a:ext cx="78483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цесс, деятельность говорящего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дукт, результат этой деятельности, текст, высказывание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звание раздела этой деятельности по развитию реч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Связная речь- единое смысловое и структурное целое, включающее между собой и тематические объединения, законченные отрезк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684360" y="1125000"/>
            <a:ext cx="770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спитание взрослых, способных руководить творчес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вместная деятельность взрослого и ребён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рганизация развивающей предметно-пространственной сред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68000" y="9810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0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дготовитель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новно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ключительны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Цель основного этап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26920" y="184464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вивать у детей творческое воображение, учить их определять главную функцию предмета и находить много дополнительных, расширять функциональное применение предметов на практик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 завершающем этапе детям предоставляется возможность действовать самостоятельно: загадывать предметы, рисовать открытку, подбирать отдельные слова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539280" y="1341360"/>
            <a:ext cx="807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витие образной реч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спитание интереса к художественному слову, формирование умения использовать средства художественной выразительности в самостоятельном высказыван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«Увеличение – уменьшение»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00000" y="2133720"/>
            <a:ext cx="746784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т волшебная палочка, она может увеличивать или уменьшать всё, что вы захоти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«Оживи предмет»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Игра предполагает придание объектам неживой природы способностей и качеств живых существ, а именно: способность двигаться, думать, чувствовать, дышать, расти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«Разными глазами»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никам предлагается описать ситуацию, с точки зрения разных её участников, интересы которых могут быть противоположны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«Автобиография»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825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Я представляю себя предметом, вещью или явлением и от его имени буду вести рассказ. Внимательно послушайте меня и путём наводящих вопросов выясните, о ком или о чём идёт речь»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«Фантазёр»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ложить ребёнку пофантазировать на самые разнообразные темы: если бы я был волшебником (каким?, зачем?, что делал бы?, и т.п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Основная функция связной речи- </a:t>
            </a:r>
            <a:r>
              <a:rPr b="0" i="1" lang="ru-RU" sz="3600" spc="-1" strike="noStrike">
                <a:solidFill>
                  <a:srgbClr val="ffffff"/>
                </a:solidFill>
                <a:latin typeface="Franklin Gothic Book"/>
              </a:rPr>
              <a:t>коммуникативная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619280" y="1844640"/>
            <a:ext cx="6121440" cy="19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Функция связной ре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существляетс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 двух направления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1835280" y="4869000"/>
            <a:ext cx="2376360" cy="1008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иало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5508720" y="4941720"/>
            <a:ext cx="2303280" cy="8636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оноло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 flipH="1">
            <a:off x="3132000" y="3933720"/>
            <a:ext cx="1152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9"/>
          <p:cNvSpPr/>
          <p:nvPr/>
        </p:nvSpPr>
        <p:spPr>
          <a:xfrm>
            <a:off x="4284720" y="3933720"/>
            <a:ext cx="1727280" cy="79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«Пиктограммы»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ям даётся бумага и простой карандаш и объясняются правила игры: «Я вам буду говорить слова, а вы спрячьте их в рисунок так, чтобы потом их можно было найти…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Выведение следстви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лагается ряд вопросов, начинающихся со слов «Что произойдёт…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а ребёнка дать как можно более полные и оригинальные ответы на поставленные вопрос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ети научатся составлять интересные сказки, составлять описательные рассказы, разовьют фантазию и логическое мышл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68360" y="1052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лингвистической и психологической литературе диалогическая и монологическая речь рассматриваются в плане их противопоста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личаются они и по своей коммуникативной направлен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215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Диалогическая речь представляет собой особенно яркое проявление коммуникативной функции языка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692000" y="2637000"/>
            <a:ext cx="7127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ой особенностью диалога является чередование говорения одного собеседника с прослушиванием и последующим говорением друго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ля диалога характерны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говорная лексик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Фразеолог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ратнос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договореннос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рывистос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стые и сложные бессоюзные предлож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ратковременное предварительное обдумывани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нологическая речь - связное, логически последовательное высказывание, протекающее относительно долго во времени, не рассчитанное на немедленную реакцию слушате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31T10:53:11Z</dcterms:created>
  <dc:creator>ПК</dc:creator>
  <dc:description/>
  <dc:language>en-US</dc:language>
  <cp:lastModifiedBy>Idea</cp:lastModifiedBy>
  <dcterms:modified xsi:type="dcterms:W3CDTF">2019-03-11T10:32:02Z</dcterms:modified>
  <cp:revision>13</cp:revision>
  <dc:subject/>
  <dc:title>Презентация PowerPoint</dc:title>
</cp:coreProperties>
</file>