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B96-200F-4D18-8ECE-22815CAD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9D7-0BF2-40C8-9605-6E597EE9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F6E-656F-4E81-A4FA-8B349B91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F9D-0305-4D55-B9D0-A8211B82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E66-2D4E-44E7-A8EB-0A27B42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39C-98D3-4A82-811F-1538634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C88-9C61-4751-84F3-12A3F2D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7DE-5B8E-433E-93F2-5A7C861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FB4-8C09-4789-A063-C192453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D31-2166-481C-82F6-E7C6772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0D9-E343-485D-89DC-85BCFCA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594-0F89-44A6-BC81-F84F041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EE4-418D-4A97-99A5-C3B73EAA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8366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ИЗУЧ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ГЕОМЕТР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</a:rPr>
              <a:t>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5184720" cy="30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50864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ГБОУ «Школа №137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д/о №2, группа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Загребае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916280"/>
            <a:ext cx="1706400" cy="158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916280"/>
            <a:ext cx="1944720" cy="187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3933720"/>
            <a:ext cx="2087640" cy="1922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4581360"/>
            <a:ext cx="2232000" cy="1203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71280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 НАЗЫВАЮТСЯ ЭТИ ГЕОМЕТРИЧЕСКИЕ ФИГУ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ОГО ОНИ Ц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71600" y="69228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НА КАКУЮ ФИГУРУ ПОХОЖ СИЛУЭТ ЧА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6049800" cy="413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88720" y="765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НА ЧТО ПОХОЖА ПОДУ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4249800" cy="424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2520" y="76500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УЮ ФИГУРУ НАПОМИНАЕТ ДОРОЖНЫЙ ЗНА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256360" cy="352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6360" y="83664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КАКУЮ ФОРМУ ИМЕЕТ ЭТА ТАРЕЛ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32720" y="765000"/>
            <a:ext cx="44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ИЗ КАКИХ ГЕОМЕТРИЧЕСКИХ ФИГ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СОСТАВЛЕНА ЭТА КАРТИ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2:55:48Z</dcterms:created>
  <dc:creator>PC</dc:creator>
  <dc:description/>
  <dc:language>en-US</dc:language>
  <cp:lastModifiedBy>PC</cp:lastModifiedBy>
  <dcterms:modified xsi:type="dcterms:W3CDTF">2020-04-13T13:32:36Z</dcterms:modified>
  <cp:revision>2</cp:revision>
  <dc:subject/>
  <dc:title>Слайд 1</dc:title>
</cp:coreProperties>
</file>