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B42-B092-4CDD-9AB9-71B14879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C5E6-B800-49EA-BEF9-CF76346B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032-B22B-42DE-884F-339D2BCD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F460-17F5-482C-9F77-F2A2A0B3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13A-E939-423D-B1C8-743859E3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A84-0EC9-4A76-8A8A-421D020F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FD8-E244-4B22-A740-68F8124C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B26-1929-40CB-8AE1-E0EFEA47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022-F9A4-4F64-BC8B-7E8052B6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A11-1B4F-471F-8F1C-45446454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B68-B202-4511-98B8-C437D739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4B63-B042-4E1F-8AD9-C481DC98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8F19-6138-4E30-8651-248DEDD88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83664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ИЗУЧ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ГЕОМЕТР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ФИГ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5184720" cy="3038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50864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ГБОУ «Школа №137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д/о №2, группа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Загребаева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58920" y="1916280"/>
            <a:ext cx="1706400" cy="158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1916280"/>
            <a:ext cx="1944720" cy="187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4000" y="3933720"/>
            <a:ext cx="2087640" cy="1922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4581360"/>
            <a:ext cx="2232000" cy="1203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712800"/>
            <a:ext cx="83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КАК НАЗЫВАЮТСЯ ЭТИ ГЕОМЕТРИЧЕСКИЕ ФИГУ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КАКОГО ОНИ ЦВ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71600" y="692280"/>
            <a:ext cx="53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НА КАКУЮ ФИГУРУ ПОХОЖ СИЛУЭТ ЧАС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92360" y="1989000"/>
            <a:ext cx="6049800" cy="4138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88720" y="7650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НА ЧТО ПОХОЖА ПОДУШ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40000" y="1916280"/>
            <a:ext cx="4249800" cy="424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22520" y="765000"/>
            <a:ext cx="60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КАКУЮ ФИГУРУ НАПОМИНАЕТ ДОРОЖНЫЙ ЗНА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256360" cy="3520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96360" y="83664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КАКУЮ ФОРМУ ИМЕЕТ ЭТА ТАРЕЛ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904000" cy="4427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32720" y="765000"/>
            <a:ext cx="44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ИЗ КАКИХ ГЕОМЕТРИЧЕСКИХ ФИГ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СОСТАВЛЕНА ЭТА КАРТИН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3T12:55:48Z</dcterms:created>
  <dc:creator>PC</dc:creator>
  <dc:description/>
  <dc:language>en-US</dc:language>
  <cp:lastModifiedBy>PC</cp:lastModifiedBy>
  <dcterms:modified xsi:type="dcterms:W3CDTF">2020-04-13T13:32:36Z</dcterms:modified>
  <cp:revision>2</cp:revision>
  <dc:subject/>
  <dc:title>Слайд 1</dc:title>
</cp:coreProperties>
</file>