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38280" y="938160"/>
            <a:ext cx="59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Игра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«Картинки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5f4d78bf8f77cb84698e99b2e3b98dba"/>
          <p:cNvPicPr/>
          <p:nvPr/>
        </p:nvPicPr>
        <p:blipFill>
          <a:blip r:embed="rId1"/>
          <a:stretch/>
        </p:blipFill>
        <p:spPr>
          <a:xfrm rot="969600">
            <a:off x="3132000" y="4220640"/>
            <a:ext cx="3264120" cy="204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inding-Nemo"/>
          <p:cNvPicPr/>
          <p:nvPr/>
        </p:nvPicPr>
        <p:blipFill>
          <a:blip r:embed="rId2"/>
          <a:stretch/>
        </p:blipFill>
        <p:spPr>
          <a:xfrm rot="20169000">
            <a:off x="971280" y="350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thelittlemermaid"/>
          <p:cNvPicPr/>
          <p:nvPr/>
        </p:nvPicPr>
        <p:blipFill>
          <a:blip r:embed="rId3"/>
          <a:stretch/>
        </p:blipFill>
        <p:spPr>
          <a:xfrm rot="20819400">
            <a:off x="5796000" y="3284280"/>
            <a:ext cx="2521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44606"/>
          <p:cNvPicPr/>
          <p:nvPr/>
        </p:nvPicPr>
        <p:blipFill>
          <a:blip r:embed="rId1"/>
          <a:stretch/>
        </p:blipFill>
        <p:spPr>
          <a:xfrm>
            <a:off x="468360" y="333360"/>
            <a:ext cx="817092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39640" y="2060640"/>
            <a:ext cx="929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262699"/>
                </a:solidFill>
                <a:latin typeface="Times New Roman"/>
              </a:rPr>
              <a:t>ЧТО БЫЛО В РУКА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Times New Roman"/>
              </a:rPr>
              <a:t>                            </a:t>
            </a:r>
            <a:r>
              <a:rPr b="1" lang="ru-RU" sz="4000" spc="-1" strike="noStrike">
                <a:solidFill>
                  <a:srgbClr val="262699"/>
                </a:solidFill>
                <a:latin typeface="Times New Roman"/>
              </a:rPr>
              <a:t>У ЗАЙЧ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44606"/>
          <p:cNvPicPr/>
          <p:nvPr/>
        </p:nvPicPr>
        <p:blipFill>
          <a:blip r:embed="rId1"/>
          <a:stretch/>
        </p:blipFill>
        <p:spPr>
          <a:xfrm>
            <a:off x="843120" y="631800"/>
            <a:ext cx="7437240" cy="558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960200" y="5114880"/>
            <a:ext cx="430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МОРКОВ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70559"/>
          <p:cNvPicPr/>
          <p:nvPr/>
        </p:nvPicPr>
        <p:blipFill>
          <a:blip r:embed="rId1"/>
          <a:stretch/>
        </p:blipFill>
        <p:spPr>
          <a:xfrm>
            <a:off x="250920" y="476280"/>
            <a:ext cx="8628120" cy="57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9640" y="1133640"/>
            <a:ext cx="1008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ГО ЦВЕТА БЫ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БАШКА У ВОЛ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ФИОЛЕТОВАЯ РУБА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АСНАЯ РУБА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ОРИЧНЕВАЯ РУБА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РОЗОВАЯ РУБА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70559"/>
          <p:cNvPicPr/>
          <p:nvPr/>
        </p:nvPicPr>
        <p:blipFill>
          <a:blip r:embed="rId1"/>
          <a:stretch/>
        </p:blipFill>
        <p:spPr>
          <a:xfrm>
            <a:off x="250920" y="0"/>
            <a:ext cx="8628120" cy="57783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6430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РАСНАЯ РУБ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2053929_72d3c6468385"/>
          <p:cNvPicPr/>
          <p:nvPr/>
        </p:nvPicPr>
        <p:blipFill>
          <a:blip r:embed="rId1"/>
          <a:stretch/>
        </p:blipFill>
        <p:spPr>
          <a:xfrm>
            <a:off x="468360" y="333360"/>
            <a:ext cx="817236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63680" y="1052640"/>
            <a:ext cx="74912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КТО БЫЛ ИЗОБРАЖ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НА КАРТИНК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  КУР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Т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ЫПЛ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2053929_72d3c6468385"/>
          <p:cNvPicPr/>
          <p:nvPr/>
        </p:nvPicPr>
        <p:blipFill>
          <a:blip r:embed="rId1"/>
          <a:stretch/>
        </p:blipFill>
        <p:spPr>
          <a:xfrm>
            <a:off x="468360" y="333360"/>
            <a:ext cx="8172360" cy="6086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3492360" y="3645000"/>
            <a:ext cx="35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ЕБЕД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186330404_6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152000" y="1197000"/>
            <a:ext cx="654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В КАКОЙ РУКЕ БЫ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КЛЮЧИК У БУРАТИН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ЛЕВАЯ Р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РАВАЯ Р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1186330404_6"/>
          <p:cNvPicPr/>
          <p:nvPr/>
        </p:nvPicPr>
        <p:blipFill>
          <a:blip r:embed="rId1"/>
          <a:stretch/>
        </p:blipFill>
        <p:spPr>
          <a:xfrm>
            <a:off x="790560" y="549360"/>
            <a:ext cx="464508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435640" y="6093000"/>
            <a:ext cx="136836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716720" y="5445000"/>
            <a:ext cx="39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В ЛЕВО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208791866_sharktale1"/>
          <p:cNvPicPr/>
          <p:nvPr/>
        </p:nvPicPr>
        <p:blipFill>
          <a:blip r:embed="rId1"/>
          <a:stretch/>
        </p:blipFill>
        <p:spPr>
          <a:xfrm>
            <a:off x="1859040" y="0"/>
            <a:ext cx="54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11280" y="1052640"/>
            <a:ext cx="8163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У КОГО БЫЛА ШЛЯП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У КРОКОДИ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У ЧЕБУРАШ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208791866_sharktale1"/>
          <p:cNvPicPr/>
          <p:nvPr/>
        </p:nvPicPr>
        <p:blipFill>
          <a:blip r:embed="rId1"/>
          <a:stretch/>
        </p:blipFill>
        <p:spPr>
          <a:xfrm>
            <a:off x="1859040" y="1973160"/>
            <a:ext cx="3865320" cy="488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755640" y="78912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У КРОКОДИЛ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eauty-and-the-Beast-beauty-and-the-beast-309492_1024_768"/>
          <p:cNvPicPr/>
          <p:nvPr/>
        </p:nvPicPr>
        <p:blipFill>
          <a:blip r:embed="rId1"/>
          <a:stretch/>
        </p:blipFill>
        <p:spPr>
          <a:xfrm>
            <a:off x="611280" y="404640"/>
            <a:ext cx="8188200" cy="614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1133280" y="1455840"/>
            <a:ext cx="71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ЧТО ДЕРЖИ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В РУКАХ ДЕВОЧК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844720" y="5589720"/>
            <a:ext cx="31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КНИГ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Beauty-and-the-Beast-beauty-and-the-beast-309492_1024_768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"/>
          <p:cNvPicPr/>
          <p:nvPr/>
        </p:nvPicPr>
        <p:blipFill>
          <a:blip r:embed="rId1"/>
          <a:stretch/>
        </p:blipFill>
        <p:spPr>
          <a:xfrm>
            <a:off x="1042920" y="620640"/>
            <a:ext cx="676908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946080" y="907920"/>
            <a:ext cx="661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КАКОГО ЦВЕТА БЫ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БАНТИК У КО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ОЗОВ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АС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900000" y="1341360"/>
            <a:ext cx="70567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У КОГО БЫЛ БАНТ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У ОБЕЗЬЯН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Times New Roman"/>
              </a:rPr>
              <a:t>У СЛО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f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</a:rPr>
              <a:t>У ЗМЕ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b0f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i"/>
          <p:cNvPicPr/>
          <p:nvPr/>
        </p:nvPicPr>
        <p:blipFill>
          <a:blip r:embed="rId1"/>
          <a:stretch/>
        </p:blipFill>
        <p:spPr>
          <a:xfrm>
            <a:off x="1979640" y="1628640"/>
            <a:ext cx="4824360" cy="4052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549440" y="5445000"/>
            <a:ext cx="642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ФИОЛЕТОВЫ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mg122"/>
          <p:cNvPicPr/>
          <p:nvPr/>
        </p:nvPicPr>
        <p:blipFill>
          <a:blip r:embed="rId1"/>
          <a:stretch/>
        </p:blipFill>
        <p:spPr>
          <a:xfrm>
            <a:off x="1619280" y="233280"/>
            <a:ext cx="63324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411200" y="1557360"/>
            <a:ext cx="6039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КАКИМ ЦВЕТОМ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БЫЛА НАПИСА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БУКВА «</a:t>
            </a:r>
            <a:r>
              <a:rPr b="1" lang="ru-RU" sz="8800" spc="-1" strike="noStrike">
                <a:solidFill>
                  <a:srgbClr val="262699"/>
                </a:solidFill>
                <a:latin typeface="Times New Roman"/>
              </a:rPr>
              <a:t>С</a:t>
            </a: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13080" y="5589720"/>
            <a:ext cx="415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ЖЁЛТЫ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img122"/>
          <p:cNvPicPr/>
          <p:nvPr/>
        </p:nvPicPr>
        <p:blipFill>
          <a:blip r:embed="rId1"/>
          <a:stretch/>
        </p:blipFill>
        <p:spPr>
          <a:xfrm>
            <a:off x="2556000" y="981000"/>
            <a:ext cx="4500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_14459424_124_20"/>
          <p:cNvPicPr/>
          <p:nvPr/>
        </p:nvPicPr>
        <p:blipFill>
          <a:blip r:embed="rId1"/>
          <a:stretch/>
        </p:blipFill>
        <p:spPr>
          <a:xfrm>
            <a:off x="1476360" y="0"/>
            <a:ext cx="566568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684360" y="1052640"/>
            <a:ext cx="8640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Times New Roman"/>
              </a:rPr>
              <a:t>У КОГО БЫЛИ ОЧ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 ЧЕРЕПА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 СЛ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 СОБА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 ЛЬ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_14459424_124_20"/>
          <p:cNvPicPr/>
          <p:nvPr/>
        </p:nvPicPr>
        <p:blipFill>
          <a:blip r:embed="rId1"/>
          <a:stretch/>
        </p:blipFill>
        <p:spPr>
          <a:xfrm>
            <a:off x="1476360" y="0"/>
            <a:ext cx="5327640" cy="6745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918720" y="620640"/>
            <a:ext cx="354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 черепах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ittle_mermaid_title"/>
          <p:cNvPicPr/>
          <p:nvPr/>
        </p:nvPicPr>
        <p:blipFill>
          <a:blip r:embed="rId1"/>
          <a:stretch/>
        </p:blipFill>
        <p:spPr>
          <a:xfrm>
            <a:off x="250920" y="333360"/>
            <a:ext cx="860400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50920" y="1052640"/>
            <a:ext cx="756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СКОЛЬКО РЫБОК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262699"/>
                </a:solidFill>
                <a:latin typeface="Times New Roman"/>
              </a:rPr>
              <a:t>РЯДОМ С ДЕВОЧКОЙ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-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ittle_mermaid_title"/>
          <p:cNvPicPr/>
          <p:nvPr/>
        </p:nvPicPr>
        <p:blipFill>
          <a:blip r:embed="rId1"/>
          <a:stretch/>
        </p:blipFill>
        <p:spPr>
          <a:xfrm>
            <a:off x="595440" y="333360"/>
            <a:ext cx="6713280" cy="4751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595440" y="5087880"/>
            <a:ext cx="8440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етыре рыб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38"/>
          <p:cNvPicPr/>
          <p:nvPr/>
        </p:nvPicPr>
        <p:blipFill>
          <a:blip r:embed="rId1"/>
          <a:stretch/>
        </p:blipFill>
        <p:spPr>
          <a:xfrm>
            <a:off x="530280" y="4762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582840" y="4834080"/>
            <a:ext cx="769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БАНТИК БЫЛ У ОБЕЗЬЯ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6"/>
          <p:cNvSpPr/>
          <p:nvPr/>
        </p:nvSpPr>
        <p:spPr>
          <a:xfrm>
            <a:off x="324000" y="210492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МОЛОДЦЫ  РЕБЯТА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66080" y="1700280"/>
            <a:ext cx="742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ГО ЦВЕТА БЫЛ БАНТИ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СИ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- ОРАНЖЕ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КРА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ЗЕЛЕ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8"/>
          <p:cNvPicPr/>
          <p:nvPr/>
        </p:nvPicPr>
        <p:blipFill>
          <a:blip r:embed="rId1"/>
          <a:stretch/>
        </p:blipFill>
        <p:spPr>
          <a:xfrm>
            <a:off x="530280" y="47628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633240" y="483408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БАНТИК СИНЕГО ЦВЕ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3442_1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55640" y="1413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ГО ЦВЕТА БЫЛИ КОНЬ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959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3442_1"/>
          <p:cNvPicPr/>
          <p:nvPr/>
        </p:nvPicPr>
        <p:blipFill>
          <a:blip r:embed="rId1"/>
          <a:stretch/>
        </p:blipFill>
        <p:spPr>
          <a:xfrm>
            <a:off x="826920" y="665280"/>
            <a:ext cx="710568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198680" y="5013360"/>
            <a:ext cx="435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ГОЛУБ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7:07:50Z</dcterms:created>
  <dc:creator>Семья</dc:creator>
  <dc:description/>
  <dc:language>en-US</dc:language>
  <cp:lastModifiedBy>1</cp:lastModifiedBy>
  <dcterms:modified xsi:type="dcterms:W3CDTF">2012-12-18T06:34:26Z</dcterms:modified>
  <cp:revision>19</cp:revision>
  <dc:subject/>
  <dc:title>Слайд 1</dc:title>
</cp:coreProperties>
</file>