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lic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F9A-B148-4D32-93FC-61083A14FF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менская В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E6F-355D-4A5D-9830-225F7A0B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79B-AC36-43D9-9B29-98CFF04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1F8-A04B-4992-A2A8-DD713590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893-F52A-49D5-9D91-54814124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F6BE-E16E-4348-B759-037CB526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6A3-88FD-48D2-8DB1-6E40D40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4B3-5281-4039-B370-2CD400B4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AC89-4C83-45BC-B0BF-85266A9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DAC-7F92-4CAE-A849-5019330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8311-00B7-49AF-AE4F-0AD6FEDE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F741-5A04-4845-9606-958ACB8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941-4E9A-4188-85F7-C02B5D5F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02E-05EA-4D1D-83CD-C3D63DE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DA8C-AE67-4FD1-AF2D-E1BD334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0CCF-DFF3-4D92-9C9A-B35A089C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9B8B-A051-4D1B-B11A-7123CC90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9B2-04EC-4080-A7AD-E8A2827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8A6-3417-49BE-B454-ECDF7FD8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345-F5F7-46C2-B482-4964225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B83-D083-4074-8D57-4C28EEFF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BA2-58D2-4690-A598-8D43168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21D-D40F-4A37-B0BD-1B9CD0D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462-F8A6-477C-B66A-3C919AF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6CA-138C-42AC-80D6-6FB8C05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Коломенская В.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227-28F6-4808-A952-333FADBEF7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2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Коломенская В.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E8D-A3EE-46D2-A44D-A9C01F3E7D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<Relationship Id="rId3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<Relationship Id="rId3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3"/>
          <p:cNvSpPr/>
          <p:nvPr/>
        </p:nvSpPr>
        <p:spPr>
          <a:xfrm>
            <a:off x="571680" y="571680"/>
            <a:ext cx="8072280" cy="571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1920960" y="811080"/>
            <a:ext cx="5649840" cy="32068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3236760"/>
            <a:ext cx="7174080" cy="238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3"/>
          <a:stretch/>
        </p:blipFill>
        <p:spPr>
          <a:xfrm>
            <a:off x="6072120" y="3929040"/>
            <a:ext cx="18576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жигает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жиг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ед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чиш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кну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и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ыхаю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еди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a0a000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4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1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8" dur="indefinite" restart="never" nodeType="tmRoot">
          <p:childTnLst>
            <p:seq>
              <p:cTn id="252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30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53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5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6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581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587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60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2617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2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632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63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2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653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65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2674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2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9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680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69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710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72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2740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746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761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776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791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806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8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836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85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6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1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872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878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884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47640" y="404640"/>
          <a:ext cx="6500880" cy="6255000"/>
        </p:xfrm>
        <a:graphic>
          <a:graphicData uri="http://schemas.openxmlformats.org/drawingml/2006/table">
            <a:tbl>
              <a:tblPr/>
              <a:tblGrid>
                <a:gridCol w="2167200"/>
                <a:gridCol w="2166840"/>
                <a:gridCol w="2166840"/>
              </a:tblGrid>
              <a:tr h="946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ходные глаг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ереход-ные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35120">
                <a:tc>
                  <a:txBody>
                    <a:bodyPr lIns="19044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обозначают действие, переходящее на предмет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Они имеют (или могут иметь) при себе имя сущ. или местоим. в вин. п. без пред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440" marR="9540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значают действие, не способное переходить на прямой объект, поэтому они не сочетаются с существительны- ми  в вин. п. без предл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 самостоятельная часть речи, которая обозначает состояние или действие и отвечает на вопросы 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что делать?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что сделать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3440">
                <a:tc>
                  <a:txBody>
                    <a:bodyPr lIns="190440" rIns="9540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- или в род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) при отрицании: 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 2) при указании на часть предмет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 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90440" marR="9540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омн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вратные глаголы – непереходны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Не пут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деепричасти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которые обозначают добавочное действ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  причастиями (обладающими свойствами и глагола, и прилагательного)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м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д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са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стро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лифу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аю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ываем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4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и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ле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е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ш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або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точив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а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ваеш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87950"/>
                        </a:gs>
                        <a:gs pos="100000">
                          <a:srgbClr val="ffd18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0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1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35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40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3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44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24000" y="0"/>
            <a:ext cx="2357280" cy="21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4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5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6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дохнов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ст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ше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веля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а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да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усти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уст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6887d"/>
                        </a:gs>
                        <a:gs pos="100000">
                          <a:srgbClr val="ffead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26">
            <a:hlinkClick r:id="rId2" action="ppaction://hlinksldjump"/>
          </p:cNvPr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8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2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3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4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25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7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7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75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90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8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94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9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4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6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ичиня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я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няеш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говорил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говоривший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ет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дума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Управляющая кнопка: далее 23">
            <a:hlinkClick r:id="rId1" action="ppaction://hlinksldjump"/>
          </p:cNvPr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42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45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3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08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92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0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07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22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3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94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1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3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266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28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96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0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42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ршаю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име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си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ых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имаю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явш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же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ил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а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6" name="Прямоугольник 4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15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39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43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4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1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2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45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46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4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504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53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54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570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57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59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5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597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612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73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75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768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78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79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7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80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у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купи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патьс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евш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тр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зя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зя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16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17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18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35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Прямоугольник 40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Прямоугольник 41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43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44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45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1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2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6" dur="indefinite" restart="never" nodeType="tmRoot">
          <p:childTnLst>
            <p:seq>
              <p:cTn id="180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81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29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859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865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9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8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910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916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937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958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88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19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024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8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039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069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084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0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099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114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129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44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15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156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57200" y="1071720"/>
          <a:ext cx="6357960" cy="5029200"/>
        </p:xfrm>
        <a:graphic>
          <a:graphicData uri="http://schemas.openxmlformats.org/drawingml/2006/table">
            <a:tbl>
              <a:tblPr/>
              <a:tblGrid>
                <a:gridCol w="2706840"/>
                <a:gridCol w="1217520"/>
                <a:gridCol w="1216080"/>
                <a:gridCol w="121752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г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ею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за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еза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вып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в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брить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в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00b050"/>
                      </a:solidFill>
                    </a:lnL>
                    <a:lnR w="18720">
                      <a:solidFill>
                        <a:srgbClr val="00b050"/>
                      </a:solidFill>
                    </a:lnR>
                    <a:lnT w="18720">
                      <a:solidFill>
                        <a:srgbClr val="00b050"/>
                      </a:solidFill>
                    </a:lnT>
                    <a:lnB w="18720">
                      <a:solidFill>
                        <a:srgbClr val="00b050"/>
                      </a:solidFill>
                    </a:lnB>
                    <a:gradFill rotWithShape="0">
                      <a:gsLst>
                        <a:gs pos="0">
                          <a:srgbClr val="ffff80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06" name="Прямоугольник 4"/>
          <p:cNvSpPr/>
          <p:nvPr/>
        </p:nvSpPr>
        <p:spPr>
          <a:xfrm>
            <a:off x="650088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5286240" y="157176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4071960" y="157176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407196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6500880" y="202392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5286240" y="202392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5286240" y="24764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50088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4071960" y="24764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407196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6500880" y="29289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6"/>
          <p:cNvSpPr/>
          <p:nvPr/>
        </p:nvSpPr>
        <p:spPr>
          <a:xfrm>
            <a:off x="5286240" y="29289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17"/>
          <p:cNvSpPr/>
          <p:nvPr/>
        </p:nvSpPr>
        <p:spPr>
          <a:xfrm>
            <a:off x="650088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18"/>
          <p:cNvSpPr/>
          <p:nvPr/>
        </p:nvSpPr>
        <p:spPr>
          <a:xfrm>
            <a:off x="5286240" y="338148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19"/>
          <p:cNvSpPr/>
          <p:nvPr/>
        </p:nvSpPr>
        <p:spPr>
          <a:xfrm>
            <a:off x="4071960" y="338148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0"/>
          <p:cNvSpPr/>
          <p:nvPr/>
        </p:nvSpPr>
        <p:spPr>
          <a:xfrm>
            <a:off x="650088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1"/>
          <p:cNvSpPr/>
          <p:nvPr/>
        </p:nvSpPr>
        <p:spPr>
          <a:xfrm>
            <a:off x="5286240" y="383364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2"/>
          <p:cNvSpPr/>
          <p:nvPr/>
        </p:nvSpPr>
        <p:spPr>
          <a:xfrm>
            <a:off x="4071960" y="383364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Управляющая кнопка: далее 23"/>
          <p:cNvSpPr/>
          <p:nvPr/>
        </p:nvSpPr>
        <p:spPr>
          <a:xfrm>
            <a:off x="8715240" y="6429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4" descr="C:\Documents and Settings\UserXP\Мои документы\Мама картинки1\ну погоди картинки\56b9fe218871t.jpg"/>
          <p:cNvPicPr/>
          <p:nvPr/>
        </p:nvPicPr>
        <p:blipFill>
          <a:blip r:embed="rId1"/>
          <a:stretch/>
        </p:blipFill>
        <p:spPr>
          <a:xfrm>
            <a:off x="357120" y="0"/>
            <a:ext cx="2357640" cy="2128680"/>
          </a:xfrm>
          <a:prstGeom prst="rect">
            <a:avLst/>
          </a:prstGeom>
          <a:ln w="0">
            <a:noFill/>
          </a:ln>
        </p:spPr>
      </p:pic>
      <p:sp>
        <p:nvSpPr>
          <p:cNvPr id="326" name="Скругленный прямоугольник 26"/>
          <p:cNvSpPr/>
          <p:nvPr/>
        </p:nvSpPr>
        <p:spPr>
          <a:xfrm>
            <a:off x="2714760" y="628668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тори правил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650088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407196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407196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650088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5286240" y="428616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5286240" y="4738680"/>
            <a:ext cx="121464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40"/>
          <p:cNvSpPr/>
          <p:nvPr/>
        </p:nvSpPr>
        <p:spPr>
          <a:xfrm>
            <a:off x="6500880" y="519120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41"/>
          <p:cNvSpPr/>
          <p:nvPr/>
        </p:nvSpPr>
        <p:spPr>
          <a:xfrm>
            <a:off x="5286240" y="564372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42"/>
          <p:cNvSpPr/>
          <p:nvPr/>
        </p:nvSpPr>
        <p:spPr>
          <a:xfrm>
            <a:off x="4071960" y="428616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3"/>
          <p:cNvSpPr/>
          <p:nvPr/>
        </p:nvSpPr>
        <p:spPr>
          <a:xfrm>
            <a:off x="6500880" y="4738680"/>
            <a:ext cx="1214280" cy="42876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44"/>
          <p:cNvSpPr/>
          <p:nvPr/>
        </p:nvSpPr>
        <p:spPr>
          <a:xfrm>
            <a:off x="5286240" y="5191200"/>
            <a:ext cx="121464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5"/>
          <p:cNvSpPr/>
          <p:nvPr/>
        </p:nvSpPr>
        <p:spPr>
          <a:xfrm>
            <a:off x="4071960" y="5643720"/>
            <a:ext cx="1214280" cy="428400"/>
          </a:xfrm>
          <a:prstGeom prst="rect">
            <a:avLst/>
          </a:prstGeom>
          <a:gradFill rotWithShape="0">
            <a:gsLst>
              <a:gs pos="0">
                <a:srgbClr val="8d9595"/>
              </a:gs>
              <a:gs pos="100000">
                <a:srgbClr val="f2ffff"/>
              </a:gs>
            </a:gsLst>
            <a:lin ang="5400000"/>
          </a:gra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3" descr="C:\Documents and Settings\UserXP\Мои документы\Мама картинки1\ну погоди картинки\0_8df3f_e4b09695_XL[1].png"/>
          <p:cNvPicPr/>
          <p:nvPr/>
        </p:nvPicPr>
        <p:blipFill>
          <a:blip r:embed="rId2"/>
          <a:stretch/>
        </p:blipFill>
        <p:spPr>
          <a:xfrm>
            <a:off x="7594560" y="4357800"/>
            <a:ext cx="1549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7" dur="indefinite" restart="never" nodeType="tmRoot">
          <p:childTnLst>
            <p:seq>
              <p:cTn id="216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6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17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190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1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205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220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27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29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298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319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334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2349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364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379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3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400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4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415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430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445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9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460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47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490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0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51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6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517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52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25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1</dc:creator>
  <dc:description/>
  <dc:language>en-US</dc:language>
  <cp:lastModifiedBy>ADM</cp:lastModifiedBy>
  <dcterms:modified xsi:type="dcterms:W3CDTF">2020-04-13T08:18:29Z</dcterms:modified>
  <cp:revision>95</cp:revision>
  <dc:subject/>
  <dc:title>Слайд 1</dc:title>
</cp:coreProperties>
</file>