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click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оменская В.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2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10FC-3D61-4728-B610-D42562234F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менская В.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.0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.0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менская В.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967-0C5A-4F83-ADEB-B23C215C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C9F-9D06-46F6-B3AF-5030CA2F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4C2-2B8F-4FC7-85FB-02586C42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3F3-F75D-4847-A23C-4A7EB322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20C6-5350-487E-AB88-4DFB705A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0499-9EF0-4CA8-B1DE-3BEFA934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17F5-C078-4880-AA36-661E38E7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8A51-EB41-4160-86AA-81E55D32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2517-D22A-4C76-844A-6A95B203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9067-578D-4253-83D7-255CF766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FFAD-5980-4024-ADA9-0379705C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91B-7A55-4941-A677-1250DFB4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2030-A83C-40FB-8ED0-1DFCC89C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0350-2E60-45D9-9971-F8D67433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7FD7-6CF4-412C-8D1A-B9381190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187D-EF45-441E-8572-F93162E2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1FBE-1D01-41D6-BC54-DB6123FF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5C4-6709-49CD-A1D6-E3F4921F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C65-3611-4813-80C7-DE61DDE9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0B6-5B6B-44B5-BC3C-59562267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6B7-FAFD-428B-8186-24FFF661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81B-DAF5-4CA1-ADCB-CAAA84E1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A57-5EEB-42B4-8C3B-00062636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5B5-6E18-4EB0-9EBA-574E20FD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2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Коломенская В.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6132-082F-4982-9D8E-1E768E25EF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2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Коломенская В.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A5B1-3A92-4382-AC53-38D8ED48F6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slideLayout" Target="../slideLayouts/slideLayout13.xml"/><Relationship Id="rId3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slideLayout" Target="../slideLayouts/slideLayout13.xml"/><Relationship Id="rId3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Скругленный прямоугольник 3"/>
          <p:cNvSpPr/>
          <p:nvPr/>
        </p:nvSpPr>
        <p:spPr>
          <a:xfrm>
            <a:off x="571680" y="571680"/>
            <a:ext cx="8072280" cy="571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1920960" y="811080"/>
            <a:ext cx="5649840" cy="32068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2" descr=""/>
          <p:cNvPicPr/>
          <p:nvPr/>
        </p:nvPicPr>
        <p:blipFill>
          <a:blip r:embed="rId2"/>
          <a:stretch/>
        </p:blipFill>
        <p:spPr>
          <a:xfrm>
            <a:off x="1000080" y="3236760"/>
            <a:ext cx="7174080" cy="238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3"/>
          <a:stretch/>
        </p:blipFill>
        <p:spPr>
          <a:xfrm>
            <a:off x="6072120" y="3929040"/>
            <a:ext cx="185760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жигает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жиг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ъеде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дума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учишь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укну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ясни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ыхаю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беди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ить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41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Прямоугольник 9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10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12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13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15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16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Управляющая кнопка: далее 23"/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Скругленный прямоугольник 26"/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рямоугольник 35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рямоугольник 38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рямоугольник 39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40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Прямоугольник 41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Прямоугольник 42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Прямоугольник 43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Прямоугольник 44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Прямоугольник 45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1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2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8" dur="indefinite" restart="never" nodeType="tmRoot">
          <p:childTnLst>
            <p:seq>
              <p:cTn id="2529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530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5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2536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551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566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0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2581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2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8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6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2587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2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1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602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0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6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2617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2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1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632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7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638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8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2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653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5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659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9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2674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2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9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680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8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0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69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5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2710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0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2725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2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5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2740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2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4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5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2746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0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2761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2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6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5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2776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2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7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2791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2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9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5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806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2821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2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5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2836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851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5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2866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2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6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1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872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7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7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2878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2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3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2884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2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47640" y="404640"/>
          <a:ext cx="6500880" cy="6255000"/>
        </p:xfrm>
        <a:graphic>
          <a:graphicData uri="http://schemas.openxmlformats.org/drawingml/2006/table">
            <a:tbl>
              <a:tblPr/>
              <a:tblGrid>
                <a:gridCol w="2167200"/>
                <a:gridCol w="2166840"/>
                <a:gridCol w="2166840"/>
              </a:tblGrid>
              <a:tr h="946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ходные глаго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переход-ные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лаго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35120">
                <a:tc>
                  <a:txBody>
                    <a:bodyPr lIns="19044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обозначают действие, переходящее на предмет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Они имеют (или могут иметь) при себе имя сущ. или местоим. в вин. п. без предл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440" marR="9540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значают действие, не способное переходить на прямой объект, поэтому они не сочетаются с существительны- ми  в вин. п. без предл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 самостоятельная часть речи, которая обозначает состояние или действие и отвечает на вопросы </a:t>
                      </a: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что делать?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что сделать?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3440">
                <a:tc>
                  <a:txBody>
                    <a:bodyPr lIns="19044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- или в род.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) при отрицании: 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  2) при указании на часть предмет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 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440" marR="9540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помни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вратные глаголы – непереходные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Не пут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деепричастия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которые обозначают добавочное действ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с  причастиями (обладающими свойствами и глагола, и прилагательного)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4" name="Управляющая кнопка: назад 2">
            <a:hlinkClick r:id="" action="ppaction://hlinkshowjump?jump=previousslide"/>
          </p:cNvPr>
          <p:cNvSpPr/>
          <p:nvPr/>
        </p:nvSpPr>
        <p:spPr>
          <a:xfrm>
            <a:off x="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ма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ша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д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исавш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стро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лифу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ающ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ываем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96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12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3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5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6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Управляющая кнопка: далее 23">
            <a:hlinkClick r:id="rId1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26">
            <a:hlinkClick r:id="rId2" action="ppaction://hlinksldjump"/>
          </p:cNvPr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5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8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9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40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41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2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43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4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45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3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4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и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ле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и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е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ш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рабо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точив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а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ваеш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1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9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2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13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5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6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20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21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Управляющая кнопка: далее 23">
            <a:hlinkClick r:id="rId1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26">
            <a:hlinkClick r:id="rId2" action="ppaction://hlinksldjump"/>
          </p:cNvPr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35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38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39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40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41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42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43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44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45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3"/>
          <a:stretch/>
        </p:blipFill>
        <p:spPr>
          <a:xfrm>
            <a:off x="324000" y="0"/>
            <a:ext cx="2357280" cy="2128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4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72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8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93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44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59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7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80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55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670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685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70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712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18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дохновить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сти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ше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на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ди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велящий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ать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дае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усти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усти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66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10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12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13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5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6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Управляющая кнопка: далее 23">
            <a:hlinkClick r:id="rId1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кругленный прямоугольник 26">
            <a:hlinkClick r:id="rId2" action="ppaction://hlinksldjump"/>
          </p:cNvPr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35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38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39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40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41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42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43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44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5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3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4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3" dur="indefinite" restart="never" nodeType="tmRoot">
          <p:childTnLst>
            <p:seq>
              <p:cTn id="72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25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76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82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97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81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83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854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75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90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905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2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935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941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956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71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86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0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01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031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046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06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06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07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ичиня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инявш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няешь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говорилис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говоривший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ет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дума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дум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думавш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1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13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15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16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Управляющая кнопка: далее 23">
            <a:hlinkClick r:id="rId1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кругленный прямоугольник 26"/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40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41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42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43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44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45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2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3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4" dur="indefinite" restart="never" nodeType="tmRoot">
          <p:childTnLst>
            <p:seq>
              <p:cTn id="108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086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092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07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122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37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14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15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18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194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209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230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236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251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266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28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296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302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317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332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34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377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40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422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42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434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3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440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ершающ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име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сили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ыха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имаюс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явший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же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вожил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вожа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6" name="Прямоугольник 4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7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8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9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угольник 10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12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3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15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16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Управляющая кнопка: далее 23"/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6"/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35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38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39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40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41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42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43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44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45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1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2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5" dur="indefinite" restart="never" nodeType="tmRoot">
          <p:childTnLst>
            <p:seq>
              <p:cTn id="1446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447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453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7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468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483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504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51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534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54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4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5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570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576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6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591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6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597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612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7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642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4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2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657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663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678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693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7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708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723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7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738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753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7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768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783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789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795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801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ируй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купи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паться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отр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отревш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отр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у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взя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взя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8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0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12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оугольник 15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оугольник 16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17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угольник 18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Управляющая кнопка: далее 23"/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Скругленный прямоугольник 26"/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Прямоугольник 35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Прямоугольник 38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Прямоугольник 39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Прямоугольник 40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Прямоугольник 41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угольник 42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оугольник 43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угольник 44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45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1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2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6" dur="indefinite" restart="never" nodeType="tmRoot">
          <p:childTnLst>
            <p:seq>
              <p:cTn id="180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814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829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844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8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859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4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865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880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895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9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910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5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916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931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937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952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7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958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2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973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7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988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9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003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7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018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024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2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8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039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4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054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8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069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7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3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2084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2099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3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2114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8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2129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2144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2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2150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156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еюс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еза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еза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ж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ств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щий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вып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вш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абрить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в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06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6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оугольник 9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оугольник 10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оугольник 11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12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оугольник 13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оугольник 14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оугольник 15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Прямоугольник 16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Управляющая кнопка: далее 23"/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1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  <p:sp>
        <p:nvSpPr>
          <p:cNvPr id="326" name="Скругленный прямоугольник 26"/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35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38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39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Прямоугольник 40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41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42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43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44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55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2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7" dur="indefinite" restart="never" nodeType="tmRoot">
          <p:childTnLst>
            <p:seq>
              <p:cTn id="216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16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4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2175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190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9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205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2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0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9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2220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5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2226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0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2241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2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256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2271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6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277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1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2292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7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2298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8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2313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8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319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2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9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3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2334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2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4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2349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2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9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3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2364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4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2379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2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4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385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400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4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2415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9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430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4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2445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2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9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460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2475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9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490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4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2505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2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0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0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511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6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517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52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1</dc:creator>
  <dc:description/>
  <dc:language>en-US</dc:language>
  <cp:lastModifiedBy>ADM</cp:lastModifiedBy>
  <dcterms:modified xsi:type="dcterms:W3CDTF">2020-04-13T08:18:29Z</dcterms:modified>
  <cp:revision>95</cp:revision>
  <dc:subject/>
  <dc:title>Слайд 1</dc:title>
</cp:coreProperties>
</file>