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B4B-48E6-449E-9E8D-4B036B56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6B0-94BD-4154-AF0E-0CDE5A6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107-429C-42A3-8D7B-0FB6CEAE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B69-9DC8-4BE8-B546-816079BA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70C-4FEF-4939-AB72-E3415F4F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EC4-DCBF-42CA-B3D5-50E9EC7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81E-D613-4CEF-830D-D25CE174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DD3-7DA6-425E-82E6-EC2DC33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537-1DA7-44FE-9F66-7D3E8E7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76B-DA2A-4C1D-8190-C866F66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CAD-18CA-4E3F-81BE-1B6A130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199-7282-4E08-8F3A-2A35CCA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6C1-21E0-48E1-9D7E-63BB05BF1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250920" y="24591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ТЕХНОЛОГИЙ РАЗВИТИЯ КРИТИЧЕСКОГО МЫШ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УЧИТЕЛЯ-ЛОГОПЕ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24000" y="1125360"/>
            <a:ext cx="84261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речи через использование современных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диалогическую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вязную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словарный запас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грамматический строй речи (согласование слов в предложении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амять, внимание, мышле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5157720" y="2133720"/>
            <a:ext cx="39592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ЗИНА ИДЕЙ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выяснить все, что знают или думают дети по обсуждаемой те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Администратор\Desktop\1.png"/>
          <p:cNvPicPr/>
          <p:nvPr/>
        </p:nvPicPr>
        <p:blipFill>
          <a:blip r:embed="rId2"/>
          <a:stretch/>
        </p:blipFill>
        <p:spPr>
          <a:xfrm>
            <a:off x="5624640" y="3716280"/>
            <a:ext cx="3024000" cy="3025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0" y="71280"/>
            <a:ext cx="4321080" cy="65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е из 5 строк, которое пишется по определенным правила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ст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о существительное (тема синквей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ст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ва прилагательных, раскрывающих тему синквей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ст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ри глагола, описывающих действия по теме синквей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ст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о предложение, выражающее свое отношение к тем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ст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о слово-резюме, которое дает новую интерпретацию 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20190411_112008.jpg"/>
          <p:cNvPicPr/>
          <p:nvPr/>
        </p:nvPicPr>
        <p:blipFill>
          <a:blip r:embed="rId2"/>
          <a:stretch/>
        </p:blipFill>
        <p:spPr>
          <a:xfrm>
            <a:off x="463680" y="1047600"/>
            <a:ext cx="3681360" cy="490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:\20190411_112705.jpg"/>
          <p:cNvPicPr/>
          <p:nvPr/>
        </p:nvPicPr>
        <p:blipFill>
          <a:blip r:embed="rId3"/>
          <a:stretch/>
        </p:blipFill>
        <p:spPr>
          <a:xfrm>
            <a:off x="4363920" y="2560680"/>
            <a:ext cx="45244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20190409_120200.jpg"/>
          <p:cNvPicPr/>
          <p:nvPr/>
        </p:nvPicPr>
        <p:blipFill>
          <a:blip r:embed="rId2"/>
          <a:stretch/>
        </p:blipFill>
        <p:spPr>
          <a:xfrm>
            <a:off x="5248440" y="3164040"/>
            <a:ext cx="3792240" cy="284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F:\20190409_122857.jpg"/>
          <p:cNvPicPr/>
          <p:nvPr/>
        </p:nvPicPr>
        <p:blipFill>
          <a:blip r:embed="rId3"/>
          <a:stretch/>
        </p:blipFill>
        <p:spPr>
          <a:xfrm>
            <a:off x="225360" y="112716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:\20190409_122935.jpg"/>
          <p:cNvPicPr/>
          <p:nvPr/>
        </p:nvPicPr>
        <p:blipFill>
          <a:blip r:embed="rId4"/>
          <a:stretch/>
        </p:blipFill>
        <p:spPr>
          <a:xfrm>
            <a:off x="2859120" y="1981080"/>
            <a:ext cx="2401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дминистратор\Desktop\Рамки к презентации\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24000" y="30751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9:20:21Z</dcterms:created>
  <dc:creator>Администратор</dc:creator>
  <dc:description/>
  <dc:language>en-US</dc:language>
  <cp:lastModifiedBy>USER</cp:lastModifiedBy>
  <dcterms:modified xsi:type="dcterms:W3CDTF">2020-04-13T18:17:13Z</dcterms:modified>
  <cp:revision>11</cp:revision>
  <dc:subject/>
  <dc:title>Презентация PowerPoint</dc:title>
</cp:coreProperties>
</file>