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wmf" ContentType="image/x-wmf"/>
  <Override PartName="/ppt/media/image4.png" ContentType="image/png"/>
  <Override PartName="/ppt/media/chimes.wav" ContentType="audio/x-wav"/>
  <Override PartName="/ppt/media/image12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11.png" ContentType="image/png"/>
  <Override PartName="/ppt/media/image7.png" ContentType="image/png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51681-5012-4F08-95BC-BE558BEBEB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14ADC-5D43-49D1-B0AE-565DF045A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F5B1-AAB3-450A-BD5D-D4706D670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40599-C092-4708-986A-78A60C5E0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E6EB7-C4C6-4E69-901B-30FC6A558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A945C-1937-442B-B5FB-F9DB5A1F5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531C5-7EFA-45CD-8707-2B38B3D7A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B8C09-0FFB-459F-A2DC-E7BFE804E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13629-636C-4076-B93D-27EAF0696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7646C-BB72-4040-82F5-15DDCAC44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43B8E-4E08-4856-9664-21F16D78C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62BA4-7F55-4305-AA4A-D0C79403D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FE754-B2A2-4CEB-99A4-FE826F29A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C95B9-64DE-4C65-8A3C-AEDF3CFC7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43E7-ACC2-442A-89C6-BC55CAF0A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FE53AD-9E38-4533-BD3C-F2A269BD3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264810-9D72-4CA4-B8AC-A0DD80522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8F458-71A5-43A3-8C18-61B4704FD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70B04-2937-47D9-867B-B68861E67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6C74B-5312-4139-BFE3-CD0675A62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82ABD-EF4A-4F40-BF56-2B29F7595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91AA4-21CE-4917-B815-CA96ADDE3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7E09-11E2-4FE3-8C3E-EDB33D87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4918-9030-49BC-B4DD-EE58E371A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00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Rectangle 3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3" name="AutoShape 5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998280 w 9204120"/>
                <a:gd name="textAreaRight" fmla="*/ 8205840 w 9204120"/>
                <a:gd name="textAreaTop" fmla="*/ 48960 h 457200"/>
                <a:gd name="textAreaBottom" fmla="*/ 40824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9" y="21600"/>
                  </a:lnTo>
                  <a:lnTo>
                    <a:pt x="2051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4760 w 9239400"/>
                <a:gd name="textAreaRight" fmla="*/ 8234640 w 9239400"/>
                <a:gd name="textAreaTop" fmla="*/ 50760 h 460440"/>
                <a:gd name="textAreaBottom" fmla="*/ 40968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100" y="21600"/>
                  </a:lnTo>
                  <a:lnTo>
                    <a:pt x="205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cc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FE27C-50A0-49B3-A3A0-4F274ECE9E23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00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Rectangle 3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49" name="Rectangle 4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998280 w 9204120"/>
                <a:gd name="textAreaRight" fmla="*/ 8205840 w 9204120"/>
                <a:gd name="textAreaTop" fmla="*/ 48960 h 457200"/>
                <a:gd name="textAreaBottom" fmla="*/ 40824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9" y="21600"/>
                  </a:lnTo>
                  <a:lnTo>
                    <a:pt x="2051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51" name="AutoShape 6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4760 w 9239400"/>
                <a:gd name="textAreaRight" fmla="*/ 8234640 w 9239400"/>
                <a:gd name="textAreaTop" fmla="*/ 50760 h 460440"/>
                <a:gd name="textAreaBottom" fmla="*/ 40968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100" y="21600"/>
                  </a:lnTo>
                  <a:lnTo>
                    <a:pt x="205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52" name="Rectangle 7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</p:grpSp>
      <p:grpSp>
        <p:nvGrpSpPr>
          <p:cNvPr id="53" name="Group 13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4" name="Rectangle 14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55" name="Rectangle 15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27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56" name="Line 16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57" name="Line 17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58" name="Line 18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59" name="Line 19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60" name="Line 20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61" name="Line 21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cc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A6332-E3D1-4C62-B36D-5E20C88C26A1}" type="slidenum">
              <a:rPr b="0" lang="ru-RU" sz="1400" spc="-1" strike="noStrike">
                <a:solidFill>
                  <a:srgbClr val="3399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image" Target="../media/image11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Схема 1" descr=""/>
          <p:cNvPicPr/>
          <p:nvPr/>
        </p:nvPicPr>
        <p:blipFill>
          <a:blip r:embed="rId1"/>
          <a:stretch/>
        </p:blipFill>
        <p:spPr>
          <a:xfrm>
            <a:off x="749160" y="2425680"/>
            <a:ext cx="7566120" cy="3633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BD06518_"/>
          <p:cNvPicPr/>
          <p:nvPr/>
        </p:nvPicPr>
        <p:blipFill>
          <a:blip r:embed="rId2"/>
          <a:stretch/>
        </p:blipFill>
        <p:spPr>
          <a:xfrm>
            <a:off x="108000" y="44280"/>
            <a:ext cx="2441520" cy="2094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99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Ближайшее последствие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Использование полученного опыта на практике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Продолжение начатого в других формах и видах деятельности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127" name="AutoShape 4">
            <a:hlinkClick r:id="rId1" action="ppaction://hlinksldjump"/>
          </p:cNvPr>
          <p:cNvSpPr/>
          <p:nvPr/>
        </p:nvSpPr>
        <p:spPr>
          <a:xfrm>
            <a:off x="7956720" y="6021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10807"/>
                </a:moveTo>
                <a:lnTo>
                  <a:pt x="17806" y="3800"/>
                </a:lnTo>
                <a:lnTo>
                  <a:pt x="17806" y="17813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ff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Схема 2" descr=""/>
          <p:cNvPicPr/>
          <p:nvPr/>
        </p:nvPicPr>
        <p:blipFill>
          <a:blip r:embed="rId1"/>
          <a:stretch/>
        </p:blipFill>
        <p:spPr>
          <a:xfrm>
            <a:off x="596880" y="390600"/>
            <a:ext cx="5511960" cy="1298520"/>
          </a:xfrm>
          <a:prstGeom prst="rect">
            <a:avLst/>
          </a:prstGeom>
          <a:ln w="0">
            <a:noFill/>
          </a:ln>
        </p:spPr>
      </p:pic>
      <p:pic>
        <p:nvPicPr>
          <p:cNvPr id="129" name="Схема 3" descr=""/>
          <p:cNvPicPr/>
          <p:nvPr/>
        </p:nvPicPr>
        <p:blipFill>
          <a:blip r:embed="rId2"/>
          <a:stretch/>
        </p:blipFill>
        <p:spPr>
          <a:xfrm>
            <a:off x="311040" y="5145120"/>
            <a:ext cx="5284800" cy="1274760"/>
          </a:xfrm>
          <a:prstGeom prst="rect">
            <a:avLst/>
          </a:prstGeom>
          <a:ln w="0">
            <a:noFill/>
          </a:ln>
        </p:spPr>
      </p:pic>
      <p:grpSp>
        <p:nvGrpSpPr>
          <p:cNvPr id="130" name="Group 14"/>
          <p:cNvGrpSpPr/>
          <p:nvPr/>
        </p:nvGrpSpPr>
        <p:grpSpPr>
          <a:xfrm>
            <a:off x="755640" y="260280"/>
            <a:ext cx="8159760" cy="6141960"/>
            <a:chOff x="755640" y="260280"/>
            <a:chExt cx="8159760" cy="6141960"/>
          </a:xfrm>
        </p:grpSpPr>
        <p:pic>
          <p:nvPicPr>
            <p:cNvPr id="131" name="Picture 9" descr="BD06662_"/>
            <p:cNvPicPr/>
            <p:nvPr/>
          </p:nvPicPr>
          <p:blipFill>
            <a:blip r:embed="rId3"/>
            <a:stretch/>
          </p:blipFill>
          <p:spPr>
            <a:xfrm>
              <a:off x="6659640" y="260280"/>
              <a:ext cx="2057400" cy="19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10" descr="PE01561_"/>
            <p:cNvPicPr/>
            <p:nvPr/>
          </p:nvPicPr>
          <p:blipFill>
            <a:blip r:embed="rId4"/>
            <a:stretch/>
          </p:blipFill>
          <p:spPr>
            <a:xfrm>
              <a:off x="755640" y="2195640"/>
              <a:ext cx="2454120" cy="194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11" descr="PE02097_"/>
            <p:cNvPicPr/>
            <p:nvPr/>
          </p:nvPicPr>
          <p:blipFill>
            <a:blip r:embed="rId5"/>
            <a:stretch/>
          </p:blipFill>
          <p:spPr>
            <a:xfrm>
              <a:off x="6095880" y="4145040"/>
              <a:ext cx="2819520" cy="2257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4" name="Схема 1" descr=""/>
          <p:cNvPicPr/>
          <p:nvPr/>
        </p:nvPicPr>
        <p:blipFill>
          <a:blip r:embed="rId6"/>
          <a:stretch/>
        </p:blipFill>
        <p:spPr>
          <a:xfrm>
            <a:off x="3554280" y="2809800"/>
            <a:ext cx="5303880" cy="1060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99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ОБРАТИТЕСЬ </a:t>
            </a:r>
            <a:br>
              <a:rPr sz="4400"/>
            </a:b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ЗА ПОМОЩЬЮ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Times New Roman"/>
              </a:rPr>
              <a:t>Воспитание. Учебно-методическое пособие для учителей и воспитателей/ М. П. Осипова, М. А. Бесова и др.; Под ред. М.П.Осиповой. – Мн.: ИП «Экоперспектива», 2000 –2004, 1,2,3,4 кл.</a:t>
            </a:r>
            <a:endParaRPr b="0" lang="en-US" sz="2000" spc="-1" strike="noStrike">
              <a:solidFill>
                <a:srgbClr val="3399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Times New Roman"/>
              </a:rPr>
              <a:t>Иванов И.П. Методика коммунарского воспитания: Кн. Для учителя. М.: Просвещение,1990, –Мастерство учителя: идеи,советы, предложения.</a:t>
            </a:r>
            <a:endParaRPr b="0" lang="en-US" sz="2000" spc="-1" strike="noStrike">
              <a:solidFill>
                <a:srgbClr val="3399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Times New Roman"/>
              </a:rPr>
              <a:t>Иванов И.П. Энциклопедия коллективных  творческих дел. – М.: Педагогика, 1989.</a:t>
            </a:r>
            <a:endParaRPr b="0" lang="en-US" sz="2000" spc="-1" strike="noStrike">
              <a:solidFill>
                <a:srgbClr val="3399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Times New Roman"/>
              </a:rPr>
              <a:t>Рожков М.И., Байбородова Л.В. Организация воспитательного процесса в школе. М., 2000.</a:t>
            </a:r>
            <a:endParaRPr b="0" lang="en-US" sz="2000" spc="-1" strike="noStrike">
              <a:solidFill>
                <a:srgbClr val="3399ff"/>
              </a:solidFill>
              <a:latin typeface="Times New Roman"/>
            </a:endParaRPr>
          </a:p>
        </p:txBody>
      </p:sp>
      <p:pic>
        <p:nvPicPr>
          <p:cNvPr id="137" name="Picture 4" descr="BS00554_"/>
          <p:cNvPicPr/>
          <p:nvPr/>
        </p:nvPicPr>
        <p:blipFill>
          <a:blip r:embed="rId1"/>
          <a:stretch/>
        </p:blipFill>
        <p:spPr>
          <a:xfrm>
            <a:off x="5943600" y="4819680"/>
            <a:ext cx="2666880" cy="203832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5">
            <a:hlinkClick r:id="" action="ppaction://hlinkshowjump?jump=firstslide"/>
          </p:cNvPr>
          <p:cNvSpPr/>
          <p:nvPr/>
        </p:nvSpPr>
        <p:spPr>
          <a:xfrm>
            <a:off x="228600" y="6019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33cc"/>
            </a:solidFill>
            <a:miter/>
          </a:ln>
          <a:effectLst>
            <a:outerShdw dist="107932" dir="18900000" blurRad="0" rotWithShape="0">
              <a:srgbClr val="33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ff"/>
              </a:solidFill>
              <a:latin typeface="Times New Roman"/>
            </a:endParaRPr>
          </a:p>
        </p:txBody>
      </p:sp>
    </p:spTree>
  </p:cSld>
  <p:transition spd="slow">
    <p:split dir="in" orient="vert"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0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75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75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75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75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2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4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86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8" dur="5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0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2" dur="5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94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6" dur="500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98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10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Схема 1" descr=""/>
          <p:cNvPicPr/>
          <p:nvPr/>
        </p:nvPicPr>
        <p:blipFill>
          <a:blip r:embed="rId1"/>
          <a:stretch/>
        </p:blipFill>
        <p:spPr>
          <a:xfrm>
            <a:off x="1219320" y="291960"/>
            <a:ext cx="7010280" cy="3651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BD05584_"/>
          <p:cNvPicPr/>
          <p:nvPr/>
        </p:nvPicPr>
        <p:blipFill>
          <a:blip r:embed="rId2"/>
          <a:stretch/>
        </p:blipFill>
        <p:spPr>
          <a:xfrm>
            <a:off x="3348000" y="4076640"/>
            <a:ext cx="2192400" cy="23875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2"/>
          <p:cNvSpPr/>
          <p:nvPr/>
        </p:nvSpPr>
        <p:spPr>
          <a:xfrm>
            <a:off x="7093080" y="476280"/>
            <a:ext cx="11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К</a:t>
            </a:r>
            <a:endParaRPr b="0" lang="en-US" sz="40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7236000" y="170028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Т</a:t>
            </a:r>
            <a:endParaRPr b="0" lang="en-US" sz="40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7236000" y="2781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Д</a:t>
            </a:r>
            <a:endParaRPr b="0" lang="en-US" sz="4000" spc="-1" strike="noStrike">
              <a:solidFill>
                <a:srgbClr val="3399ff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99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КТД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Суть каждого дела – забота о своем коллективе,друг о друге, об окружающих людях, о далеких друзьях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Коллективное творческое дело – это полнокровная жизнь старших и младших, воспитателей и воспитанников,это общая деятельность по улучшению окружающей жизни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112" name="AutoShape 7">
            <a:hlinkClick r:id="rId1" action="ppaction://hlinksldjump"/>
          </p:cNvPr>
          <p:cNvSpPr/>
          <p:nvPr/>
        </p:nvSpPr>
        <p:spPr>
          <a:xfrm>
            <a:off x="7956720" y="6021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10807"/>
                </a:moveTo>
                <a:lnTo>
                  <a:pt x="17806" y="3800"/>
                </a:lnTo>
                <a:lnTo>
                  <a:pt x="17806" y="17813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ff"/>
              </a:solidFill>
              <a:latin typeface="Times New Roman"/>
            </a:endParaRPr>
          </a:p>
        </p:txBody>
      </p:sp>
    </p:spTree>
  </p:cSld>
  <p:transition spd="slow">
    <p:split dir="in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3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9700"/>
                            </p:stCondLst>
                            <p:childTnLst>
                              <p:par>
                                <p:cTn id="23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3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27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99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СТРУКТУРА ПРОВЕДЕНИЯ КТД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Предварительная работа взрослых;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Коллективное планирование;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Стадия подготовки КТД;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Проведение КТД;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Коллективное подведение итогов;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Стадия ближайшего последствия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</p:spTree>
  </p:cSld>
  <p:transition spd="slow">
    <p:split dir="in" orient="vert"/>
  </p:transition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nodeType="clickEffect" fill="hold">
                      <p:stCondLst>
                        <p:cond delay="0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7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7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7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75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41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" dur="3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6450"/>
                            </p:stCondLst>
                            <p:childTnLst>
                              <p:par>
                                <p:cTn id="45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7" dur="300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" nodeType="afterEffect" fill="hold">
                            <p:stCondLst>
                              <p:cond delay="10350"/>
                            </p:stCondLst>
                            <p:childTnLst>
                              <p:par>
                                <p:cTn id="49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300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455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300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18450"/>
                            </p:stCondLst>
                            <p:childTnLst>
                              <p:par>
                                <p:cTn id="57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300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nodeType="afterEffect" fill="hold">
                            <p:stCondLst>
                              <p:cond delay="22650"/>
                            </p:stCondLst>
                            <p:childTnLst>
                              <p:par>
                                <p:cTn id="61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300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848720" cy="15242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99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Предварительная работа</a:t>
            </a:r>
            <a:br>
              <a:rPr sz="4400"/>
            </a:b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(обязательно с педагогом-организатором)</a:t>
            </a:r>
            <a:br>
              <a:rPr sz="4400"/>
            </a:b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Постановка цели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Определение места КТД в системе   других форм воспитательной работы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Обдумывание вариантов проведения КТД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Определение исходных направляющих действий, необходимых для составления оптимального проекта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99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Коллективное планирование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Проведение стартовой беседы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Деление на микрогруппы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Работа в микрогруппах (обсуждение дела).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Общее обсуждение. Выработка единого варианта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Выбор совета дела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99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Стадия подготовки КТД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Разработка окончательного варианта дела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Распределение поручений в микрогруппах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Подготовка ТСО и наглядности</a:t>
            </a: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99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Проведение КТД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Выступление каждой микрогруппы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Оказание необходимой помощи взрослыми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Увлечение воспитанников личным примером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351000"/>
            <a:ext cx="7924680" cy="17827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99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Коллективное подведение итогов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«Что было хорошо и почему?», «Что не удалось осуществить и почему?», «Что нужно учесть на будущее?»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Обсуждение вопросов в микрогруппах, выслушивание мнений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Формы проведения: анкета, стенгазета,разговор по кругу и т.д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13:42:46Z</dcterms:created>
  <dc:creator>User</dc:creator>
  <dc:description/>
  <dc:language>en-US</dc:language>
  <cp:lastModifiedBy>ЦДТ</cp:lastModifiedBy>
  <dcterms:modified xsi:type="dcterms:W3CDTF">2020-04-13T11:20:55Z</dcterms:modified>
  <cp:revision>66</cp:revision>
  <dc:subject/>
  <dc:title>Презентация PowerPoint</dc:title>
</cp:coreProperties>
</file>