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chimes.wav" ContentType="audio/x-wav"/>
  <Override PartName="/ppt/media/image12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9539-2587-4E3D-8F12-21A490FF0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1890-98BA-4C5A-9296-AA45BF634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0C49-A272-4E1E-A21A-B8F3D90B7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980-95C9-476D-AA9F-380039C13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B5EA-3B31-45AC-9B21-C6175C65A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F2707-AA57-4318-99B2-D9A2A11E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5E214-D35A-4BF7-AE11-1005BE8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6F02F-700D-4217-BF63-05122E56D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568-D2AA-466D-9455-86832D03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AB6EB-7185-4E50-A854-73EB848BB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B2C49-D630-40F7-84A7-4CEC0609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9C0C-A13A-43B1-AD54-71253D035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F8E7-B827-4F70-8E23-22358529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1581-57F1-4934-A239-6BCA32980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C93-1DFD-441D-8AD8-7714921B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EBC3-3714-4C44-91FC-735B5169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C7F5B-053E-435B-A81C-07A320849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ABC3-5A41-4FD2-9AA4-F082C6EF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5C7A-35CD-4263-BEF0-18994C7D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5441-F94E-4AFA-994B-8DC522501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DCB-67B0-4BD2-9C62-3B6CF4E2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E5F-61D9-4C8A-8EDD-49C8FB8C7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3BC1-3223-4898-889B-B16F60514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18C8-A293-43DA-B3C6-BCD43190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D3A2B-B0CB-4C08-9584-B1393CF2F0C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DB7FF-2B40-48E7-89FF-FBBF428A304B}" type="slidenum">
              <a:rPr b="0" lang="ru-RU" sz="14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1" descr=""/>
          <p:cNvPicPr/>
          <p:nvPr/>
        </p:nvPicPr>
        <p:blipFill>
          <a:blip r:embed="rId1"/>
          <a:stretch/>
        </p:blipFill>
        <p:spPr>
          <a:xfrm>
            <a:off x="749160" y="2425680"/>
            <a:ext cx="7566120" cy="36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D06518_"/>
          <p:cNvPicPr/>
          <p:nvPr/>
        </p:nvPicPr>
        <p:blipFill>
          <a:blip r:embed="rId2"/>
          <a:stretch/>
        </p:blipFill>
        <p:spPr>
          <a:xfrm>
            <a:off x="108000" y="44280"/>
            <a:ext cx="244152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Ближайшее последств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Использование полученного опыта на практике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должение начатого в других формах и видах деятельност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хема 2" descr=""/>
          <p:cNvPicPr/>
          <p:nvPr/>
        </p:nvPicPr>
        <p:blipFill>
          <a:blip r:embed="rId1"/>
          <a:stretch/>
        </p:blipFill>
        <p:spPr>
          <a:xfrm>
            <a:off x="596880" y="390600"/>
            <a:ext cx="551196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Схема 3" descr=""/>
          <p:cNvPicPr/>
          <p:nvPr/>
        </p:nvPicPr>
        <p:blipFill>
          <a:blip r:embed="rId2"/>
          <a:stretch/>
        </p:blipFill>
        <p:spPr>
          <a:xfrm>
            <a:off x="311040" y="5145120"/>
            <a:ext cx="528480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4"/>
          <p:cNvGrpSpPr/>
          <p:nvPr/>
        </p:nvGrpSpPr>
        <p:grpSpPr>
          <a:xfrm>
            <a:off x="755640" y="260280"/>
            <a:ext cx="8159760" cy="6141960"/>
            <a:chOff x="755640" y="260280"/>
            <a:chExt cx="8159760" cy="6141960"/>
          </a:xfrm>
        </p:grpSpPr>
        <p:pic>
          <p:nvPicPr>
            <p:cNvPr id="131" name="Picture 9" descr="BD06662_"/>
            <p:cNvPicPr/>
            <p:nvPr/>
          </p:nvPicPr>
          <p:blipFill>
            <a:blip r:embed="rId3"/>
            <a:stretch/>
          </p:blipFill>
          <p:spPr>
            <a:xfrm>
              <a:off x="6659640" y="260280"/>
              <a:ext cx="205740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PE01561_"/>
            <p:cNvPicPr/>
            <p:nvPr/>
          </p:nvPicPr>
          <p:blipFill>
            <a:blip r:embed="rId4"/>
            <a:stretch/>
          </p:blipFill>
          <p:spPr>
            <a:xfrm>
              <a:off x="755640" y="2195640"/>
              <a:ext cx="245412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PE02097_"/>
            <p:cNvPicPr/>
            <p:nvPr/>
          </p:nvPicPr>
          <p:blipFill>
            <a:blip r:embed="rId5"/>
            <a:stretch/>
          </p:blipFill>
          <p:spPr>
            <a:xfrm>
              <a:off x="6095880" y="4145040"/>
              <a:ext cx="2819520" cy="22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Схема 1" descr=""/>
          <p:cNvPicPr/>
          <p:nvPr/>
        </p:nvPicPr>
        <p:blipFill>
          <a:blip r:embed="rId6"/>
          <a:stretch/>
        </p:blipFill>
        <p:spPr>
          <a:xfrm>
            <a:off x="3554280" y="2809800"/>
            <a:ext cx="530388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ТЕСЬ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ЗА ПОМОЩЬ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Воспитание. Учебно-методическое пособие для учителей и воспитателей/ М. П. Осипова, М. А. Бесова и др.; Под ред. М.П.Осиповой. – Мн.: ИП «Экоперспектива», 2000 –2004, 1,2,3,4 кл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Методика коммунарского воспитания: Кн. Для учителя. М.: Просвещение,1990, –Мастерство учителя: идеи,советы, предложения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Энциклопедия коллективных  творческих дел. – М.: Педагогика, 1989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Рожков М.И., Байбородова Л.В. Организация воспитательного процесса в школе. М., 2000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37" name="Picture 4" descr="BS00554_"/>
          <p:cNvPicPr/>
          <p:nvPr/>
        </p:nvPicPr>
        <p:blipFill>
          <a:blip r:embed="rId1"/>
          <a:stretch/>
        </p:blipFill>
        <p:spPr>
          <a:xfrm>
            <a:off x="5943600" y="481968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" action="ppaction://hlinkshowjump?jump=first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хема 1" descr=""/>
          <p:cNvPicPr/>
          <p:nvPr/>
        </p:nvPicPr>
        <p:blipFill>
          <a:blip r:embed="rId1"/>
          <a:stretch/>
        </p:blipFill>
        <p:spPr>
          <a:xfrm>
            <a:off x="1219320" y="291960"/>
            <a:ext cx="7010280" cy="365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D05584_"/>
          <p:cNvPicPr/>
          <p:nvPr/>
        </p:nvPicPr>
        <p:blipFill>
          <a:blip r:embed="rId2"/>
          <a:stretch/>
        </p:blipFill>
        <p:spPr>
          <a:xfrm>
            <a:off x="3348000" y="4076640"/>
            <a:ext cx="2192400" cy="2387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7093080" y="476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236000" y="1700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236000" y="27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Суть каждого дела – забота о своем коллективе,друг о друге, об окружающих людях, о далеких друзья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Коллективное творческое дело – это полнокровная жизнь старших и младших, воспитателей и воспитанников,это общая деятельность по улучшению окружающей жизн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12" name="AutoShape 7">
            <a:hlinkClick r:id="rId1" action="ppaction://hlinksldjump"/>
          </p:cNvPr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3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РУКТУРА ПРОВЕДЕ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едварительная работа взрослых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ланировани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подготовки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одведение итогов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ближайшего последств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3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3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едваритель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(обязательно с педагогом-организатором)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становка цел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места КТД в системе   других форм воспитательной р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думывание вариантов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исходных направляющих действий, необходимых для составления оптимального проек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ланиров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стартовой бесед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Деление на микрогруппы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бота в микрогруппах (обсуждение дела).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е обсуждение. Выработка единого вариан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ыбор сове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адия подготовки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зработка окончательного вариан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спределение поручений в микрогруппа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дготовка ТСО и нагляд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оведение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ступление каждой микрогрупп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казание необходимой помощи взрослым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влечение воспитанников личным примеро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92468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одведение итогов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«Что было хорошо и почему?», «Что не удалось осуществить и почему?», «Что нужно учесть на будущее?»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суждение вопросов в микрогруппах, выслушивание мнений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ы проведения: анкета, стенгазета,разговор по кругу и т.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42:46Z</dcterms:created>
  <dc:creator>User</dc:creator>
  <dc:description/>
  <dc:language>en-US</dc:language>
  <cp:lastModifiedBy>ЦДТ</cp:lastModifiedBy>
  <dcterms:modified xsi:type="dcterms:W3CDTF">2020-04-13T11:20:55Z</dcterms:modified>
  <cp:revision>66</cp:revision>
  <dc:subject/>
  <dc:title>Презентация PowerPoint</dc:title>
</cp:coreProperties>
</file>