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7608-5777-47A1-9D43-4C616EA84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35CF-8DFC-4D9E-A163-AF685357A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4FC8-785B-4D07-BA67-F6C7106B6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29EE-EED1-4459-ABBA-699F19F90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8504-2738-4706-8353-C4D947A5F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D191-CF60-4BFD-84DE-4342B738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17F1-7ECF-4ED8-B9F8-6E07DF73C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D63E-02A0-47F2-BD9D-DEC72D264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249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74A3-0423-4FE7-AC58-7C324D2E7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8465-B56F-4CC6-9B2E-36A7F46B7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57AD-19B1-4C65-B18E-857D7DEFA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413C-DCCF-4391-A616-AF7A58A1E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6F9298-F27B-4886-9148-36A756C0711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5410080" y="1447920"/>
            <a:ext cx="3457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2160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епка из пластилина</a:t>
            </a:r>
            <a:br>
              <a:rPr sz="6000"/>
            </a:br>
            <a:r>
              <a:rPr b="1" lang="ru-RU" sz="6000" spc="-1" strike="noStrike">
                <a:solidFill>
                  <a:srgbClr val="650953"/>
                </a:solidFill>
                <a:latin typeface="Arial"/>
              </a:rPr>
              <a:t>Улитки</a:t>
            </a:r>
            <a:br>
              <a:rPr sz="6000"/>
            </a:br>
            <a:r>
              <a:rPr b="1" lang="ru-RU" sz="4000" spc="-1" strike="noStrike">
                <a:solidFill>
                  <a:srgbClr val="3465a4"/>
                </a:solidFill>
                <a:latin typeface="Arial"/>
              </a:rPr>
              <a:t>для младшего дошкольного возраста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333600" cy="2609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2819520" y="152280"/>
            <a:ext cx="373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ИТКИ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791320" y="441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5867280" y="1523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6668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666880" y="23623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0" y="2362320"/>
            <a:ext cx="2666880" cy="22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0" y="464832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5334120" y="214200"/>
            <a:ext cx="36576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585e0"/>
                </a:solidFill>
                <a:latin typeface="Georgia"/>
              </a:rPr>
              <a:t>Ули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Georgia"/>
              </a:rPr>
              <a:t>Задачи художественно-творческо­го развития. </a:t>
            </a:r>
            <a:r>
              <a:rPr b="1" lang="ru-RU" sz="2000" spc="-1" strike="noStrike">
                <a:solidFill>
                  <a:srgbClr val="22228b"/>
                </a:solidFill>
                <a:latin typeface="Georgia"/>
              </a:rPr>
              <a:t>Моделирование улиток в форме разных спиралей - с прямым и боковым закручиванием. Сравне­ние базовых форм для лепки улиток - раскатывание длинного цилиндра (столбика) и конуса. Поиск способов «оживления» улиток - изготовление глаз и усиков из мелких бытовых пред­метов. Создание композиции «Вот какие улитки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2733840" cy="231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6172200" y="1447920"/>
            <a:ext cx="27432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80880" y="4503240"/>
            <a:ext cx="175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катаем длинный цилиндр, заостряем один ко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352680" y="4417560"/>
            <a:ext cx="216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сворачиваем столбик в прямую спи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400800" y="4500000"/>
            <a:ext cx="20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«оживляем» улитку -лепим глаза и ус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273384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733840" cy="21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733840" cy="2152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57120" y="4142880"/>
            <a:ext cx="203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конус сворачиваем в боковую спираль</a:t>
            </a:r>
            <a:r>
              <a:rPr b="0" lang="ru-RU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581280" y="4228560"/>
            <a:ext cx="204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оформляем голову -делаем усики-антенны</a:t>
            </a:r>
            <a:r>
              <a:rPr b="0" lang="ru-RU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553080" y="4426920"/>
            <a:ext cx="1970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прочно соединяем домик-«катушку» и голо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762120" y="0"/>
            <a:ext cx="277812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800600" y="0"/>
            <a:ext cx="246060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6683400" y="2514600"/>
            <a:ext cx="24606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2209680" y="2362320"/>
            <a:ext cx="2778120" cy="22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5"/>
          <a:stretch/>
        </p:blipFill>
        <p:spPr>
          <a:xfrm>
            <a:off x="0" y="464832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6"/>
          <a:stretch/>
        </p:blipFill>
        <p:spPr>
          <a:xfrm>
            <a:off x="4648320" y="4495680"/>
            <a:ext cx="2460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r</cp:lastModifiedBy>
  <dcterms:modified xsi:type="dcterms:W3CDTF">2020-04-10T10:36:5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