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C133-95DF-4510-AF02-270896D89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B370-7A59-41EE-A4FF-286BCD77B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4E6B-3500-4EEA-9BF0-A65C94AC9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8120-B554-4C05-900E-2124F4F7B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4362-A6E9-49B5-AA0D-504D13D54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2A6F-3A99-4ADE-9388-3149435D7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571C-FEA6-4E0B-A983-76E4C479B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318F-0CE5-410C-9871-1873D2340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249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E0E6-214C-4408-9CCD-69B20EA2E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CAA6-5B6F-4CA6-BF04-ABD1B0A0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8A38-0ED3-48CA-820A-0768C6560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ABBF-29D0-47A9-849F-DC00C53E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3CBD48-9D79-427C-A6E4-4C48EDCE06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5410080" y="1447920"/>
            <a:ext cx="3457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160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епка из пластилина</a:t>
            </a:r>
            <a:br>
              <a:rPr sz="6000"/>
            </a:br>
            <a:r>
              <a:rPr b="1" lang="ru-RU" sz="6000" spc="-1" strike="noStrike">
                <a:solidFill>
                  <a:srgbClr val="650953"/>
                </a:solidFill>
                <a:latin typeface="Arial"/>
              </a:rPr>
              <a:t>Улитки</a:t>
            </a:r>
            <a:br>
              <a:rPr sz="6000"/>
            </a:br>
            <a:r>
              <a:rPr b="1" lang="ru-RU" sz="4000" spc="-1" strike="noStrike">
                <a:solidFill>
                  <a:srgbClr val="3465a4"/>
                </a:solidFill>
                <a:latin typeface="Arial"/>
              </a:rPr>
              <a:t>для младшего дошкольного возраст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333600" cy="260964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2819520" y="152280"/>
            <a:ext cx="373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ИТКИ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7913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5867280" y="1523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6668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0" y="2362320"/>
            <a:ext cx="266688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5"/>
          <a:stretch/>
        </p:blipFill>
        <p:spPr>
          <a:xfrm>
            <a:off x="0" y="46483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5334120" y="214200"/>
            <a:ext cx="36576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585e0"/>
                </a:solidFill>
                <a:latin typeface="Georgia"/>
              </a:rPr>
              <a:t>Ули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Georgia"/>
              </a:rPr>
              <a:t>Задачи художественно-творческо­го развития. </a:t>
            </a:r>
            <a:r>
              <a:rPr b="1" lang="ru-RU" sz="2000" spc="-1" strike="noStrike">
                <a:solidFill>
                  <a:srgbClr val="22228b"/>
                </a:solidFill>
                <a:latin typeface="Georgia"/>
              </a:rPr>
              <a:t>Моделирование улиток в форме разных спиралей - с прямым и боковым закручиванием. Сравне­ние базовых форм для лепки улиток - раскатывание длинного цилиндра (столбика) и конуса. Поиск способов «оживления» улиток - изготовление глаз и усиков из мелких бытовых пред­метов. Создание композиции «Вот какие улитки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2733840" cy="231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6172200" y="144792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80880" y="4503240"/>
            <a:ext cx="175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катаем длинный цилиндр, заостряем один ко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352680" y="4417560"/>
            <a:ext cx="216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сворачиваем столбик в прямую спир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400800" y="4500000"/>
            <a:ext cx="20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«оживляем» улитку -лепим глаза и ус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73384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733840" cy="21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733840" cy="2152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57120" y="4142880"/>
            <a:ext cx="203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конус сворачиваем в боковую спираль</a:t>
            </a: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581280" y="4228560"/>
            <a:ext cx="204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оформляем голову -делаем усики-антенны</a:t>
            </a:r>
            <a:r>
              <a:rPr b="0" lang="ru-RU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553080" y="4426920"/>
            <a:ext cx="197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прочно соединяем домик-«катушку» и голо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762120" y="0"/>
            <a:ext cx="277812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800600" y="0"/>
            <a:ext cx="24606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6683400" y="2514600"/>
            <a:ext cx="24606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2209680" y="2362320"/>
            <a:ext cx="2778120" cy="22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5"/>
          <a:stretch/>
        </p:blipFill>
        <p:spPr>
          <a:xfrm>
            <a:off x="0" y="464832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6"/>
          <a:stretch/>
        </p:blipFill>
        <p:spPr>
          <a:xfrm>
            <a:off x="4648320" y="4495680"/>
            <a:ext cx="2460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r</cp:lastModifiedBy>
  <dcterms:modified xsi:type="dcterms:W3CDTF">2020-04-10T10:36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