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597A-1537-4FEA-B85B-0F3F1ED47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858A-432B-460B-B136-31EC3DCF5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0694-FE0A-4862-84D5-F4C6D526F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67AE-62D2-42C0-962E-CF09BF28E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B083E-1167-48CE-8F2A-D7866F487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FAC3F-1893-4CC3-B7DD-C2917C79D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B2DA6-5EAF-49E7-B7AE-02ABBACC2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E7BCC-4BEF-47B7-9809-A0D87E696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C7229-EA00-44BC-A21E-F310DC777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0121B-B589-4262-A9A8-604332E45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6A343-D864-4266-ADB2-CEE7F8F2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3231-340D-4A08-B027-ECF6DFB03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E57EC-E3A5-46A7-9DDB-CA86D108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8E948-A73F-4240-8958-CD81E97F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8136D-F516-49AF-959F-75C43788B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735AF-5E1B-415A-847D-CA8DCB1CE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710BB-ACD2-4256-9165-1EB064E2B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BC05-CF61-4404-B212-3A5934E78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6999-1129-407A-8728-55CD8A7CF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E88E-EC63-413D-8BB1-44D196581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A0A2-B84A-41A5-9289-B0030D196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6B42-7F00-4E10-995F-84088F0F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439A-3B73-468E-B832-99243917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732B-335C-4643-83DB-4CAA5AA7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F8B54-A206-4CE9-8CCC-6726692209D3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D9043-2495-4C6F-9554-4F3730F79D3A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1" descr=""/>
          <p:cNvPicPr/>
          <p:nvPr/>
        </p:nvPicPr>
        <p:blipFill>
          <a:blip r:embed="rId1"/>
          <a:stretch/>
        </p:blipFill>
        <p:spPr>
          <a:xfrm>
            <a:off x="250920" y="3618000"/>
            <a:ext cx="3241440" cy="3240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7"/>
          <p:cNvSpPr/>
          <p:nvPr/>
        </p:nvSpPr>
        <p:spPr>
          <a:xfrm>
            <a:off x="1738440" y="500040"/>
            <a:ext cx="54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АДОУ детский сад №3 «Мечта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Подзаголовок 4"/>
          <p:cNvSpPr/>
          <p:nvPr/>
        </p:nvSpPr>
        <p:spPr>
          <a:xfrm>
            <a:off x="909720" y="1773360"/>
            <a:ext cx="711828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Занятие по ФЭМП для детей  подготовительной к школе группы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В формате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#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сидим дома  с пользой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#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Найди пропущенную фигур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6" name="Picture 4" descr="clip_image457575"/>
          <p:cNvPicPr/>
          <p:nvPr/>
        </p:nvPicPr>
        <p:blipFill>
          <a:blip r:embed="rId1"/>
          <a:stretch/>
        </p:blipFill>
        <p:spPr>
          <a:xfrm>
            <a:off x="1973160" y="2798640"/>
            <a:ext cx="61912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0f9cc097ba8c212023997c6c31e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116920" cy="46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c1c"/>
                </a:solidFill>
                <a:latin typeface="Tahoma"/>
              </a:rPr>
              <a:t>Образовательная область «Познавательное развитие» ФЭМП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граммные задачи: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1c1c1c"/>
                </a:solidFill>
                <a:latin typeface="Tahoma"/>
              </a:rPr>
              <a:t>1.Закрепить порядковый счет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1c1c1c"/>
                </a:solidFill>
                <a:latin typeface="Tahoma"/>
              </a:rPr>
              <a:t>2.Закреплять сложение и вычитание в пределах 10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1c1c1c"/>
                </a:solidFill>
                <a:latin typeface="Tahoma"/>
              </a:rPr>
              <a:t>3.Закреплять  учить  решать арифметические задачи</a:t>
            </a:r>
            <a:br>
              <a:rPr sz="1800"/>
            </a:br>
            <a:r>
              <a:rPr b="0" lang="ru-RU" sz="1800" spc="-1" strike="noStrike">
                <a:solidFill>
                  <a:srgbClr val="1c1c1c"/>
                </a:solidFill>
                <a:latin typeface="Tahoma"/>
              </a:rPr>
              <a:t>4. Упражнять детей в определении последующего и предыдущего числа к названному </a:t>
            </a:r>
            <a:br>
              <a:rPr sz="1800"/>
            </a:br>
            <a:r>
              <a:rPr b="0" lang="ru-RU" sz="1800" spc="-1" strike="noStrike">
                <a:solidFill>
                  <a:srgbClr val="1c1c1c"/>
                </a:solidFill>
                <a:latin typeface="Tahoma"/>
              </a:rPr>
              <a:t>5 Развитие логического мышления, смекалки, сообразительности. 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1 2 ? 4 5 6 ? 8 9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9 ? 7 6 5 ? 3 2 1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Цель: Упражнять детей в определении последующего и предыдущего числа к названном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Picture 8" descr=""/>
          <p:cNvPicPr/>
          <p:nvPr/>
        </p:nvPicPr>
        <p:blipFill>
          <a:blip r:embed="rId1"/>
          <a:stretch/>
        </p:blipFill>
        <p:spPr>
          <a:xfrm>
            <a:off x="250920" y="3311640"/>
            <a:ext cx="1622160" cy="16221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7"/>
          <p:cNvSpPr/>
          <p:nvPr/>
        </p:nvSpPr>
        <p:spPr>
          <a:xfrm>
            <a:off x="2216160" y="260280"/>
            <a:ext cx="417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акое число пропустил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знайка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561636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Tahoma"/>
              </a:rPr>
              <a:t>? 7 ?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ff"/>
                </a:solidFill>
                <a:latin typeface="Tahoma"/>
              </a:rPr>
              <a:t>? 4 ?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Tahoma"/>
              </a:rPr>
              <a:t>2 4 ? 8 ?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ff"/>
                </a:solidFill>
                <a:latin typeface="Tahoma"/>
              </a:rPr>
              <a:t>1 ? 5 7 9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Picture 7" descr=""/>
          <p:cNvPicPr/>
          <p:nvPr/>
        </p:nvPicPr>
        <p:blipFill>
          <a:blip r:embed="rId1"/>
          <a:stretch/>
        </p:blipFill>
        <p:spPr>
          <a:xfrm>
            <a:off x="5940360" y="2276640"/>
            <a:ext cx="26640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93404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еши задач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0" y="1360080"/>
            <a:ext cx="8964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У Юры 3 кубика, а у Серёжи 2 куби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На столе стоит коробка, в которой умещается 4 куби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Смогут ли мальчики уложить в эту коробку все свои кубики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Я задумала число,прибавила к нему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Получилось 6.Какое число я задумала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Если сложить два числа получится 5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Какими могут быть эти числа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У Тани 3 яблока,а у Кати на 1 меньш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Сколько яблок у Кати? </a:t>
            </a:r>
            <a:r>
              <a:rPr b="1" lang="ru-RU" sz="2000" spc="-1" strike="noStrike">
                <a:solidFill>
                  <a:srgbClr val="ff0066"/>
                </a:solidFill>
                <a:latin typeface="Tahoma"/>
              </a:rPr>
              <a:t>Сколько всего яблок у девочек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Маше 5 лет, а Саша на 2 года младше Маши.Сколько лет Саше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9" descr=""/>
          <p:cNvPicPr/>
          <p:nvPr/>
        </p:nvPicPr>
        <p:blipFill>
          <a:blip r:embed="rId1"/>
          <a:stretch/>
        </p:blipFill>
        <p:spPr>
          <a:xfrm>
            <a:off x="7000920" y="2421000"/>
            <a:ext cx="192240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41101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006600"/>
                </a:solidFill>
                <a:latin typeface="Tahoma"/>
              </a:rPr>
              <a:t>На большом диване в ряд Куклы Танины сидят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006600"/>
                </a:solidFill>
                <a:latin typeface="Tahoma"/>
              </a:rPr>
              <a:t>2 матрешки, Буратино </a:t>
            </a:r>
            <a:br>
              <a:rPr sz="2800"/>
            </a:br>
            <a:r>
              <a:rPr b="1" lang="ru-RU" sz="2800" spc="-1" strike="noStrike">
                <a:solidFill>
                  <a:srgbClr val="006600"/>
                </a:solidFill>
                <a:latin typeface="Tahoma"/>
              </a:rPr>
              <a:t>И веселый Чипполино.</a:t>
            </a:r>
            <a:br>
              <a:rPr sz="2800"/>
            </a:br>
            <a:r>
              <a:rPr b="1" lang="ru-RU" sz="2800" spc="-1" strike="noStrike">
                <a:solidFill>
                  <a:srgbClr val="006600"/>
                </a:solidFill>
                <a:latin typeface="Tahoma"/>
              </a:rPr>
              <a:t>Помогите Танюшке </a:t>
            </a:r>
            <a:br>
              <a:rPr sz="2800"/>
            </a:br>
            <a:r>
              <a:rPr b="1" lang="ru-RU" sz="2800" spc="-1" strike="noStrike">
                <a:solidFill>
                  <a:srgbClr val="006600"/>
                </a:solidFill>
                <a:latin typeface="Tahoma"/>
              </a:rPr>
              <a:t>Сосчитать игрушки.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4" descr="0c02fc9f7086_1"/>
          <p:cNvPicPr/>
          <p:nvPr/>
        </p:nvPicPr>
        <p:blipFill>
          <a:blip r:embed="rId1"/>
          <a:stretch/>
        </p:blipFill>
        <p:spPr>
          <a:xfrm>
            <a:off x="1908000" y="472428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7"/>
          <p:cNvSpPr/>
          <p:nvPr/>
        </p:nvSpPr>
        <p:spPr>
          <a:xfrm>
            <a:off x="4716360" y="0"/>
            <a:ext cx="42847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Наша Маша рано встала-</a:t>
            </a:r>
            <a:br>
              <a:rPr sz="2800"/>
            </a:b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Кукол всех пересчитала:</a:t>
            </a:r>
            <a:br>
              <a:rPr sz="2800"/>
            </a:b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Две Матрешки на окошке,</a:t>
            </a:r>
            <a:br>
              <a:rPr sz="2800"/>
            </a:b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Две Аринки на перинке,</a:t>
            </a:r>
            <a:br>
              <a:rPr sz="2800"/>
            </a:b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Две Танюшки на подушке,</a:t>
            </a:r>
            <a:br>
              <a:rPr sz="2800"/>
            </a:b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А Петрушка в колпачке</a:t>
            </a:r>
            <a:br>
              <a:rPr sz="2800"/>
            </a:b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На дубовом сундучке</a:t>
            </a:r>
            <a:br>
              <a:rPr sz="2800"/>
            </a:br>
            <a:r>
              <a:rPr b="1" i="1" lang="ru-RU" sz="2800" spc="-1" strike="noStrike">
                <a:solidFill>
                  <a:srgbClr val="660033"/>
                </a:solidFill>
                <a:latin typeface="Tahoma"/>
              </a:rPr>
              <a:t>Сколько всех</a:t>
            </a: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? 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6012000" y="2781360"/>
            <a:ext cx="2952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66"/>
                </a:solidFill>
                <a:latin typeface="Tahoma"/>
              </a:rPr>
              <a:t>6 ? 4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e4a8"/>
                </a:solidFill>
                <a:latin typeface="Tahoma"/>
              </a:rPr>
              <a:t>8 ? 9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324000" y="1484280"/>
            <a:ext cx="4537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6600"/>
                </a:solidFill>
                <a:latin typeface="Tahoma"/>
              </a:rPr>
              <a:t>4+1 ? 5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cf01"/>
                </a:solidFill>
                <a:latin typeface="Tahoma"/>
              </a:rPr>
              <a:t>4+1 ? 6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ff"/>
                </a:solidFill>
                <a:latin typeface="Tahoma"/>
              </a:rPr>
              <a:t>4+1 ? 3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324000" y="26028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Какой знак нужно поставить 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24000" y="3860280"/>
            <a:ext cx="10656720" cy="22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7" descr="1307518457_10"/>
          <p:cNvPicPr/>
          <p:nvPr/>
        </p:nvPicPr>
        <p:blipFill>
          <a:blip r:embed="rId1"/>
          <a:stretch/>
        </p:blipFill>
        <p:spPr>
          <a:xfrm>
            <a:off x="755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clip_image004"/>
          <p:cNvPicPr/>
          <p:nvPr/>
        </p:nvPicPr>
        <p:blipFill>
          <a:blip r:embed="rId1"/>
          <a:stretch/>
        </p:blipFill>
        <p:spPr>
          <a:xfrm>
            <a:off x="0" y="1700280"/>
            <a:ext cx="8893080" cy="37069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7"/>
          <p:cNvSpPr/>
          <p:nvPr/>
        </p:nvSpPr>
        <p:spPr>
          <a:xfrm>
            <a:off x="8441280" y="642636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861120" y="438120"/>
            <a:ext cx="610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Найдите пропущенную фигуру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5T21:42:37Z</dcterms:created>
  <dc:creator>Мама</dc:creator>
  <dc:description/>
  <dc:language>en-US</dc:language>
  <cp:lastModifiedBy>ДЕНИС</cp:lastModifiedBy>
  <dcterms:modified xsi:type="dcterms:W3CDTF">2020-04-12T23:05:22Z</dcterms:modified>
  <cp:revision>17</cp:revision>
  <dc:subject/>
  <dc:title>Slide 1</dc:title>
</cp:coreProperties>
</file>