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D470-5D36-4800-A2BD-BE1EC84ED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4D45-B45F-4350-8BCF-914F845E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096E-CF16-4DFE-80AF-8E66DE806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72EE-D0FB-4BFF-9DC4-AC0F52F73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7CEE-2B3A-4E99-9BAF-2474D52E9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5205-71AE-455F-87F7-B16314AC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F22B-8EDA-4468-A443-253474B7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6743-EFE1-4EF5-A1BF-C6BF0AC2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F79E-AE87-4AAB-ACC6-DC0A5BDB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1029-EF23-49F0-8BBC-02567BB6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7661-44A7-47E9-8814-D1711C66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A181-0AD7-48D1-A77B-29D606D9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2F08-7EEA-461D-82E0-6C92D3D0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239D-9E77-4861-BDE4-D7BA04CA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5476-4595-4D06-9D2D-B68E06A6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036C-2622-4DFE-A7A0-5A8879D5B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3C69-432F-4321-ACE1-9E5054B19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9CA1-AD48-4207-9DD1-33307CC3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AE17-9A05-4EDE-B9CC-FB3323B3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88CC-5E15-4706-B624-A2B39460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2C49-98F4-4F8C-B96D-C8DDC50A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A461-94A3-41D4-A57C-76148766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4CF9-7185-427F-90B9-D98C33ED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8C3C-782B-42CE-B53C-9D6160D5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85A1-2E90-49D4-99AE-D1861D6BEDB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A2B0-A262-4088-BAA4-1D7279E2073A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1" descr=""/>
          <p:cNvPicPr/>
          <p:nvPr/>
        </p:nvPicPr>
        <p:blipFill>
          <a:blip r:embed="rId1"/>
          <a:stretch/>
        </p:blipFill>
        <p:spPr>
          <a:xfrm>
            <a:off x="250920" y="3618000"/>
            <a:ext cx="3241440" cy="3240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1738440" y="500040"/>
            <a:ext cx="54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ДОУ детский сад №3 «Мечта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одзаголовок 4"/>
          <p:cNvSpPr/>
          <p:nvPr/>
        </p:nvSpPr>
        <p:spPr>
          <a:xfrm>
            <a:off x="909720" y="1773360"/>
            <a:ext cx="711828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Занятие по ФЭМП для детей  подготовительной к школе группы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В формате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#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сидим дома  с пользой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айди пропущенную фигур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6" name="Picture 4" descr="clip_image457575"/>
          <p:cNvPicPr/>
          <p:nvPr/>
        </p:nvPicPr>
        <p:blipFill>
          <a:blip r:embed="rId1"/>
          <a:stretch/>
        </p:blipFill>
        <p:spPr>
          <a:xfrm>
            <a:off x="1973160" y="2798640"/>
            <a:ext cx="61912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0f9cc097ba8c212023997c6c31e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116920" cy="46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Tahoma"/>
              </a:rPr>
              <a:t>Образовательная область «Познавательное развитие» ФЭМП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граммные задачи: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1c1c1c"/>
                </a:solidFill>
                <a:latin typeface="Tahoma"/>
              </a:rPr>
              <a:t>1.Закрепить порядковый счет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1c1c1c"/>
                </a:solidFill>
                <a:latin typeface="Tahoma"/>
              </a:rPr>
              <a:t>2.Закреплять сложение и вычитание в пределах 10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1c1c1c"/>
                </a:solidFill>
                <a:latin typeface="Tahoma"/>
              </a:rPr>
              <a:t>3.Закреплять  учить  решать арифметические задачи</a:t>
            </a:r>
            <a:br>
              <a:rPr sz="1800"/>
            </a:br>
            <a:r>
              <a:rPr b="0" lang="ru-RU" sz="1800" spc="-1" strike="noStrike">
                <a:solidFill>
                  <a:srgbClr val="1c1c1c"/>
                </a:solidFill>
                <a:latin typeface="Tahoma"/>
              </a:rPr>
              <a:t>4. Упражнять детей в определении последующего и предыдущего числа к названному </a:t>
            </a:r>
            <a:br>
              <a:rPr sz="1800"/>
            </a:br>
            <a:r>
              <a:rPr b="0" lang="ru-RU" sz="1800" spc="-1" strike="noStrike">
                <a:solidFill>
                  <a:srgbClr val="1c1c1c"/>
                </a:solidFill>
                <a:latin typeface="Tahoma"/>
              </a:rPr>
              <a:t>5 Развитие логического мышления, смекалки, сообразительности. 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1 2 ? 4 5 6 ? 8 9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9 ? 7 6 5 ? 3 2 1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Цель: Упражнять детей в определении последующего и предыдущего числа к названном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1"/>
          <a:stretch/>
        </p:blipFill>
        <p:spPr>
          <a:xfrm>
            <a:off x="250920" y="3311640"/>
            <a:ext cx="1622160" cy="16221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7"/>
          <p:cNvSpPr/>
          <p:nvPr/>
        </p:nvSpPr>
        <p:spPr>
          <a:xfrm>
            <a:off x="2216160" y="260280"/>
            <a:ext cx="417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акое число пропусти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знайка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56163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ahoma"/>
              </a:rPr>
              <a:t>? 7 ?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Tahoma"/>
              </a:rPr>
              <a:t>? 4 ?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ahoma"/>
              </a:rPr>
              <a:t>2 4 ? 8 ?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Tahoma"/>
              </a:rPr>
              <a:t>1 ? 5 7 9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5940360" y="2276640"/>
            <a:ext cx="2664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9340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еши задач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0" y="1360080"/>
            <a:ext cx="896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У Юры 3 кубика, а у Серёжи 2 куби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На столе стоит коробка, в которой умещается 4 куби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Смогут ли мальчики уложить в эту коробку все свои кубики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Я задумала число,прибавила к нему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Получилось 6.Какое число я задумала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Если сложить два числа получится 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Какими могут быть эти числа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У Тани 3 яблока,а у Кати на 1 меньш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Сколько яблок у Кати? </a:t>
            </a:r>
            <a:r>
              <a:rPr b="1" lang="ru-RU" sz="2000" spc="-1" strike="noStrike">
                <a:solidFill>
                  <a:srgbClr val="ff0066"/>
                </a:solidFill>
                <a:latin typeface="Tahoma"/>
              </a:rPr>
              <a:t>Сколько всего яблок у девочек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Маше 5 лет, а Саша на 2 года младше Маши.Сколько лет Саше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1"/>
          <a:stretch/>
        </p:blipFill>
        <p:spPr>
          <a:xfrm>
            <a:off x="7000920" y="2421000"/>
            <a:ext cx="19224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4110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6600"/>
                </a:solidFill>
                <a:latin typeface="Tahoma"/>
              </a:rPr>
              <a:t>На большом диване в ряд Куклы Танины сидят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6600"/>
                </a:solidFill>
                <a:latin typeface="Tahoma"/>
              </a:rPr>
              <a:t>2 матрешки, Буратино 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Tahoma"/>
              </a:rPr>
              <a:t>И веселый Чипполино.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Tahoma"/>
              </a:rPr>
              <a:t>Помогите Танюшке 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Tahoma"/>
              </a:rPr>
              <a:t>Сосчитать игрушки.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4" descr="0c02fc9f7086_1"/>
          <p:cNvPicPr/>
          <p:nvPr/>
        </p:nvPicPr>
        <p:blipFill>
          <a:blip r:embed="rId1"/>
          <a:stretch/>
        </p:blipFill>
        <p:spPr>
          <a:xfrm>
            <a:off x="1908000" y="47242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4716360" y="0"/>
            <a:ext cx="4284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Наша Маша рано встала-</a:t>
            </a:r>
            <a:br>
              <a:rPr sz="2800"/>
            </a:b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Кукол всех пересчитала:</a:t>
            </a:r>
            <a:br>
              <a:rPr sz="2800"/>
            </a:b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Две Матрешки на окошке,</a:t>
            </a:r>
            <a:br>
              <a:rPr sz="2800"/>
            </a:b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Две Аринки на перинке,</a:t>
            </a:r>
            <a:br>
              <a:rPr sz="2800"/>
            </a:b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Две Танюшки на подушке,</a:t>
            </a:r>
            <a:br>
              <a:rPr sz="2800"/>
            </a:b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А Петрушка в колпачке</a:t>
            </a:r>
            <a:br>
              <a:rPr sz="2800"/>
            </a:b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На дубовом сундучке</a:t>
            </a:r>
            <a:br>
              <a:rPr sz="2800"/>
            </a:br>
            <a:r>
              <a:rPr b="1" i="1" lang="ru-RU" sz="2800" spc="-1" strike="noStrike">
                <a:solidFill>
                  <a:srgbClr val="660033"/>
                </a:solidFill>
                <a:latin typeface="Tahoma"/>
              </a:rPr>
              <a:t>Сколько всех</a:t>
            </a: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? 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6012000" y="2781360"/>
            <a:ext cx="295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66"/>
                </a:solidFill>
                <a:latin typeface="Tahoma"/>
              </a:rPr>
              <a:t>6 ? 4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e4a8"/>
                </a:solidFill>
                <a:latin typeface="Tahoma"/>
              </a:rPr>
              <a:t>8 ? 9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24000" y="1484280"/>
            <a:ext cx="4537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00"/>
                </a:solidFill>
                <a:latin typeface="Tahoma"/>
              </a:rPr>
              <a:t>4+1 ? 5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cf01"/>
                </a:solidFill>
                <a:latin typeface="Tahoma"/>
              </a:rPr>
              <a:t>4+1 ? 6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Tahoma"/>
              </a:rPr>
              <a:t>4+1 ? 3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324000" y="26028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акой знак нужно поставить 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24000" y="3860280"/>
            <a:ext cx="10656720" cy="22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7" descr="1307518457_10"/>
          <p:cNvPicPr/>
          <p:nvPr/>
        </p:nvPicPr>
        <p:blipFill>
          <a:blip r:embed="rId1"/>
          <a:stretch/>
        </p:blipFill>
        <p:spPr>
          <a:xfrm>
            <a:off x="755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clip_image004"/>
          <p:cNvPicPr/>
          <p:nvPr/>
        </p:nvPicPr>
        <p:blipFill>
          <a:blip r:embed="rId1"/>
          <a:stretch/>
        </p:blipFill>
        <p:spPr>
          <a:xfrm>
            <a:off x="0" y="1700280"/>
            <a:ext cx="8893080" cy="37069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8441280" y="642636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861120" y="438120"/>
            <a:ext cx="610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айдите пропущенную фигур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5T21:42:37Z</dcterms:created>
  <dc:creator>Мама</dc:creator>
  <dc:description/>
  <dc:language>en-US</dc:language>
  <cp:lastModifiedBy>ДЕНИС</cp:lastModifiedBy>
  <dcterms:modified xsi:type="dcterms:W3CDTF">2020-04-12T23:05:22Z</dcterms:modified>
  <cp:revision>17</cp:revision>
  <dc:subject/>
  <dc:title>Slide 1</dc:title>
</cp:coreProperties>
</file>