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8A41-A6DC-445D-8CDA-0E4A60A2A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92C2-056F-425A-A7ED-87217A19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5572-E43A-459A-A1F0-A5C5FF119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1B65-56D7-45B0-B375-AB5E3B0F2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E6A0-6852-45AD-99C2-4A2F259C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8E11-324A-4ADC-8E34-83BA530C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698E-D3C4-4216-B7A4-1F5E308B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1FA4-57B1-4A81-AEF0-B75D2405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3F2B-20A2-493E-A686-27202099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8787-CA95-419E-8E65-D44827C7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712E-C008-4942-9FAD-5100C746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2FD2-56E1-49D4-BD01-33E3926A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D19A-5EAD-4E53-AA4E-C9F0AEC5E1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650080" cy="63244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Admin\Мои документы\Новая папка\2000_big_1353998666.jpg"/>
          <p:cNvPicPr/>
          <p:nvPr/>
        </p:nvPicPr>
        <p:blipFill>
          <a:blip r:embed="rId1"/>
          <a:stretch/>
        </p:blipFill>
        <p:spPr>
          <a:xfrm>
            <a:off x="1143000" y="1219320"/>
            <a:ext cx="6781680" cy="50212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60" name="TextBox 2"/>
          <p:cNvSpPr/>
          <p:nvPr/>
        </p:nvSpPr>
        <p:spPr>
          <a:xfrm>
            <a:off x="228600" y="2286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картине можно встретить монахов. Их можно отличить от других людей по одежде и головным уборам черного цв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Documents and Settings\Admin\Мои документы\Новая папка\2000_big_1353998666.jpg"/>
          <p:cNvPicPr/>
          <p:nvPr/>
        </p:nvPicPr>
        <p:blipFill>
          <a:blip r:embed="rId1"/>
          <a:stretch/>
        </p:blipFill>
        <p:spPr>
          <a:xfrm>
            <a:off x="1295280" y="1600200"/>
            <a:ext cx="6782040" cy="50212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62" name="TextBox 2"/>
          <p:cNvSpPr/>
          <p:nvPr/>
        </p:nvSpPr>
        <p:spPr>
          <a:xfrm>
            <a:off x="228600" y="2286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тмосферу базара отображают торговые  ряды, покупатели, продавцы, товары. В торговых рядах покупают товары. Здесь торгуют валенками, тканями, головными плат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Admin\Мои документы\Новая папка\2000_big_1353998666.jpg"/>
          <p:cNvPicPr/>
          <p:nvPr/>
        </p:nvPicPr>
        <p:blipFill>
          <a:blip r:embed="rId1"/>
          <a:stretch/>
        </p:blipFill>
        <p:spPr>
          <a:xfrm>
            <a:off x="1295280" y="1600200"/>
            <a:ext cx="6782040" cy="50212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64" name="TextBox 2"/>
          <p:cNvSpPr/>
          <p:nvPr/>
        </p:nvSpPr>
        <p:spPr>
          <a:xfrm>
            <a:off x="0" y="0"/>
            <a:ext cx="8763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ите рулоны ткани. Какого они цвета? В старину популярностью пользовались ткани алого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варная рабо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ый  — яркий оттенок красного цвета. Отличается от истинно красного уклоном в оранжевый цв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Admin\Мои документы\Новая папка\2000_big_1353998666.jpg"/>
          <p:cNvPicPr/>
          <p:nvPr/>
        </p:nvPicPr>
        <p:blipFill>
          <a:blip r:embed="rId1"/>
          <a:stretch/>
        </p:blipFill>
        <p:spPr>
          <a:xfrm>
            <a:off x="1600200" y="2362320"/>
            <a:ext cx="5878440" cy="435276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66" name="Прямоугольник 2"/>
          <p:cNvSpPr/>
          <p:nvPr/>
        </p:nvSpPr>
        <p:spPr>
          <a:xfrm>
            <a:off x="380880" y="838080"/>
            <a:ext cx="899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звуки могут слышать люди, уходящие с рынка? (Скрип полозьев, ржанье лошадей, голоса торговцев и покупателей, звон колоко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Admin\Мои документы\Новая папка\2000_big_1353998666.jpg"/>
          <p:cNvPicPr/>
          <p:nvPr/>
        </p:nvPicPr>
        <p:blipFill>
          <a:blip r:embed="rId1"/>
          <a:stretch/>
        </p:blipFill>
        <p:spPr>
          <a:xfrm>
            <a:off x="152280" y="0"/>
            <a:ext cx="8850600" cy="65530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p:transition spd="slow">
    <p:split dir="in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за внимание.</a:t>
            </a:r>
            <a:br>
              <a:rPr sz="6600"/>
            </a:br>
            <a:r>
              <a:rPr b="0" lang="ru-RU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новых встреч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3"/>
          <p:cNvSpPr/>
          <p:nvPr/>
        </p:nvSpPr>
        <p:spPr>
          <a:xfrm>
            <a:off x="380880" y="-664200"/>
            <a:ext cx="8382240" cy="62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Monotype Corsiva"/>
              </a:rPr>
              <a:t>Внеурочная деятельнос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Monotype Corsiva"/>
              </a:rPr>
              <a:t>кружок «Музей в твоем класс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Monotype Corsiva"/>
              </a:rPr>
              <a:t> </a:t>
            </a: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Иван Горюшкин – Сорокопуд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«Базарный день в старом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                         </a:t>
            </a: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городе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2"/>
          <a:stretch/>
        </p:blipFill>
        <p:spPr>
          <a:xfrm>
            <a:off x="228600" y="4038480"/>
            <a:ext cx="3676680" cy="259092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44" name="Rectangle 3"/>
          <p:cNvSpPr/>
          <p:nvPr/>
        </p:nvSpPr>
        <p:spPr>
          <a:xfrm>
            <a:off x="4724280" y="4952880"/>
            <a:ext cx="426744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Admin\Мои документы\Новая папка\2000_big_1353998666.jpg"/>
          <p:cNvPicPr/>
          <p:nvPr/>
        </p:nvPicPr>
        <p:blipFill>
          <a:blip r:embed="rId1"/>
          <a:stretch/>
        </p:blipFill>
        <p:spPr>
          <a:xfrm>
            <a:off x="1143000" y="1219320"/>
            <a:ext cx="6781680" cy="50212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46" name="TextBox 2"/>
          <p:cNvSpPr/>
          <p:nvPr/>
        </p:nvSpPr>
        <p:spPr>
          <a:xfrm>
            <a:off x="228600" y="2286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ред нами картина русского живописца Ивана Силыча Горюшкина-Сорокопуд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Базарный день в старом город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Admin\Мои документы\Новая папка\2000_big_1353998666.jpg"/>
          <p:cNvPicPr/>
          <p:nvPr/>
        </p:nvPicPr>
        <p:blipFill>
          <a:blip r:embed="rId1"/>
          <a:stretch/>
        </p:blipFill>
        <p:spPr>
          <a:xfrm>
            <a:off x="1143000" y="1219320"/>
            <a:ext cx="6781680" cy="50212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48" name="TextBox 2"/>
          <p:cNvSpPr/>
          <p:nvPr/>
        </p:nvSpPr>
        <p:spPr>
          <a:xfrm>
            <a:off x="228600" y="228600"/>
            <a:ext cx="87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удожник изображает сцену из старинной жизни.  Об этом говорят следующие элементы из картины: одежда, сани, торговые ряды с товаром, старинные построй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Admin\Мои документы\Новая папка\2000_big_1353998666.jpg"/>
          <p:cNvPicPr/>
          <p:nvPr/>
        </p:nvPicPr>
        <p:blipFill>
          <a:blip r:embed="rId1"/>
          <a:stretch/>
        </p:blipFill>
        <p:spPr>
          <a:xfrm>
            <a:off x="1143000" y="1219320"/>
            <a:ext cx="6781680" cy="50212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50" name="TextBox 2"/>
          <p:cNvSpPr/>
          <p:nvPr/>
        </p:nvSpPr>
        <p:spPr>
          <a:xfrm>
            <a:off x="228600" y="228600"/>
            <a:ext cx="87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зарные дни на Руси обычно устраивали раз в неделю, по выходным. Базары устраивали на площади. Торговые ряды располагались рядом с храмом или со старой древней креп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Admin\Мои документы\Новая папка\2000_big_1353998666.jpg"/>
          <p:cNvPicPr/>
          <p:nvPr/>
        </p:nvPicPr>
        <p:blipFill>
          <a:blip r:embed="rId1"/>
          <a:stretch/>
        </p:blipFill>
        <p:spPr>
          <a:xfrm>
            <a:off x="1143000" y="1219320"/>
            <a:ext cx="6781680" cy="50212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52" name="TextBox 2"/>
          <p:cNvSpPr/>
          <p:nvPr/>
        </p:nvSpPr>
        <p:spPr>
          <a:xfrm>
            <a:off x="228600" y="2286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щина арки позволяет нам судить о толщине стен. Значит, художник изобразил стены и ворота старого городского кремля, древней креп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ны старого кремля красили 4 р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Admin\Мои документы\Новая папка\2000_big_1353998666.jpg"/>
          <p:cNvPicPr/>
          <p:nvPr/>
        </p:nvPicPr>
        <p:blipFill>
          <a:blip r:embed="rId1"/>
          <a:stretch/>
        </p:blipFill>
        <p:spPr>
          <a:xfrm>
            <a:off x="1143000" y="1219320"/>
            <a:ext cx="6781680" cy="50212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54" name="TextBox 2"/>
          <p:cNvSpPr/>
          <p:nvPr/>
        </p:nvSpPr>
        <p:spPr>
          <a:xfrm>
            <a:off x="228600" y="2286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ите икону над воротами. А теперь найдите еще одну сбоку от вх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Admin\Мои документы\Новая папка\2000_big_1353998666.jpg"/>
          <p:cNvPicPr/>
          <p:nvPr/>
        </p:nvPicPr>
        <p:blipFill>
          <a:blip r:embed="rId1"/>
          <a:stretch/>
        </p:blipFill>
        <p:spPr>
          <a:xfrm>
            <a:off x="1143000" y="1219320"/>
            <a:ext cx="6781680" cy="50212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56" name="TextBox 2"/>
          <p:cNvSpPr/>
          <p:nvPr/>
        </p:nvSpPr>
        <p:spPr>
          <a:xfrm>
            <a:off x="228600" y="2286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рота одновременно являются колокольней. Небольшой колокол над воротами предназначался для оповещения  народа об открытии или закрытии база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Admin\Мои документы\Новая папка\2000_big_1353998666.jpg"/>
          <p:cNvPicPr/>
          <p:nvPr/>
        </p:nvPicPr>
        <p:blipFill>
          <a:blip r:embed="rId1"/>
          <a:stretch/>
        </p:blipFill>
        <p:spPr>
          <a:xfrm>
            <a:off x="1143000" y="1219320"/>
            <a:ext cx="6781680" cy="50212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58" name="TextBox 2"/>
          <p:cNvSpPr/>
          <p:nvPr/>
        </p:nvSpPr>
        <p:spPr>
          <a:xfrm>
            <a:off x="228600" y="2286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ва от ворот мы видим купола храма. На картине нам видно 3 купола, но храм украшают 5 куполов. Один большой центральный возвышается над остальными, ниже четыре малых, угловых. При храме находится монастыр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9T18:18:13Z</dcterms:created>
  <dc:creator>Сергей</dc:creator>
  <dc:description/>
  <dc:language>en-US</dc:language>
  <cp:lastModifiedBy>Михаил Скрипкин</cp:lastModifiedBy>
  <dcterms:modified xsi:type="dcterms:W3CDTF">2020-04-13T05:09:38Z</dcterms:modified>
  <cp:revision>100</cp:revision>
  <dc:subject/>
  <dc:title>Слайд 1</dc:title>
</cp:coreProperties>
</file>