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29D-6250-413C-924B-0FC179E3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0B1-9552-4533-B028-5BF60AE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EBA-6DFE-4F5C-954F-380E587B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513-C2EE-4946-B470-DF613C1D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933-9EEB-4E20-B387-8232959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55F-6CD6-4BC8-B8BB-D189225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BAC-87B4-4325-B6E0-DAD2A662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DC5-4604-4B70-BE66-A7F0722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F82-1B48-42E6-9282-79BB1FB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3E4-CC58-4D22-8E4A-AA398D4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A31-AA3A-440C-96EE-2D8B396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C58-45F5-4BCB-BF4E-068F294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CDE7-11DD-4A82-AA8D-2F71A737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650080" cy="6324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0" name="Text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ртине можно встретить монахов. Их можно отличить от других людей по одежде и головным уборам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295280" y="1600200"/>
            <a:ext cx="678204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у базара отображают торговые  ряды, покупатели, продавцы, товары. В торговых рядах покупают товары. Здесь торгуют валенками, тканями, головными пла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295280" y="1600200"/>
            <a:ext cx="678204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рулоны ткани. Какого они цвета? В старину популярностью пользовались ткани а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ый  — яркий оттенок красного цвета. Отличается от истинно красного уклоном в оранжев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600200" y="2362320"/>
            <a:ext cx="5878440" cy="4352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6" name="Прямоугольник 2"/>
          <p:cNvSpPr/>
          <p:nvPr/>
        </p:nvSpPr>
        <p:spPr>
          <a:xfrm>
            <a:off x="380880" y="83808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звуки могут слышать люди, уходящие с рынка? (Скрип полозьев, ржанье лошадей, голоса торговцев и покупателей, звон коло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52280" y="0"/>
            <a:ext cx="8850600" cy="6553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ransition spd="slow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.</a:t>
            </a: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80880" y="-664200"/>
            <a:ext cx="838224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Внеурочн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кружок «Музей в твоем класс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Иван Горюшкин – Сорокопу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Базарный день в стар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город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676680" cy="2590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4" name="Rectangle 3"/>
          <p:cNvSpPr/>
          <p:nvPr/>
        </p:nvSpPr>
        <p:spPr>
          <a:xfrm>
            <a:off x="4724280" y="4952880"/>
            <a:ext cx="42674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46" name="Text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д нами картина русского живописца Ивана Силыча Горюшкина-Сорокопуд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Базарный день в старом город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изображает сцену из старинной жизни.  Об этом говорят следующие элементы из картины: одежда, сани, торговые ряды с товаром, старинные постро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0" name="TextBox 2"/>
          <p:cNvSpPr/>
          <p:nvPr/>
        </p:nvSpPr>
        <p:spPr>
          <a:xfrm>
            <a:off x="228600" y="228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рные дни на Руси обычно устраивали раз в неделю, по выходным. Базары устраивали на площади. Торговые ряды располагались рядом с храмом или со старой древней креп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а арки позволяет нам судить о толщине стен. Значит, художник изобразил стены и ворота старого городского кремля, древней кре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 старого кремля красили 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4" name="TextBox 2"/>
          <p:cNvSpPr/>
          <p:nvPr/>
        </p:nvSpPr>
        <p:spPr>
          <a:xfrm>
            <a:off x="228600" y="228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икону над воротами. А теперь найдите еще одну сбоку от в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6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а одновременно являются колокольней. Небольшой колокол над воротами предназначался для оповещения  народа об открытии или закрытии баз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от ворот мы видим купола храма. На картине нам видно 3 купола, но храм украшают 5 куполов. Один большой центральный возвышается над остальными, ниже четыре малых, угловых. При храме находится монас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8:18:13Z</dcterms:created>
  <dc:creator>Сергей</dc:creator>
  <dc:description/>
  <dc:language>en-US</dc:language>
  <cp:lastModifiedBy>Михаил Скрипкин</cp:lastModifiedBy>
  <dcterms:modified xsi:type="dcterms:W3CDTF">2020-04-13T05:09:38Z</dcterms:modified>
  <cp:revision>100</cp:revision>
  <dc:subject/>
  <dc:title>Слайд 1</dc:title>
</cp:coreProperties>
</file>