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FB6-52DA-40F8-9E43-94DE5E33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32A-18FA-4AEF-80B1-E342CA31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12F-F082-490D-B12A-2C94B5C3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22D-A4D3-4ED2-80B7-1D51F528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9C5A-5BBA-42A0-8D45-4B8A816C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C3B6-1590-4261-B7DA-A3EFFF71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8282-563A-4823-86F9-253926EF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AFDE-21BB-42B0-B4F8-78EF2D62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A8F0-AE8E-44E8-BE99-CB1F0EC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AB72-FD7F-4A2F-ABBF-481D0983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9851-5769-4343-A099-88E492A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43F-99BF-4A4E-A35C-0880024B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9509-6A08-401C-A2FC-1E820683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2049-B92F-4B9E-A215-B51C7474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7236-9152-4AA3-AF47-7DFFBE5E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402F-D9AB-48F3-ACF9-9C854BBE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C0B4-90F7-48F8-BCFD-1C381242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4281-CDC3-4E59-AD4D-EB554425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3707-86B3-4EC0-B10E-9AEF38DF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3245-6CBD-44B4-AC36-EF545B5F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544F-C981-4AB6-ABD6-3713A16B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50FE-2598-4AA3-835E-7DB2EB19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ED2-FDAC-432B-9E1E-0230820B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874C1-FD4A-4165-B652-AB3A67A2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8E12-6C8A-4D45-A559-07E037C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91EB-9D25-437B-8AEA-A9D76BD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C1A5-593C-4B11-AB9C-0CF458F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45A2-29EF-46FF-B765-48D55DFE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0527-46AF-4B2C-A209-044A3F24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2EFD-EC5C-4367-AB3E-DC6EACF2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A580-CC2B-4EE8-8900-EFC228FB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BFD9-1243-41B4-8761-A3255974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A2D3-54F4-49E0-94C7-93FA3975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17D-52D2-44EA-B09E-905A1D14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DB0C-D318-4374-BB91-E2CDADC5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9815C-6DA7-43B7-B978-53E00D96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CDCEC-04F1-4C0E-AA74-B55593B3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F11E-667F-4873-9BF3-11F6064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14D0-F03B-4D4E-A13D-7647FBB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E270-7C0F-4F7B-8FED-AE6A478F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F861-0079-49DC-87DA-716F8437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7558-7B1C-422C-A76C-B1999888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AE0A2-B464-4284-8420-D9302F50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101-BB72-44EC-ADD1-6754CC32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975-ECF4-4B0A-B16D-C8494F12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594-0300-4AE1-95F0-64B1BE52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8F1-DB39-4517-90EB-72A0F51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74D-C94F-45EE-9232-208F1A9A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76BC-4EBD-4764-A011-E6596CBAEF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6715-E01D-4C7A-8663-C80EDA3D97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A20-039B-4D64-BF5C-1A456CA698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03C2-154D-440D-94CB-CC00CF0015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7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нализ работы методического объединения учителей учебного курса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Основы религиозных культур и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етской этики»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з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201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чебный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C:\Users\Андрей\Desktop\Новая папка\DSCN1189.JPG"/>
          <p:cNvPicPr/>
          <p:nvPr/>
        </p:nvPicPr>
        <p:blipFill>
          <a:blip r:embed="rId1"/>
          <a:stretch/>
        </p:blipFill>
        <p:spPr>
          <a:xfrm>
            <a:off x="1476360" y="2492280"/>
            <a:ext cx="6048360" cy="3673440"/>
          </a:xfrm>
          <a:prstGeom prst="rect">
            <a:avLst/>
          </a:prstGeom>
          <a:ln w="28440">
            <a:solidFill>
              <a:srgbClr val="0000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3 засе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спользование нестандартных форм обучения в преподавании модуля «Основы православной культуры»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изина Лариса Владимировна, учитель начальных классов МБОУ «СШ № 10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6036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3 засе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Экскурсия в Храм как одна из активных форм обучения в курсе преподавания ОРКС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икитина Елена Николаевна,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МБОУ «СШ № 4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933800" y="1600200"/>
            <a:ext cx="3314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341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енствование уровня педагогического мастерства учителя, при решении актуальных проблем в преподавании учебного курса ОРКС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ные моменты в преподавании предмета ОРКСЭ и пути их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наставничества (по запросу О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леживание личностных, метапредметных и предметных результатов освоения содержания курса обучающими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ормы и виды деятельности по изучению краеведческого материала в рамках преподавания курса ОРКСЭ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 сопровождение творческих конкурсов и олимпиад по курсу ОРКС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спективный план работы методического объединения  учителей учебного курса «Основы религиозных культур и светской этики» на 2018 – 2019 учебный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деятельности объеди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848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информирование и организация изучения методической литературы по вопросам преподавания курса ОРКСЭ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реализация здоровьесберегающих подходов в работе  на уроках курса «ОРКСЭ» и во внеур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обмен опы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 педагогах, ведущих работу в рамках деятельности ГМ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2420640"/>
            <a:ext cx="7925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66 человек приняли участие в работе  объедин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- 7 человек представили свой опыт работы с обучающимися по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773360"/>
            <a:ext cx="345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1 засе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Эффективные решения системы оценивания безотметоч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уководитель Г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околова Г.М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МБОУ «СШ № 4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C:\Users\Андрей\Desktop\Новая папка\DSCN1175.JPG"/>
          <p:cNvPicPr/>
          <p:nvPr/>
        </p:nvPicPr>
        <p:blipFill>
          <a:blip r:embed="rId1"/>
          <a:stretch/>
        </p:blipFill>
        <p:spPr>
          <a:xfrm>
            <a:off x="3995640" y="1916280"/>
            <a:ext cx="4435560" cy="3870000"/>
          </a:xfrm>
          <a:prstGeom prst="rect">
            <a:avLst/>
          </a:prstGeom>
          <a:ln w="28440">
            <a:solidFill>
              <a:srgbClr val="0000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28280"/>
            <a:ext cx="4322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2 заседание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ременный урок в общеобразовательном классе с детьми ОВЗ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Шульская Елена Владими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СШ № 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527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4000" y="16225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2 заседание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, методы и приёмы коррекционной работы на уроках ОРКСЭ с детьми ОВ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кол Наталья Владими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СШ № 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Курникова\Desktop\фото\IMG_5561.JPG"/>
          <p:cNvPicPr/>
          <p:nvPr/>
        </p:nvPicPr>
        <p:blipFill>
          <a:blip r:embed="rId2"/>
          <a:stretch/>
        </p:blipFill>
        <p:spPr>
          <a:xfrm>
            <a:off x="5364000" y="1628640"/>
            <a:ext cx="3240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1599840"/>
            <a:ext cx="41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2 засе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грамма по курсу ОРКСЭ адаптированная для частично инклюзивных детей аутистического спек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стер класс по составлению адаптированной програм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веева Валентина Николае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ОУ «СШ №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X:\Соколова Г.М\IMG_5564.JPG"/>
          <p:cNvPicPr/>
          <p:nvPr/>
        </p:nvPicPr>
        <p:blipFill>
          <a:blip r:embed="rId2"/>
          <a:stretch/>
        </p:blipFill>
        <p:spPr>
          <a:xfrm>
            <a:off x="4643280" y="1413000"/>
            <a:ext cx="3745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я работы Г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09120" y="1599840"/>
            <a:ext cx="7131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3 засе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формационно-методический материал по здоровьесберегающим факторам личности, реализуемый на уроках и во внеурочной деятельности в рамках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азуева Наталья Михайловна, учитель начальных классов МБОУ «СШ № 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3:53:40Z</dcterms:created>
  <dc:creator>Яшенька</dc:creator>
  <dc:description/>
  <dc:language>en-US</dc:language>
  <cp:lastModifiedBy>Пользователь</cp:lastModifiedBy>
  <dcterms:modified xsi:type="dcterms:W3CDTF">2020-04-13T12:14:31Z</dcterms:modified>
  <cp:revision>213</cp:revision>
  <dc:subject/>
  <dc:title>Анализ работы методического объединения учителей начальных классов</dc:title>
</cp:coreProperties>
</file>