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4BD-5E45-4449-BD6B-E6E5B14E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C28-FE20-4E13-A8C4-DC864FDC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B67-2014-4465-8435-F759F3FD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747-5764-421E-A104-80592B6E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2DA1-20D2-43D9-B150-48C9CEAC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91EB-1A67-49CF-96BF-95633D68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9698-80F7-4AB3-9106-EA4FDB41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64F5-24E1-4736-98A8-AD80A480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2AAE-E7C6-4660-B328-488DDF75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0671-80D4-47F3-A822-C23E0268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DEED-D4B5-4A4A-81D0-D8EE1E58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FE6-D049-48CB-8B64-A56FECE6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D896-EEAA-4002-83FC-CBA44819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9619-3293-4C02-AD46-5B087217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0AF2-C236-4490-8ED5-7D6C2D3D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2255-EE66-4E86-9780-27ED1852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81D1-D5ED-4421-A89F-DD386F8A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314DF-264F-4010-A7CF-03A971DC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F8973-B301-46FC-96E7-30A1D748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ECB7-8AD3-4C3E-8D47-475AA362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206AF-EAA0-4282-904C-28606788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0726D-954E-4F1C-B239-FF9FF5D3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BB3-54A1-4768-81D7-8364AA9D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4973B-287D-43AA-9793-713353D2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4851B-117E-4DB5-8281-E2E24721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DDBEA-EF66-4BE7-B54F-06ED5519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A58B4-840F-44B4-8140-9EA03826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F6AE3-9E24-43AA-8382-E722AC01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BB47-4E31-44D7-B2F1-53B39925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496E5-1223-4876-AE5E-62156CDA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14FC4-C4C8-4762-A77B-9DE1E998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053A2-80F1-4A5F-8FE4-D3AC8F76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FA41C-41E7-4BC8-A5A6-82122E1F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8DB-46CC-4B21-A7C1-3BB5C674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AAFF5-C95B-4155-96C9-DFD54B6F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2B791-5C7C-4906-9CBF-B45A5CC3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82FF7-16FE-4D05-BC0A-4742CE46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CFB20-64C1-4FC6-97AD-42F2B14D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3AE6D-91B2-4F06-A48A-972BC58F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6DEC-42A6-4B12-AD43-41761B77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413EA-41AE-4112-86C2-C29293AB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19803-B142-4361-904A-8749188A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77159-E546-4DB1-AB72-4B8BEC17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050-0A1A-46E5-96DF-AB89C85F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DD68-2D1C-4661-9736-01CE6761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5917-8B1F-4291-825F-A1EB106A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A32-2583-4DF4-9699-DBDA0117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AEF-8981-4463-AC1B-DB237844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03B9-E5BB-42A8-9806-E25CD8EEF5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C6BC-CBD2-49A5-AA0E-CCF8ED2BA5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1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5601-927F-4FA0-A061-59A1EC4205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3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DD3C-F359-4B36-AC70-66FBB8E84D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7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2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нализ работы методического объединения учителей учебного курса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Основы религиозных культур и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ветской этики»,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за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201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чебный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C:\Users\Андрей\Desktop\Новая папка\DSCN1189.JPG"/>
          <p:cNvPicPr/>
          <p:nvPr/>
        </p:nvPicPr>
        <p:blipFill>
          <a:blip r:embed="rId1"/>
          <a:stretch/>
        </p:blipFill>
        <p:spPr>
          <a:xfrm>
            <a:off x="1476360" y="2492280"/>
            <a:ext cx="6048360" cy="3673440"/>
          </a:xfrm>
          <a:prstGeom prst="rect">
            <a:avLst/>
          </a:prstGeom>
          <a:ln w="28440">
            <a:solidFill>
              <a:srgbClr val="0000cc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зация работы ГМ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3 засе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спользование нестандартных форм обучения в преподавании модуля «Основы православной культуры»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изина Лариса Владимировна, учитель начальных классов МБОУ «СШ № 10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6036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зация работы ГМ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3 засе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Экскурсия в Храм как одна из активных форм обучения в курсе преподавания ОРКС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икитина Елена Николаевна, учитель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МБОУ «СШ № 4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4933800" y="1600200"/>
            <a:ext cx="3314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34100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вершенствование уровня педагогического мастерства учителя, при решении актуальных проблем в преподавании учебного курса ОРКС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ные моменты в преподавании предмета ОРКСЭ и пути их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наставничества (по запросу О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леживание личностных, метапредметных и предметных результатов освоения содержания курса обучающими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формы и виды деятельности по изучению краеведческого материала в рамках преподавания курса ОРКСЭ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ческое сопровождение творческих конкурсов и олимпиад по курсу ОРКС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й план работы методического объединения  учителей учебного курса «Основы религиозных культур и светской этики» на 2018 – 2019 учебный г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деятельности объеди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848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информирование и организация изучения методической литературы по вопросам преподавания курса ОРКСЭ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реализация здоровьесберегающих подходов в работе  на уроках курса «ОРКСЭ» и во внеуроч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обмен опы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 педагогах, ведущих работу в рамках деятельности ГМ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09480" y="2420640"/>
            <a:ext cx="79250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66 человек приняли участие в работе  объедин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- 7 человек представили свой опыт работы с обучающимися по предм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зация работы ГМ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8360" y="1773360"/>
            <a:ext cx="345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1 засед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Эффективные решения системы оценивания безотметочного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Руководитель Г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околова Г.М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МБОУ «СШ № 4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C:\Users\Андрей\Desktop\Новая папка\DSCN1175.JPG"/>
          <p:cNvPicPr/>
          <p:nvPr/>
        </p:nvPicPr>
        <p:blipFill>
          <a:blip r:embed="rId1"/>
          <a:stretch/>
        </p:blipFill>
        <p:spPr>
          <a:xfrm>
            <a:off x="3995640" y="1916280"/>
            <a:ext cx="4435560" cy="3870000"/>
          </a:xfrm>
          <a:prstGeom prst="rect">
            <a:avLst/>
          </a:prstGeom>
          <a:ln w="28440">
            <a:solidFill>
              <a:srgbClr val="0000cc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зация работы ГМ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09480" y="1628280"/>
            <a:ext cx="43228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2 заседание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временный урок в общеобразовательном классе с детьми ОВЗ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Шульская Елена Владими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БОУ «СШ № 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527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зация работы ГМ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4000" y="1622520"/>
            <a:ext cx="3886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2 заседание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, методы и приёмы коррекционной работы на уроках ОРКСЭ с детьми ОВ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кол Наталья Владими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БОУ «СШ № 2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Users\Курникова\Desktop\фото\IMG_5561.JPG"/>
          <p:cNvPicPr/>
          <p:nvPr/>
        </p:nvPicPr>
        <p:blipFill>
          <a:blip r:embed="rId2"/>
          <a:stretch/>
        </p:blipFill>
        <p:spPr>
          <a:xfrm>
            <a:off x="5364000" y="1628640"/>
            <a:ext cx="3240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зация работы ГМ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5280" y="1599840"/>
            <a:ext cx="4176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2 засе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грамма по курсу ОРКСЭ адаптированная для частично инклюзивных детей аутистического спек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астер класс по составлению адаптированной програм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атвеева Валентина Николаевн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БОУ «СШ №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X:\Соколова Г.М\IMG_5564.JPG"/>
          <p:cNvPicPr/>
          <p:nvPr/>
        </p:nvPicPr>
        <p:blipFill>
          <a:blip r:embed="rId2"/>
          <a:stretch/>
        </p:blipFill>
        <p:spPr>
          <a:xfrm>
            <a:off x="4643280" y="1413000"/>
            <a:ext cx="37450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зация работы ГМ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09120" y="1599840"/>
            <a:ext cx="7131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3 засе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нформационно-методический материал по здоровьесберегающим факторам личности, реализуемый на уроках и во внеурочной деятельности в рамках курса ОРКС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азуева Наталья Михайловна, учитель начальных классов МБОУ «СШ № 2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3:53:40Z</dcterms:created>
  <dc:creator>Яшенька</dc:creator>
  <dc:description/>
  <dc:language>en-US</dc:language>
  <cp:lastModifiedBy>Пользователь</cp:lastModifiedBy>
  <dcterms:modified xsi:type="dcterms:W3CDTF">2020-04-13T12:14:31Z</dcterms:modified>
  <cp:revision>213</cp:revision>
  <dc:subject/>
  <dc:title>Анализ работы методического объединения учителей начальных классов</dc:title>
</cp:coreProperties>
</file>