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5CE-34AA-46CB-ADC1-56239A4A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F92-467E-42F6-B063-3099A39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063-CED6-45DA-B9C2-2AEBC003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867-6098-4D72-ABBB-877B7F6B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906-CC2A-40DD-AEEB-83E2E8F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D15-F6E6-4480-8DE6-29EC5C60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036-681F-444D-ACB9-48D525A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D3B-C08E-423E-B9E1-1474409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82C-D59A-45D1-AEBE-5336D0AC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14C-DDEB-4907-A46B-404617EF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0A-6251-4E8C-A3D5-4953645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7C6-A8F6-4C8D-A899-6B4FD49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E1AA-B80A-4EA5-9B40-33FE8AD12DA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30F-C8A4-4256-9A7C-9ADE2208FB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85520"/>
            <a:ext cx="7000920" cy="55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8800"/>
            </a:br>
            <a:r>
              <a:rPr b="1" lang="ru-RU" sz="88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88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пшина Е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0A4-8C8A-445B-849F-560B891F97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3"/>
          <p:cNvSpPr/>
          <p:nvPr/>
        </p:nvSpPr>
        <p:spPr>
          <a:xfrm>
            <a:off x="3000240" y="4287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ДОУ «Детский сад № 3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F060-2B88-47DF-8F51-E92688B3CB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7C1-72F7-4368-93E7-B72061E317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6C21-767F-4F75-8F01-A69B79351B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A454-5E51-4F39-BC54-3C72D6A80B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439-6C09-49C4-A25A-5CB05754E9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226D-EC9A-4D5C-B021-D467E78DD9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7F9-6347-4F16-B879-4A0E7B0C76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8D6-2757-421B-B3E8-CC7C0CED5E2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E27-B227-4C68-B101-D326F9DE4F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179280" y="26028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Автор: С. Погор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E366-DE5A-46FE-8F7A-10F50428A0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6E5-9925-4CD6-871A-ABD84EE7D6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B1B-4B51-4627-9325-82DF05D9D1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F55A-F5C3-40D5-A6C8-4EE0DCEEF5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994-0138-403D-922D-2E7E418554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88A-EBDC-4F7E-9BA1-4786976305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AC67-C0F9-4D52-8B84-533873E059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72E-453D-47DB-BB4B-8EFBAA707F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EA17-BE72-4A17-B654-1C9D2FBC95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ПК</cp:lastModifiedBy>
  <dcterms:modified xsi:type="dcterms:W3CDTF">2020-03-25T05:46:17Z</dcterms:modified>
  <cp:revision>27</cp:revision>
  <dc:subject/>
  <dc:title>Откуда к нам хлеб пришёл</dc:title>
</cp:coreProperties>
</file>