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2.gif" ContentType="image/gif"/>
  <Override PartName="/ppt/media/image3.gif" ContentType="image/gif"/>
  <Override PartName="/ppt/media/image4.gif" ContentType="image/gif"/>
  <Override PartName="/ppt/media/image5.gif" ContentType="image/gif"/>
  <Override PartName="/ppt/media/image6.gif" ContentType="image/gif"/>
  <Override PartName="/ppt/media/image7.gif" ContentType="image/gif"/>
  <Override PartName="/ppt/media/image8.gif" ContentType="image/gif"/>
  <Override PartName="/ppt/media/image9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825B7-B0E4-4B66-B901-F467A993D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ED63-B596-46B7-8FF9-61F17DDBD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9B4E5-C3F9-487C-AC45-470B2BF09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B286E-4450-4C48-968B-B102E4AC4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C2F57-5102-40D6-A0E1-9A5095E41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07BE6-3403-46C1-B6EB-DF0EA6FFB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DD56B-3198-459D-8EF8-6A5CEB58B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B6D3-86AA-4BE7-A6EB-DE0A11DCD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F19D9-585A-46BC-B5DF-30BCFC851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20BDE-5887-4456-91E1-D95BBDF96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3F9B-19DF-4E31-A03F-72EDAB85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0E12E-5203-49F4-998C-F47D9906F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A858A-AAA0-48C7-BB51-15830918A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EA8DC-9C13-479A-BE13-BFE81860B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D95AF1-1130-4543-8CE2-5894EBC7E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0BB50-848D-407F-8450-5E0CC408D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499E6-B613-48D1-99BA-9E02A16156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C0B-F9E6-4DE9-96CB-6D59E1EDD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2463D-68E9-4CAA-98AF-C152C75C3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FEB4-06B3-4DC0-9748-0D2654D8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33962-44DD-440F-BC70-9DEA63591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D989-7800-4988-A449-E908EF745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D922E-4DBA-4D0C-BAB9-C15AA9812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B1FBF-3C0F-403D-92EB-C7CA6BDB2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E53B97-723A-4916-9595-44715872626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B60D85-5DA5-4663-BAD1-9D389A43B6D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900" spc="-1" strike="noStrike">
                <a:solidFill>
                  <a:srgbClr val="ffffff"/>
                </a:solidFill>
                <a:latin typeface="Arial"/>
              </a:rPr>
              <a:t>Текст</a:t>
            </a:r>
            <a:endParaRPr b="0" lang="en-US" sz="6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Несколько предложений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торых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оворить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 одном и том</a:t>
            </a:r>
            <a:r>
              <a:rPr b="0" i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же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аскрывается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общая мысль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зываю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текст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4" descr="j0283635"/>
          <p:cNvPicPr/>
          <p:nvPr/>
        </p:nvPicPr>
        <p:blipFill>
          <a:blip r:embed="rId1"/>
          <a:stretch/>
        </p:blipFill>
        <p:spPr>
          <a:xfrm>
            <a:off x="6372360" y="1700280"/>
            <a:ext cx="2160360" cy="21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в детской пирамидке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о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о ч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овориться в тексте, - это его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о,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б этом хочет сказать автор, - </a:t>
            </a: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главная мы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Arial"/>
              </a:rPr>
              <a:t>Тема и главная мы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это стержень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j0236209"/>
          <p:cNvPicPr/>
          <p:nvPr/>
        </p:nvPicPr>
        <p:blipFill>
          <a:blip r:embed="rId1"/>
          <a:stretch/>
        </p:blipFill>
        <p:spPr>
          <a:xfrm>
            <a:off x="8172360" y="5229360"/>
            <a:ext cx="371520" cy="5713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j0283630"/>
          <p:cNvPicPr/>
          <p:nvPr/>
        </p:nvPicPr>
        <p:blipFill>
          <a:blip r:embed="rId2"/>
          <a:stretch/>
        </p:blipFill>
        <p:spPr>
          <a:xfrm>
            <a:off x="4932360" y="4797360"/>
            <a:ext cx="1368360" cy="143352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0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8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бери текст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ел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лесу росла сосна. Там было дупло. В дупле жила белка. У белки пушистый хвост. Она любит орех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41480" y="1599840"/>
            <a:ext cx="38926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ень был жаркий. В саду идёт работа. Папа и Костя сажают малину. Мама и Оля поливают цветы. Идёт дожд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8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8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600" spc="-1" strike="noStrike">
                <a:solidFill>
                  <a:srgbClr val="ffffff"/>
                </a:solidFill>
                <a:latin typeface="Arial"/>
              </a:rPr>
              <a:t>Как сделать текст хорошим?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57400" indent="-228600">
              <a:spcBef>
                <a:spcPts val="11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Какие требования к хорошему тексту вы знаете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5" descr="f012"/>
          <p:cNvPicPr/>
          <p:nvPr/>
        </p:nvPicPr>
        <p:blipFill>
          <a:blip r:embed="rId1"/>
          <a:stretch/>
        </p:blipFill>
        <p:spPr>
          <a:xfrm>
            <a:off x="1692360" y="3141720"/>
            <a:ext cx="3024000" cy="286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0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Arial"/>
              </a:rPr>
              <a:t>Требования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онятна</a:t>
            </a:r>
            <a:r>
              <a:rPr b="1" i="1" lang="ru-RU" sz="4800" spc="-1" strike="noStrike">
                <a:solidFill>
                  <a:srgbClr val="000000"/>
                </a:solidFill>
                <a:latin typeface="Arial"/>
              </a:rPr>
              <a:t> тема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(о чём говориться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Ясна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главная мысль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(что хочет сказать автор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Каждое предложение вносит что-нибудь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новое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: добавляет, объясняет, уточняе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7" descr="f216"/>
          <p:cNvPicPr/>
          <p:nvPr/>
        </p:nvPicPr>
        <p:blipFill>
          <a:blip r:embed="rId1"/>
          <a:stretch/>
        </p:blipFill>
        <p:spPr>
          <a:xfrm>
            <a:off x="7164360" y="1341360"/>
            <a:ext cx="1104840" cy="136224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1000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10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В хорошем тексте предложения располагаются  </a:t>
            </a:r>
            <a:r>
              <a:rPr b="1" i="1" lang="ru-RU" sz="4400" spc="-1" strike="noStrike">
                <a:solidFill>
                  <a:srgbClr val="000000"/>
                </a:solidFill>
                <a:latin typeface="Arial"/>
              </a:rPr>
              <a:t>по  порядку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– так, чтобы было понятно, как развивается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родолжается мыс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4" descr="AG00052_"/>
          <p:cNvPicPr/>
          <p:nvPr/>
        </p:nvPicPr>
        <p:blipFill>
          <a:blip r:embed="rId1"/>
          <a:stretch/>
        </p:blipFill>
        <p:spPr>
          <a:xfrm>
            <a:off x="3851280" y="692280"/>
            <a:ext cx="1143000" cy="714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nodeType="clickEffect" fill="hold">
                      <p:stCondLst>
                        <p:cond delay="0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Как озаглавить текст?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тобы точно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заглавить тест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начала спроси себя: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о ч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 ком) в нём говорится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лавное передаёт автор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4" descr="j0303326"/>
          <p:cNvPicPr/>
          <p:nvPr/>
        </p:nvPicPr>
        <p:blipFill>
          <a:blip r:embed="rId1"/>
          <a:stretch/>
        </p:blipFill>
        <p:spPr>
          <a:xfrm>
            <a:off x="4356000" y="4149720"/>
            <a:ext cx="1606680" cy="121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Как озаглавить текст?</a:t>
            </a:r>
            <a:br>
              <a:rPr sz="3800"/>
            </a:br>
            <a:r>
              <a:rPr b="0" lang="ru-RU" sz="3800" spc="-1" strike="noStrike">
                <a:solidFill>
                  <a:srgbClr val="ffffff"/>
                </a:solidFill>
                <a:latin typeface="Arial"/>
              </a:rPr>
              <a:t>(памятка)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1. Уточн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о чём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(о ком) говориться в текст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что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главное передаёт автор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2. Постарайся придумать такой заголовок, чтобы точно </a:t>
            </a: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передать тему (главную мысл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) текс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4" descr="f342"/>
          <p:cNvPicPr/>
          <p:nvPr/>
        </p:nvPicPr>
        <p:blipFill>
          <a:blip r:embed="rId1"/>
          <a:stretch/>
        </p:blipFill>
        <p:spPr>
          <a:xfrm>
            <a:off x="6804000" y="981000"/>
            <a:ext cx="1523880" cy="191448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0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7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5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Выбери название для текста.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 Максима живёт кот Барсик. Он весь белый. Хвост пушистый . Барсик любит спать  на солнышке и пить парное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акси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от любит молок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арси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юбимое живот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Picture 4" descr="f265"/>
          <p:cNvPicPr/>
          <p:nvPr/>
        </p:nvPicPr>
        <p:blipFill>
          <a:blip r:embed="rId1"/>
          <a:stretch/>
        </p:blipFill>
        <p:spPr>
          <a:xfrm>
            <a:off x="6084720" y="3284640"/>
            <a:ext cx="2117880" cy="2074680"/>
          </a:xfrm>
          <a:prstGeom prst="rect">
            <a:avLst/>
          </a:prstGeom>
          <a:ln w="0">
            <a:noFill/>
          </a:ln>
        </p:spPr>
      </p:pic>
    </p:spTree>
  </p:cSld>
  <p:transition>
    <p:comb dir="horz"/>
  </p:transition>
  <p:timing>
    <p:tnLst>
      <p:par>
        <p:cTn id="176" dur="indefinite" restart="never" nodeType="tmRoot">
          <p:childTnLst>
            <p:seq>
              <p:cTn id="177" dur="indefinite" nodeType="mainSeq">
                <p:childTnLst>
                  <p:par>
                    <p:cTn id="178" nodeType="clickEffect" fill="hold">
                      <p:stCondLst>
                        <p:cond delay="0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8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3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8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2-04T07:29:20Z</dcterms:created>
  <dc:creator>Гимназия_5</dc:creator>
  <dc:description/>
  <dc:language>en-US</dc:language>
  <cp:lastModifiedBy>Михаил</cp:lastModifiedBy>
  <dcterms:modified xsi:type="dcterms:W3CDTF">2020-04-13T18:42:45Z</dcterms:modified>
  <cp:revision>7</cp:revision>
  <dc:subject/>
  <dc:title>Текст</dc:title>
</cp:coreProperties>
</file>