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D5FA-98D5-4D13-B289-74586130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6D81-B172-4E2B-9600-70D1779EB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42AE-EB9E-42C7-B7C6-F54AAA81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EF22-6F51-4F63-A7A2-6993EFB21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0A6F7-32C1-4A0A-8387-C0DE493ED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D785B-0215-44BA-ADE7-74CCC48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E982-535D-4561-ADAC-0358E213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2677-1BD1-46A5-A539-CBC6FF14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C99E5-9E8F-4FE7-BF1F-023DBFCC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381D4-1F4F-4FAE-B046-A38571D1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F71C1-8303-4C85-89BB-0F635587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EEB5-D4D7-4659-8F2C-BA5316BE7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33E4-B602-4CDC-8F75-73E70032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6CB5-36D7-4926-8BA9-6A110225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165F7-85F0-4B34-ABC1-EB54347F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26D26-AD0F-4A94-81B1-023AF380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5554F-C7C7-4F37-910D-D9B1463D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1A97-C808-4102-9EE2-B782FF426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0585-ACBB-45CA-8BF7-20F92878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0079-C2DD-403B-B32A-CE246A83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1F9C-E5BC-4B2C-B3E7-B96628F6D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536B-A72A-4C02-86A8-F47319779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AB1-C8E9-441E-8339-56DFC461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6DAB-9BEA-4AD7-ABDF-50BEF5C29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F4D92-44A9-4B16-9C4F-066D20349CE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C69F9-E713-427A-BB1F-822B8EF1EF5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сколько предлож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ь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 одном и то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ая мыс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j0283635"/>
          <p:cNvPicPr/>
          <p:nvPr/>
        </p:nvPicPr>
        <p:blipFill>
          <a:blip r:embed="rId1"/>
          <a:stretch/>
        </p:blipFill>
        <p:spPr>
          <a:xfrm>
            <a:off x="6372360" y="170028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в детской пирамидк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 ч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вориться в тексте, - это его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этом хочет сказать автор, 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лавная мы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 и главная мы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тержень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j0236209"/>
          <p:cNvPicPr/>
          <p:nvPr/>
        </p:nvPicPr>
        <p:blipFill>
          <a:blip r:embed="rId1"/>
          <a:stretch/>
        </p:blipFill>
        <p:spPr>
          <a:xfrm>
            <a:off x="8172360" y="5229360"/>
            <a:ext cx="3715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0283630"/>
          <p:cNvPicPr/>
          <p:nvPr/>
        </p:nvPicPr>
        <p:blipFill>
          <a:blip r:embed="rId2"/>
          <a:stretch/>
        </p:blipFill>
        <p:spPr>
          <a:xfrm>
            <a:off x="4932360" y="4797360"/>
            <a:ext cx="1368360" cy="143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бери текст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есу росла сосна. Там было дупло. В дупле жила белка. У белки пушистый хвост. Она любит оре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был жаркий. В саду идёт работа. Папа и Костя сажают малину. Мама и Оля поливают цветы. Идё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Как сделать текст хорошим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1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акие требования к хорошему тексту вы знает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012"/>
          <p:cNvPicPr/>
          <p:nvPr/>
        </p:nvPicPr>
        <p:blipFill>
          <a:blip r:embed="rId1"/>
          <a:stretch/>
        </p:blipFill>
        <p:spPr>
          <a:xfrm>
            <a:off x="1692360" y="3141720"/>
            <a:ext cx="30240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реб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нятна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тем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о чём говоритьс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сн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лавная мысл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что хочет сказать авто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ждое предложение вносит что-нибудь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ов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добавляет, объясняет, уточ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216"/>
          <p:cNvPicPr/>
          <p:nvPr/>
        </p:nvPicPr>
        <p:blipFill>
          <a:blip r:embed="rId1"/>
          <a:stretch/>
        </p:blipFill>
        <p:spPr>
          <a:xfrm>
            <a:off x="7164360" y="1341360"/>
            <a:ext cx="1104840" cy="1362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хорошем тексте предложения располагаются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  порядк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так, чтобы было понятно, как развивается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должается мыс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G00052_"/>
          <p:cNvPicPr/>
          <p:nvPr/>
        </p:nvPicPr>
        <p:blipFill>
          <a:blip r:embed="rId1"/>
          <a:stretch/>
        </p:blipFill>
        <p:spPr>
          <a:xfrm>
            <a:off x="3851280" y="692280"/>
            <a:ext cx="114300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озаглавить текст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точно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заглавить тес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начала спроси себя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ч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 ком) в нём говори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 передаё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303326"/>
          <p:cNvPicPr/>
          <p:nvPr/>
        </p:nvPicPr>
        <p:blipFill>
          <a:blip r:embed="rId1"/>
          <a:stretch/>
        </p:blipFill>
        <p:spPr>
          <a:xfrm>
            <a:off x="4356000" y="4149720"/>
            <a:ext cx="1606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 озаглавить текст?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(памятка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точ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 ч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 ком) говориться в текс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ое передаёт ав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старайся придумать такой заголовок, чтобы точно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едать тему (главную мы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342"/>
          <p:cNvPicPr/>
          <p:nvPr/>
        </p:nvPicPr>
        <p:blipFill>
          <a:blip r:embed="rId1"/>
          <a:stretch/>
        </p:blipFill>
        <p:spPr>
          <a:xfrm>
            <a:off x="6804000" y="981000"/>
            <a:ext cx="1523880" cy="191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бери название для текс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аксима живёт кот Барсик. Он весь белый. Хвост пушистый . Барсик любит спать  на солнышке и пить парное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 любит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с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имое живо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f265"/>
          <p:cNvPicPr/>
          <p:nvPr/>
        </p:nvPicPr>
        <p:blipFill>
          <a:blip r:embed="rId1"/>
          <a:stretch/>
        </p:blipFill>
        <p:spPr>
          <a:xfrm>
            <a:off x="6084720" y="3284640"/>
            <a:ext cx="2117880" cy="2074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7:29:20Z</dcterms:created>
  <dc:creator>Гимназия_5</dc:creator>
  <dc:description/>
  <dc:language>en-US</dc:language>
  <cp:lastModifiedBy>Михаил</cp:lastModifiedBy>
  <dcterms:modified xsi:type="dcterms:W3CDTF">2020-04-13T18:42:45Z</dcterms:modified>
  <cp:revision>7</cp:revision>
  <dc:subject/>
  <dc:title>Текст</dc:title>
</cp:coreProperties>
</file>