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50D6-FC7F-4491-A786-34E78C6B6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05EC-506C-4654-A38C-EB327097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C984-3310-4DFD-9EE5-2467F1605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315E-8ACE-454E-B0D7-C6689F79E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B5F5-8757-468B-BEFB-B252C3B7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472E-323A-4A00-A1AA-FCA0528D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8F39-C18D-4B90-BB09-2A71B2F4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3B46-F433-4AF8-B7AB-B0D6426C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E7A7-D1CD-46ED-8E78-BE5DE1CA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8376-DFA2-4261-8837-90906CAF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2BA3-4D5F-46C5-8606-B20A60CF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DE2B-F4DC-4962-82BC-E8C9A487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5088-CFCA-42EE-9B64-BD7CD28655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img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1221120" y="2330280"/>
            <a:ext cx="6701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3300"/>
                </a:solidFill>
                <a:latin typeface="Arial"/>
              </a:rPr>
              <a:t>ПОНЕДЕЛЬНИК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6000" spc="-1" strike="noStrike">
                <a:solidFill>
                  <a:srgbClr val="cc3300"/>
                </a:solidFill>
                <a:latin typeface="Arial"/>
              </a:rPr>
              <a:t>ДЕНЬ ВЕСЕЛЫ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3241080" y="76500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(13 апрел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img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1295280" y="674640"/>
            <a:ext cx="62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Утр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2340000" y="1936800"/>
            <a:ext cx="49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1289160" y="1376280"/>
            <a:ext cx="705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Беседа с детьми: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«Здоровые зуб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Цель: Познакомить детей с понятием «гигиена полости рта»; учить полоскать рот после приёма пищ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гровая деятельнос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южетно-ролевые игры: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«Чаепитие у кукол», «Детский сад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идактические игры: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«Формы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«Картинки-половинки», «Угадай вид транспор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Домино «Овощи  -фрукт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рудовое поручение: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помоги взрослым накрыть стол к завтра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1214280" y="4886280"/>
            <a:ext cx="72201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Зарядка «Утро уже просыпайся и новому дню улыбайся №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Завтр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img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004760" y="1052640"/>
            <a:ext cx="69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ОБРАЗОВАТЕЛЬН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936720" y="1844640"/>
            <a:ext cx="72705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Музы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м. рекомендации музыкального руковод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Чтение художественной литерату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.Альфаро «Козлик герой» пер. с испанского Т. Давитьянц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А Барто . Стихи из цикла «Игрушки» (заучивание); Рус.народ.сказка «Теремок» обр.М.Булат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img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1864080" y="907920"/>
            <a:ext cx="5415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НАБЛЮДЕНИЯ Н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ПРОГУЛ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(или из ок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971640" y="2081160"/>
            <a:ext cx="7056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«За тенью в солнечный ден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- знакомить с понятиями «свет» и «тень», отметить, что в солнечный день все предметы отбрасывают тень, контур которой повторяет силуэт объек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-развивать фантазию, зрительное восприя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971640" y="4129200"/>
            <a:ext cx="71294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Об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Работа перед сном: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учивание песни «Солнышко-ведрышко»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способствовать формированию у детей певческих навыков, учить передавать эмо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img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2348640" y="620640"/>
            <a:ext cx="47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ВТОРАЯ ПОЛОВИНА 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033560" y="1268280"/>
            <a:ext cx="734544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Игров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Рассматривание альбома «Весна» (см.презентацию)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систематизировать, обобщать и дополнять представления детей о характерных признаках весны, активизировать речь ребёнка, обогащать словарный зап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Игры со строительным материалом, игры с Л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«Гараж для машинок», «Мебель для кукл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Дидактическая игра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«Сосчитаем мячики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(игровое упражнение на закрепление порядкового счета до 5-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ободные игры по выбору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Трудовое поручение: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убрать игрушки после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Чтение перед сном: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Л. Толстой «Пришла весн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28T17:57:10Z</dcterms:created>
  <dc:creator>PC</dc:creator>
  <dc:description/>
  <dc:language>en-US</dc:language>
  <cp:lastModifiedBy>user</cp:lastModifiedBy>
  <dcterms:modified xsi:type="dcterms:W3CDTF">2020-04-09T07:49:20Z</dcterms:modified>
  <cp:revision>17</cp:revision>
  <dc:subject/>
  <dc:title>Слайд 1</dc:title>
</cp:coreProperties>
</file>