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17.gif" ContentType="image/gif"/>
  <Override PartName="/ppt/media/image24.jpeg" ContentType="image/jpeg"/>
  <Override PartName="/ppt/media/image6.png" ContentType="image/png"/>
  <Override PartName="/ppt/media/image22.jpeg" ContentType="image/jpeg"/>
  <Override PartName="/ppt/media/image7.png" ContentType="image/png"/>
  <Override PartName="/ppt/media/image1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30.png" ContentType="image/png"/>
  <Override PartName="/ppt/media/image4.png" ContentType="image/png"/>
  <Override PartName="/ppt/media/image13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32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21.jpeg" ContentType="image/jpeg"/>
  <Override PartName="/ppt/media/image18.jpeg" ContentType="image/jpeg"/>
  <Override PartName="/ppt/media/image19.png" ContentType="image/png"/>
  <Override PartName="/ppt/media/image20.png" ContentType="image/png"/>
  <Override PartName="/ppt/media/image28.jpeg" ContentType="image/jpeg"/>
  <Override PartName="/ppt/media/image23.jpeg" ContentType="image/jpe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D4BF-BD88-46E0-9014-9E304B6F0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1114-466C-42D3-AC25-F6D14BEC2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EFDB-23C4-41F2-9AF7-50E8159DB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02A7-EFBF-4B92-B830-22DE15A52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2C328-A3BD-4F74-8BC6-E22FBBE7E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0CD44-B67D-4DAC-834B-E2C99C58B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26DC4-F585-4C71-B1EC-1009E79E9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D7211-B872-4514-A56A-745817FE7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F8B11-5289-422B-81C8-7EBAF000B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B740A-2447-4792-B412-BB84964A3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21290-DF73-4AE3-993B-712F4471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282B-4893-4215-A0FB-BB83E8F5C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7C280-3FDC-43CA-9D69-4EE6DF42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7AF22-4FB6-47C3-9084-645FA20E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DB073-00CD-440E-BB8B-556A0D9BA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D3109-7B42-4E9D-AB13-21997EBAC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DBA81-D9E6-4535-BD0F-EF45632EB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C765D-7D48-4736-8C68-60F55C6CE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4F496-D4FD-48AB-8560-E3309B835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A1EFD-B29A-43DD-A724-56F51D3C3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C60B1-9765-4D49-92EC-5EC970332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E174B-E707-48A0-80DE-8A1869C3E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B670-7CE8-42C8-9AF9-1948E673B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6A952-FD93-44B6-9E22-B999EBB99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FB42D-687C-4167-A4CB-F8DF1528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17FE3-72CC-47CF-AC71-F3C7702D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9E30A-8E2B-4EB6-8B5C-A34706E3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0C8EB-EC15-48D3-9242-A40C51DB9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7B408-60D0-4DB8-A1DF-011BD7FBC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1B919-2778-4D67-A1A9-3A7C60A77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45C6-C26E-477C-B4A2-E62938076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15B3-12F4-43A5-8FC1-CAEC75EB7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CA2C-FCD6-4B03-8F73-BDE13592C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03ED-6265-449F-BE66-AB5CF972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AC5E-A641-4F9F-B323-0EAC1AD4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3B5C-67B0-432A-A53E-002C2158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ed Rectangle 8"/>
          <p:cNvGrpSpPr/>
          <p:nvPr/>
        </p:nvGrpSpPr>
        <p:grpSpPr>
          <a:xfrm>
            <a:off x="262080" y="201600"/>
            <a:ext cx="8619840" cy="6553080"/>
            <a:chOff x="262080" y="201600"/>
            <a:chExt cx="8619840" cy="6553080"/>
          </a:xfrm>
        </p:grpSpPr>
        <p:pic>
          <p:nvPicPr>
            <p:cNvPr id="1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262080" y="201600"/>
              <a:ext cx="8619840" cy="655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84120" y="270000"/>
              <a:ext cx="8375760" cy="63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171b73"/>
                </a:solidFill>
                <a:latin typeface="Times New Roman"/>
              </a:rPr>
              <a:t>Click to edit the title text format</a:t>
            </a: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457200" indent="-272880">
              <a:spcBef>
                <a:spcPts val="700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228600">
              <a:spcBef>
                <a:spcPts val="700"/>
              </a:spcBef>
              <a:buClr>
                <a:srgbClr val="c77d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31760" indent="-228600">
              <a:spcBef>
                <a:spcPts val="700"/>
              </a:spcBef>
              <a:buClr>
                <a:srgbClr val="c43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297080" indent="-228600">
              <a:spcBef>
                <a:spcPts val="700"/>
              </a:spcBef>
              <a:buClr>
                <a:srgbClr val="b4246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700"/>
              </a:spcBef>
              <a:buClr>
                <a:srgbClr val="7b309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15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889a7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E1247-C1CD-4434-9C2A-1800400DC0F0}" type="slidenum">
              <a:rPr b="0" lang="ru-RU" sz="1000" spc="-1" strike="noStrike">
                <a:solidFill>
                  <a:srgbClr val="8889a7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d862"/>
            </a:gs>
            <a:gs pos="100000">
              <a:srgbClr val="ecd8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ed Rectangle 7"/>
          <p:cNvGrpSpPr/>
          <p:nvPr/>
        </p:nvGrpSpPr>
        <p:grpSpPr>
          <a:xfrm>
            <a:off x="609480" y="463680"/>
            <a:ext cx="7925040" cy="6022800"/>
            <a:chOff x="609480" y="463680"/>
            <a:chExt cx="7925040" cy="6022800"/>
          </a:xfrm>
        </p:grpSpPr>
        <p:pic>
          <p:nvPicPr>
            <p:cNvPr id="45" name="Rounded Rectangle 7" descr=""/>
            <p:cNvPicPr/>
            <p:nvPr/>
          </p:nvPicPr>
          <p:blipFill>
            <a:blip r:embed="rId2"/>
            <a:stretch/>
          </p:blipFill>
          <p:spPr>
            <a:xfrm>
              <a:off x="609480" y="463680"/>
              <a:ext cx="7925040" cy="602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728640" y="530280"/>
              <a:ext cx="7686720" cy="57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171b73"/>
                </a:solidFill>
                <a:latin typeface="Times New Roman"/>
              </a:rPr>
              <a:t>Click to edit the title text format</a:t>
            </a: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457200" indent="-272880">
              <a:spcBef>
                <a:spcPts val="700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228600">
              <a:spcBef>
                <a:spcPts val="700"/>
              </a:spcBef>
              <a:buClr>
                <a:srgbClr val="c77d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31760" indent="-228600">
              <a:spcBef>
                <a:spcPts val="700"/>
              </a:spcBef>
              <a:buClr>
                <a:srgbClr val="c43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297080" indent="-228600">
              <a:spcBef>
                <a:spcPts val="700"/>
              </a:spcBef>
              <a:buClr>
                <a:srgbClr val="b4246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700"/>
              </a:spcBef>
              <a:buClr>
                <a:srgbClr val="7b309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2120" y="59594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59594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248520" y="59594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889a7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5F99E-0958-45BA-82A0-1B74DDC742AD}" type="slidenum">
              <a:rPr b="0" lang="ru-RU" sz="1000" spc="-1" strike="noStrike">
                <a:solidFill>
                  <a:srgbClr val="8889a7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ounded Rectangle 7"/>
          <p:cNvSpPr/>
          <p:nvPr/>
        </p:nvSpPr>
        <p:spPr>
          <a:xfrm>
            <a:off x="4740120" y="795240"/>
            <a:ext cx="3961080" cy="5294520"/>
          </a:xfrm>
          <a:custGeom>
            <a:avLst/>
            <a:gdLst>
              <a:gd name="textAreaLeft" fmla="*/ 41040 w 3961080"/>
              <a:gd name="textAreaRight" fmla="*/ 3920040 w 3961080"/>
              <a:gd name="textAreaTop" fmla="*/ 41040 h 5294520"/>
              <a:gd name="textAreaBottom" fmla="*/ 5253480 h 5294520"/>
            </a:gdLst>
            <a:ahLst/>
            <a:rect l="textAreaLeft" t="textAreaTop" r="textAreaRight" b="textAreaBottom"/>
            <a:pathLst>
              <a:path w="21600" h="28871">
                <a:moveTo>
                  <a:pt x="765" y="0"/>
                </a:moveTo>
                <a:arcTo wR="765" hR="765" stAng="16200000" swAng="-5400000"/>
                <a:lnTo>
                  <a:pt x="0" y="28106"/>
                </a:lnTo>
                <a:arcTo wR="765" hR="765" stAng="10800000" swAng="-5400000"/>
                <a:lnTo>
                  <a:pt x="20835" y="28871"/>
                </a:lnTo>
                <a:arcTo wR="765" hR="765" stAng="5400000" swAng="-5400000"/>
                <a:lnTo>
                  <a:pt x="21600" y="765"/>
                </a:lnTo>
                <a:arcTo wR="765" hR="765" stAng="0" swAng="-5400000"/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171b73"/>
                </a:solidFill>
                <a:latin typeface="Times New Roman"/>
              </a:rPr>
              <a:t>Click to edit the title text format</a:t>
            </a: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457200" indent="-272880">
              <a:spcBef>
                <a:spcPts val="700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228600">
              <a:spcBef>
                <a:spcPts val="700"/>
              </a:spcBef>
              <a:buClr>
                <a:srgbClr val="c77d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31760" indent="-228600">
              <a:spcBef>
                <a:spcPts val="700"/>
              </a:spcBef>
              <a:buClr>
                <a:srgbClr val="c43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297080" indent="-228600">
              <a:spcBef>
                <a:spcPts val="700"/>
              </a:spcBef>
              <a:buClr>
                <a:srgbClr val="b4246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700"/>
              </a:spcBef>
              <a:buClr>
                <a:srgbClr val="7b309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15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889a7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02B01-6155-49D2-A82B-6A98F66087B9}" type="slidenum">
              <a:rPr b="0" lang="ru-RU" sz="1000" spc="-1" strike="noStrike">
                <a:solidFill>
                  <a:srgbClr val="8889a7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gif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Заголовок 1" descr=""/>
          <p:cNvPicPr/>
          <p:nvPr/>
        </p:nvPicPr>
        <p:blipFill>
          <a:blip r:embed="rId1"/>
          <a:stretch/>
        </p:blipFill>
        <p:spPr>
          <a:xfrm>
            <a:off x="4711680" y="3713040"/>
            <a:ext cx="3792600" cy="2286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722160" y="785520"/>
            <a:ext cx="7772400" cy="1571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e2051"/>
                </a:solidFill>
                <a:latin typeface="Bodoni MT"/>
              </a:rPr>
              <a:t>Faisons  la fête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Прямоугольник 3"/>
          <p:cNvSpPr/>
          <p:nvPr/>
        </p:nvSpPr>
        <p:spPr>
          <a:xfrm>
            <a:off x="3000240" y="5460840"/>
            <a:ext cx="24289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2" descr="Coloriage fête de carnaval a imprimer"/>
          <p:cNvPicPr/>
          <p:nvPr/>
        </p:nvPicPr>
        <p:blipFill>
          <a:blip r:embed="rId2"/>
          <a:stretch/>
        </p:blipFill>
        <p:spPr>
          <a:xfrm>
            <a:off x="1000080" y="2246400"/>
            <a:ext cx="3214800" cy="3214440"/>
          </a:xfrm>
          <a:prstGeom prst="rect">
            <a:avLst/>
          </a:prstGeom>
          <a:ln w="0">
            <a:noFill/>
          </a:ln>
        </p:spPr>
      </p:pic>
      <p:sp>
        <p:nvSpPr>
          <p:cNvPr id="134" name="TextBox 3"/>
          <p:cNvSpPr/>
          <p:nvPr/>
        </p:nvSpPr>
        <p:spPr>
          <a:xfrm>
            <a:off x="4427640" y="335772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5 клас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Интегрированный урок (французский язык+технология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Заголовок 1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15112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457200" indent="-272880"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ulet rôt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arte à l'anan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l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iss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lade de fru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êp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nb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ateau aux pomm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Picture 2" descr="http://t1.gstatic.com/images?q=tbn:ANd9GcTBczzYhFrVqQZBjBUiJOhHONWhdgpqgZiI3DQT5qj_HCdK2ftsbtNOMquA4w"/>
          <p:cNvPicPr/>
          <p:nvPr/>
        </p:nvPicPr>
        <p:blipFill>
          <a:blip r:embed="rId2"/>
          <a:stretch/>
        </p:blipFill>
        <p:spPr>
          <a:xfrm>
            <a:off x="5929200" y="392904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http://reflexionfaite.r.e.pic.centerblog.net/7beo2u0t.jpg"/>
          <p:cNvPicPr/>
          <p:nvPr/>
        </p:nvPicPr>
        <p:blipFill>
          <a:blip r:embed="rId3"/>
          <a:stretch/>
        </p:blipFill>
        <p:spPr>
          <a:xfrm>
            <a:off x="5857920" y="1714680"/>
            <a:ext cx="25192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457200" indent="-272880"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71b4f"/>
                </a:solidFill>
                <a:uFillTx/>
                <a:latin typeface="Verdana"/>
              </a:rPr>
              <a:t>http://www.joyeuse-fete.com/mardigras.htm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71b4f"/>
                </a:solidFill>
                <a:uFillTx/>
                <a:latin typeface="Verdana"/>
              </a:rPr>
              <a:t>http://www.latablemonde.f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71b4f"/>
                </a:solidFill>
                <a:uFillTx/>
                <a:latin typeface="Verdana"/>
              </a:rPr>
              <a:t>http://www.google.f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1" name="Заголовок 3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Заголовок 1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15112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45720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118fbf"/>
                </a:solidFill>
                <a:uFillTx/>
                <a:latin typeface="Verdana"/>
                <a:hlinkClick r:id="rId2" action="ppaction://hlinksldjump"/>
              </a:rPr>
              <a:t>1.Affich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.Objectifs de notre leç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.Lexi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.Pour savoir dialogu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. Fête des Ro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6. Nouvel 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7. Mardi gr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8. Menu de la fê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9. Ressource de l 'Intern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Заголовок 1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321760" cy="15908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gradFill rotWithShape="0">
            <a:gsLst>
              <a:gs pos="0">
                <a:srgbClr val="ee7c72"/>
              </a:gs>
              <a:gs pos="100000">
                <a:srgbClr val="ee7c72"/>
              </a:gs>
            </a:gsLst>
            <a:lin ang="5400000"/>
          </a:gradFill>
          <a:ln w="5040">
            <a:solidFill>
              <a:srgbClr val="c43d1f"/>
            </a:solidFill>
            <a:miter/>
          </a:ln>
          <a:effectLst>
            <a:outerShdw dist="25560" dir="5400000" blurRad="0" rotWithShape="0">
              <a:srgbClr val="1a0000">
                <a:alpha val="35000"/>
              </a:srgbClr>
            </a:outerShdw>
          </a:effectLst>
        </p:spPr>
        <p:txBody>
          <a:bodyPr lIns="45720" rIns="45720" anchor="t">
            <a:normAutofit/>
          </a:bodyPr>
          <a:p>
            <a:pPr marL="45720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La 5-e b  invite les élèves   de la 5-e  v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lnSpc>
                <a:spcPct val="100000"/>
              </a:lnSpc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Venez nombreux   jeudi  30 décembre  dans la salle de fête de l' éco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1" descr="C:\Documents and Settings\Лариса.B9850C4ED2A64EE\Рабочий стол\masque16.jpg"/>
          <p:cNvPicPr/>
          <p:nvPr/>
        </p:nvPicPr>
        <p:blipFill>
          <a:blip r:embed="rId2"/>
          <a:stretch/>
        </p:blipFill>
        <p:spPr>
          <a:xfrm rot="20290800">
            <a:off x="1000080" y="2285640"/>
            <a:ext cx="1706760" cy="1449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C:\Documents and Settings\Лариса.B9850C4ED2A64EE\Рабочий стол\masque-cuir-papillon-bleu-88782.jpg"/>
          <p:cNvPicPr/>
          <p:nvPr/>
        </p:nvPicPr>
        <p:blipFill>
          <a:blip r:embed="rId3"/>
          <a:stretch/>
        </p:blipFill>
        <p:spPr>
          <a:xfrm rot="1311600">
            <a:off x="6072120" y="2142720"/>
            <a:ext cx="1577880" cy="15145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C:\Documents and Settings\Лариса.B9850C4ED2A64EE\Рабочий стол\images (1).jpg"/>
          <p:cNvPicPr/>
          <p:nvPr/>
        </p:nvPicPr>
        <p:blipFill>
          <a:blip r:embed="rId4"/>
          <a:stretch/>
        </p:blipFill>
        <p:spPr>
          <a:xfrm>
            <a:off x="3571920" y="1968480"/>
            <a:ext cx="163332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Заголовок 1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1511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457200" indent="-272880"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.Observez l' affiche à la page  64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ites l 'affiche pour le bal masqu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.Écrivez les cartes d' inv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éparez le menu pour la fêt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Содержимое 3" descr=""/>
          <p:cNvPicPr/>
          <p:nvPr/>
        </p:nvPicPr>
        <p:blipFill>
          <a:blip r:embed="rId1"/>
          <a:stretch/>
        </p:blipFill>
        <p:spPr>
          <a:xfrm>
            <a:off x="457200" y="85680"/>
            <a:ext cx="8259840" cy="61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Заголовок 1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1511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457200" indent="-272880">
              <a:lnSpc>
                <a:spcPct val="90000"/>
              </a:lnSpc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 'aime…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lnSpc>
                <a:spcPct val="90000"/>
              </a:lnSpc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lnSpc>
                <a:spcPct val="90000"/>
              </a:lnSpc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 'invite …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lnSpc>
                <a:spcPct val="90000"/>
              </a:lnSpc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lnSpc>
                <a:spcPct val="90000"/>
              </a:lnSpc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e mets…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lnSpc>
                <a:spcPct val="90000"/>
              </a:lnSpc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lnSpc>
                <a:spcPct val="90000"/>
              </a:lnSpc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' aime me déguis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lnSpc>
                <a:spcPct val="90000"/>
              </a:lnSpc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lnSpc>
                <a:spcPct val="90000"/>
              </a:lnSpc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e préfère le costume de…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lnSpc>
                <a:spcPct val="90000"/>
              </a:lnSpc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lnSpc>
                <a:spcPct val="90000"/>
              </a:lnSpc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ur moi, la fête c 'est…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Заголовок 1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8229600" cy="14698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457200" indent="-272880"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 galette des Ro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  fè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 couron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 Rois et la rei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2" descr="http://t0.gstatic.com/images?q=tbn:ANd9GcSVah-az-DxdNN9g401SgtebhJGwSdMmVl5Pwmfk_jbXQrXg8ZCJQ"/>
          <p:cNvPicPr/>
          <p:nvPr/>
        </p:nvPicPr>
        <p:blipFill>
          <a:blip r:embed="rId2"/>
          <a:stretch/>
        </p:blipFill>
        <p:spPr>
          <a:xfrm>
            <a:off x="6143760" y="1000080"/>
            <a:ext cx="2409840" cy="18954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http://maternelle.sylviane.free.fr/pages/couronne.gif"/>
          <p:cNvPicPr/>
          <p:nvPr/>
        </p:nvPicPr>
        <p:blipFill>
          <a:blip r:embed="rId3"/>
          <a:stretch/>
        </p:blipFill>
        <p:spPr>
          <a:xfrm>
            <a:off x="6072120" y="3000240"/>
            <a:ext cx="2678040" cy="2286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http://storage.canalblog.com/24/17/562430/48154072.gif"/>
          <p:cNvPicPr/>
          <p:nvPr/>
        </p:nvPicPr>
        <p:blipFill>
          <a:blip r:embed="rId4"/>
          <a:stretch/>
        </p:blipFill>
        <p:spPr>
          <a:xfrm>
            <a:off x="3143160" y="4643280"/>
            <a:ext cx="3413160" cy="1857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Galette des rois traditionnelle à la frangipane"/>
          <p:cNvPicPr/>
          <p:nvPr/>
        </p:nvPicPr>
        <p:blipFill>
          <a:blip r:embed="rId5"/>
          <a:stretch/>
        </p:blipFill>
        <p:spPr>
          <a:xfrm>
            <a:off x="3357720" y="2286000"/>
            <a:ext cx="26748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Заголовок 1" descr=""/>
          <p:cNvPicPr/>
          <p:nvPr/>
        </p:nvPicPr>
        <p:blipFill>
          <a:blip r:embed="rId1"/>
          <a:stretch/>
        </p:blipFill>
        <p:spPr>
          <a:xfrm>
            <a:off x="457200" y="212760"/>
            <a:ext cx="8229600" cy="16034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457200" indent="-272880">
              <a:lnSpc>
                <a:spcPct val="90000"/>
              </a:lnSpc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 sap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lnSpc>
                <a:spcPct val="90000"/>
              </a:lnSpc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lnSpc>
                <a:spcPct val="90000"/>
              </a:lnSpc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 père Noë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lnSpc>
                <a:spcPct val="90000"/>
              </a:lnSpc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lnSpc>
                <a:spcPct val="90000"/>
              </a:lnSpc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s cadeau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lnSpc>
                <a:spcPct val="90000"/>
              </a:lnSpc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lnSpc>
                <a:spcPct val="90000"/>
              </a:lnSpc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 tar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lnSpc>
                <a:spcPct val="90000"/>
              </a:lnSpc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lnSpc>
                <a:spcPct val="90000"/>
              </a:lnSpc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 costume de fé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lnSpc>
                <a:spcPct val="90000"/>
              </a:lnSpc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lnSpc>
                <a:spcPct val="90000"/>
              </a:lnSpc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s boules et les guirland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lnSpc>
                <a:spcPct val="90000"/>
              </a:lnSpc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lnSpc>
                <a:spcPct val="90000"/>
              </a:lnSpc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lnSpc>
                <a:spcPct val="90000"/>
              </a:lnSpc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lnSpc>
                <a:spcPct val="90000"/>
              </a:lnSpc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lnSpc>
                <a:spcPct val="90000"/>
              </a:lnSpc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1" descr="C:\Documents and Settings\Лариса.B9850C4ED2A64EE\Рабочий стол\371e9b18.gif"/>
          <p:cNvPicPr/>
          <p:nvPr/>
        </p:nvPicPr>
        <p:blipFill>
          <a:blip r:embed="rId2"/>
          <a:stretch/>
        </p:blipFill>
        <p:spPr>
          <a:xfrm>
            <a:off x="6072120" y="0"/>
            <a:ext cx="2884680" cy="2143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http://bienvenue-en-finlande.fr/images/photo-du-pere-noel.jpg"/>
          <p:cNvPicPr/>
          <p:nvPr/>
        </p:nvPicPr>
        <p:blipFill>
          <a:blip r:embed="rId3"/>
          <a:stretch/>
        </p:blipFill>
        <p:spPr>
          <a:xfrm>
            <a:off x="5572080" y="2357280"/>
            <a:ext cx="1290600" cy="19288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http://t3.gstatic.com/images?q=tbn:ANd9GcTpPPCxs2EymAuprZ6A0xx7YfrLn0eO_-bZo_aJ3w8Z8sDw3Rqo"/>
          <p:cNvPicPr/>
          <p:nvPr/>
        </p:nvPicPr>
        <p:blipFill>
          <a:blip r:embed="rId4"/>
          <a:stretch/>
        </p:blipFill>
        <p:spPr>
          <a:xfrm>
            <a:off x="3357720" y="1500120"/>
            <a:ext cx="1936440" cy="16430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3" descr="http://t3.gstatic.com/images?q=tbn:ANd9GcQcV1XctHQDYZ16uGso_uUoqEhu7GRWm7dcANcyhnsAjagakuIpt2HDU7dZ"/>
          <p:cNvPicPr/>
          <p:nvPr/>
        </p:nvPicPr>
        <p:blipFill>
          <a:blip r:embed="rId5"/>
          <a:stretch/>
        </p:blipFill>
        <p:spPr>
          <a:xfrm>
            <a:off x="7072200" y="3000240"/>
            <a:ext cx="1714680" cy="1575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C:\Documents and Settings\Лариса.B9850C4ED2A64EE\Рабочий стол\images (1).jpg"/>
          <p:cNvPicPr/>
          <p:nvPr/>
        </p:nvPicPr>
        <p:blipFill>
          <a:blip r:embed="rId6"/>
          <a:stretch/>
        </p:blipFill>
        <p:spPr>
          <a:xfrm>
            <a:off x="6072120" y="478620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Заголовок 1" descr=""/>
          <p:cNvPicPr/>
          <p:nvPr/>
        </p:nvPicPr>
        <p:blipFill>
          <a:blip r:embed="rId1"/>
          <a:stretch/>
        </p:blipFill>
        <p:spPr>
          <a:xfrm>
            <a:off x="457200" y="171360"/>
            <a:ext cx="8186760" cy="1413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 txBox="1"/>
          <p:nvPr/>
        </p:nvSpPr>
        <p:spPr>
          <a:xfrm>
            <a:off x="-360" y="1143000"/>
            <a:ext cx="9001080" cy="5097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45720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 crêp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 carnav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déguisement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musique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défilé des personnes déguisées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chars fleuri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Picture 3" descr="C:\Documents and Settings\Лариса.B9850C4ED2A64EE\Рабочий стол\mardigras.gif"/>
          <p:cNvPicPr/>
          <p:nvPr/>
        </p:nvPicPr>
        <p:blipFill>
          <a:blip r:embed="rId2"/>
          <a:stretch/>
        </p:blipFill>
        <p:spPr>
          <a:xfrm>
            <a:off x="5286240" y="4429080"/>
            <a:ext cx="3214800" cy="20001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C:\Documents and Settings\Лариса.B9850C4ED2A64EE\Рабочий стол\PATES-A-CREPES.jpg"/>
          <p:cNvPicPr/>
          <p:nvPr/>
        </p:nvPicPr>
        <p:blipFill>
          <a:blip r:embed="rId3"/>
          <a:stretch/>
        </p:blipFill>
        <p:spPr>
          <a:xfrm>
            <a:off x="3929040" y="1214280"/>
            <a:ext cx="1928880" cy="1935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C:\Documents and Settings\Лариса.B9850C4ED2A64EE\Рабочий стол\carnaval_orleans.jpg"/>
          <p:cNvPicPr/>
          <p:nvPr/>
        </p:nvPicPr>
        <p:blipFill>
          <a:blip r:embed="rId4"/>
          <a:stretch/>
        </p:blipFill>
        <p:spPr>
          <a:xfrm>
            <a:off x="6929280" y="1714680"/>
            <a:ext cx="1748160" cy="23824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9" descr="http://t2.gstatic.com/images?q=tbn:ANd9GcQhcQBppcrk6wzVE3bnbsZHCP-CntDBtTh2jwqipWXdMc2lSA4gYw"/>
          <p:cNvPicPr/>
          <p:nvPr/>
        </p:nvPicPr>
        <p:blipFill>
          <a:blip r:embed="rId5"/>
          <a:stretch/>
        </p:blipFill>
        <p:spPr>
          <a:xfrm>
            <a:off x="1071720" y="464328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6T10:44:38Z</dcterms:created>
  <dc:creator>Лариса</dc:creator>
  <dc:description/>
  <dc:language>en-US</dc:language>
  <cp:lastModifiedBy>Admin</cp:lastModifiedBy>
  <cp:lastPrinted>2015-04-23T20:18:40Z</cp:lastPrinted>
  <dcterms:modified xsi:type="dcterms:W3CDTF">2020-04-13T17:48:15Z</dcterms:modified>
  <cp:revision>90</cp:revision>
  <dc:subject/>
  <dc:title>Слайд 1</dc:title>
</cp:coreProperties>
</file>