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4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1.jpeg" ContentType="image/jpe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3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508-E5C3-4B8D-8EE8-5BBA22F4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FB2-548E-4BC1-A955-7C84BD43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614-AAD9-460A-AD51-FD648009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2E4-1A3D-4B14-B910-1E62E372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558-F959-4189-84C1-DACF6A14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433-0FEC-4B77-86C6-4ADEC005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BE0-A81F-4631-8E39-ED87C90B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3EE7-E3F7-45D5-BE10-FE74FAD1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705A-52EB-4EC2-A933-4276CAB1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5C81-EFA7-4203-A55C-A2B5AFD6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F110-1306-4182-A112-14E8910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0D9-E2F8-40FD-82E1-3C985410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C6CE-BC38-4504-84FE-17B327A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910C-9A60-42F2-90EA-52782121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8ACA-A05D-494D-9F88-2847624E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F527-FCC0-451A-BDE8-D83318D7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8F53-3991-49C2-BB2E-D552A3FC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7321-EAB2-48AA-8046-D66802F0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88E2-DDA1-4499-9B57-D068FEE6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5228-B38C-4829-831D-668B4D72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B996-38B2-4797-BB50-2EB830DE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B163-AE97-453E-BFBB-BDF522EA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504-F60F-4DE3-BBBA-5CB01111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9C81-0811-44FB-999D-D98CC1D2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3F766-FC27-4BF9-B4DC-7A567A5E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F29E-6308-43F0-B7C8-6D325484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2EB0-ED77-4177-AC57-2BE7DA8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9B687-A58B-4F81-80F5-1B885C6D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52B0-916D-497F-BD56-32C38AED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8E03-6BCA-4E82-B938-2552C5F6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BC7-7390-4866-97A5-9F5CBBDF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404-68F2-49F4-828B-7CA1BB00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3C0-4AA6-4DE7-AF57-AD98AF2D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392-EFC6-4C95-8E11-D2B64CE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3B3-CD3B-421E-BB09-2F1FFDB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A45-F249-4F43-9A23-4BF4C5C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201600"/>
            <a:ext cx="8619840" cy="6553080"/>
            <a:chOff x="262080" y="201600"/>
            <a:chExt cx="8619840" cy="655308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201600"/>
              <a:ext cx="861984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9755-7686-4063-B1AF-251279A32F0E}" type="slidenum">
              <a:rPr b="0" lang="ru-RU" sz="1000" spc="-1" strike="noStrike">
                <a:solidFill>
                  <a:srgbClr val="8889a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63680"/>
            <a:ext cx="7925040" cy="6022800"/>
            <a:chOff x="609480" y="463680"/>
            <a:chExt cx="7925040" cy="602280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63680"/>
              <a:ext cx="7925040" cy="60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246C-B41B-4925-BD41-D84513F794D7}" type="slidenum">
              <a:rPr b="0" lang="ru-RU" sz="1000" spc="-1" strike="noStrike">
                <a:solidFill>
                  <a:srgbClr val="8889a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Times New Roman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889a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B929-FC63-4FCB-9152-B724B23999D0}" type="slidenum">
              <a:rPr b="0" lang="ru-RU" sz="1000" spc="-1" strike="noStrike">
                <a:solidFill>
                  <a:srgbClr val="8889a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711680" y="3713040"/>
            <a:ext cx="379260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22160" y="78552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e2051"/>
                </a:solidFill>
                <a:latin typeface="Bodoni MT"/>
              </a:rPr>
              <a:t>Faisons  la fête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3000240" y="5460840"/>
            <a:ext cx="2428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2" descr="Coloriage fête de carnaval a imprimer"/>
          <p:cNvPicPr/>
          <p:nvPr/>
        </p:nvPicPr>
        <p:blipFill>
          <a:blip r:embed="rId2"/>
          <a:stretch/>
        </p:blipFill>
        <p:spPr>
          <a:xfrm>
            <a:off x="1000080" y="224640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4427640" y="33577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нтегрированный урок (французский язык+технолог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ulet rô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te à l'ana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is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ade de fru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ê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nb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eau aux pom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t1.gstatic.com/images?q=tbn:ANd9GcTBczzYhFrVqQZBjBUiJOhHONWhdgpqgZiI3DQT5qj_HCdK2ftsbtNOMquA4w"/>
          <p:cNvPicPr/>
          <p:nvPr/>
        </p:nvPicPr>
        <p:blipFill>
          <a:blip r:embed="rId2"/>
          <a:stretch/>
        </p:blipFill>
        <p:spPr>
          <a:xfrm>
            <a:off x="5929200" y="3929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reflexionfaite.r.e.pic.centerblog.net/7beo2u0t.jpg"/>
          <p:cNvPicPr/>
          <p:nvPr/>
        </p:nvPicPr>
        <p:blipFill>
          <a:blip r:embed="rId3"/>
          <a:stretch/>
        </p:blipFill>
        <p:spPr>
          <a:xfrm>
            <a:off x="5857920" y="1714680"/>
            <a:ext cx="251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71b4f"/>
                </a:solidFill>
                <a:uFillTx/>
                <a:latin typeface="Verdana"/>
              </a:rPr>
              <a:t>http://www.joyeuse-fete.com/mardigras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71b4f"/>
                </a:solidFill>
                <a:uFillTx/>
                <a:latin typeface="Verdana"/>
              </a:rPr>
              <a:t>http://www.latablemonde.f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71b4f"/>
                </a:solidFill>
                <a:uFillTx/>
                <a:latin typeface="Verdana"/>
              </a:rPr>
              <a:t>http://www.google.f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Заголовок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18fbf"/>
                </a:solidFill>
                <a:uFillTx/>
                <a:latin typeface="Verdana"/>
                <a:hlinkClick r:id="rId2" action="ppaction://hlinksldjump"/>
              </a:rPr>
              <a:t>1.Affi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Objectifs de notre leç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Lex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Pour savoir dialog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Fête des Ro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Nouvel 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Mardi g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Menu de la fê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 Ressource de l '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321760" cy="1590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gradFill rotWithShape="0">
            <a:gsLst>
              <a:gs pos="0">
                <a:srgbClr val="ee7c72"/>
              </a:gs>
              <a:gs pos="100000">
                <a:srgbClr val="ee7c72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5560" dir="5400000" blurRad="0" rotWithShape="0">
              <a:srgbClr val="1a0000">
                <a:alpha val="35000"/>
              </a:srgbClr>
            </a:outerShdw>
          </a:effectLst>
        </p:spPr>
        <p:txBody>
          <a:bodyPr lIns="45720" rIns="45720" anchor="t">
            <a:normAutofit/>
          </a:bodyPr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 5-e b  invite les élèves   de la 5-e  v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10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Venez nombreux   jeudi  30 décembre  dans la salle de fête de l' éco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" descr="C:\Documents and Settings\Лариса.B9850C4ED2A64EE\Рабочий стол\masque16.jpg"/>
          <p:cNvPicPr/>
          <p:nvPr/>
        </p:nvPicPr>
        <p:blipFill>
          <a:blip r:embed="rId2"/>
          <a:stretch/>
        </p:blipFill>
        <p:spPr>
          <a:xfrm rot="20290800">
            <a:off x="1000080" y="2285640"/>
            <a:ext cx="1706760" cy="14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Лариса.B9850C4ED2A64EE\Рабочий стол\masque-cuir-papillon-bleu-88782.jpg"/>
          <p:cNvPicPr/>
          <p:nvPr/>
        </p:nvPicPr>
        <p:blipFill>
          <a:blip r:embed="rId3"/>
          <a:stretch/>
        </p:blipFill>
        <p:spPr>
          <a:xfrm rot="1311600">
            <a:off x="6072120" y="2142720"/>
            <a:ext cx="1577880" cy="1514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Лариса.B9850C4ED2A64EE\Рабочий стол\images (1).jpg"/>
          <p:cNvPicPr/>
          <p:nvPr/>
        </p:nvPicPr>
        <p:blipFill>
          <a:blip r:embed="rId4"/>
          <a:stretch/>
        </p:blipFill>
        <p:spPr>
          <a:xfrm>
            <a:off x="3571920" y="1968480"/>
            <a:ext cx="1633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Observez l' affiche à la page  64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tes l 'affiche pour le bal masqu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Écrivez les cartes d' inv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éparez le menu pour la fê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Содержимое 3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5984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 'aime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 'invite 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 mets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' aime me déguis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 préfère le costume de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ur moi, la fête c 'est…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229600" cy="1469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galette des Ro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 f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cour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Rois et la re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" descr="http://t0.gstatic.com/images?q=tbn:ANd9GcSVah-az-DxdNN9g401SgtebhJGwSdMmVl5Pwmfk_jbXQrXg8ZCJQ"/>
          <p:cNvPicPr/>
          <p:nvPr/>
        </p:nvPicPr>
        <p:blipFill>
          <a:blip r:embed="rId2"/>
          <a:stretch/>
        </p:blipFill>
        <p:spPr>
          <a:xfrm>
            <a:off x="6143760" y="100008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maternelle.sylviane.free.fr/pages/couronne.gif"/>
          <p:cNvPicPr/>
          <p:nvPr/>
        </p:nvPicPr>
        <p:blipFill>
          <a:blip r:embed="rId3"/>
          <a:stretch/>
        </p:blipFill>
        <p:spPr>
          <a:xfrm>
            <a:off x="6072120" y="3000240"/>
            <a:ext cx="267804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storage.canalblog.com/24/17/562430/48154072.gif"/>
          <p:cNvPicPr/>
          <p:nvPr/>
        </p:nvPicPr>
        <p:blipFill>
          <a:blip r:embed="rId4"/>
          <a:stretch/>
        </p:blipFill>
        <p:spPr>
          <a:xfrm>
            <a:off x="3143160" y="4643280"/>
            <a:ext cx="3413160" cy="1857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Galette des rois traditionnelle à la frangipane"/>
          <p:cNvPicPr/>
          <p:nvPr/>
        </p:nvPicPr>
        <p:blipFill>
          <a:blip r:embed="rId5"/>
          <a:stretch/>
        </p:blipFill>
        <p:spPr>
          <a:xfrm>
            <a:off x="3357720" y="2286000"/>
            <a:ext cx="2674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sa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père Noë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cadea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tar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costume de f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boules et les guirlan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lnSpc>
                <a:spcPct val="90000"/>
              </a:lnSpc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" descr="C:\Documents and Settings\Лариса.B9850C4ED2A64EE\Рабочий стол\371e9b18.gif"/>
          <p:cNvPicPr/>
          <p:nvPr/>
        </p:nvPicPr>
        <p:blipFill>
          <a:blip r:embed="rId2"/>
          <a:stretch/>
        </p:blipFill>
        <p:spPr>
          <a:xfrm>
            <a:off x="6072120" y="0"/>
            <a:ext cx="28846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://bienvenue-en-finlande.fr/images/photo-du-pere-noel.jpg"/>
          <p:cNvPicPr/>
          <p:nvPr/>
        </p:nvPicPr>
        <p:blipFill>
          <a:blip r:embed="rId3"/>
          <a:stretch/>
        </p:blipFill>
        <p:spPr>
          <a:xfrm>
            <a:off x="5572080" y="2357280"/>
            <a:ext cx="1290600" cy="1928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http://t3.gstatic.com/images?q=tbn:ANd9GcTpPPCxs2EymAuprZ6A0xx7YfrLn0eO_-bZo_aJ3w8Z8sDw3Rqo"/>
          <p:cNvPicPr/>
          <p:nvPr/>
        </p:nvPicPr>
        <p:blipFill>
          <a:blip r:embed="rId4"/>
          <a:stretch/>
        </p:blipFill>
        <p:spPr>
          <a:xfrm>
            <a:off x="3357720" y="1500120"/>
            <a:ext cx="1936440" cy="1643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http://t3.gstatic.com/images?q=tbn:ANd9GcQcV1XctHQDYZ16uGso_uUoqEhu7GRWm7dcANcyhnsAjagakuIpt2HDU7dZ"/>
          <p:cNvPicPr/>
          <p:nvPr/>
        </p:nvPicPr>
        <p:blipFill>
          <a:blip r:embed="rId5"/>
          <a:stretch/>
        </p:blipFill>
        <p:spPr>
          <a:xfrm>
            <a:off x="7072200" y="3000240"/>
            <a:ext cx="1714680" cy="157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Лариса.B9850C4ED2A64EE\Рабочий стол\images (1).jpg"/>
          <p:cNvPicPr/>
          <p:nvPr/>
        </p:nvPicPr>
        <p:blipFill>
          <a:blip r:embed="rId6"/>
          <a:stretch/>
        </p:blipFill>
        <p:spPr>
          <a:xfrm>
            <a:off x="6072120" y="47862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186760" cy="1413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-360" y="1143000"/>
            <a:ext cx="9001080" cy="509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 crê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 carnav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guisemen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musique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filé des personnes déguisée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hars fleur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272880"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C:\Documents and Settings\Лариса.B9850C4ED2A64EE\Рабочий стол\mardigras.gif"/>
          <p:cNvPicPr/>
          <p:nvPr/>
        </p:nvPicPr>
        <p:blipFill>
          <a:blip r:embed="rId2"/>
          <a:stretch/>
        </p:blipFill>
        <p:spPr>
          <a:xfrm>
            <a:off x="5286240" y="4429080"/>
            <a:ext cx="3214800" cy="20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Лариса.B9850C4ED2A64EE\Рабочий стол\PATES-A-CREPES.jpg"/>
          <p:cNvPicPr/>
          <p:nvPr/>
        </p:nvPicPr>
        <p:blipFill>
          <a:blip r:embed="rId3"/>
          <a:stretch/>
        </p:blipFill>
        <p:spPr>
          <a:xfrm>
            <a:off x="3929040" y="1214280"/>
            <a:ext cx="1928880" cy="1935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C:\Documents and Settings\Лариса.B9850C4ED2A64EE\Рабочий стол\carnaval_orleans.jpg"/>
          <p:cNvPicPr/>
          <p:nvPr/>
        </p:nvPicPr>
        <p:blipFill>
          <a:blip r:embed="rId4"/>
          <a:stretch/>
        </p:blipFill>
        <p:spPr>
          <a:xfrm>
            <a:off x="6929280" y="1714680"/>
            <a:ext cx="1748160" cy="2382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http://t2.gstatic.com/images?q=tbn:ANd9GcQhcQBppcrk6wzVE3bnbsZHCP-CntDBtTh2jwqipWXdMc2lSA4gYw"/>
          <p:cNvPicPr/>
          <p:nvPr/>
        </p:nvPicPr>
        <p:blipFill>
          <a:blip r:embed="rId5"/>
          <a:stretch/>
        </p:blipFill>
        <p:spPr>
          <a:xfrm>
            <a:off x="1071720" y="46432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0:44:38Z</dcterms:created>
  <dc:creator>Лариса</dc:creator>
  <dc:description/>
  <dc:language>en-US</dc:language>
  <cp:lastModifiedBy>Admin</cp:lastModifiedBy>
  <cp:lastPrinted>2015-04-23T20:18:40Z</cp:lastPrinted>
  <dcterms:modified xsi:type="dcterms:W3CDTF">2020-04-13T17:48:15Z</dcterms:modified>
  <cp:revision>90</cp:revision>
  <dc:subject/>
  <dc:title>Слайд 1</dc:title>
</cp:coreProperties>
</file>