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B747-D41C-4CB1-BD49-C16EE913C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F8B2-4A35-4B0B-A64C-F5247900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D256-8429-4A11-9847-739A7F046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33A2-0D3D-4136-9822-4C226F53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5505-15BF-4EE0-8C60-4E57A4DC1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CFBC-0993-4837-8651-5EB0AEB8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4248-EA3C-425B-BA11-8F6388E1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F2C4-70CA-412F-81A4-03F5BC59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E95C-6C2F-4667-BFE4-95529F60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76DF-3E84-435A-B1D6-67664F44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6186-4F4C-4582-BA99-17017211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C5EA-B1C7-4779-8550-80310C3C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0E70-99D3-4D75-B80C-E372468B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C722-AED0-4FC1-BB74-D6168313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459A-BB46-4613-B9A7-55670098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910D-493D-45A2-845A-7C4D85F71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D92F-1A99-4230-8BD4-97DF9EC84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A13BC-A370-433B-85B3-CA1C2D0AC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41AAE-1B5C-4C88-8A80-EF4D3CEB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065B3-4A59-4D6C-BC3A-A52D5E5E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33934-84B2-428E-9B56-73BE4597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4E74E-A8C6-42B5-A4CA-6DC2AF40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25FD-A7D5-4DE2-9270-F73B940F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F10F2-706A-4CEA-9062-872A8727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4F6A4-C021-4CD7-8E52-46A1C9DC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A7E19-7035-43EA-A66E-0363C7BD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6FB9F-CAC6-4921-89CA-57CDA542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077E4-7340-40B3-9F29-4AD8E39E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2189A-8AAB-4D06-BD81-EF5CD1F81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2D948-793D-4627-BF6B-3E4B0B2FC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5779A-03B1-4C05-AF87-2EBFA632D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9953A-7294-461F-B241-94B9370A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F36C3-339E-4633-A0A4-37355D46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EED9-8613-4BD3-B6CD-019C0426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A1318-4DB5-4238-8EA7-942B92DD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7EB79-60F5-4C6C-BD88-AD672090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89A8D-E156-415E-9D71-44D8F83C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B392A-9512-4694-B337-6692F350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2DDB6-4E76-4D26-9A38-8CC788C7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47636-9E83-4102-BB68-2F713E67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CE066-96B0-4642-8622-62B7100F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739A1-F46D-48A7-A0E9-E8616B661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3B3F8-D0CD-4566-89C1-7EC475176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3C0A-E39E-42BA-9A76-3A44C2A9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BE8D-B420-40F8-A3E9-AC840171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0E43-D48D-4454-9B36-2C4D071C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2ADE-5E00-4342-8F43-553A0120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EFBD-35DA-4760-AFD3-5C37807C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7328-1627-4BFF-A2FE-BA327A60FB27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97E7-6559-41F0-A166-9D484D4A07AB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ED96-7C28-4C4A-9F18-FF4D62DA8FFD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6CDF-4404-4C99-953C-A5DFD180DB9A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1792440" y="4243320"/>
            <a:ext cx="6516360" cy="12733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2123640" y="731880"/>
            <a:ext cx="5419800" cy="2697120"/>
          </a:xfrm>
          <a:prstGeom prst="rect">
            <a:avLst/>
          </a:prstGeom>
          <a:solidFill>
            <a:srgbClr val="ffffff"/>
          </a:solidFill>
          <a:ln w="15840">
            <a:solidFill>
              <a:srgbClr val="319479"/>
            </a:solidFill>
            <a:miter/>
          </a:ln>
        </p:spPr>
        <p:txBody>
          <a:bodyPr anchor="t">
            <a:normAutofit fontScale="97000"/>
          </a:bodyPr>
          <a:p>
            <a:pPr marL="221400" indent="-176760" algn="ctr">
              <a:lnSpc>
                <a:spcPct val="10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Book Antiqua"/>
                <a:ea typeface="Arial"/>
              </a:rPr>
              <a:t>Нарушение письменной речи у младших школьников.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179280" y="4941720"/>
            <a:ext cx="878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Учитель начальных классов  Харченко Татьяна Александро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937200" cy="21938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22000" indent="-4431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1. Из каждого слова возьмите только первые слоги, составьте новое слово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522000" indent="-443160">
              <a:lnSpc>
                <a:spcPct val="80000"/>
              </a:lnSpc>
              <a:spcBef>
                <a:spcPts val="476"/>
              </a:spcBef>
              <a:buClr>
                <a:srgbClr val="c3260c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522000" indent="-4431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а) </a:t>
            </a:r>
            <a:r>
              <a:rPr b="1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ав</a:t>
            </a:r>
            <a:r>
              <a:rPr b="0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томобиль, </a:t>
            </a:r>
            <a:r>
              <a:rPr b="1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тор</a:t>
            </a:r>
            <a:r>
              <a:rPr b="0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моз – </a:t>
            </a:r>
            <a:r>
              <a:rPr b="1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ав-тор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522000" indent="-4431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б) </a:t>
            </a:r>
            <a:r>
              <a:rPr b="1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ко</a:t>
            </a:r>
            <a:r>
              <a:rPr b="0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лос, </a:t>
            </a:r>
            <a:r>
              <a:rPr b="1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ро</a:t>
            </a:r>
            <a:r>
              <a:rPr b="0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та, </a:t>
            </a:r>
            <a:r>
              <a:rPr b="1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ва</a:t>
            </a:r>
            <a:r>
              <a:rPr b="0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за – </a:t>
            </a:r>
            <a:r>
              <a:rPr b="1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ко-ро-ва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522000" indent="-4431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в) </a:t>
            </a:r>
            <a:r>
              <a:rPr b="1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ко</a:t>
            </a:r>
            <a:r>
              <a:rPr b="0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ра, </a:t>
            </a:r>
            <a:r>
              <a:rPr b="1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ло</a:t>
            </a:r>
            <a:r>
              <a:rPr b="0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то, </a:t>
            </a:r>
            <a:r>
              <a:rPr b="1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бок</a:t>
            </a:r>
            <a:r>
              <a:rPr b="0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сер – ко-ло-бок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522000" indent="-4431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522000" indent="-4431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2. Возьмите только вторые слоги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522000" indent="-4431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522000" indent="-4431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а) зме</a:t>
            </a:r>
            <a:r>
              <a:rPr b="1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я</a:t>
            </a:r>
            <a:r>
              <a:rPr b="0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, ра</a:t>
            </a:r>
            <a:r>
              <a:rPr b="1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ма</a:t>
            </a:r>
            <a:r>
              <a:rPr b="0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 – </a:t>
            </a:r>
            <a:r>
              <a:rPr b="1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я-ма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522000" indent="-4431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б) пу</a:t>
            </a:r>
            <a:r>
              <a:rPr b="1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го</a:t>
            </a:r>
            <a:r>
              <a:rPr b="0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вица, мо</a:t>
            </a:r>
            <a:r>
              <a:rPr b="1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ло</a:t>
            </a:r>
            <a:r>
              <a:rPr b="0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ток, ла</a:t>
            </a:r>
            <a:r>
              <a:rPr b="1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ва </a:t>
            </a:r>
            <a:r>
              <a:rPr b="0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– </a:t>
            </a:r>
            <a:r>
              <a:rPr b="1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го-ло-ва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522000" indent="-4431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в) у</a:t>
            </a:r>
            <a:r>
              <a:rPr b="1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кор</a:t>
            </a:r>
            <a:r>
              <a:rPr b="0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, бу</a:t>
            </a:r>
            <a:r>
              <a:rPr b="1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зи</a:t>
            </a:r>
            <a:r>
              <a:rPr b="0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на, ти</a:t>
            </a:r>
            <a:r>
              <a:rPr b="1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на</a:t>
            </a:r>
            <a:r>
              <a:rPr b="0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 – </a:t>
            </a:r>
            <a:r>
              <a:rPr b="1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кор-зи-на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522000" indent="-4431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522000" indent="-443160">
              <a:lnSpc>
                <a:spcPct val="80000"/>
              </a:lnSpc>
              <a:spcBef>
                <a:spcPts val="476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90320" y="274680"/>
            <a:ext cx="44280" cy="69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500" spc="-1" strike="noStrike">
              <a:solidFill>
                <a:srgbClr val="1c234a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50560" y="142920"/>
            <a:ext cx="86835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15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Преобразование слов путем наращения звуков и букв, перестановки звуков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1080" indent="-279720">
              <a:lnSpc>
                <a:spcPct val="8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1080" indent="-279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а) в начале слова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1080" indent="-279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   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рот – </a:t>
            </a:r>
            <a:r>
              <a:rPr b="1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к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рот, мех – </a:t>
            </a:r>
            <a:r>
              <a:rPr b="1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с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мех, Оля – </a:t>
            </a:r>
            <a:r>
              <a:rPr b="1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К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оля, дочка – </a:t>
            </a:r>
            <a:r>
              <a:rPr b="1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у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дочка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1080" indent="-279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б) в конце слова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1080" indent="-279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шар – шар</a:t>
            </a:r>
            <a:r>
              <a:rPr b="1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ф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, бок – бок</a:t>
            </a:r>
            <a:r>
              <a:rPr b="1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с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, стол – стол</a:t>
            </a:r>
            <a:r>
              <a:rPr b="1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б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, лис – лис</a:t>
            </a:r>
            <a:r>
              <a:rPr b="1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т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, лиф –</a:t>
            </a:r>
            <a:r>
              <a:rPr b="1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лиф</a:t>
            </a:r>
            <a:r>
              <a:rPr b="1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т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1080" indent="-279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в)  перестановка звуков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1080" indent="-279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пила – лип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1080" indent="-279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палка – лапка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1080" indent="-279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карп – парк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1080" indent="-279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      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гора – рога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1080" indent="-279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1080" indent="-279720">
              <a:lnSpc>
                <a:spcPct val="8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Игра «Заколдованные слова»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1080" indent="-279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Сапохар, пераченье, хадулва, васуренье, пинарожки, сугрохари, грукрыши, кабрыкао, балиранк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1792440" y="4121280"/>
            <a:ext cx="6516360" cy="25606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Введение новых слов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Работа над однокоренными словами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Знакомство с синонимами и антонимами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Работа с омонимами и фразеологизмами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Развитие смысловых догадок на материале пословиц, поговорок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1432080" y="-341280"/>
            <a:ext cx="7503840" cy="15001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1434960" y="642960"/>
            <a:ext cx="74995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425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-273960">
              <a:lnSpc>
                <a:spcPct val="80000"/>
              </a:lnSpc>
              <a:spcBef>
                <a:spcPts val="425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-273960">
              <a:lnSpc>
                <a:spcPct val="80000"/>
              </a:lnSpc>
              <a:spcBef>
                <a:spcPts val="425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Игра «Третий лишний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-273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     </a:t>
            </a:r>
            <a:r>
              <a:rPr b="0" i="1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Смелый, храбрый, смелость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-273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r>
              <a:rPr b="0" i="1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Печурка, печать, печка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-273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r>
              <a:rPr b="0" i="1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Диван, диванный, удивлённый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-273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   </a:t>
            </a:r>
            <a:r>
              <a:rPr b="0" i="1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Лев, левый, налево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-273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-273960">
              <a:lnSpc>
                <a:spcPct val="80000"/>
              </a:lnSpc>
              <a:spcBef>
                <a:spcPts val="425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«</a:t>
            </a:r>
            <a:r>
              <a:rPr b="1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Вставь слова»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-273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       </a:t>
            </a:r>
            <a:r>
              <a:rPr b="0" i="1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Скоро сказка сказывается, да не скоро дело -……  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-273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       </a:t>
            </a:r>
            <a:r>
              <a:rPr b="0" i="1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Не впервой волку зиму………  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-273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       </a:t>
            </a:r>
            <a:r>
              <a:rPr b="0" i="1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Всё живое хочет ……….  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-273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        </a:t>
            </a:r>
            <a:r>
              <a:rPr b="0" i="1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Хвати тебе, молодцу, горе ……..  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-273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-273960">
              <a:lnSpc>
                <a:spcPct val="80000"/>
              </a:lnSpc>
              <a:spcBef>
                <a:spcPts val="425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«Поставьте ударение»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-273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     </a:t>
            </a:r>
            <a:r>
              <a:rPr b="1" i="1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Поля</a:t>
            </a:r>
            <a:r>
              <a:rPr b="0" i="1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 покрылись снежной пеленой. За работой </a:t>
            </a:r>
            <a:r>
              <a:rPr b="1" i="1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Поля </a:t>
            </a:r>
            <a:r>
              <a:rPr b="0" i="1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всегда пела. На </a:t>
            </a:r>
            <a:r>
              <a:rPr b="1" i="1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горе</a:t>
            </a:r>
            <a:r>
              <a:rPr b="0" i="1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 росла берёза. У Стёпы случилось </a:t>
            </a:r>
            <a:r>
              <a:rPr b="1" i="1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горе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-273960">
              <a:lnSpc>
                <a:spcPct val="80000"/>
              </a:lnSpc>
              <a:spcBef>
                <a:spcPts val="425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-273960">
              <a:lnSpc>
                <a:spcPct val="80000"/>
              </a:lnSpc>
              <a:spcBef>
                <a:spcPts val="425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1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Придумайте слова, в состав которых входит какое-нибудь число: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-273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     </a:t>
            </a:r>
            <a:r>
              <a:rPr b="0" i="1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1 – единица, единство, одинокий, однажды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-273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     </a:t>
            </a:r>
            <a:r>
              <a:rPr b="0" i="1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2 – вторник, двойник, двойка, двойняшка, двушка, двустволка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-273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     </a:t>
            </a:r>
            <a:r>
              <a:rPr b="0" i="1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3 - …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-273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r>
              <a:rPr b="0" i="1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4 - …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-273960">
              <a:lnSpc>
                <a:spcPct val="80000"/>
              </a:lnSpc>
              <a:spcBef>
                <a:spcPts val="425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-273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-273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53880" indent="-273960">
              <a:lnSpc>
                <a:spcPct val="80000"/>
              </a:lnSpc>
              <a:spcBef>
                <a:spcPts val="425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34960" y="-428760"/>
            <a:ext cx="7499520" cy="71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1c234a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434960" y="70920"/>
            <a:ext cx="7499520" cy="617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«Найди пару»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В час по чайной ложке.            Мало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Рукой подать.                            Медленно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Повесить нос.                            Много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Раз, два и обчелся.                    Близко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Куры не клюют.                        Худой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Кожа да кости.                          Грустить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Найдите глаголы, употреблённые в переносном значени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Солнышко </a:t>
            </a:r>
            <a:r>
              <a:rPr b="0" lang="ru-RU" sz="20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запело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 на свободной воле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Поле </a:t>
            </a:r>
            <a:r>
              <a:rPr b="0" lang="ru-RU" sz="20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засопело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 – пробудилось поле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Ветерок </a:t>
            </a:r>
            <a:r>
              <a:rPr b="0" lang="ru-RU" sz="20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очнулся, заморгал 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спросонок,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Тополь </a:t>
            </a:r>
            <a:r>
              <a:rPr b="0" lang="ru-RU" sz="20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отряхнул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ся шумно, как телёнок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Море почему – то всё ещё </a:t>
            </a:r>
            <a:r>
              <a:rPr b="0" lang="ru-RU" sz="20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зевает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Вот какое утро раннее бывает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1792440" y="4157640"/>
            <a:ext cx="6516360" cy="2792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1. Формирование у детей функций словообразования и словоизменения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95440" indent="-51444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95440" indent="-51444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2. Установление связи в предложении при помощи вопросов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432080" y="-291960"/>
            <a:ext cx="7503840" cy="14983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1142640" y="856800"/>
            <a:ext cx="779148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1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Исправь предложени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1080" indent="-279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а) Дед в печи, дрова на печ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1080" indent="-279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б) На столе сапожки, под столом лепешк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1080" indent="-279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в) Овечки в печке, караси у речк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1080" indent="-279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г) Под столом портрет, над столом табурет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1080" indent="-279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1080" indent="-279720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  </a:t>
            </a:r>
            <a:r>
              <a:rPr b="1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Исправь логические ошибки и запиши предложение    верн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1080" indent="-279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Мальчик стеклом разбил мяч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1080" indent="-279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Брат потерял библиотеку из книг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1080" indent="-279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Весной луга затопили речк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1080" indent="-279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После лета пришла долгожданная весн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1080" indent="-279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1080" indent="-279720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Распространи предложение, постепенно наращивая количество слов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1080" indent="-279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Оля читает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1080" indent="-279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Оля читает книг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1080" indent="-279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Оля читает интересную книг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1080" indent="-279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Оля читает интересную книгу бабушке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1080" indent="-279720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1080" indent="-279720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1080" indent="-279720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-357120"/>
            <a:ext cx="7499520" cy="71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1c234a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434960" y="0"/>
            <a:ext cx="7499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17856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Игра «Путаница»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Составьте два предложения: «Стоят, вазе, в, цветы, орехи,  в, белка, дупло, прячет»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Игра «Пропавшие слова»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Тишина царит в дремучем … Черные … затянули солнце. Умолкли … Вот-вот начнется … 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Игра «Закончи предложение»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Пуфик залез на дерево, которое …….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Пуфик залез на дерево, потому что ……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Пуфик залез на дерево, где …………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Пуфик залез на дерево, когда ………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Заголовок 1" descr=""/>
          <p:cNvPicPr/>
          <p:nvPr/>
        </p:nvPicPr>
        <p:blipFill>
          <a:blip r:embed="rId1"/>
          <a:stretch/>
        </p:blipFill>
        <p:spPr>
          <a:xfrm>
            <a:off x="1792440" y="4121280"/>
            <a:ext cx="6516360" cy="19447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1434960" y="1071720"/>
            <a:ext cx="749952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Обучение полным развернутым ответов на вопросы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 algn="just">
              <a:lnSpc>
                <a:spcPct val="8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Построение сложносочиненных и сложноподчиненные предложений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 algn="just">
              <a:lnSpc>
                <a:spcPct val="8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 algn="just">
              <a:lnSpc>
                <a:spcPct val="8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Работа над умением связно изложить смысл услышанного или прочитанного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 algn="just">
              <a:lnSpc>
                <a:spcPct val="8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 algn="just">
              <a:lnSpc>
                <a:spcPct val="8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Составление плана и формирование умения правильно оформить текст на письме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1792440" y="4121280"/>
            <a:ext cx="6516360" cy="25714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Составь подписи к картинкам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Записи по наблюдениям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Изложение повествовательного характера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Изложение описательного характера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Сочинение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1c234a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071360" y="1447560"/>
            <a:ext cx="7862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Дисграфия</a:t>
            </a:r>
            <a:r>
              <a:rPr b="0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– это частичное нарушение процесса письма, проявляющееся в стойких, повторяющихся ошибках, обусловленных несформированностью высших психических функций, участвующих в процессе письма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                                       </a:t>
            </a: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(Р. И. Лалаева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516360" cy="15001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1000080" y="1447560"/>
            <a:ext cx="7934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«Придумай сказку, зная начало (конец)»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«Закончи рассказ»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«Собери текст»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«Составь вопросы»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«Напиши рассказ по опорным словам»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Заголовок 1" descr=""/>
          <p:cNvPicPr/>
          <p:nvPr/>
        </p:nvPicPr>
        <p:blipFill>
          <a:blip r:embed="rId1"/>
          <a:stretch/>
        </p:blipFill>
        <p:spPr>
          <a:xfrm>
            <a:off x="1792440" y="4211640"/>
            <a:ext cx="6632280" cy="21765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1434960" y="1447920"/>
            <a:ext cx="7499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Arial"/>
                <a:ea typeface="Arial"/>
              </a:rPr>
              <a:t>1.  Понимание пространственных предлогов;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80000"/>
              </a:lnSpc>
              <a:spcBef>
                <a:spcPts val="374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Arial"/>
                <a:ea typeface="Arial"/>
              </a:rPr>
              <a:t>2.  Ориентировка в правой и левой сторонах пространства и в пространственном расположении предметов по отношению друг к другу;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80000"/>
              </a:lnSpc>
              <a:spcBef>
                <a:spcPts val="374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Arial"/>
                <a:ea typeface="Arial"/>
              </a:rPr>
              <a:t>3. Ориентировка на собственном теле, дифференциация правых и левых его частей;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80000"/>
              </a:lnSpc>
              <a:spcBef>
                <a:spcPts val="374"/>
              </a:spcBef>
              <a:buClr>
                <a:srgbClr val="c3260c"/>
              </a:buClr>
              <a:buSzPct val="13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Arial"/>
                <a:ea typeface="Arial"/>
              </a:rPr>
              <a:t>4.  Анализ нелепых картинок;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80000"/>
              </a:lnSpc>
              <a:spcBef>
                <a:spcPts val="374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ru-RU" sz="1500" spc="-1" strike="noStrike">
                <a:solidFill>
                  <a:srgbClr val="404040"/>
                </a:solidFill>
                <a:latin typeface="Arial"/>
                <a:ea typeface="Arial"/>
              </a:rPr>
              <a:t>5. Конструирование фигур из спичек, палочек;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80000"/>
              </a:lnSpc>
              <a:spcBef>
                <a:spcPts val="374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ru-RU" sz="1500" spc="-1" strike="noStrike">
                <a:solidFill>
                  <a:srgbClr val="404040"/>
                </a:solidFill>
                <a:latin typeface="Arial"/>
                <a:ea typeface="Arial"/>
              </a:rPr>
              <a:t>6.  Узнавание предметов в усложненных условиях (предметы изображенные пунктиром, наложенные друг на друге, «зашумленные»)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80000"/>
              </a:lnSpc>
              <a:spcBef>
                <a:spcPts val="374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1" descr=""/>
          <p:cNvPicPr/>
          <p:nvPr/>
        </p:nvPicPr>
        <p:blipFill>
          <a:blip r:embed="rId1"/>
          <a:stretch/>
        </p:blipFill>
        <p:spPr>
          <a:xfrm>
            <a:off x="1584360" y="4078440"/>
            <a:ext cx="6853320" cy="1500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349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Arial"/>
                <a:ea typeface="Arial"/>
              </a:rPr>
              <a:t>У некоторых учащихся полностью исчезли отдельные виды дисграфии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 algn="just">
              <a:lnSpc>
                <a:spcPct val="80000"/>
              </a:lnSpc>
              <a:spcBef>
                <a:spcPts val="349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 algn="just">
              <a:lnSpc>
                <a:spcPct val="80000"/>
              </a:lnSpc>
              <a:spcBef>
                <a:spcPts val="349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Arial"/>
                <a:ea typeface="Arial"/>
              </a:rPr>
              <a:t>У всех учащихся  повысилось качество обучения по русскому языку и литературе (мониторинг качества общей успеваемости по русскому языку и литературе)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 algn="just">
              <a:lnSpc>
                <a:spcPct val="80000"/>
              </a:lnSpc>
              <a:spcBef>
                <a:spcPts val="349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 algn="just">
              <a:lnSpc>
                <a:spcPct val="80000"/>
              </a:lnSpc>
              <a:spcBef>
                <a:spcPts val="349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Arial"/>
                <a:ea typeface="Arial"/>
              </a:rPr>
              <a:t>Повысилась речевая активность детей. Устные ответы детей стали более полными, развернутыми, точными, правильными. Усилилось регулирующая и направляющая роль речи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 algn="just">
              <a:lnSpc>
                <a:spcPct val="80000"/>
              </a:lnSpc>
              <a:spcBef>
                <a:spcPts val="349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 algn="just">
              <a:lnSpc>
                <a:spcPct val="80000"/>
              </a:lnSpc>
              <a:spcBef>
                <a:spcPts val="349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Arial"/>
                <a:ea typeface="Arial"/>
              </a:rPr>
              <a:t>Улучшилась общая и мелкая моторика у детей.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 algn="just">
              <a:lnSpc>
                <a:spcPct val="80000"/>
              </a:lnSpc>
              <a:spcBef>
                <a:spcPts val="349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 algn="just">
              <a:lnSpc>
                <a:spcPct val="80000"/>
              </a:lnSpc>
              <a:spcBef>
                <a:spcPts val="349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Arial"/>
                <a:ea typeface="Arial"/>
              </a:rPr>
              <a:t>Можно отметить, что у детей появились навыки планирования учебной деятельности  и самоконтроль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80000"/>
              </a:lnSpc>
              <a:spcBef>
                <a:spcPts val="349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1" descr=""/>
          <p:cNvPicPr/>
          <p:nvPr/>
        </p:nvPicPr>
        <p:blipFill>
          <a:blip r:embed="rId1"/>
          <a:stretch/>
        </p:blipFill>
        <p:spPr>
          <a:xfrm>
            <a:off x="1432080" y="-109440"/>
            <a:ext cx="7503840" cy="13287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1434960" y="928440"/>
            <a:ext cx="749952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  <a:ea typeface="Arial"/>
              </a:rPr>
              <a:t>Артикуляторно-акустическая дисграфия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  <a:ea typeface="Arial"/>
              </a:rPr>
              <a:t> встречается у детей, имеющих или имевших нарушения звукопроизношения. Вследствие этого в письме детей встречаются ошибки в виде смешений и пропусков букв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  <a:ea typeface="Arial"/>
              </a:rPr>
              <a:t>Дисграфия на основе нарушения фонемного распознавания</a:t>
            </a:r>
            <a:r>
              <a:rPr b="0" i="1" lang="ru-RU" sz="16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  <a:ea typeface="Arial"/>
              </a:rPr>
              <a:t>связывается с недостаточным уровнем функционирования операций сложного процесса различения и выбора фонем. В письме детей это проявляется в виде смешений или даже полных заменах букв на письме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  <a:ea typeface="Arial"/>
              </a:rPr>
              <a:t>При </a:t>
            </a:r>
            <a:r>
              <a:rPr b="1" lang="ru-RU" sz="1600" spc="-1" strike="noStrike">
                <a:solidFill>
                  <a:srgbClr val="404040"/>
                </a:solidFill>
                <a:latin typeface="Arial"/>
                <a:ea typeface="Arial"/>
              </a:rPr>
              <a:t>дисграфии на почве нарушения языкового анализа и синтеза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  <a:ea typeface="Arial"/>
              </a:rPr>
              <a:t> неполноценны операции: деление предложения на слова и синтез предложения из слов, слоговой и фонематический анализ и синтез. В письме эта дисграфия проявляется в искажениях структуры слов и предложений (пропуски, перестановки, добавления букв, слогов, слов; слияние или разрыв слов)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  <a:ea typeface="Arial"/>
              </a:rPr>
              <a:t>Аграмматическая дисграфия</a:t>
            </a:r>
            <a:r>
              <a:rPr b="0" i="1" lang="ru-RU" sz="16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  <a:ea typeface="Arial"/>
              </a:rPr>
              <a:t>связывается с недоразвитием у детей лексико-грамматического строя речи, несформированностью морфологических и синтаксических обобщений. 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  <a:ea typeface="Arial"/>
              </a:rPr>
              <a:t>Оптическая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404040"/>
                </a:solidFill>
                <a:latin typeface="Arial"/>
                <a:ea typeface="Arial"/>
              </a:rPr>
              <a:t>дисграфия</a:t>
            </a:r>
            <a:r>
              <a:rPr b="0" lang="ru-RU" sz="1600" spc="-1" strike="noStrike">
                <a:solidFill>
                  <a:srgbClr val="404040"/>
                </a:solidFill>
                <a:latin typeface="Arial"/>
                <a:ea typeface="Arial"/>
              </a:rPr>
              <a:t> связана с недоразвитием зрительного гнозиса и мнезиса, анализа и синтеза, пространственных представлений. В письме проявляется в виде замен графически сходных букв, искажений в написании букв, зеркальном написании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1468440" y="4078440"/>
            <a:ext cx="7085160" cy="15001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1. Списывание слов и предложений с рукописного образца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595440" indent="-514440" algn="just">
              <a:lnSpc>
                <a:spcPct val="80000"/>
              </a:lnSpc>
              <a:spcBef>
                <a:spcPts val="425"/>
              </a:spcBef>
              <a:buClr>
                <a:srgbClr val="c3260c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595440" indent="-51444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2. Списывание слов и предложений с печатного образца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595440" indent="-51444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595440" indent="-51444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3. Письмо под диктовку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595440" indent="-51444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r>
              <a:rPr b="0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(строчные буквы, слоги, предложения, слуховой диктант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595440" indent="-514440" algn="just">
              <a:lnSpc>
                <a:spcPct val="80000"/>
              </a:lnSpc>
              <a:spcBef>
                <a:spcPts val="425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595440" indent="-51444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4.   Самостоятельное письмо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595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1432080" y="0"/>
            <a:ext cx="7503840" cy="22431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1834920" y="2276280"/>
            <a:ext cx="570852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04040"/>
                </a:solidFill>
                <a:latin typeface="Arial"/>
                <a:ea typeface="Arial"/>
              </a:rPr>
              <a:t>1.   Ошибки на уровне буквы и </a:t>
            </a:r>
            <a:r>
              <a:rPr b="0" lang="ru-RU" sz="1200" spc="-1" strike="noStrike">
                <a:solidFill>
                  <a:srgbClr val="404040"/>
                </a:solidFill>
                <a:latin typeface="Arial"/>
                <a:ea typeface="Arial"/>
              </a:rPr>
              <a:t>слога (пропуски, замены, смешения, перестановки, вставки)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 algn="just">
              <a:lnSpc>
                <a:spcPct val="80000"/>
              </a:lnSpc>
              <a:spcBef>
                <a:spcPts val="300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04040"/>
                </a:solidFill>
                <a:latin typeface="Arial"/>
                <a:ea typeface="Arial"/>
              </a:rPr>
              <a:t>Ошибки на уровне слова. </a:t>
            </a:r>
            <a:r>
              <a:rPr b="0" lang="ru-RU" sz="1200" spc="-1" strike="noStrike">
                <a:solidFill>
                  <a:srgbClr val="404040"/>
                </a:solidFill>
                <a:latin typeface="Arial"/>
                <a:ea typeface="Arial"/>
              </a:rPr>
              <a:t>(слитное, раздельное написание, аграмматизмы)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04040"/>
                </a:solidFill>
                <a:latin typeface="Arial"/>
                <a:ea typeface="Arial"/>
              </a:rPr>
              <a:t>2.  Ошибки на уровне предложения (словосочетания)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 algn="just">
              <a:lnSpc>
                <a:spcPct val="80000"/>
              </a:lnSpc>
              <a:spcBef>
                <a:spcPts val="300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Arial"/>
                <a:ea typeface="Arial"/>
              </a:rPr>
              <a:t>Нарушение согласования слов в предложении в роде, числе, падеже («наступило ночь»). 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 algn="just">
              <a:lnSpc>
                <a:spcPct val="80000"/>
              </a:lnSpc>
              <a:spcBef>
                <a:spcPts val="300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Arial"/>
                <a:ea typeface="Arial"/>
              </a:rPr>
              <a:t>Пропуск слов в предложении</a:t>
            </a:r>
            <a:r>
              <a:rPr b="0" lang="ru-RU" sz="12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 algn="just">
              <a:lnSpc>
                <a:spcPct val="80000"/>
              </a:lnSpc>
              <a:spcBef>
                <a:spcPts val="300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Arial"/>
                <a:ea typeface="Arial"/>
              </a:rPr>
              <a:t>Нарушение порядка слов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 algn="just">
              <a:lnSpc>
                <a:spcPct val="80000"/>
              </a:lnSpc>
              <a:spcBef>
                <a:spcPts val="300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Arial"/>
                <a:ea typeface="Arial"/>
              </a:rPr>
              <a:t>Многочисленны случаи нарушения управления слов («по дорожках сада»)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04040"/>
                </a:solidFill>
                <a:latin typeface="Arial"/>
                <a:ea typeface="Arial"/>
              </a:rPr>
              <a:t>3.   Ошибки на уровне текста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 algn="just">
              <a:lnSpc>
                <a:spcPct val="80000"/>
              </a:lnSpc>
              <a:spcBef>
                <a:spcPts val="300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Arial"/>
                <a:ea typeface="Arial"/>
              </a:rPr>
              <a:t>Пропуск смысловых част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 algn="just">
              <a:lnSpc>
                <a:spcPct val="80000"/>
              </a:lnSpc>
              <a:spcBef>
                <a:spcPts val="300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Arial"/>
                <a:ea typeface="Arial"/>
              </a:rPr>
              <a:t>Необоснованное расширение границ, смысловых частей текста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 algn="just">
              <a:lnSpc>
                <a:spcPct val="80000"/>
              </a:lnSpc>
              <a:spcBef>
                <a:spcPts val="300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Arial"/>
                <a:ea typeface="Arial"/>
              </a:rPr>
              <a:t>Нарушение логической последовательности внутри какой-нибудь смысловой части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80000"/>
              </a:lnSpc>
              <a:spcBef>
                <a:spcPts val="300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1792440" y="4211640"/>
            <a:ext cx="6516360" cy="17622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550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 algn="just">
              <a:lnSpc>
                <a:spcPct val="100000"/>
              </a:lnSpc>
              <a:spcBef>
                <a:spcPts val="550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I</a:t>
            </a:r>
            <a:r>
              <a:rPr b="1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этап</a:t>
            </a: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 — восполнение пробелов в развитии звуковой стороны речи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 algn="just">
              <a:lnSpc>
                <a:spcPct val="100000"/>
              </a:lnSpc>
              <a:spcBef>
                <a:spcPts val="550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 algn="just">
              <a:lnSpc>
                <a:spcPct val="100000"/>
              </a:lnSpc>
              <a:spcBef>
                <a:spcPts val="550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II</a:t>
            </a:r>
            <a:r>
              <a:rPr b="1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 этап </a:t>
            </a: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— восполнение пробелов в области овладения лексикой и грамматикой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 algn="just">
              <a:lnSpc>
                <a:spcPct val="100000"/>
              </a:lnSpc>
              <a:spcBef>
                <a:spcPts val="550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III</a:t>
            </a:r>
            <a:r>
              <a:rPr b="1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 этап</a:t>
            </a: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 — восполнение пробелов в формировании связной речи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100000"/>
              </a:lnSpc>
              <a:spcBef>
                <a:spcPts val="550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109440" y="-30240"/>
            <a:ext cx="9015480" cy="1498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1434960" y="1285560"/>
            <a:ext cx="74995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Устранение дефектов звукопроизношения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 algn="just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Развитие фонематического восприятия, а также навыков звукового анализа и синтеза слов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 algn="just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 algn="just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Пополнение и обогащение словарного запас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 algn="just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 algn="just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Развитие и совершенствование грамматического строя реч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 algn="just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 algn="just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Развитие связной реч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 algn="just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 algn="just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Развитие зрительного анализа и синтеза, пространственных представлений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901800" y="4297320"/>
            <a:ext cx="7407000" cy="16891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  <a:ea typeface="Arial"/>
              </a:rPr>
              <a:t>1</a:t>
            </a: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.  Уточнение произношения звуков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595440" indent="-514440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     </a:t>
            </a: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(артикуляционная гимнастика, игры на подражание, чистоговорки, скороговорки, игры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595440" indent="-514440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595440" indent="-514440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2.  Развитие мелкой моторики рук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595440" indent="-514440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(песочная терапия, пальчиковые игры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1792440" y="4243320"/>
            <a:ext cx="6718320" cy="14986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дифференциация сходных по звучанию звуков (шипящих и свистящих , глухих и звонких, твердых и мягких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преобразование слов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слоговой анализ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работа над интонационной выразительностью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0T11:53:28Z</dcterms:created>
  <dc:creator>Admin</dc:creator>
  <dc:description/>
  <dc:language>en-US</dc:language>
  <cp:lastModifiedBy>Светлана</cp:lastModifiedBy>
  <dcterms:modified xsi:type="dcterms:W3CDTF">2020-04-12T21:22:19Z</dcterms:modified>
  <cp:revision>29</cp:revision>
  <dc:subject/>
  <dc:title> Обобщение опыта работы учителя начальных классов МАОУ ТСОШ № 1 Черепенько Ирины Юрьевны  </dc:title>
</cp:coreProperties>
</file>