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7DC-F46B-439C-9FDB-224852E8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07F-19D7-4173-95A8-8F6FF1D9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4826E-840E-4F52-AD93-55534FB5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43CAA-67DC-45D3-8E0B-4B88508D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3CFF3-45A7-4A6F-BBD9-B0FC302C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A5656-24EA-446C-86D1-C26CBC8B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6754D-4F3F-41CE-A06F-FE8C2FEC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13CBF-7C50-4687-8B1B-4460AA33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C1C1E-FAFF-4082-BC0D-BFA15970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FFF2A-4737-4D6B-A45F-C8B57D01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35F03-F4AF-4A08-9CBB-30ED3247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DE589-718F-4E2D-B7E2-880980F6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E5C-C235-4180-B45F-B8DE0C1F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0FE1C-1145-498D-AFB4-026B58A9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97221-C699-4E55-9D1D-6FDC4A28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F4BD7-8DD7-452A-8B9B-A1C5B5EF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5564F-ED73-4E66-8AE2-4A0F5B02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A5FD7-7811-4197-B36A-0DE0A3BD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07F64-D54E-449A-996B-26DC2D38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D211F-74B1-4639-8378-13C7E160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6F5D5-B072-45DC-A982-7749A62A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3B15F-165C-4796-8394-9D65F0E2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FDC9A-840B-4F29-9C8B-568A758D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BF3-CF70-46BE-AB86-32F395A9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F40D9-C82D-4F87-8E8B-10858411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59CE4-C9F2-457B-A8A6-C9E14AB8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D4353-0324-44FB-BB5C-25942651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9E914-7E3E-4CA1-AE97-BD9166BD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E577A-0189-44FC-A658-DAD41DE4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B0DE2-FF20-48B6-83E7-26601F04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22E54-75C6-4692-A45C-A803A0B7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82B58-90CD-4856-A22B-D7B590D2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A44B3-2924-4985-9088-847C9BD0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E70B2-B3E3-45CF-AF4C-BAC04E8D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33E9-ADB7-48C1-B97B-DFEF0BC3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8A595-B5BC-430D-B34A-4182BDB1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9E966-4E29-4B94-AF06-4B45678D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B7ABD-5946-4812-B9F3-D3AE1E13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42E1-8319-4B40-A33F-1669FBAC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553D-6855-44A4-A280-FD66EF62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2746-C3AC-4450-9EC2-B50F9C74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BB9D-226E-4101-B299-201E2D68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3777-B8CF-4B31-BAAD-E55A0755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F34D-485A-49EC-BECD-1140DBD2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E75-D58F-42CC-A401-4E59F535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6A07-75DF-4144-99C8-17F0E929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DDF9-B3EA-459A-BA6A-2A8C6DA3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9156-48EE-40DF-B200-E64F4519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5B17-4670-4DC0-889A-BBFD0835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1923-BFDB-4D40-B49D-D2A4E9F6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4D0F0-FF59-4914-A9EB-A7311E0C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78F9-36A4-484E-AD65-318F99D3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E59F3-426B-424B-B989-721E6258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7FD84-07F3-46EC-83A0-48AE94A1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66AF5-EEDA-4220-8C72-DD8B8965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093-D98E-40E6-8A5D-417BDC06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3F4EB-23ED-41E9-B23C-DA8A035D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6FC2-DD1C-4813-81FC-BDF0D0CB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7C1C6-2A61-482A-9223-0DF15936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E60F9-A3B8-4DA1-B5BA-5C24DFFD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5E59B-1EED-4C8E-A6E0-8DBB9484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216DE-23F4-4AF7-B1EB-3FB32225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29534-F992-4E49-9136-3BE55F2E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C4217-9D8E-4308-A337-8808F06E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A97B6-D037-4DCC-8E05-B26E4865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3D8A0-80B4-4AA1-B3BF-583DC8DA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B42-26E6-45CF-BD1F-07814287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12F22-8556-4BD9-A30E-899C0339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075D5-01F9-4588-A1BD-52ACECB0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CDE75-D8DA-4DFB-AEAD-BA6DD85F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7EF67-C899-4645-A24C-0646CC5F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D4EC2-B924-4E66-A91C-148CF65E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E7A8E-67CA-48CF-81E5-6FB03964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B24DA-1405-4578-95D2-5D2D6FA5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EE549-2F78-4F00-8C47-C3B90409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825A3-95B0-4524-A4E0-495B818F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112A2-D4E8-4AE9-A409-1D3B6E2D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202-0E3A-40E4-94E6-E6730498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667BB-4634-4D8E-8B0F-E1EC6839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9E507-E344-4067-81DC-A7744A1E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A85A-8D0B-4386-A560-9334CE45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73328-B24D-461D-A129-1F8D2074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FCF4B-6895-4A71-82C8-E9B314EE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7AC5C-EA51-473C-A392-E28B83C0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417DC-0A14-4563-9250-FC6351F4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D404F-C292-4449-B11D-3E5C1087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E22BF-37AF-4A8E-8611-C6113276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279CC-3348-46C2-895D-B53471F1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8BE-B780-4018-A136-98D1D9A9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D9769-4B9D-4A2C-A1FA-FDDBAE48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F1760-436B-4DBF-BDA1-C5DA6A34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4D395-515E-4439-8E82-747DDE55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CB43B-B400-4040-AA3F-6432D863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C0374-3FFF-4D9F-B0AC-10910C20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C76A1-0F55-4A92-A6D6-5EEA07FD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B87DE-951D-480A-ACCA-A997890E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39410-A09E-4581-9141-9654A61D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6B7A3-9FE4-405E-94C8-467BC73E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357E7-A78E-4FE7-82D8-C7F12D11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178-A1F0-49D1-859C-70DCF2B9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A81CE-9C79-4812-A01E-FC5DE5F3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0AE58-F355-49D0-AF2B-9D171A5A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127DA-3679-40BE-AC9A-0C26A7C3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FD850-220B-4059-AA03-377D8FDE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3E718-3EFE-4AE6-8158-68DA4B66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21C2B-FE95-4F30-8D86-650815A1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B4B66-F957-4797-8CC2-A0B3129B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C1F28-C7E1-4D1E-A9D8-8D601D22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34155-3FD9-493A-8A6B-0C147104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7DEE2-F306-4AA8-9353-4EC85D1F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092-F93A-4E54-970D-AB5D5977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E0C03-C390-4FC7-8766-8862C43F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FF798-DDEA-47D5-97CF-31796177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B090F-470A-45BC-AEFD-C26BF54E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AFE52-0154-442F-8934-C3D74B5E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E609C-1674-4D63-A06F-CE8C0A81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558AB-08EB-44F8-8D57-9837EEAB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DBF18-610E-43FE-A4FF-678C5EB7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614E3-5382-440D-AA39-4A252B95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F7D67-DEF4-4D9D-ABFB-1E1BA7F7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3EE93-C76D-4B71-B387-54E46230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DDD-CC43-4D22-B3B0-89AFA1EF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67DA0-CE4E-4298-847A-57B5DDE4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AB206-5E96-4CB4-8392-B9891B01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5C1FC-8737-43D0-86D0-D2E0F269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741C5-5834-4E6E-8A90-D7CEE59B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B5F3D-EE18-415F-9D4E-B26F0DE3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3D059-328C-4C60-92B5-F448EED3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B71A6-501E-434E-9DA2-262DF613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C1359-E94A-4D2C-8FE8-FFA30222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183C1-A0B4-4157-BA69-82C232CD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50AE6-290C-4B64-B891-AAE85018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E937-C7F5-4656-A1BF-4FD2DAF6EEF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D1CB-E95E-4D76-8933-35824E0BA8D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DB43-F564-4449-928A-2EA0826EB3D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2935-527E-4FE0-96BD-E377784FF9A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3CDB-11EB-4A8E-8711-0BB45E0F3EA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2281-E4A9-4641-B92B-8BF07767286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52B3-1B47-448A-B037-3C5D008B26C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4501-2EF5-46ED-9188-D705BC63F65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77DA-6C48-46E1-87F2-CDB93351F48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BCBD-5A77-48FE-ADF3-027D097267C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5BF0-EB67-4FA5-84A6-DA76BF3788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76000" y="2204640"/>
            <a:ext cx="690732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376092"/>
                </a:solidFill>
                <a:latin typeface="Calibri"/>
              </a:rPr>
              <a:t>ЗВУК   Ф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9" name="Объект 3" descr=""/>
          <p:cNvPicPr/>
          <p:nvPr/>
        </p:nvPicPr>
        <p:blipFill>
          <a:blip r:embed="rId2"/>
          <a:srcRect l="30358" t="13186" r="32638" b="12173"/>
          <a:stretch/>
        </p:blipFill>
        <p:spPr>
          <a:xfrm>
            <a:off x="3276720" y="1484280"/>
            <a:ext cx="331128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место шубки лишь игол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 страшны ему и вол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лкий шар, не видно ножек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вать его конечно..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3" name="Объект 5" descr=""/>
          <p:cNvPicPr/>
          <p:nvPr/>
        </p:nvPicPr>
        <p:blipFill>
          <a:blip r:embed="rId2"/>
          <a:srcRect l="16647" t="0" r="17672" b="0"/>
          <a:stretch/>
        </p:blipFill>
        <p:spPr>
          <a:xfrm>
            <a:off x="3670200" y="1773360"/>
            <a:ext cx="269244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&amp;quot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&amp;quot"/>
                <a:ea typeface="Times New Roman"/>
              </a:rPr>
              <a:t>Конечно,  это  ежик,  он  тоже  живет  в лесу и любит играть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&amp;quot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&amp;quot"/>
                <a:ea typeface="Times New Roman"/>
              </a:rPr>
              <a:t>Поиграем с ежиком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гда ежики довольны, то они говорят: «ФИ – ФИ – ФИ», а когда им не нравится, то они произносят: «ФУ – ФУ – ФУ»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ы будем отгадывать, понравилось угощение ежику или нет, и отвечать «ФИ – ФИ – ФИ», «ФУ – ФУ – ФУ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443280" y="2133360"/>
            <a:ext cx="125748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9" name="Объект 3" descr=""/>
          <p:cNvPicPr/>
          <p:nvPr/>
        </p:nvPicPr>
        <p:blipFill>
          <a:blip r:embed="rId2"/>
          <a:stretch/>
        </p:blipFill>
        <p:spPr>
          <a:xfrm>
            <a:off x="3708360" y="1989000"/>
            <a:ext cx="2303640" cy="3021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16720" y="1988640"/>
            <a:ext cx="2232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1" name="Объект 3" descr=""/>
          <p:cNvPicPr/>
          <p:nvPr/>
        </p:nvPicPr>
        <p:blipFill>
          <a:blip r:embed="rId2"/>
          <a:stretch/>
        </p:blipFill>
        <p:spPr>
          <a:xfrm>
            <a:off x="3203640" y="1916280"/>
            <a:ext cx="3127320" cy="2765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75280" y="1915920"/>
            <a:ext cx="167796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3" name="Объект 3" descr=""/>
          <p:cNvPicPr/>
          <p:nvPr/>
        </p:nvPicPr>
        <p:blipFill>
          <a:blip r:embed="rId2"/>
          <a:srcRect l="21414" t="0" r="20888" b="13576"/>
          <a:stretch/>
        </p:blipFill>
        <p:spPr>
          <a:xfrm>
            <a:off x="2556000" y="1628640"/>
            <a:ext cx="4178160" cy="3911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516360" y="1557000"/>
            <a:ext cx="16556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5" name="Объект 3" descr=""/>
          <p:cNvPicPr/>
          <p:nvPr/>
        </p:nvPicPr>
        <p:blipFill>
          <a:blip r:embed="rId2"/>
          <a:stretch/>
        </p:blipFill>
        <p:spPr>
          <a:xfrm>
            <a:off x="2411280" y="1557360"/>
            <a:ext cx="3899160" cy="3517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ведь в лесу еще и филин живет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Филин  летает  и  произносит          «Уф-уф-уф». Повтори за ним.  Он тоже хочет с вами поигра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omic Sans MS"/>
              </a:rPr>
              <a:t>Здравствуйте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339640" y="1600200"/>
            <a:ext cx="50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omic Sans MS"/>
                <a:ea typeface="Times New Roman"/>
              </a:rPr>
              <a:t>     </a:t>
            </a:r>
            <a:r>
              <a:rPr b="0" lang="ru-RU" sz="3600" spc="-1" strike="noStrike">
                <a:solidFill>
                  <a:srgbClr val="17375e"/>
                </a:solidFill>
                <a:latin typeface="Comic Sans MS"/>
                <a:ea typeface="Times New Roman"/>
              </a:rPr>
              <a:t>Сегодня мы с вами отправимся на экскурсию в лес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движная игра «День – ночь».</a:t>
            </a:r>
            <a:r>
              <a:rPr b="0" lang="ru-RU" sz="2400" spc="-1" strike="noStrike">
                <a:solidFill>
                  <a:srgbClr val="444444"/>
                </a:solidFill>
                <a:latin typeface="Comic Sans MS"/>
                <a:ea typeface="Calibri"/>
              </a:rPr>
              <a:t> Водящий  громко объявляет: «День!» (можно включить веселую музыку). Дети веселятся, прыгают, бегают и танцуют. Через некоторое время водящий произносит: «Ночь!» В этот момент участники игры должны мгновенно «заснуть» — замереть в той позе, в которой его застигла команда «ночь». Проигравший становится водящим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к хорошо мы провели время! Давайте скажем до свидания ёжику и филину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omic Sans MS"/>
              </a:rPr>
              <a:t>А ЭТА ИГРА ДЛЯ ВЗРОСЛЫХ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3" name="Объект 3" descr=""/>
          <p:cNvPicPr/>
          <p:nvPr/>
        </p:nvPicPr>
        <p:blipFill>
          <a:blip r:embed="rId2"/>
          <a:srcRect l="0" t="26595" r="0" b="28857"/>
          <a:stretch/>
        </p:blipFill>
        <p:spPr>
          <a:xfrm>
            <a:off x="2050920" y="2708280"/>
            <a:ext cx="4897440" cy="388944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4" descr=""/>
          <p:cNvPicPr/>
          <p:nvPr/>
        </p:nvPicPr>
        <p:blipFill>
          <a:blip r:embed="rId3"/>
          <a:stretch/>
        </p:blipFill>
        <p:spPr>
          <a:xfrm>
            <a:off x="6357960" y="1627200"/>
            <a:ext cx="142704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Как хорошо в лесу, ребята!</a:t>
            </a:r>
            <a:br>
              <a:rPr sz="3200"/>
            </a:br>
            <a:r>
              <a:rPr b="0" lang="ru-RU" sz="32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Пахнет кашкой, пахнет мятой,</a:t>
            </a:r>
            <a:br>
              <a:rPr sz="3200"/>
            </a:br>
            <a:r>
              <a:rPr b="0" lang="ru-RU" sz="32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Пахнет липой и сосной</a:t>
            </a:r>
            <a:br>
              <a:rPr sz="3200"/>
            </a:br>
            <a:r>
              <a:rPr b="0" lang="ru-RU" sz="32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И малиною лесно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(На каждое произнесенное слово соединять большой палец с указательным, затем со средним, с безымянным, с мизинцем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Сейчас я загадаю загадки про диких животных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Кто в лесу глухом живёт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Неуклюжий, косолапый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Летом ест малину, мёд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А зимой сосёт он лап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1" name="Объект 3" descr=""/>
          <p:cNvPicPr/>
          <p:nvPr/>
        </p:nvPicPr>
        <p:blipFill>
          <a:blip r:embed="rId2"/>
          <a:stretch/>
        </p:blipFill>
        <p:spPr>
          <a:xfrm>
            <a:off x="2822400" y="1600200"/>
            <a:ext cx="34992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Любит красную морковку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Грызёт капусту очень ловко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Скачет он то тут, то там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По лесам и по полям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Серый, белый и косой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Кто, скажите, он такой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  <a:ea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5" name="Объект 3" descr=""/>
          <p:cNvPicPr/>
          <p:nvPr/>
        </p:nvPicPr>
        <p:blipFill>
          <a:blip r:embed="rId2"/>
          <a:srcRect l="24222" t="0" r="27632" b="0"/>
          <a:stretch/>
        </p:blipFill>
        <p:spPr>
          <a:xfrm>
            <a:off x="3203640" y="1557360"/>
            <a:ext cx="32637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Рыжая сестричка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Умная и хитрая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Куры боятся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От нее таятся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6:27:13Z</dcterms:created>
  <dc:creator>Admin</dc:creator>
  <dc:description/>
  <dc:language>en-US</dc:language>
  <cp:lastModifiedBy>RePack by Diakov</cp:lastModifiedBy>
  <dcterms:modified xsi:type="dcterms:W3CDTF">2020-04-13T20:15:12Z</dcterms:modified>
  <cp:revision>199</cp:revision>
  <dc:subject/>
  <dc:title>Слайд 1</dc:title>
</cp:coreProperties>
</file>