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89A-F021-4FB5-9CE8-86AFCBE5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592-8BA1-43D6-82C6-B8EBC6A6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7BB-9765-40A3-A87A-932523A1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38A-C3F7-40E1-892A-FF0FEF39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654-BB18-4F52-A84E-1D44956A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F4A-3082-4311-B682-CC46B86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886-367F-4C4E-8B71-B6364B3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7E3-2717-476E-A92D-B86C625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C56-686F-4044-84B1-AC10DF1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73F-632D-4673-8852-DD2CF04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7D3-E9DD-44BC-8125-3E4DC04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E69-6E46-4FDA-BDC4-55F85F6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61F-2B0C-449D-BAF8-0EBA0F87B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400" y="404640"/>
            <a:ext cx="73389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43280" y="3068280"/>
            <a:ext cx="396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539640" y="1332000"/>
            <a:ext cx="7848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00360" y="2923920"/>
            <a:ext cx="39592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472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03280" y="2637000"/>
            <a:ext cx="410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00000" y="2491920"/>
            <a:ext cx="4535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755640" y="1452600"/>
            <a:ext cx="80406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17672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3640" y="3068280"/>
            <a:ext cx="3456000" cy="20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8086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16000" y="2923920"/>
            <a:ext cx="3168360" cy="165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116000" y="155736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484280"/>
            <a:ext cx="3943440" cy="504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788000" y="2205000"/>
            <a:ext cx="4130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0" y="41400"/>
            <a:ext cx="876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27640" y="3071880"/>
            <a:ext cx="223992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47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427640" y="1773360"/>
            <a:ext cx="4259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457200" y="1606680"/>
            <a:ext cx="8229600" cy="45194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457200" y="1268280"/>
            <a:ext cx="8232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556720" y="2418840"/>
            <a:ext cx="2601720" cy="9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457200" y="2419200"/>
            <a:ext cx="82296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dfgghe gegrby</cp:lastModifiedBy>
  <dcterms:modified xsi:type="dcterms:W3CDTF">2020-04-13T08:50:44Z</dcterms:modified>
  <cp:revision>25</cp:revision>
  <dc:subject/>
  <dc:title>Слайд 1</dc:title>
</cp:coreProperties>
</file>