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AAB-F1F3-45AC-83A1-86AAA462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0D4-BCF6-425F-B613-7A8381D3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C89A-9A39-4202-89DA-8A9696C7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FF4-157D-44C2-BF0D-4218A92E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BDB-A771-4A9A-A638-277D06CF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99D0-7B0A-4719-96BE-94A1D1A6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1F9-BA12-4845-B0DB-7416BB6A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22A-BD2D-4771-9640-CD3ECCBB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892-1D98-4731-A38F-193B5A5C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08F-27D4-45FA-8C13-A4F0BF18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C9E-7338-414E-B09E-F5ACEC60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00F-3395-49C2-A1C1-83805197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0FBE-5DE6-44CE-BA7E-DF44CEF777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1042920" y="1844640"/>
            <a:ext cx="7345440" cy="468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9400" y="404640"/>
            <a:ext cx="73389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f497d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на из космоса тоже видна как шар. Луна намного меньше нашей планеты Зем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43280" y="3068280"/>
            <a:ext cx="3960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://middleschool.gardencity.k12.ny.us/UserFiles/Servers/Server_881145/Image/pane/Earth-moon.jpg"/>
          <p:cNvPicPr/>
          <p:nvPr/>
        </p:nvPicPr>
        <p:blipFill>
          <a:blip r:embed="rId1"/>
          <a:stretch/>
        </p:blipFill>
        <p:spPr>
          <a:xfrm>
            <a:off x="539640" y="1332000"/>
            <a:ext cx="7848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00360" y="2923920"/>
            <a:ext cx="395928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h6.img.mediacache.rugion.ru/_i/forum/files/88/85/80/8885809_2s308_1308241732.gif"/>
          <p:cNvPicPr/>
          <p:nvPr/>
        </p:nvPicPr>
        <p:blipFill>
          <a:blip r:embed="rId1"/>
          <a:stretch/>
        </p:blipFill>
        <p:spPr>
          <a:xfrm>
            <a:off x="1979640" y="1530360"/>
            <a:ext cx="54720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03280" y="2637000"/>
            <a:ext cx="410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1332000" y="1413000"/>
            <a:ext cx="6985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е космонавты увидели в космосе планеты, которые вращались вокруг Сол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700000" y="2491920"/>
            <a:ext cx="45356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www.kaliteliresimler.com/data/media/152/rili_ufakl_gezegenler.jpg"/>
          <p:cNvPicPr/>
          <p:nvPr/>
        </p:nvPicPr>
        <p:blipFill>
          <a:blip r:embed="rId1"/>
          <a:stretch/>
        </p:blipFill>
        <p:spPr>
          <a:xfrm>
            <a:off x="755640" y="1452600"/>
            <a:ext cx="80406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на этой картинке изображены все планеты, которые вращаются вокруг Солнца. Обрати внимание, какое огромное наше Солнышко! Оно больше всех остальных планет вместе взятых! А наша планета Земля – вот она – третья от Солнца – совсем небольшая по сравнению с другими планет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4176720" cy="201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photojournal.jpl.nasa.gov/jpegMod/PIA06890_modest.jpg"/>
          <p:cNvPicPr/>
          <p:nvPr/>
        </p:nvPicPr>
        <p:blipFill>
          <a:blip r:embed="rId2"/>
          <a:stretch/>
        </p:blipFill>
        <p:spPr>
          <a:xfrm>
            <a:off x="1116000" y="1509840"/>
            <a:ext cx="709776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планеты солнечной системы вращаются вокруг Солнца по своей орбите. 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03640" y="3068280"/>
            <a:ext cx="3456000" cy="20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iki.iteach.ru/images/7/7f/%D0%9A%D0%BE%D1%81%D0%BC%D0%BE%D1%81_%D0%9F._%D0%98..png"/>
          <p:cNvPicPr/>
          <p:nvPr/>
        </p:nvPicPr>
        <p:blipFill>
          <a:blip r:embed="rId2"/>
          <a:stretch/>
        </p:blipFill>
        <p:spPr>
          <a:xfrm>
            <a:off x="611280" y="1628640"/>
            <a:ext cx="8086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сколько интересного космонавты могут увидеть в космосе! Теперь обо всем этом знаешь и ты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16000" y="2923920"/>
            <a:ext cx="3168360" cy="1657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mywidescreenwallpapers.com/wallpapers/various_10/earth_and_the_moon_widescreen_wallpaper_44432.jpg"/>
          <p:cNvPicPr/>
          <p:nvPr/>
        </p:nvPicPr>
        <p:blipFill>
          <a:blip r:embed="rId2"/>
          <a:srcRect l="15309" t="0" r="12387" b="0"/>
          <a:stretch/>
        </p:blipFill>
        <p:spPr>
          <a:xfrm>
            <a:off x="1116000" y="1557360"/>
            <a:ext cx="7056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457200" y="1417680"/>
            <a:ext cx="82296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484280"/>
            <a:ext cx="3943440" cy="504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gameru.net/forum/uploads/1302632274/gallery_13942_499_51531.png"/>
          <p:cNvPicPr/>
          <p:nvPr/>
        </p:nvPicPr>
        <p:blipFill>
          <a:blip r:embed="rId2"/>
          <a:srcRect l="0" t="0" r="10956" b="0"/>
          <a:stretch/>
        </p:blipFill>
        <p:spPr>
          <a:xfrm>
            <a:off x="4788000" y="2205000"/>
            <a:ext cx="4130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200" y="41400"/>
            <a:ext cx="876960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27640" y="3071880"/>
            <a:ext cx="223992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upload.wikimedia.org/wikipedia/commons/5/58/Russian_space_suit_3.jpg"/>
          <p:cNvPicPr/>
          <p:nvPr/>
        </p:nvPicPr>
        <p:blipFill>
          <a:blip r:embed="rId1"/>
          <a:stretch/>
        </p:blipFill>
        <p:spPr>
          <a:xfrm>
            <a:off x="324000" y="1773360"/>
            <a:ext cx="3960720" cy="475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yeniresim.com/data/media/353/www.yeniresim.com_-_Uzay_Resimleri_-_Astronot.jpg"/>
          <p:cNvPicPr/>
          <p:nvPr/>
        </p:nvPicPr>
        <p:blipFill>
          <a:blip r:embed="rId2"/>
          <a:stretch/>
        </p:blipFill>
        <p:spPr>
          <a:xfrm>
            <a:off x="4427640" y="1773360"/>
            <a:ext cx="42591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457200" y="1606680"/>
            <a:ext cx="8229600" cy="45194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457200" y="1268280"/>
            <a:ext cx="8232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556720" y="2418840"/>
            <a:ext cx="2601720" cy="9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457200" y="2419200"/>
            <a:ext cx="82296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dfgghe gegrby</cp:lastModifiedBy>
  <dcterms:modified xsi:type="dcterms:W3CDTF">2020-04-13T08:50:44Z</dcterms:modified>
  <cp:revision>25</cp:revision>
  <dc:subject/>
  <dc:title>Слайд 1</dc:title>
</cp:coreProperties>
</file>