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6CE7-C5AA-4464-899B-52DFCDA93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BA08-A34E-455E-A804-6B35359FF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0FE0-CB7C-485B-8CBA-D838D4625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44D7-FA85-40C7-B29A-EFC781330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7312-E44C-4CDD-8B24-4D53990B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78AA-3977-4219-99C2-E0EB8EB8C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92CD-DC9C-4451-80A7-D96FE3BB4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01B3-1CDD-4DCA-B8B8-A4B9C6390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F7C9-F5F5-4B41-9B09-DCEDE6A6B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12C4-DBD7-44F0-A835-9C855E39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ADC4-5218-4FD7-8F5D-6A7CD154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8FDD-3933-428B-8191-413F236C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9302a"/>
                </a:solidFill>
                <a:latin typeface="Monotype Corsiva"/>
              </a:rPr>
              <a:t>Click to edit the title text format</a:t>
            </a: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02a"/>
                </a:solidFill>
                <a:latin typeface="Monotype Corsiva"/>
              </a:rPr>
              <a:t>Click to edit the outline text format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02a"/>
                </a:solidFill>
                <a:latin typeface="Monotype Corsiva"/>
              </a:rPr>
              <a:t>Second Outline Level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02a"/>
                </a:solidFill>
                <a:latin typeface="Monotype Corsiva"/>
              </a:rPr>
              <a:t>Third Outline Level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02a"/>
                </a:solidFill>
                <a:latin typeface="Monotype Corsiva"/>
              </a:rPr>
              <a:t>Fourth Outline Level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02a"/>
                </a:solidFill>
                <a:latin typeface="Monotype Corsiva"/>
              </a:rPr>
              <a:t>Fifth Outline Level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02a"/>
                </a:solidFill>
                <a:latin typeface="Monotype Corsiva"/>
              </a:rPr>
              <a:t>Sixth Outline Level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930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02a"/>
                </a:solidFill>
                <a:latin typeface="Monotype Corsiva"/>
              </a:rPr>
              <a:t>Seventh Outline Level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08e8d"/>
                </a:solidFill>
                <a:latin typeface="Monotype Corsi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E23B3-6E29-4BAE-83BD-BD706BC5C923}" type="slidenum">
              <a:rPr b="0" lang="ru-RU" sz="1200" spc="-1" strike="noStrike">
                <a:solidFill>
                  <a:srgbClr val="908e8d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99"/>
                </a:solidFill>
                <a:latin typeface="Monotype Corsiva"/>
              </a:rPr>
              <a:t>Развивающая предметно - пространственная среда, как механизм развития образовательного процесса.</a:t>
            </a:r>
            <a:r>
              <a:rPr b="0" lang="ru-RU" sz="4000" spc="-1" strike="noStrike">
                <a:solidFill>
                  <a:srgbClr val="39302a"/>
                </a:solidFill>
                <a:latin typeface="Monotype Corsiva"/>
              </a:rPr>
              <a:t> </a:t>
            </a:r>
            <a:endParaRPr b="0" lang="en-US" sz="40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Monotype Corsiva"/>
              </a:rPr>
              <a:t>Группа «Затейники»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Monotype Corsiva"/>
              </a:rPr>
              <a:t>Воспитатели: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Monotype Corsiva"/>
              </a:rPr>
              <a:t>                         </a:t>
            </a:r>
            <a:r>
              <a:rPr b="1" i="1" lang="ru-RU" sz="2800" spc="-1" strike="noStrike">
                <a:solidFill>
                  <a:srgbClr val="000099"/>
                </a:solidFill>
                <a:latin typeface="Monotype Corsiva"/>
              </a:rPr>
              <a:t>Варвянская  Т.И.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Monotype Corsiva"/>
              </a:rPr>
              <a:t>Токарева Г.М.</a:t>
            </a:r>
            <a:endParaRPr b="0" lang="en-US" sz="2800" spc="-1" strike="noStrike">
              <a:solidFill>
                <a:srgbClr val="39302a"/>
              </a:solidFill>
              <a:latin typeface="Monotype Corsiva"/>
            </a:endParaRPr>
          </a:p>
        </p:txBody>
      </p:sp>
      <p:pic>
        <p:nvPicPr>
          <p:cNvPr id="43" name="natasha_koroleva_-_malenkaya_strana_(zaycev.net).mp3" descr=""/>
          <p:cNvPicPr/>
          <p:nvPr/>
        </p:nvPicPr>
        <p:blipFill>
          <a:blip r:embed="rId1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30000" y="478800"/>
            <a:ext cx="2949480" cy="9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36576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omic Sans MS"/>
              </a:rPr>
              <a:t>В парикмахерской шикарной</a:t>
            </a:r>
            <a:endParaRPr b="0" lang="en-US" sz="1800" spc="-1" strike="noStrike">
              <a:solidFill>
                <a:srgbClr val="39302a"/>
              </a:solidFill>
              <a:latin typeface="Monotype Corsiva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omic Sans MS"/>
              </a:rPr>
              <a:t>Есть весь нужный инструмент,</a:t>
            </a:r>
            <a:endParaRPr b="0" lang="en-US" sz="1800" spc="-1" strike="noStrike">
              <a:solidFill>
                <a:srgbClr val="39302a"/>
              </a:solidFill>
              <a:latin typeface="Monotype Corsiva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omic Sans MS"/>
              </a:rPr>
              <a:t>Тушь, помада и румяна.</a:t>
            </a:r>
            <a:endParaRPr b="0" lang="en-US" sz="1800" spc="-1" strike="noStrike">
              <a:solidFill>
                <a:srgbClr val="39302a"/>
              </a:solidFill>
              <a:latin typeface="Monotype Corsiva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omic Sans MS"/>
              </a:rPr>
              <a:t>Вот «Шанели» только нет!</a:t>
            </a:r>
            <a:endParaRPr b="0" lang="en-US" sz="1800" spc="-1" strike="noStrike">
              <a:solidFill>
                <a:srgbClr val="39302a"/>
              </a:solidFill>
              <a:latin typeface="Monotype Corsiva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omic Sans MS"/>
              </a:rPr>
              <a:t>Если очень постараться,</a:t>
            </a:r>
            <a:endParaRPr b="0" lang="en-US" sz="1800" spc="-1" strike="noStrike">
              <a:solidFill>
                <a:srgbClr val="39302a"/>
              </a:solidFill>
              <a:latin typeface="Monotype Corsiva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omic Sans MS"/>
              </a:rPr>
              <a:t>Сможем так подстричь, завить,</a:t>
            </a:r>
            <a:endParaRPr b="0" lang="en-US" sz="1800" spc="-1" strike="noStrike">
              <a:solidFill>
                <a:srgbClr val="39302a"/>
              </a:solidFill>
              <a:latin typeface="Monotype Corsiva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omic Sans MS"/>
              </a:rPr>
              <a:t>Что принцессу с замарашкой</a:t>
            </a:r>
            <a:endParaRPr b="0" lang="en-US" sz="1800" spc="-1" strike="noStrike">
              <a:solidFill>
                <a:srgbClr val="39302a"/>
              </a:solidFill>
              <a:latin typeface="Monotype Corsiva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omic Sans MS"/>
              </a:rPr>
              <a:t>Принц не сможет различить!</a:t>
            </a:r>
            <a:endParaRPr b="0" lang="en-US" sz="1800" spc="-1" strike="noStrike">
              <a:solidFill>
                <a:srgbClr val="39302a"/>
              </a:solidFill>
              <a:latin typeface="Monotype Corsiva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9302a"/>
              </a:solidFill>
              <a:latin typeface="Monotype Corsiva"/>
            </a:endParaRPr>
          </a:p>
        </p:txBody>
      </p:sp>
      <p:pic>
        <p:nvPicPr>
          <p:cNvPr id="71" name="Picture 15" descr="C:\Users\Home\Desktop\Фото Сад\P1100339.JPG"/>
          <p:cNvPicPr/>
          <p:nvPr/>
        </p:nvPicPr>
        <p:blipFill>
          <a:blip r:embed="rId1"/>
          <a:stretch/>
        </p:blipFill>
        <p:spPr>
          <a:xfrm>
            <a:off x="5121360" y="380880"/>
            <a:ext cx="3717720" cy="48769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3"/>
          <p:cNvSpPr/>
          <p:nvPr/>
        </p:nvSpPr>
        <p:spPr>
          <a:xfrm>
            <a:off x="228600" y="22860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omic Sans MS"/>
              </a:rPr>
              <a:t>В дочки матери играем,</a:t>
            </a:r>
            <a:endParaRPr b="0" lang="en-US" sz="18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omic Sans MS"/>
              </a:rPr>
              <a:t> </a:t>
            </a:r>
            <a:r>
              <a:rPr b="1" lang="ru-RU" sz="1800" spc="-1" strike="noStrike">
                <a:solidFill>
                  <a:srgbClr val="002060"/>
                </a:solidFill>
                <a:latin typeface="Comic Sans MS"/>
              </a:rPr>
              <a:t>кукол чаем угощаем.</a:t>
            </a:r>
            <a:endParaRPr b="0" lang="en-US" sz="18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omic Sans MS"/>
              </a:rPr>
              <a:t>Все для куклы Маши есть,</a:t>
            </a:r>
            <a:endParaRPr b="0" lang="en-US" sz="18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omic Sans MS"/>
              </a:rPr>
              <a:t>нравится ребятам здесь.</a:t>
            </a:r>
            <a:endParaRPr b="0" lang="en-US" sz="1800" spc="-1" strike="noStrike">
              <a:solidFill>
                <a:srgbClr val="39302a"/>
              </a:solidFill>
              <a:latin typeface="Monotype Corsiva"/>
            </a:endParaRPr>
          </a:p>
        </p:txBody>
      </p:sp>
      <p:pic>
        <p:nvPicPr>
          <p:cNvPr id="73" name="Picture 5" descr="C:\Users\Home\Desktop\Фото Сад\P1100348.JPG"/>
          <p:cNvPicPr/>
          <p:nvPr/>
        </p:nvPicPr>
        <p:blipFill>
          <a:blip r:embed="rId1"/>
          <a:stretch/>
        </p:blipFill>
        <p:spPr>
          <a:xfrm>
            <a:off x="4902120" y="457200"/>
            <a:ext cx="3861000" cy="2895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C:\Users\Home\Desktop\Фото Сад\P1100347.JPG"/>
          <p:cNvPicPr/>
          <p:nvPr/>
        </p:nvPicPr>
        <p:blipFill>
          <a:blip r:embed="rId2"/>
          <a:stretch/>
        </p:blipFill>
        <p:spPr>
          <a:xfrm>
            <a:off x="696960" y="2870280"/>
            <a:ext cx="3487680" cy="26161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-48240"/>
            <a:ext cx="2876760" cy="12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350532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Comic Sans MS"/>
              </a:rPr>
              <a:t>У нас есть много инструментов:</a:t>
            </a:r>
            <a:endParaRPr b="0" lang="en-US" sz="1600" spc="-1" strike="noStrike">
              <a:solidFill>
                <a:srgbClr val="39302a"/>
              </a:solidFill>
              <a:latin typeface="Monotype Corsiva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Comic Sans MS"/>
              </a:rPr>
              <a:t>Свирель, гитара, ксилофон,</a:t>
            </a:r>
            <a:endParaRPr b="0" lang="en-US" sz="1600" spc="-1" strike="noStrike">
              <a:solidFill>
                <a:srgbClr val="39302a"/>
              </a:solidFill>
              <a:latin typeface="Monotype Corsiva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Comic Sans MS"/>
              </a:rPr>
              <a:t>Труба, гармошка, бубны, флейты,</a:t>
            </a:r>
            <a:endParaRPr b="0" lang="en-US" sz="1600" spc="-1" strike="noStrike">
              <a:solidFill>
                <a:srgbClr val="39302a"/>
              </a:solidFill>
              <a:latin typeface="Monotype Corsiva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Comic Sans MS"/>
              </a:rPr>
              <a:t>И даже есть аккордеон.</a:t>
            </a:r>
            <a:endParaRPr b="0" lang="en-US" sz="1600" spc="-1" strike="noStrike">
              <a:solidFill>
                <a:srgbClr val="39302a"/>
              </a:solidFill>
              <a:latin typeface="Monotype Corsiva"/>
            </a:endParaRPr>
          </a:p>
        </p:txBody>
      </p:sp>
      <p:pic>
        <p:nvPicPr>
          <p:cNvPr id="77" name="Содержимое 4" descr="P1100358.JPG"/>
          <p:cNvPicPr/>
          <p:nvPr/>
        </p:nvPicPr>
        <p:blipFill>
          <a:blip r:embed="rId1"/>
          <a:stretch/>
        </p:blipFill>
        <p:spPr>
          <a:xfrm>
            <a:off x="5025960" y="457200"/>
            <a:ext cx="3813120" cy="44956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wheel spokes="2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8560" y="-349920"/>
            <a:ext cx="203832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28560" y="1219320"/>
            <a:ext cx="386712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Comic Sans MS"/>
              </a:rPr>
              <a:t>Очень мы театры любим, </a:t>
            </a:r>
            <a:endParaRPr b="0" lang="en-US" sz="1600" spc="-1" strike="noStrike">
              <a:solidFill>
                <a:srgbClr val="39302a"/>
              </a:solidFill>
              <a:latin typeface="Monotype Corsiva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Comic Sans MS"/>
              </a:rPr>
              <a:t>Круглый год мы с ними дружим:</a:t>
            </a:r>
            <a:endParaRPr b="0" lang="en-US" sz="1600" spc="-1" strike="noStrike">
              <a:solidFill>
                <a:srgbClr val="39302a"/>
              </a:solidFill>
              <a:latin typeface="Monotype Corsiva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Comic Sans MS"/>
              </a:rPr>
              <a:t>В нашей группе все актеры,</a:t>
            </a:r>
            <a:endParaRPr b="0" lang="en-US" sz="1600" spc="-1" strike="noStrike">
              <a:solidFill>
                <a:srgbClr val="39302a"/>
              </a:solidFill>
              <a:latin typeface="Monotype Corsiva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Comic Sans MS"/>
              </a:rPr>
              <a:t>Кукловоды и танцоры,</a:t>
            </a:r>
            <a:endParaRPr b="0" lang="en-US" sz="1600" spc="-1" strike="noStrike">
              <a:solidFill>
                <a:srgbClr val="39302a"/>
              </a:solidFill>
              <a:latin typeface="Monotype Corsiva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Comic Sans MS"/>
              </a:rPr>
              <a:t>Каждый день и каждый час</a:t>
            </a:r>
            <a:endParaRPr b="0" lang="en-US" sz="1600" spc="-1" strike="noStrike">
              <a:solidFill>
                <a:srgbClr val="39302a"/>
              </a:solidFill>
              <a:latin typeface="Monotype Corsiva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Comic Sans MS"/>
              </a:rPr>
              <a:t>Мы хотим играть для Вас!!!</a:t>
            </a:r>
            <a:endParaRPr b="0" lang="en-US" sz="1600" spc="-1" strike="noStrike">
              <a:solidFill>
                <a:srgbClr val="39302a"/>
              </a:solidFill>
              <a:latin typeface="Monotype Corsiva"/>
            </a:endParaRPr>
          </a:p>
        </p:txBody>
      </p:sp>
      <p:pic>
        <p:nvPicPr>
          <p:cNvPr id="80" name="Рисунок 1" descr=""/>
          <p:cNvPicPr/>
          <p:nvPr/>
        </p:nvPicPr>
        <p:blipFill>
          <a:blip r:embed="rId1"/>
          <a:stretch/>
        </p:blipFill>
        <p:spPr>
          <a:xfrm>
            <a:off x="457200" y="3505320"/>
            <a:ext cx="3595680" cy="2697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F:\!дет.сад\Затейники 2016 год группа\P1100355.JPG"/>
          <p:cNvPicPr/>
          <p:nvPr/>
        </p:nvPicPr>
        <p:blipFill>
          <a:blip r:embed="rId2"/>
          <a:stretch/>
        </p:blipFill>
        <p:spPr>
          <a:xfrm>
            <a:off x="5181480" y="1219320"/>
            <a:ext cx="3681360" cy="29876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in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3" descr=""/>
          <p:cNvPicPr/>
          <p:nvPr/>
        </p:nvPicPr>
        <p:blipFill>
          <a:blip r:embed="rId1"/>
          <a:stretch/>
        </p:blipFill>
        <p:spPr>
          <a:xfrm>
            <a:off x="5979960" y="1031760"/>
            <a:ext cx="2934000" cy="422604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2" descr=""/>
          <p:cNvPicPr/>
          <p:nvPr/>
        </p:nvPicPr>
        <p:blipFill>
          <a:blip r:embed="rId2"/>
          <a:stretch/>
        </p:blipFill>
        <p:spPr>
          <a:xfrm>
            <a:off x="192240" y="990720"/>
            <a:ext cx="2668320" cy="41907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2895480" y="533160"/>
            <a:ext cx="28958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6000"/>
          </a:bodyPr>
          <a:p>
            <a:pPr marL="82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omic Sans MS"/>
              </a:rPr>
              <a:t>Это всё –Эксперименты-</a:t>
            </a:r>
            <a:endParaRPr b="0" lang="en-US" sz="1800" spc="-1" strike="noStrike">
              <a:solidFill>
                <a:srgbClr val="39302a"/>
              </a:solidFill>
              <a:latin typeface="Monotype Corsiva"/>
            </a:endParaRPr>
          </a:p>
          <a:p>
            <a:pPr marL="82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omic Sans MS"/>
              </a:rPr>
              <a:t>Интересные моменты!</a:t>
            </a:r>
            <a:endParaRPr b="0" lang="en-US" sz="1800" spc="-1" strike="noStrike">
              <a:solidFill>
                <a:srgbClr val="39302a"/>
              </a:solidFill>
              <a:latin typeface="Monotype Corsiva"/>
            </a:endParaRPr>
          </a:p>
          <a:p>
            <a:pPr marL="82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omic Sans MS"/>
              </a:rPr>
              <a:t>Всё, всё, всё хотим узнать!</a:t>
            </a:r>
            <a:endParaRPr b="0" lang="en-US" sz="1800" spc="-1" strike="noStrike">
              <a:solidFill>
                <a:srgbClr val="39302a"/>
              </a:solidFill>
              <a:latin typeface="Monotype Corsiva"/>
            </a:endParaRPr>
          </a:p>
          <a:p>
            <a:pPr marL="82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omic Sans MS"/>
              </a:rPr>
              <a:t>Нужно всё зарисовать!</a:t>
            </a:r>
            <a:endParaRPr b="0" lang="en-US" sz="1800" spc="-1" strike="noStrike">
              <a:solidFill>
                <a:srgbClr val="39302a"/>
              </a:solidFill>
              <a:latin typeface="Monotype Corsiva"/>
            </a:endParaRPr>
          </a:p>
          <a:p>
            <a:pPr marL="82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omic Sans MS"/>
              </a:rPr>
              <a:t>Как наш опыт получился,</a:t>
            </a:r>
            <a:endParaRPr b="0" lang="en-US" sz="1800" spc="-1" strike="noStrike">
              <a:solidFill>
                <a:srgbClr val="39302a"/>
              </a:solidFill>
              <a:latin typeface="Monotype Corsiva"/>
            </a:endParaRPr>
          </a:p>
          <a:p>
            <a:pPr marL="82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omic Sans MS"/>
              </a:rPr>
              <a:t>Сколько времени он длился?</a:t>
            </a:r>
            <a:endParaRPr b="0" lang="en-US" sz="1800" spc="-1" strike="noStrike">
              <a:solidFill>
                <a:srgbClr val="39302a"/>
              </a:solidFill>
              <a:latin typeface="Monotype Corsiva"/>
            </a:endParaRPr>
          </a:p>
          <a:p>
            <a:pPr marL="82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omic Sans MS"/>
              </a:rPr>
              <a:t>Удивляемся всему:</a:t>
            </a:r>
            <a:endParaRPr b="0" lang="en-US" sz="1800" spc="-1" strike="noStrike">
              <a:solidFill>
                <a:srgbClr val="39302a"/>
              </a:solidFill>
              <a:latin typeface="Monotype Corsiva"/>
            </a:endParaRPr>
          </a:p>
          <a:p>
            <a:pPr marL="82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omic Sans MS"/>
              </a:rPr>
              <a:t>Как? Зачем? И почему?</a:t>
            </a:r>
            <a:endParaRPr b="0" lang="en-US" sz="1800" spc="-1" strike="noStrike">
              <a:solidFill>
                <a:srgbClr val="39302a"/>
              </a:solidFill>
              <a:latin typeface="Monotype Corsiva"/>
            </a:endParaRPr>
          </a:p>
        </p:txBody>
      </p:sp>
    </p:spTree>
  </p:cSld>
  <p:transition spd="slow" advTm="6000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30000" y="250200"/>
            <a:ext cx="2949480" cy="9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954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omic Sans MS"/>
              </a:rPr>
              <a:t>И в десять лет, и в семь, и в пять</a:t>
            </a:r>
            <a:endParaRPr b="0" lang="en-US" sz="1800" spc="-1" strike="noStrike">
              <a:solidFill>
                <a:srgbClr val="39302a"/>
              </a:solidFill>
              <a:latin typeface="Monotype Corsiva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omic Sans MS"/>
              </a:rPr>
              <a:t>Все дети любят рисовать.</a:t>
            </a:r>
            <a:endParaRPr b="0" lang="en-US" sz="1800" spc="-1" strike="noStrike">
              <a:solidFill>
                <a:srgbClr val="39302a"/>
              </a:solidFill>
              <a:latin typeface="Monotype Corsiva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omic Sans MS"/>
              </a:rPr>
              <a:t>И каждый смело нарисует</a:t>
            </a:r>
            <a:endParaRPr b="0" lang="en-US" sz="1800" spc="-1" strike="noStrike">
              <a:solidFill>
                <a:srgbClr val="39302a"/>
              </a:solidFill>
              <a:latin typeface="Monotype Corsiva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omic Sans MS"/>
              </a:rPr>
              <a:t>Все, что его интересует!</a:t>
            </a:r>
            <a:endParaRPr b="0" lang="en-US" sz="1800" spc="-1" strike="noStrike">
              <a:solidFill>
                <a:srgbClr val="39302a"/>
              </a:solidFill>
              <a:latin typeface="Monotype Corsiva"/>
            </a:endParaRPr>
          </a:p>
        </p:txBody>
      </p:sp>
      <p:pic>
        <p:nvPicPr>
          <p:cNvPr id="87" name="Picture 4" descr="C:\Users\Home\Desktop\Фото Сад\P1100346.JPG"/>
          <p:cNvPicPr/>
          <p:nvPr/>
        </p:nvPicPr>
        <p:blipFill>
          <a:blip r:embed="rId1"/>
          <a:stretch/>
        </p:blipFill>
        <p:spPr>
          <a:xfrm>
            <a:off x="4648320" y="533520"/>
            <a:ext cx="4343400" cy="44053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30000" y="212040"/>
            <a:ext cx="2949480" cy="9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560" y="762120"/>
            <a:ext cx="2895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omic Sans MS"/>
              </a:rPr>
              <a:t>Что за чудо эти книжки! </a:t>
            </a:r>
            <a:endParaRPr b="0" lang="en-US" sz="1800" spc="-1" strike="noStrike">
              <a:solidFill>
                <a:srgbClr val="39302a"/>
              </a:solidFill>
              <a:latin typeface="Monotype Corsiva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omic Sans MS"/>
              </a:rPr>
              <a:t>Меж страницами живут</a:t>
            </a:r>
            <a:endParaRPr b="0" lang="en-US" sz="1800" spc="-1" strike="noStrike">
              <a:solidFill>
                <a:srgbClr val="39302a"/>
              </a:solidFill>
              <a:latin typeface="Monotype Corsiva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omic Sans MS"/>
              </a:rPr>
              <a:t>Колобок, зайчата, мишки,</a:t>
            </a:r>
            <a:endParaRPr b="0" lang="en-US" sz="1800" spc="-1" strike="noStrike">
              <a:solidFill>
                <a:srgbClr val="39302a"/>
              </a:solidFill>
              <a:latin typeface="Monotype Corsiva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omic Sans MS"/>
              </a:rPr>
              <a:t>Гулливер и лилипут,</a:t>
            </a:r>
            <a:endParaRPr b="0" lang="en-US" sz="1800" spc="-1" strike="noStrike">
              <a:solidFill>
                <a:srgbClr val="39302a"/>
              </a:solidFill>
              <a:latin typeface="Monotype Corsiva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omic Sans MS"/>
              </a:rPr>
              <a:t>Мы героев сказок любим,</a:t>
            </a:r>
            <a:endParaRPr b="0" lang="en-US" sz="1800" spc="-1" strike="noStrike">
              <a:solidFill>
                <a:srgbClr val="39302a"/>
              </a:solidFill>
              <a:latin typeface="Monotype Corsiva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omic Sans MS"/>
              </a:rPr>
              <a:t>Книжки очень бережем,</a:t>
            </a:r>
            <a:endParaRPr b="0" lang="en-US" sz="1800" spc="-1" strike="noStrike">
              <a:solidFill>
                <a:srgbClr val="39302a"/>
              </a:solidFill>
              <a:latin typeface="Monotype Corsiva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omic Sans MS"/>
              </a:rPr>
              <a:t>И читать  их сами будем.</a:t>
            </a:r>
            <a:endParaRPr b="0" lang="en-US" sz="1800" spc="-1" strike="noStrike">
              <a:solidFill>
                <a:srgbClr val="39302a"/>
              </a:solidFill>
              <a:latin typeface="Monotype Corsiva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omic Sans MS"/>
              </a:rPr>
              <a:t>Только малость подрастем!</a:t>
            </a:r>
            <a:endParaRPr b="0" lang="en-US" sz="1800" spc="-1" strike="noStrike">
              <a:solidFill>
                <a:srgbClr val="39302a"/>
              </a:solidFill>
              <a:latin typeface="Monotype Corsiva"/>
            </a:endParaRPr>
          </a:p>
        </p:txBody>
      </p:sp>
      <p:pic>
        <p:nvPicPr>
          <p:cNvPr id="90" name="Picture 4" descr="C:\Users\Home\Desktop\Фото Сад\P1100340.JPG"/>
          <p:cNvPicPr/>
          <p:nvPr/>
        </p:nvPicPr>
        <p:blipFill>
          <a:blip r:embed="rId1"/>
          <a:stretch/>
        </p:blipFill>
        <p:spPr>
          <a:xfrm>
            <a:off x="4876920" y="609480"/>
            <a:ext cx="4114800" cy="42260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30360" y="457200"/>
            <a:ext cx="683712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Monotype Corsiva"/>
              </a:rPr>
              <a:t>Спортивный центр</a:t>
            </a:r>
            <a:endParaRPr b="0" lang="en-US" sz="32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30360" y="1219320"/>
            <a:ext cx="272232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omic Sans MS"/>
                <a:ea typeface="Browallia New"/>
              </a:rPr>
              <a:t>Вот спортивный уголок,</a:t>
            </a:r>
            <a:endParaRPr b="0" lang="en-US" sz="1800" spc="-1" strike="noStrike">
              <a:solidFill>
                <a:srgbClr val="39302a"/>
              </a:solidFill>
              <a:latin typeface="Monotype Corsiva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omic Sans MS"/>
                <a:ea typeface="Browallia New"/>
              </a:rPr>
              <a:t>Здесь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  <a:ea typeface="Browallia New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Comic Sans MS"/>
                <a:ea typeface="Browallia New"/>
              </a:rPr>
              <a:t>мы тренируемся.</a:t>
            </a:r>
            <a:endParaRPr b="0" lang="en-US" sz="1800" spc="-1" strike="noStrike">
              <a:solidFill>
                <a:srgbClr val="39302a"/>
              </a:solidFill>
              <a:latin typeface="Monotype Corsiva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omic Sans MS"/>
                <a:ea typeface="Browallia New"/>
              </a:rPr>
              <a:t>Пресс качаем, приседаем,</a:t>
            </a:r>
            <a:endParaRPr b="0" lang="en-US" sz="1800" spc="-1" strike="noStrike">
              <a:solidFill>
                <a:srgbClr val="39302a"/>
              </a:solidFill>
              <a:latin typeface="Monotype Corsiva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omic Sans MS"/>
                <a:ea typeface="Browallia New"/>
              </a:rPr>
              <a:t>Быть здоровыми желаем</a:t>
            </a:r>
            <a:r>
              <a:rPr b="0" lang="ru-RU" sz="16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39302a"/>
              </a:solidFill>
              <a:latin typeface="Monotype Corsiva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9302a"/>
              </a:solidFill>
              <a:latin typeface="Monotype Corsiva"/>
            </a:endParaRPr>
          </a:p>
        </p:txBody>
      </p:sp>
      <p:pic>
        <p:nvPicPr>
          <p:cNvPr id="93" name="Picture 2" descr="C:\Users\Home\Desktop\Фото Сад\P1100342.JPG"/>
          <p:cNvPicPr/>
          <p:nvPr/>
        </p:nvPicPr>
        <p:blipFill>
          <a:blip r:embed="rId1"/>
          <a:stretch/>
        </p:blipFill>
        <p:spPr>
          <a:xfrm>
            <a:off x="4267080" y="12193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30000" y="440640"/>
            <a:ext cx="2949480" cy="9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39302a"/>
              </a:solidFill>
              <a:latin typeface="Monotype Corsiva"/>
            </a:endParaRPr>
          </a:p>
        </p:txBody>
      </p:sp>
      <p:pic>
        <p:nvPicPr>
          <p:cNvPr id="95" name="Содержимое 6" descr="P1100354.JPG"/>
          <p:cNvPicPr/>
          <p:nvPr/>
        </p:nvPicPr>
        <p:blipFill>
          <a:blip r:embed="rId1"/>
          <a:stretch/>
        </p:blipFill>
        <p:spPr>
          <a:xfrm>
            <a:off x="5105520" y="380880"/>
            <a:ext cx="3657600" cy="50817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30360" y="1294920"/>
            <a:ext cx="31795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omic Sans MS"/>
              </a:rPr>
              <a:t>В первый класс нам рановато,</a:t>
            </a:r>
            <a:endParaRPr b="0" lang="en-US" sz="1800" spc="-1" strike="noStrike">
              <a:solidFill>
                <a:srgbClr val="39302a"/>
              </a:solidFill>
              <a:latin typeface="Monotype Corsiva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omic Sans MS"/>
              </a:rPr>
              <a:t>Но растем мы , как маслята.</a:t>
            </a:r>
            <a:endParaRPr b="0" lang="en-US" sz="1800" spc="-1" strike="noStrike">
              <a:solidFill>
                <a:srgbClr val="39302a"/>
              </a:solidFill>
              <a:latin typeface="Monotype Corsiva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omic Sans MS"/>
              </a:rPr>
              <a:t>Нам лениться не годится,</a:t>
            </a:r>
            <a:endParaRPr b="0" lang="en-US" sz="1800" spc="-1" strike="noStrike">
              <a:solidFill>
                <a:srgbClr val="39302a"/>
              </a:solidFill>
              <a:latin typeface="Monotype Corsiva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omic Sans MS"/>
              </a:rPr>
              <a:t>Мы научимся учиться!</a:t>
            </a:r>
            <a:endParaRPr b="0" lang="en-US" sz="1800" spc="-1" strike="noStrike">
              <a:solidFill>
                <a:srgbClr val="39302a"/>
              </a:solidFill>
              <a:latin typeface="Monotype Corsiva"/>
            </a:endParaRPr>
          </a:p>
        </p:txBody>
      </p:sp>
    </p:spTree>
  </p:cSld>
  <p:transition spd="slow" advTm="6000">
    <p:cover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Объект 3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3600360" cy="48006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4" descr=""/>
          <p:cNvPicPr/>
          <p:nvPr/>
        </p:nvPicPr>
        <p:blipFill>
          <a:blip r:embed="rId2"/>
          <a:stretch/>
        </p:blipFill>
        <p:spPr>
          <a:xfrm>
            <a:off x="5638680" y="2057400"/>
            <a:ext cx="3341880" cy="44560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365040"/>
            <a:ext cx="7315200" cy="6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2400" spc="-1" strike="noStrike">
                <a:solidFill>
                  <a:srgbClr val="000099"/>
                </a:solidFill>
                <a:latin typeface="Monotype Corsiva"/>
              </a:rPr>
              <a:t>В комнате у Мойдодыра,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Monotype Corsiva"/>
              </a:rPr>
              <a:t>полотенце есть и мыло.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Monotype Corsiva"/>
              </a:rPr>
              <a:t>Руки здесь мы будем мыть,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Monotype Corsiva"/>
              </a:rPr>
              <a:t> И за чистотой  следить.</a:t>
            </a:r>
            <a:endParaRPr b="0" lang="en-US" sz="2400" spc="-1" strike="noStrike">
              <a:solidFill>
                <a:srgbClr val="39302a"/>
              </a:solidFill>
              <a:latin typeface="Monotype Corsiva"/>
            </a:endParaRPr>
          </a:p>
        </p:txBody>
      </p:sp>
    </p:spTree>
  </p:cSld>
  <p:transition spd="slow" advTm="6000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8088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1987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9302a"/>
                </a:solidFill>
                <a:latin typeface="Monotype Corsiva"/>
              </a:rPr>
              <a:t>   </a:t>
            </a:r>
            <a:r>
              <a:rPr b="1" i="1" lang="ru-RU" sz="3200" spc="-1" strike="noStrike">
                <a:solidFill>
                  <a:srgbClr val="000099"/>
                </a:solidFill>
                <a:latin typeface="Monotype Corsiva"/>
              </a:rPr>
              <a:t>  </a:t>
            </a:r>
            <a:r>
              <a:rPr b="1" i="1" lang="ru-RU" sz="3200" spc="-1" strike="noStrike">
                <a:solidFill>
                  <a:srgbClr val="000099"/>
                </a:solidFill>
                <a:latin typeface="Monotype Corsiva"/>
              </a:rPr>
              <a:t>В соответствии с ФГОС ДО развивающая предметно – пространственная среда должна быть насыщенной, трансформируемой, полифункциональной, вариативной, доступной и безопасной.  Соблюдая это, мы предоставляем условия для двигательной активности детей и возможности их выбора. Насыщенность среды группы соответствует возрастным особенностям детей, имеется разнообразие материалов, оборудования, инвентаря и обеспечивает детям игровую, познавательную, творческую, двигательную активность, в том числе развитие крупной и мелкой моторики.. Предоставляем для просмотра наши развивающие центры.</a:t>
            </a:r>
            <a:endParaRPr b="0" lang="en-US" sz="3200" spc="-1" strike="noStrike">
              <a:solidFill>
                <a:srgbClr val="39302a"/>
              </a:solidFill>
              <a:latin typeface="Monotype Corsiva"/>
            </a:endParaRPr>
          </a:p>
        </p:txBody>
      </p:sp>
    </p:spTree>
  </p:cSld>
  <p:transition spd="slow" advTm="6000"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30000" y="403200"/>
            <a:ext cx="2949480" cy="9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30000" y="1219320"/>
            <a:ext cx="294948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omic Sans MS"/>
              </a:rPr>
              <a:t>Вот обед и  подошел,</a:t>
            </a:r>
            <a:endParaRPr b="0" lang="en-US" sz="1800" spc="-1" strike="noStrike">
              <a:solidFill>
                <a:srgbClr val="39302a"/>
              </a:solidFill>
              <a:latin typeface="Monotype Corsiva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omic Sans MS"/>
              </a:rPr>
              <a:t>Сели дети все за стол.</a:t>
            </a:r>
            <a:endParaRPr b="0" lang="en-US" sz="1800" spc="-1" strike="noStrike">
              <a:solidFill>
                <a:srgbClr val="39302a"/>
              </a:solidFill>
              <a:latin typeface="Monotype Corsiva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omic Sans MS"/>
              </a:rPr>
              <a:t>Чтобы не было беды,</a:t>
            </a:r>
            <a:endParaRPr b="0" lang="en-US" sz="1800" spc="-1" strike="noStrike">
              <a:solidFill>
                <a:srgbClr val="39302a"/>
              </a:solidFill>
              <a:latin typeface="Monotype Corsiva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omic Sans MS"/>
              </a:rPr>
              <a:t>Вспомним правила еды:</a:t>
            </a:r>
            <a:endParaRPr b="0" lang="en-US" sz="1800" spc="-1" strike="noStrike">
              <a:solidFill>
                <a:srgbClr val="39302a"/>
              </a:solidFill>
              <a:latin typeface="Monotype Corsiva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omic Sans MS"/>
              </a:rPr>
              <a:t>Наши ноги не стучат,</a:t>
            </a:r>
            <a:endParaRPr b="0" lang="en-US" sz="1800" spc="-1" strike="noStrike">
              <a:solidFill>
                <a:srgbClr val="39302a"/>
              </a:solidFill>
              <a:latin typeface="Monotype Corsiva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omic Sans MS"/>
              </a:rPr>
              <a:t>Язычки у нас молчат.</a:t>
            </a:r>
            <a:endParaRPr b="0" lang="en-US" sz="1800" spc="-1" strike="noStrike">
              <a:solidFill>
                <a:srgbClr val="39302a"/>
              </a:solidFill>
              <a:latin typeface="Monotype Corsiva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omic Sans MS"/>
              </a:rPr>
              <a:t>За обедом не сори,</a:t>
            </a:r>
            <a:endParaRPr b="0" lang="en-US" sz="1800" spc="-1" strike="noStrike">
              <a:solidFill>
                <a:srgbClr val="39302a"/>
              </a:solidFill>
              <a:latin typeface="Monotype Corsiva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omic Sans MS"/>
              </a:rPr>
              <a:t>Насорил – так убери!</a:t>
            </a:r>
            <a:endParaRPr b="0" lang="en-US" sz="1800" spc="-1" strike="noStrike">
              <a:solidFill>
                <a:srgbClr val="39302a"/>
              </a:solidFill>
              <a:latin typeface="Monotype Corsiva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9302a"/>
              </a:solidFill>
              <a:latin typeface="Monotype Corsiva"/>
            </a:endParaRPr>
          </a:p>
        </p:txBody>
      </p:sp>
      <p:pic>
        <p:nvPicPr>
          <p:cNvPr id="102" name="Объект 3" descr=""/>
          <p:cNvPicPr/>
          <p:nvPr/>
        </p:nvPicPr>
        <p:blipFill>
          <a:blip r:embed="rId1"/>
          <a:stretch/>
        </p:blipFill>
        <p:spPr>
          <a:xfrm>
            <a:off x="5029200" y="762120"/>
            <a:ext cx="3487680" cy="424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Объект 3" descr=""/>
          <p:cNvPicPr/>
          <p:nvPr/>
        </p:nvPicPr>
        <p:blipFill>
          <a:blip r:embed="rId1"/>
          <a:stretch/>
        </p:blipFill>
        <p:spPr>
          <a:xfrm>
            <a:off x="3276720" y="2590920"/>
            <a:ext cx="5333760" cy="40003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1560" y="533520"/>
            <a:ext cx="78868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Monotype Corsiva"/>
              </a:rPr>
              <a:t>А когда устанем очень,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Monotype Corsiva"/>
              </a:rPr>
              <a:t>то пойдем все отдыхать.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Monotype Corsiva"/>
              </a:rPr>
              <a:t>Руки ноги наигрались ,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Monotype Corsiva"/>
              </a:rPr>
              <a:t>глазки станут засыпать,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Monotype Corsiva"/>
              </a:rPr>
              <a:t>Ляжем дружно в нашей спальне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Monotype Corsiva"/>
              </a:rPr>
              <a:t>отдыхать мы на кровать</a:t>
            </a:r>
            <a:endParaRPr b="0" lang="en-US" sz="2400" spc="-1" strike="noStrike">
              <a:solidFill>
                <a:srgbClr val="39302a"/>
              </a:solidFill>
              <a:latin typeface="Monotype Corsiva"/>
            </a:endParaRPr>
          </a:p>
        </p:txBody>
      </p:sp>
    </p:spTree>
  </p:cSld>
  <p:transition spd="slow" advTm="6000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5" descr=""/>
          <p:cNvPicPr/>
          <p:nvPr/>
        </p:nvPicPr>
        <p:blipFill>
          <a:blip r:embed="rId1"/>
          <a:stretch/>
        </p:blipFill>
        <p:spPr>
          <a:xfrm>
            <a:off x="1905120" y="259092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8440" y="457200"/>
            <a:ext cx="82566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Monotype Corsiva"/>
              </a:rPr>
              <a:t>К нам вы в гости проходите,</a:t>
            </a:r>
            <a:br>
              <a:rPr sz="4400"/>
            </a:br>
            <a:r>
              <a:rPr b="1" lang="ru-RU" sz="4400" spc="-1" strike="noStrike">
                <a:solidFill>
                  <a:srgbClr val="000099"/>
                </a:solidFill>
                <a:latin typeface="Monotype Corsiva"/>
              </a:rPr>
              <a:t>только слишком не спешите!</a:t>
            </a:r>
            <a:br>
              <a:rPr sz="4400"/>
            </a:br>
            <a:r>
              <a:rPr b="1" lang="ru-RU" sz="4400" spc="-1" strike="noStrike">
                <a:solidFill>
                  <a:srgbClr val="000099"/>
                </a:solidFill>
                <a:latin typeface="Monotype Corsiva"/>
              </a:rPr>
              <a:t>Все в приемной посмотрите</a:t>
            </a:r>
            <a:br>
              <a:rPr sz="4400"/>
            </a:br>
            <a:r>
              <a:rPr b="1" lang="ru-RU" sz="4400" spc="-1" strike="noStrike">
                <a:solidFill>
                  <a:srgbClr val="000099"/>
                </a:solidFill>
                <a:latin typeface="Monotype Corsiva"/>
              </a:rPr>
              <a:t>и нас строго не судите!</a:t>
            </a:r>
            <a:br>
              <a:rPr sz="4400"/>
            </a:b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</p:spTree>
  </p:cSld>
  <p:transition spd="slow" advTm="6000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Объект 7" descr=""/>
          <p:cNvPicPr/>
          <p:nvPr/>
        </p:nvPicPr>
        <p:blipFill>
          <a:blip r:embed="rId1"/>
          <a:stretch/>
        </p:blipFill>
        <p:spPr>
          <a:xfrm>
            <a:off x="4267080" y="3200400"/>
            <a:ext cx="4573800" cy="3429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Monotype Corsiva"/>
              </a:rPr>
              <a:t>Информация для родителей</a:t>
            </a:r>
            <a:endParaRPr b="0" lang="en-US" sz="32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49" name="Прямоугольник 2"/>
          <p:cNvSpPr/>
          <p:nvPr/>
        </p:nvSpPr>
        <p:spPr>
          <a:xfrm>
            <a:off x="228600" y="457200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ru-RU" sz="1800" spc="-1" strike="noStrike">
                <a:solidFill>
                  <a:srgbClr val="002060"/>
                </a:solidFill>
                <a:latin typeface="Calibri"/>
              </a:rPr>
              <a:t>Для родителей по всюду информация стоит,</a:t>
            </a:r>
            <a:endParaRPr b="0" lang="en-US" sz="18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"/>
              </a:rPr>
              <a:t>прочитав они узнают : во что одеть, что приносить,</a:t>
            </a:r>
            <a:endParaRPr b="0" lang="en-US" sz="18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"/>
              </a:rPr>
              <a:t>что покушает их чадо,</a:t>
            </a:r>
            <a:endParaRPr b="0" lang="en-US" sz="18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"/>
              </a:rPr>
              <a:t>что учить с ребенком надо!</a:t>
            </a:r>
            <a:endParaRPr b="0" lang="en-US" sz="18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50" name="Прямоугольник 3"/>
          <p:cNvSpPr/>
          <p:nvPr/>
        </p:nvSpPr>
        <p:spPr>
          <a:xfrm>
            <a:off x="4572000" y="10666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"/>
              </a:rPr>
              <a:t>Карточку визитную вам предоставляем,</a:t>
            </a:r>
            <a:endParaRPr b="0" lang="en-US" sz="18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"/>
              </a:rPr>
              <a:t> </a:t>
            </a:r>
            <a:r>
              <a:rPr b="1" i="1" lang="ru-RU" sz="1800" spc="-1" strike="noStrike">
                <a:solidFill>
                  <a:srgbClr val="002060"/>
                </a:solidFill>
                <a:latin typeface="Calibri"/>
              </a:rPr>
              <a:t>тут информацию мы выставляем.</a:t>
            </a:r>
            <a:endParaRPr b="0" lang="en-US" sz="18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"/>
              </a:rPr>
              <a:t>Каждый родитель о важном прочтет</a:t>
            </a:r>
            <a:endParaRPr b="0" lang="en-US" sz="1800" spc="-1" strike="noStrike">
              <a:solidFill>
                <a:srgbClr val="39302a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"/>
              </a:rPr>
              <a:t>и на заметку, что нужно возьмет!</a:t>
            </a:r>
            <a:endParaRPr b="0" lang="en-US" sz="1800" spc="-1" strike="noStrike">
              <a:solidFill>
                <a:srgbClr val="39302a"/>
              </a:solidFill>
              <a:latin typeface="Monotype Corsiva"/>
            </a:endParaRPr>
          </a:p>
        </p:txBody>
      </p:sp>
    </p:spTree>
  </p:cSld>
  <p:transition spd="slow" advTm="6000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3" descr=""/>
          <p:cNvPicPr/>
          <p:nvPr/>
        </p:nvPicPr>
        <p:blipFill>
          <a:blip r:embed="rId1"/>
          <a:stretch/>
        </p:blipFill>
        <p:spPr>
          <a:xfrm>
            <a:off x="289548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2" descr=""/>
          <p:cNvPicPr/>
          <p:nvPr/>
        </p:nvPicPr>
        <p:blipFill>
          <a:blip r:embed="rId2"/>
          <a:stretch/>
        </p:blipFill>
        <p:spPr>
          <a:xfrm>
            <a:off x="5710320" y="838080"/>
            <a:ext cx="3433680" cy="25750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8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Monotype Corsiva"/>
              </a:rPr>
              <a:t>Центр  «Настольныеигры»</a:t>
            </a:r>
            <a:endParaRPr b="0" lang="en-US" sz="44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533520" y="5334120"/>
            <a:ext cx="8076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omic Sans MS"/>
              </a:rPr>
              <a:t>Есть в группе тихий уголок.</a:t>
            </a:r>
            <a:endParaRPr b="0" lang="en-US" sz="2000" spc="-1" strike="noStrike">
              <a:solidFill>
                <a:srgbClr val="39302a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omic Sans MS"/>
              </a:rPr>
              <a:t>Там тишина. Слышно сопенье…</a:t>
            </a:r>
            <a:endParaRPr b="0" lang="en-US" sz="2000" spc="-1" strike="noStrike">
              <a:solidFill>
                <a:srgbClr val="39302a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omic Sans MS"/>
              </a:rPr>
              <a:t>В нем совершенствует уменье</a:t>
            </a:r>
            <a:endParaRPr b="0" lang="en-US" sz="2000" spc="-1" strike="noStrike">
              <a:solidFill>
                <a:srgbClr val="39302a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omic Sans MS"/>
              </a:rPr>
              <a:t>В настольную игру игрок! </a:t>
            </a:r>
            <a:endParaRPr b="0" lang="en-US" sz="2000" spc="-1" strike="noStrike">
              <a:solidFill>
                <a:srgbClr val="39302a"/>
              </a:solidFill>
              <a:latin typeface="Monotype Corsiva"/>
            </a:endParaRPr>
          </a:p>
        </p:txBody>
      </p:sp>
      <p:pic>
        <p:nvPicPr>
          <p:cNvPr id="55" name="Picture 7" descr="C:\Users\Home\Desktop\Фото Сад\P1100341.JPG"/>
          <p:cNvPicPr/>
          <p:nvPr/>
        </p:nvPicPr>
        <p:blipFill>
          <a:blip r:embed="rId3"/>
          <a:stretch/>
        </p:blipFill>
        <p:spPr>
          <a:xfrm>
            <a:off x="380880" y="1981080"/>
            <a:ext cx="2459160" cy="32004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30000" y="326880"/>
            <a:ext cx="2949480" cy="9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30360" y="228600"/>
            <a:ext cx="27986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Comic Sans MS"/>
              </a:rPr>
              <a:t>Мы строителями станем, </a:t>
            </a:r>
            <a:endParaRPr b="0" lang="en-US" sz="1600" spc="-1" strike="noStrike">
              <a:solidFill>
                <a:srgbClr val="39302a"/>
              </a:solidFill>
              <a:latin typeface="Monotype Corsiva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Comic Sans MS"/>
              </a:rPr>
              <a:t>И построим новый дом.</a:t>
            </a:r>
            <a:endParaRPr b="0" lang="en-US" sz="1600" spc="-1" strike="noStrike">
              <a:solidFill>
                <a:srgbClr val="39302a"/>
              </a:solidFill>
              <a:latin typeface="Monotype Corsiva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Comic Sans MS"/>
              </a:rPr>
              <a:t>Первым делом подойдите,</a:t>
            </a:r>
            <a:endParaRPr b="0" lang="en-US" sz="1600" spc="-1" strike="noStrike">
              <a:solidFill>
                <a:srgbClr val="39302a"/>
              </a:solidFill>
              <a:latin typeface="Monotype Corsiva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Comic Sans MS"/>
              </a:rPr>
              <a:t>Ознакомьтесь с чертежом.</a:t>
            </a:r>
            <a:endParaRPr b="0" lang="en-US" sz="1600" spc="-1" strike="noStrike">
              <a:solidFill>
                <a:srgbClr val="39302a"/>
              </a:solidFill>
              <a:latin typeface="Monotype Corsiva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Comic Sans MS"/>
              </a:rPr>
              <a:t>Подгоните самосвалы,</a:t>
            </a:r>
            <a:endParaRPr b="0" lang="en-US" sz="1600" spc="-1" strike="noStrike">
              <a:solidFill>
                <a:srgbClr val="39302a"/>
              </a:solidFill>
              <a:latin typeface="Monotype Corsiva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Comic Sans MS"/>
              </a:rPr>
              <a:t>Загружайте кирпичи.</a:t>
            </a:r>
            <a:endParaRPr b="0" lang="en-US" sz="1600" spc="-1" strike="noStrike">
              <a:solidFill>
                <a:srgbClr val="39302a"/>
              </a:solidFill>
              <a:latin typeface="Monotype Corsiva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Comic Sans MS"/>
              </a:rPr>
              <a:t>Ими кубики побудут.</a:t>
            </a:r>
            <a:endParaRPr b="0" lang="en-US" sz="1600" spc="-1" strike="noStrike">
              <a:solidFill>
                <a:srgbClr val="39302a"/>
              </a:solidFill>
              <a:latin typeface="Monotype Corsiva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Comic Sans MS"/>
              </a:rPr>
              <a:t>-Начинайте, силачи!</a:t>
            </a:r>
            <a:endParaRPr b="0" lang="en-US" sz="1600" spc="-1" strike="noStrike">
              <a:solidFill>
                <a:srgbClr val="39302a"/>
              </a:solidFill>
              <a:latin typeface="Monotype Corsiva"/>
            </a:endParaRPr>
          </a:p>
        </p:txBody>
      </p:sp>
      <p:pic>
        <p:nvPicPr>
          <p:cNvPr id="58" name="Picture 5" descr="C:\Users\Home\Desktop\Фото Сад\P1100344.JPG"/>
          <p:cNvPicPr/>
          <p:nvPr/>
        </p:nvPicPr>
        <p:blipFill>
          <a:blip r:embed="rId1"/>
          <a:stretch/>
        </p:blipFill>
        <p:spPr>
          <a:xfrm>
            <a:off x="5138640" y="1187280"/>
            <a:ext cx="3548160" cy="3994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F:\!дет.сад\DSCN5663.JPG"/>
          <p:cNvPicPr/>
          <p:nvPr/>
        </p:nvPicPr>
        <p:blipFill>
          <a:blip r:embed="rId2"/>
          <a:stretch/>
        </p:blipFill>
        <p:spPr>
          <a:xfrm>
            <a:off x="380880" y="3352680"/>
            <a:ext cx="3810240" cy="31989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30000" y="365040"/>
            <a:ext cx="2949480" cy="9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33512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Comic Sans MS"/>
              </a:rPr>
              <a:t>Есть в группе нашей уголок,</a:t>
            </a:r>
            <a:endParaRPr b="0" lang="en-US" sz="1600" spc="-1" strike="noStrike">
              <a:solidFill>
                <a:srgbClr val="39302a"/>
              </a:solidFill>
              <a:latin typeface="Monotype Corsiva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Comic Sans MS"/>
              </a:rPr>
              <a:t>Который в жизни нам помог!</a:t>
            </a:r>
            <a:endParaRPr b="0" lang="en-US" sz="1600" spc="-1" strike="noStrike">
              <a:solidFill>
                <a:srgbClr val="39302a"/>
              </a:solidFill>
              <a:latin typeface="Monotype Corsiva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Comic Sans MS"/>
              </a:rPr>
              <a:t>Он очень-очень дорог нам</a:t>
            </a:r>
            <a:endParaRPr b="0" lang="en-US" sz="1600" spc="-1" strike="noStrike">
              <a:solidFill>
                <a:srgbClr val="39302a"/>
              </a:solidFill>
              <a:latin typeface="Monotype Corsiva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Comic Sans MS"/>
              </a:rPr>
              <a:t>И успокоил пап и мам!</a:t>
            </a:r>
            <a:endParaRPr b="0" lang="en-US" sz="1600" spc="-1" strike="noStrike">
              <a:solidFill>
                <a:srgbClr val="39302a"/>
              </a:solidFill>
              <a:latin typeface="Monotype Corsiva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Comic Sans MS"/>
              </a:rPr>
              <a:t>Нас учат правилам движенья,</a:t>
            </a:r>
            <a:endParaRPr b="0" lang="en-US" sz="1600" spc="-1" strike="noStrike">
              <a:solidFill>
                <a:srgbClr val="39302a"/>
              </a:solidFill>
              <a:latin typeface="Monotype Corsiva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Comic Sans MS"/>
              </a:rPr>
              <a:t>Как нам пожара избежать,</a:t>
            </a:r>
            <a:endParaRPr b="0" lang="en-US" sz="1600" spc="-1" strike="noStrike">
              <a:solidFill>
                <a:srgbClr val="39302a"/>
              </a:solidFill>
              <a:latin typeface="Monotype Corsiva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Comic Sans MS"/>
              </a:rPr>
              <a:t>Что делать, чтобы не простыли,</a:t>
            </a:r>
            <a:endParaRPr b="0" lang="en-US" sz="1600" spc="-1" strike="noStrike">
              <a:solidFill>
                <a:srgbClr val="39302a"/>
              </a:solidFill>
              <a:latin typeface="Monotype Corsiva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99"/>
                </a:solidFill>
                <a:latin typeface="Comic Sans MS"/>
              </a:rPr>
              <a:t>Что в дождь, что в холод надевать!</a:t>
            </a:r>
            <a:endParaRPr b="0" lang="en-US" sz="1600" spc="-1" strike="noStrike">
              <a:solidFill>
                <a:srgbClr val="39302a"/>
              </a:solidFill>
              <a:latin typeface="Monotype Corsiva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9302a"/>
              </a:solidFill>
              <a:latin typeface="Monotype Corsiva"/>
            </a:endParaRPr>
          </a:p>
        </p:txBody>
      </p:sp>
      <p:pic>
        <p:nvPicPr>
          <p:cNvPr id="62" name="Picture 5" descr="C:\Users\Home\Desktop\Фото Сад\P1100343.JPG"/>
          <p:cNvPicPr/>
          <p:nvPr/>
        </p:nvPicPr>
        <p:blipFill>
          <a:blip r:embed="rId1"/>
          <a:stretch/>
        </p:blipFill>
        <p:spPr>
          <a:xfrm>
            <a:off x="4462560" y="533520"/>
            <a:ext cx="4224240" cy="44193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30000" y="440640"/>
            <a:ext cx="2949480" cy="9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39302a"/>
              </a:solidFill>
              <a:latin typeface="Monotype Corsiva"/>
            </a:endParaRPr>
          </a:p>
        </p:txBody>
      </p:sp>
      <p:pic>
        <p:nvPicPr>
          <p:cNvPr id="64" name="Picture 4" descr="C:\Users\Home\Desktop\Фото Сад\P1100337.JPG"/>
          <p:cNvPicPr/>
          <p:nvPr/>
        </p:nvPicPr>
        <p:blipFill>
          <a:blip r:embed="rId1"/>
          <a:stretch/>
        </p:blipFill>
        <p:spPr>
          <a:xfrm>
            <a:off x="4521240" y="609480"/>
            <a:ext cx="4317840" cy="4572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30000" y="1447560"/>
            <a:ext cx="294948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Comic Sans MS"/>
              </a:rPr>
              <a:t>Айболит лечил мартышек,</a:t>
            </a:r>
            <a:endParaRPr b="0" lang="en-US" sz="1600" spc="-1" strike="noStrike">
              <a:solidFill>
                <a:srgbClr val="39302a"/>
              </a:solidFill>
              <a:latin typeface="Monotype Corsiv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Comic Sans MS"/>
              </a:rPr>
              <a:t>А Пилюлькин-коротышек!</a:t>
            </a:r>
            <a:endParaRPr b="0" lang="en-US" sz="1600" spc="-1" strike="noStrike">
              <a:solidFill>
                <a:srgbClr val="39302a"/>
              </a:solidFill>
              <a:latin typeface="Monotype Corsiv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Comic Sans MS"/>
              </a:rPr>
              <a:t>Мы же лечим всех подряд-</a:t>
            </a:r>
            <a:endParaRPr b="0" lang="en-US" sz="1600" spc="-1" strike="noStrike">
              <a:solidFill>
                <a:srgbClr val="39302a"/>
              </a:solidFill>
              <a:latin typeface="Monotype Corsiv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Comic Sans MS"/>
              </a:rPr>
              <a:t>Бегемотиков, бельчат,</a:t>
            </a:r>
            <a:endParaRPr b="0" lang="en-US" sz="1600" spc="-1" strike="noStrike">
              <a:solidFill>
                <a:srgbClr val="39302a"/>
              </a:solidFill>
              <a:latin typeface="Monotype Corsiv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Comic Sans MS"/>
              </a:rPr>
              <a:t>Кукол, рыбок, зайчиков,</a:t>
            </a:r>
            <a:endParaRPr b="0" lang="en-US" sz="1600" spc="-1" strike="noStrike">
              <a:solidFill>
                <a:srgbClr val="39302a"/>
              </a:solidFill>
              <a:latin typeface="Monotype Corsiv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Comic Sans MS"/>
              </a:rPr>
              <a:t>Девочек и мальчиков!</a:t>
            </a:r>
            <a:endParaRPr b="0" lang="en-US" sz="1600" spc="-1" strike="noStrike">
              <a:solidFill>
                <a:srgbClr val="39302a"/>
              </a:solidFill>
              <a:latin typeface="Monotype Corsiv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Comic Sans MS"/>
              </a:rPr>
              <a:t>Есть у нас бинты и йод,</a:t>
            </a:r>
            <a:endParaRPr b="0" lang="en-US" sz="1600" spc="-1" strike="noStrike">
              <a:solidFill>
                <a:srgbClr val="39302a"/>
              </a:solidFill>
              <a:latin typeface="Monotype Corsiv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Comic Sans MS"/>
              </a:rPr>
              <a:t>Приходи, честной народ!</a:t>
            </a:r>
            <a:endParaRPr b="0" lang="en-US" sz="1600" spc="-1" strike="noStrike">
              <a:solidFill>
                <a:srgbClr val="39302a"/>
              </a:solidFill>
              <a:latin typeface="Monotype Corsiv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Comic Sans MS"/>
              </a:rPr>
              <a:t>А уж что совсем приятно –</a:t>
            </a:r>
            <a:endParaRPr b="0" lang="en-US" sz="1600" spc="-1" strike="noStrike">
              <a:solidFill>
                <a:srgbClr val="39302a"/>
              </a:solidFill>
              <a:latin typeface="Monotype Corsiv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Comic Sans MS"/>
              </a:rPr>
              <a:t>То, что лечим мы бесплатно!</a:t>
            </a:r>
            <a:endParaRPr b="0" lang="en-US" sz="1600" spc="-1" strike="noStrike">
              <a:solidFill>
                <a:srgbClr val="39302a"/>
              </a:solidFill>
              <a:latin typeface="Monotype Corsiva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9302a"/>
              </a:solidFill>
              <a:latin typeface="Monotype Corsiva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9302a"/>
              </a:solidFill>
              <a:latin typeface="Monotype Corsiva"/>
            </a:endParaRPr>
          </a:p>
        </p:txBody>
      </p:sp>
    </p:spTree>
  </p:cSld>
  <p:transition spd="slow" advTm="6000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30000" y="365040"/>
            <a:ext cx="2949480" cy="9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39302a"/>
              </a:solidFill>
              <a:latin typeface="Monotype Corsiv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37339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omic Sans MS"/>
              </a:rPr>
              <a:t>Не в каждом магазине</a:t>
            </a:r>
            <a:endParaRPr b="0" lang="en-US" sz="1800" spc="-1" strike="noStrike">
              <a:solidFill>
                <a:srgbClr val="39302a"/>
              </a:solidFill>
              <a:latin typeface="Monotype Corsiva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omic Sans MS"/>
              </a:rPr>
              <a:t>Вы сможете купить</a:t>
            </a:r>
            <a:endParaRPr b="0" lang="en-US" sz="1800" spc="-1" strike="noStrike">
              <a:solidFill>
                <a:srgbClr val="39302a"/>
              </a:solidFill>
              <a:latin typeface="Monotype Corsiva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omic Sans MS"/>
              </a:rPr>
              <a:t>И в небольшой корзине</a:t>
            </a:r>
            <a:endParaRPr b="0" lang="en-US" sz="1800" spc="-1" strike="noStrike">
              <a:solidFill>
                <a:srgbClr val="39302a"/>
              </a:solidFill>
              <a:latin typeface="Monotype Corsiva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omic Sans MS"/>
              </a:rPr>
              <a:t>Удачно разместить:</a:t>
            </a:r>
            <a:endParaRPr b="0" lang="en-US" sz="1800" spc="-1" strike="noStrike">
              <a:solidFill>
                <a:srgbClr val="39302a"/>
              </a:solidFill>
              <a:latin typeface="Monotype Corsiva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omic Sans MS"/>
              </a:rPr>
              <a:t>Конфеты и бананы,</a:t>
            </a:r>
            <a:endParaRPr b="0" lang="en-US" sz="1800" spc="-1" strike="noStrike">
              <a:solidFill>
                <a:srgbClr val="39302a"/>
              </a:solidFill>
              <a:latin typeface="Monotype Corsiva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omic Sans MS"/>
              </a:rPr>
              <a:t>Машину, капли в нос,</a:t>
            </a:r>
            <a:endParaRPr b="0" lang="en-US" sz="1800" spc="-1" strike="noStrike">
              <a:solidFill>
                <a:srgbClr val="39302a"/>
              </a:solidFill>
              <a:latin typeface="Monotype Corsiva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omic Sans MS"/>
              </a:rPr>
              <a:t>Бульдозеры и краны,</a:t>
            </a:r>
            <a:endParaRPr b="0" lang="en-US" sz="1800" spc="-1" strike="noStrike">
              <a:solidFill>
                <a:srgbClr val="39302a"/>
              </a:solidFill>
              <a:latin typeface="Monotype Corsiva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omic Sans MS"/>
              </a:rPr>
              <a:t>И даже – паровоз!</a:t>
            </a:r>
            <a:endParaRPr b="0" lang="en-US" sz="1800" spc="-1" strike="noStrike">
              <a:solidFill>
                <a:srgbClr val="39302a"/>
              </a:solidFill>
              <a:latin typeface="Monotype Corsiva"/>
            </a:endParaRPr>
          </a:p>
        </p:txBody>
      </p:sp>
      <p:pic>
        <p:nvPicPr>
          <p:cNvPr id="68" name="Объект 2" descr=""/>
          <p:cNvPicPr/>
          <p:nvPr/>
        </p:nvPicPr>
        <p:blipFill>
          <a:blip r:embed="rId1"/>
          <a:stretch/>
        </p:blipFill>
        <p:spPr>
          <a:xfrm>
            <a:off x="5181480" y="685800"/>
            <a:ext cx="3581640" cy="43578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6T10:25:44Z</dcterms:created>
  <dc:creator>евросеть</dc:creator>
  <dc:description/>
  <dc:language>en-US</dc:language>
  <cp:lastModifiedBy>Анастасия</cp:lastModifiedBy>
  <dcterms:modified xsi:type="dcterms:W3CDTF">2020-04-13T11:53:02Z</dcterms:modified>
  <cp:revision>4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