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D805-E9E2-407F-A0DF-1C94975B0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010D-AB99-4AF5-B915-7F9C4FBF3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ED7-1C3E-423D-8BBD-697F18C4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2D0-E4A0-4681-BD02-A6B003C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744-9FD3-4BB1-ABC8-6831F045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4E7-8992-4F12-90EB-0B60C7ED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E8E8-DE26-47B2-9802-B8B5FCBE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83C0-C155-463A-AA57-77DE242E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D6A0-EF7D-49E8-B526-3E749FF0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CE76-F608-4C4C-A116-8FD8524E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CD1C-2A12-4821-A4BF-92040581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627D-55E2-451E-9FAE-F4B335E7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4C5A-0C85-4F27-9156-A571D7DA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D7C-F407-421B-9449-2B616333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8D3C-89C7-4268-8DFC-20B962A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FB9D-27B8-4F0A-8235-1C4BA78E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3292-ECCD-48B0-B220-052A2B3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7921-97BA-4957-B07E-3A210C29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CE3D-A5C7-434E-B92F-9170216D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4BC-A6A6-43A0-A12A-529807D4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0C4-918C-423A-86EE-91711CE5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CDD-5381-4A04-B245-72D502CA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2B0-5517-407A-9724-8E616558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31D-22B5-4B7B-90B4-58437977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1E1-BEDC-4431-BF29-173D014A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323-7B12-4BF7-9B8B-53012BB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D0D5-D1C6-4EEA-A6B0-8CD5A9CD1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70D1-32C9-482E-A3BC-7030F7C8F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c9800"/>
                </a:solidFill>
                <a:latin typeface="Times New Roman"/>
              </a:rPr>
              <a:t>Чиконина Людмила Васильевна</a:t>
            </a:r>
            <a:endParaRPr b="0" lang="en-US" sz="17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АРТ-ТЕРАП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в коррекции детских страх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85760" y="6313320"/>
            <a:ext cx="1608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сква –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6" descr=" "/>
          <p:cNvPicPr/>
          <p:nvPr/>
        </p:nvPicPr>
        <p:blipFill>
          <a:blip r:embed="rId1"/>
          <a:stretch/>
        </p:blipFill>
        <p:spPr>
          <a:xfrm>
            <a:off x="2484360" y="2924280"/>
            <a:ext cx="4464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A191-7CA8-4712-8505-2B5A80F67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Драматизация, обсуждение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спользование кукол для разыгрывания сцен, драматизации и вербализации общен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ыгрывание стра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могает отреагировать напряжение, снять его, перенести на кук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сужд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ает улучшить самочувстви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какой-то мере освободиться от внутренних переживан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11280" y="3787920"/>
            <a:ext cx="2336760" cy="208440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2448000" cy="198756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  <p:sp>
        <p:nvSpPr>
          <p:cNvPr id="302" name="Rectangle 7"/>
          <p:cNvSpPr/>
          <p:nvPr/>
        </p:nvSpPr>
        <p:spPr>
          <a:xfrm>
            <a:off x="2554560" y="587628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ские работы («Добрая Баба-яга», «Злая Баба-яга»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6138-52B2-44C0-AC3E-8EF2E337D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39257"/>
                </a:solidFill>
                <a:uFillTx/>
                <a:latin typeface="Arial"/>
              </a:rPr>
              <a:t>Игра «Нарисуй и победи свой страх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229600" cy="45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рисования желательно поговорить с ребёнком, спросить его: «Чего ты боишься, когда тебе бывает страшно..». Затем ребёнку предлагается нарисовать то, чего он боится. Необходим большой лист бумаги. Карандаши и краски. Затем возьмите ножницы и попросите ребёнка разрезать «страх» на мелкие кусочки (можно порвать), а мелкие кусочки – ещё на более мелкие. Покажите ребёнку, что его страх невозможно собрать. Заверните кусочки в большую бумагу,  выбросьте или сожг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е упражнение через 1-2 недели. Посмотрите, что изменилось в изображении страха (цвет, сюжет…), и делайте это до тех пор, пока  не увидите недоумение на лице ребёнка в ответ на просьбу:  «Нарисуй свой стр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7" descr=""/>
          <p:cNvPicPr/>
          <p:nvPr/>
        </p:nvPicPr>
        <p:blipFill>
          <a:blip r:embed="rId1"/>
          <a:stretch/>
        </p:blipFill>
        <p:spPr>
          <a:xfrm>
            <a:off x="2303640" y="4221000"/>
            <a:ext cx="45367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DD20-60EB-489B-A521-72DE81084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Выводы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рт-терапевтические упраж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лужат средством свободного самовыражения и самопознания, они имеют «инсайт-ориентированный» характер; предполагают атмосферу доверия, внимания к внутреннему миру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ение арт-терапевтических упражнений незаменимо в случаях эмоциональных нарушений (страх, тревожность) и коммуникативной некомпетен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нтре арт-терапевтических занятий – самовыражение посредством художественной экспрессии, индивидуально-личностное самопозн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9FBB-FD9A-448E-92F0-AC74A2A96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Страх: определение понятия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ее состояние, обусловленное грозящим реальным или предполагаемым бедствием. С точки зрения психологии считается отрицательно окрашенным эмоциональным проце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1"/>
          <a:stretch/>
        </p:blipFill>
        <p:spPr>
          <a:xfrm>
            <a:off x="2814480" y="3867120"/>
            <a:ext cx="3513240" cy="226692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05A4-F1B2-428F-BA72-CF3FE024D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Проявления страха</a:t>
            </a: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pSp>
        <p:nvGrpSpPr>
          <p:cNvPr id="228" name="Diagram 4"/>
          <p:cNvGrpSpPr/>
          <p:nvPr/>
        </p:nvGrpSpPr>
        <p:grpSpPr>
          <a:xfrm>
            <a:off x="3018240" y="2792520"/>
            <a:ext cx="3107160" cy="2911320"/>
            <a:chOff x="3018240" y="2792520"/>
            <a:chExt cx="3107160" cy="2911320"/>
          </a:xfrm>
        </p:grpSpPr>
        <p:sp>
          <p:nvSpPr>
            <p:cNvPr id="229" name="_s1028"/>
            <p:cNvSpPr/>
            <p:nvPr/>
          </p:nvSpPr>
          <p:spPr>
            <a:xfrm flipH="1">
              <a:off x="3795120" y="4248360"/>
              <a:ext cx="388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29"/>
            <p:cNvSpPr/>
            <p:nvPr/>
          </p:nvSpPr>
          <p:spPr>
            <a:xfrm>
              <a:off x="3018240" y="3884400"/>
              <a:ext cx="776880" cy="72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Функцио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льные проя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0"/>
            <p:cNvSpPr/>
            <p:nvPr/>
          </p:nvSpPr>
          <p:spPr>
            <a:xfrm>
              <a:off x="4572000" y="4612320"/>
              <a:ext cx="0" cy="36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1"/>
            <p:cNvSpPr/>
            <p:nvPr/>
          </p:nvSpPr>
          <p:spPr>
            <a:xfrm>
              <a:off x="4183560" y="4976280"/>
              <a:ext cx="776880" cy="72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Физиолог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ческ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роя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2"/>
            <p:cNvSpPr/>
            <p:nvPr/>
          </p:nvSpPr>
          <p:spPr>
            <a:xfrm>
              <a:off x="4960440" y="4248360"/>
              <a:ext cx="388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3"/>
            <p:cNvSpPr/>
            <p:nvPr/>
          </p:nvSpPr>
          <p:spPr>
            <a:xfrm>
              <a:off x="5348880" y="3884400"/>
              <a:ext cx="776520" cy="72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веденче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кие проя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4"/>
            <p:cNvSpPr/>
            <p:nvPr/>
          </p:nvSpPr>
          <p:spPr>
            <a:xfrm flipV="1">
              <a:off x="4572000" y="3520440"/>
              <a:ext cx="0" cy="36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5"/>
            <p:cNvSpPr/>
            <p:nvPr/>
          </p:nvSpPr>
          <p:spPr>
            <a:xfrm>
              <a:off x="4183560" y="2792520"/>
              <a:ext cx="776880" cy="7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убъекти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ные проя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6"/>
            <p:cNvSpPr/>
            <p:nvPr/>
          </p:nvSpPr>
          <p:spPr>
            <a:xfrm>
              <a:off x="4183560" y="3884400"/>
              <a:ext cx="776880" cy="72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ТРА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>
              <a:off x="3780000" y="4275360"/>
              <a:ext cx="40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>
              <a:off x="4582080" y="4557240"/>
              <a:ext cx="0" cy="46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>
              <a:off x="4983480" y="4275360"/>
              <a:ext cx="40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V="1">
              <a:off x="4582080" y="3523680"/>
              <a:ext cx="0" cy="37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20"/>
          <p:cNvSpPr/>
          <p:nvPr/>
        </p:nvSpPr>
        <p:spPr>
          <a:xfrm>
            <a:off x="457200" y="1191600"/>
            <a:ext cx="839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дствия страха проявляются в четырех направлениях: соматические (физиологические) признаки, субъективные (эмоциональные) проявления, особенности когнитивного функционирования, поведенческий репертуар дейст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Причины возникновения страх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9734-153A-40B0-B50D-C1287140B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684360" y="2492280"/>
            <a:ext cx="800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перопека (постоянная опека родителей – помощь, контро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ость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фликты в 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одного из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ровые наказания, запр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естокое обращение, физическое насил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ьютер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контрольный просмотр телевизионных программ и филь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льный испуг (особенно в ситуации внезап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бывание в экстремальн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5" descr=""/>
          <p:cNvPicPr/>
          <p:nvPr/>
        </p:nvPicPr>
        <p:blipFill>
          <a:blip r:embed="rId1"/>
          <a:stretch/>
        </p:blipFill>
        <p:spPr>
          <a:xfrm>
            <a:off x="3316320" y="1768320"/>
            <a:ext cx="27367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8A3A-3069-4C4C-BECF-4D7D9A276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Понятие арт-терапии</a:t>
            </a:r>
            <a:br>
              <a:rPr sz="2800"/>
            </a:b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рт-терап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это специализированная форма психотерапии, основанная на использовании средств искусства, как правило, изобразитель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гармонизация развития личности через развитие способности самовыражения и самопо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611280" y="3000240"/>
            <a:ext cx="2928960" cy="1778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251" name="Picture 10" descr=""/>
          <p:cNvPicPr/>
          <p:nvPr/>
        </p:nvPicPr>
        <p:blipFill>
          <a:blip r:embed="rId2"/>
          <a:stretch/>
        </p:blipFill>
        <p:spPr>
          <a:xfrm>
            <a:off x="5724360" y="4508640"/>
            <a:ext cx="2303640" cy="17809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52" name="Picture 12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2736720" cy="1824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D1AE-3863-4A92-B9F4-D478315EA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Преимущества арт-терапии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pSp>
        <p:nvGrpSpPr>
          <p:cNvPr id="255" name="Diagram 5"/>
          <p:cNvGrpSpPr/>
          <p:nvPr/>
        </p:nvGrpSpPr>
        <p:grpSpPr>
          <a:xfrm>
            <a:off x="468360" y="1917720"/>
            <a:ext cx="6183360" cy="4068720"/>
            <a:chOff x="468360" y="1917720"/>
            <a:chExt cx="6183360" cy="4068720"/>
          </a:xfrm>
        </p:grpSpPr>
        <p:sp>
          <p:nvSpPr>
            <p:cNvPr id="256" name="_s2052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666633"/>
                </a:gs>
                <a:gs pos="100000">
                  <a:srgbClr val="d7d1b9"/>
                </a:gs>
              </a:gsLst>
              <a:lin ang="8100000"/>
            </a:gra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53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e6e3ac"/>
                </a:gs>
                <a:gs pos="100000">
                  <a:srgbClr val="d7d1b9"/>
                </a:gs>
              </a:gsLst>
              <a:lin ang="5040000"/>
            </a:gradFill>
            <a:ln w="9360">
              <a:solidFill>
                <a:srgbClr val="e6e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54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d7d1b9"/>
                </a:gs>
              </a:gsLst>
              <a:lin ang="192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055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c9800"/>
                </a:gs>
                <a:gs pos="100000">
                  <a:srgbClr val="d7d1b9"/>
                </a:gs>
              </a:gsLst>
              <a:lin ang="20460000"/>
            </a:gradFill>
            <a:ln w="9360">
              <a:solidFill>
                <a:srgbClr val="9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056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b1a887"/>
                </a:gs>
                <a:gs pos="100000">
                  <a:srgbClr val="d7d1b9"/>
                </a:gs>
              </a:gsLst>
              <a:lin ang="17340000"/>
            </a:gradFill>
            <a:ln w="9360">
              <a:solidFill>
                <a:srgbClr val="b1a8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057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666633"/>
                </a:gs>
                <a:gs pos="100000">
                  <a:srgbClr val="d7d1b9"/>
                </a:gs>
              </a:gsLst>
              <a:lin ang="14280000"/>
            </a:gra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058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e6e3ac"/>
                </a:gs>
                <a:gs pos="100000">
                  <a:srgbClr val="d7d1b9"/>
                </a:gs>
              </a:gsLst>
              <a:lin ang="11160000"/>
            </a:gradFill>
            <a:ln w="9360">
              <a:solidFill>
                <a:srgbClr val="e6e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059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РЕОДОЛЕНИЕ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ТРАХ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060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РЕДСТВ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БЛИЖ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ЛЮД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06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ОБХОДИТ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«ЦЕНЗУРУ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ОЗН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06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ВОБОДНО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АМОВЫРАЖЕНИЕ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И САМОПОЗН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063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«ИНСАЙТ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ОРИЕНТИРОВАННЫЙ»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ХАРАКТ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064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ОЛОЖИТЕЛЬНЫЕ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ЭМО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065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АКТИВНАЯ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ЖИЗНЕН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ОЗИЦ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34" descr=""/>
            <p:cNvPicPr/>
            <p:nvPr/>
          </p:nvPicPr>
          <p:blipFill>
            <a:blip r:embed="rId1"/>
            <a:stretch/>
          </p:blipFill>
          <p:spPr>
            <a:xfrm>
              <a:off x="468360" y="3933720"/>
              <a:ext cx="1911240" cy="1241280"/>
            </a:xfrm>
            <a:prstGeom prst="rect">
              <a:avLst/>
            </a:prstGeom>
            <a:ln w="28440">
              <a:solidFill>
                <a:srgbClr val="ffcc66"/>
              </a:solidFill>
              <a:miter/>
            </a:ln>
          </p:spPr>
        </p:pic>
      </p:grpSp>
      <p:pic>
        <p:nvPicPr>
          <p:cNvPr id="271" name="Picture 28" descr=""/>
          <p:cNvPicPr/>
          <p:nvPr/>
        </p:nvPicPr>
        <p:blipFill>
          <a:blip r:embed="rId2"/>
          <a:stretch/>
        </p:blipFill>
        <p:spPr>
          <a:xfrm>
            <a:off x="5867280" y="5300640"/>
            <a:ext cx="1771920" cy="14288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72" name="Picture 36" descr=""/>
          <p:cNvPicPr/>
          <p:nvPr/>
        </p:nvPicPr>
        <p:blipFill>
          <a:blip r:embed="rId3"/>
          <a:stretch/>
        </p:blipFill>
        <p:spPr>
          <a:xfrm>
            <a:off x="1908000" y="5300640"/>
            <a:ext cx="1467000" cy="14288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273" name="Picture 40" descr=""/>
          <p:cNvPicPr/>
          <p:nvPr/>
        </p:nvPicPr>
        <p:blipFill>
          <a:blip r:embed="rId4"/>
          <a:stretch/>
        </p:blipFill>
        <p:spPr>
          <a:xfrm>
            <a:off x="6443640" y="1916280"/>
            <a:ext cx="1927080" cy="12841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74" name="Picture 42" descr=""/>
          <p:cNvPicPr/>
          <p:nvPr/>
        </p:nvPicPr>
        <p:blipFill>
          <a:blip r:embed="rId5"/>
          <a:stretch/>
        </p:blipFill>
        <p:spPr>
          <a:xfrm>
            <a:off x="6804000" y="4005360"/>
            <a:ext cx="1711440" cy="1139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275" name="Рисунок 12" descr=" "/>
          <p:cNvPicPr/>
          <p:nvPr/>
        </p:nvPicPr>
        <p:blipFill>
          <a:blip r:embed="rId6"/>
          <a:stretch/>
        </p:blipFill>
        <p:spPr>
          <a:xfrm>
            <a:off x="773280" y="1913040"/>
            <a:ext cx="192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DCE2-CA9E-4FCA-A910-DA379B1A3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«</a:t>
            </a:r>
            <a:r>
              <a:rPr b="1" i="1" lang="ru-RU" sz="2800" spc="-1" strike="noStrike">
                <a:solidFill>
                  <a:srgbClr val="9c9800"/>
                </a:solidFill>
                <a:latin typeface="Times New Roman"/>
              </a:rPr>
              <a:t>Разогрев»</a:t>
            </a: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ческие упраж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од му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менты музыкальной и танцевальной терап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2060640" cy="2305080"/>
          </a:xfrm>
          <a:prstGeom prst="rect">
            <a:avLst/>
          </a:prstGeom>
          <a:ln w="28440">
            <a:solidFill>
              <a:srgbClr val="9c9800"/>
            </a:solidFill>
            <a:miter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6732720" y="3613320"/>
            <a:ext cx="1958760" cy="160488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pic>
        <p:nvPicPr>
          <p:cNvPr id="281" name="Picture 9" descr=""/>
          <p:cNvPicPr/>
          <p:nvPr/>
        </p:nvPicPr>
        <p:blipFill>
          <a:blip r:embed="rId3"/>
          <a:stretch/>
        </p:blipFill>
        <p:spPr>
          <a:xfrm>
            <a:off x="4643280" y="4543560"/>
            <a:ext cx="1986120" cy="182700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  <p:pic>
        <p:nvPicPr>
          <p:cNvPr id="282" name="Picture 11" descr=""/>
          <p:cNvPicPr/>
          <p:nvPr/>
        </p:nvPicPr>
        <p:blipFill>
          <a:blip r:embed="rId4"/>
          <a:stretch/>
        </p:blipFill>
        <p:spPr>
          <a:xfrm>
            <a:off x="250920" y="3573360"/>
            <a:ext cx="1942920" cy="1943280"/>
          </a:xfrm>
          <a:prstGeom prst="rect">
            <a:avLst/>
          </a:prstGeom>
          <a:ln w="28440">
            <a:solidFill>
              <a:srgbClr val="b392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0D40-B551-4B6E-9BEE-80004FF23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Актуализация ощущений, эмоций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упражнения с песк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изация ощущений, эмоций с помощью упражнений с песком предполагает упражнения на развитие тактильных, кинестетических ощущений, а также работу с формочками: «пирожки», «горк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жнения на разглаженной поверхности песка – рисунки, отпеча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227640" y="4941720"/>
            <a:ext cx="2527560" cy="130824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  <p:sp>
        <p:nvSpPr>
          <p:cNvPr id="287" name="Rectangle 5"/>
          <p:cNvSpPr/>
          <p:nvPr/>
        </p:nvSpPr>
        <p:spPr>
          <a:xfrm>
            <a:off x="6360480" y="59500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есочная о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11280" y="3787920"/>
            <a:ext cx="3608280" cy="184932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  <p:pic>
        <p:nvPicPr>
          <p:cNvPr id="289" name="Picture 8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1917720" cy="127008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579F-51CD-4E65-836F-D75EDDFAA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9257"/>
                </a:solidFill>
                <a:latin typeface="Times New Roman"/>
              </a:rPr>
              <a:t>Индивидуальное творчество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унок помогает не только выразить чувство, но его и осозн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видимый страх, материализованный в рисунке, лишается эмоциональной напряженности, своей пугающей составляю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1">
            <a:lum bright="6000"/>
            <a:alphaModFix amt="66000"/>
          </a:blip>
          <a:stretch/>
        </p:blipFill>
        <p:spPr>
          <a:xfrm>
            <a:off x="250920" y="3213000"/>
            <a:ext cx="2689200" cy="218916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pic>
        <p:nvPicPr>
          <p:cNvPr id="294" name="Picture 7" descr=""/>
          <p:cNvPicPr/>
          <p:nvPr/>
        </p:nvPicPr>
        <p:blipFill>
          <a:blip r:embed="rId2">
            <a:lum bright="6000"/>
            <a:alphaModFix amt="65000"/>
          </a:blip>
          <a:stretch/>
        </p:blipFill>
        <p:spPr>
          <a:xfrm>
            <a:off x="1042920" y="5084640"/>
            <a:ext cx="2324160" cy="1359000"/>
          </a:xfrm>
          <a:prstGeom prst="rect">
            <a:avLst/>
          </a:prstGeom>
          <a:ln w="28440">
            <a:solidFill>
              <a:srgbClr val="b39257"/>
            </a:solidFill>
            <a:miter/>
          </a:ln>
        </p:spPr>
      </p:pic>
      <p:pic>
        <p:nvPicPr>
          <p:cNvPr id="295" name="Picture 8" descr=""/>
          <p:cNvPicPr/>
          <p:nvPr/>
        </p:nvPicPr>
        <p:blipFill>
          <a:blip r:embed="rId3"/>
          <a:stretch/>
        </p:blipFill>
        <p:spPr>
          <a:xfrm>
            <a:off x="3780000" y="3141720"/>
            <a:ext cx="1993680" cy="311148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pic>
        <p:nvPicPr>
          <p:cNvPr id="296" name="Picture 9" descr=""/>
          <p:cNvPicPr/>
          <p:nvPr/>
        </p:nvPicPr>
        <p:blipFill>
          <a:blip r:embed="rId4"/>
          <a:stretch/>
        </p:blipFill>
        <p:spPr>
          <a:xfrm>
            <a:off x="6156360" y="3645000"/>
            <a:ext cx="2674800" cy="263988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47:31Z</dcterms:created>
  <dc:creator>Андрей</dc:creator>
  <dc:description/>
  <dc:language>en-US</dc:language>
  <cp:lastModifiedBy>5385</cp:lastModifiedBy>
  <dcterms:modified xsi:type="dcterms:W3CDTF">2020-04-13T12:32:36Z</dcterms:modified>
  <cp:revision>83</cp:revision>
  <dc:subject/>
  <dc:title>ОРЛОВА Любовь Владимировна   СОПОСТАВЛЕНИЕ ИГРОВОЙ И АРТ-ТЕРАПЕВТИЧЕСКОЙ РАБОТЫ СО СТРАХАМИ  (НА МАТЕРИАЛЕ ДЕТЕЙ-ДОШКОЛЬНИКОВ)</dc:title>
</cp:coreProperties>
</file>