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7451-5E07-44F0-8D76-0CC1A534B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74B3-2AE0-4CD9-9FBB-16152F41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91B0-2555-47A2-9994-457AD588E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6F9D-7F63-4886-8E25-A82D2F665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ECB9-AC71-416E-8753-D0B44005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3158-33CC-4664-B610-5398B0903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6175-4138-4582-8DF7-8306D9C2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7AA6-EF3F-42D5-B71B-C78EFB50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22C4-F7C4-464B-9DBD-95A1BAB6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043F-9106-4AFD-A5CD-C7B70C0F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0EBC-E6EA-45AF-AD87-87FF1C50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AB6E-8413-4FF7-BA5F-54670F37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2BF2-FDD9-48ED-BFB9-ED96097E68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92360" y="765000"/>
            <a:ext cx="6480000" cy="27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60093"/>
                </a:solidFill>
                <a:latin typeface="Arial"/>
              </a:rPr>
              <a:t>Чтение и запись чисел больше тысяч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95280" y="5444640"/>
            <a:ext cx="6048360" cy="8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Урок математики в 4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2565360"/>
            <a:ext cx="3287520" cy="411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720108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. Запиши, сколько единиц класса тыся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777240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d60093"/>
                </a:solidFill>
                <a:latin typeface="Arial"/>
              </a:rPr>
              <a:t>20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991280" cy="30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. Поставь точку – границу между классам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203</a:t>
            </a:r>
            <a:r>
              <a:rPr b="1" lang="ru-RU" sz="8000" spc="-1" strike="noStrike">
                <a:solidFill>
                  <a:srgbClr val="d60093"/>
                </a:solidFill>
                <a:latin typeface="Arial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7488360" cy="32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. Запиши, сколько единиц класса едини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242800"/>
            <a:ext cx="8229600" cy="32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203.</a:t>
            </a:r>
            <a:r>
              <a:rPr b="1" lang="ru-RU" sz="8000" spc="-1" strike="noStrike">
                <a:solidFill>
                  <a:srgbClr val="d60093"/>
                </a:solidFill>
                <a:latin typeface="Arial"/>
              </a:rPr>
              <a:t>51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мни, что после точки всегда должно быть 3 цифр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47560"/>
            <a:ext cx="8229600" cy="3778200"/>
          </a:xfrm>
          <a:prstGeom prst="rect">
            <a:avLst/>
          </a:prstGeom>
          <a:noFill/>
          <a:ln w="9360">
            <a:solidFill>
              <a:srgbClr val="d6009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1" lang="ru-RU" sz="4800" spc="-1" strike="noStrike">
                <a:solidFill>
                  <a:srgbClr val="d60093"/>
                </a:solidFill>
                <a:latin typeface="Arial"/>
              </a:rPr>
              <a:t>378  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309</a:t>
            </a:r>
            <a:r>
              <a:rPr b="1" lang="ru-RU" sz="4800" spc="-1" strike="noStrike">
                <a:solidFill>
                  <a:srgbClr val="d60093"/>
                </a:solidFill>
                <a:latin typeface="Arial"/>
              </a:rPr>
              <a:t>.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4800" spc="-1" strike="noStrike">
                <a:solidFill>
                  <a:srgbClr val="d60093"/>
                </a:solidFill>
                <a:latin typeface="Arial"/>
              </a:rPr>
              <a:t>.050  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98</a:t>
            </a:r>
            <a:r>
              <a:rPr b="1" lang="ru-RU" sz="4800" spc="-1" strike="noStrike">
                <a:solidFill>
                  <a:srgbClr val="d60093"/>
                </a:solidFill>
                <a:latin typeface="Arial"/>
              </a:rPr>
              <a:t>.00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52</a:t>
            </a:r>
            <a:r>
              <a:rPr b="1" lang="ru-RU" sz="4800" spc="-1" strike="noStrike">
                <a:solidFill>
                  <a:srgbClr val="d60093"/>
                </a:solidFill>
                <a:latin typeface="Arial"/>
              </a:rPr>
              <a:t>.014  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ru-RU" sz="4800" spc="-1" strike="noStrike">
                <a:solidFill>
                  <a:srgbClr val="d60093"/>
                </a:solidFill>
                <a:latin typeface="Arial"/>
              </a:rPr>
              <a:t>.00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488000" cy="3456000"/>
          </a:xfrm>
          <a:prstGeom prst="rect">
            <a:avLst/>
          </a:prstGeom>
          <a:noFill/>
          <a:ln w="9360">
            <a:solidFill>
              <a:srgbClr val="d6009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Триста пятьдесят шесть тысяч четыреста девять</a:t>
            </a:r>
            <a:br>
              <a:rPr sz="60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4738680"/>
            <a:ext cx="822960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027520"/>
          </a:xfrm>
          <a:prstGeom prst="rect">
            <a:avLst/>
          </a:prstGeom>
          <a:noFill/>
          <a:ln w="9360">
            <a:solidFill>
              <a:srgbClr val="d6009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Двести семьдесят тысяч девятнадца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3133800"/>
            <a:ext cx="8229600" cy="29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67160"/>
          </a:xfrm>
          <a:prstGeom prst="rect">
            <a:avLst/>
          </a:prstGeom>
          <a:noFill/>
          <a:ln w="9360">
            <a:solidFill>
              <a:srgbClr val="d6009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Четыреста шесть тысяч семьсот соро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360" y="2742840"/>
            <a:ext cx="777240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32000" y="765000"/>
            <a:ext cx="6624720" cy="2592720"/>
          </a:xfrm>
          <a:prstGeom prst="rect">
            <a:avLst/>
          </a:prstGeom>
          <a:noFill/>
          <a:ln w="9360">
            <a:solidFill>
              <a:srgbClr val="d6009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Триста пятьдесят четыре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тысячи восем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4205160"/>
            <a:ext cx="82296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9360">
            <a:solidFill>
              <a:srgbClr val="d6009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емьсот тысяч двадцать пя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347560"/>
            <a:ext cx="822960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280" y="907920"/>
            <a:ext cx="7272360" cy="1873440"/>
          </a:xfrm>
          <a:prstGeom prst="rect">
            <a:avLst/>
          </a:prstGeom>
          <a:noFill/>
          <a:ln w="9360">
            <a:solidFill>
              <a:srgbClr val="d6009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орок три тысячи шес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3401640"/>
            <a:ext cx="8229600" cy="27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Устная разми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должи ряды чисел:                 995, 996, … , …, …, …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00, 900, … , …, …, …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50, 540, …, …, …, …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авни числа: 896 и 900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15 и 450              1000 и 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 цифр 4, 0, 1 составь         наименьшее и наибольшее трёхзначное чис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Прове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56.4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70.0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06.740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54.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00.0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3.0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305240" y="1838160"/>
            <a:ext cx="29764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12360" y="333360"/>
            <a:ext cx="777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Помоги Незнайке решить задач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084720" y="2421000"/>
            <a:ext cx="2552760" cy="4267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68360" y="1413000"/>
            <a:ext cx="5327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а 2 часа езды на автомобил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оротышк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зрасходовали 16 литров бензин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а сколько часов езды хвати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96 литров бензин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5760" y="35208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Задача на смекал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956280" y="2708280"/>
            <a:ext cx="2187720" cy="36576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239840" y="2013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79480" y="1725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9120" y="1197000"/>
            <a:ext cx="83739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езнайка решил искупать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н разделся, сложил одежду на берегу, вошёл в воду и поплы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«Сейчас я три раза переплыв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еку, оденусь и пойду домой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ак вы думаете, нашёл ли он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вою одежду на берегу, когд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ышел из воды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бъяснит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152280"/>
            <a:ext cx="76341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cc00"/>
                </a:solidFill>
                <a:latin typeface="Arial"/>
              </a:rPr>
              <a:t>Проверим, что ты запомни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05788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прочитать многозначное чис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3950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записать многозначное чис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Шестьсот тринадцать тысяч двести двадцать восем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84360" y="907920"/>
            <a:ext cx="3810240" cy="4762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176560" y="810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7240" y="260280"/>
            <a:ext cx="374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Урок окончен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28680" y="5805360"/>
            <a:ext cx="668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Мне понравилось, а вам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66760" y="212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55840" y="981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11280" y="1268280"/>
            <a:ext cx="7880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52 уменьши на 3 деся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75 увеличь на 2 сот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йди сумму чисел 126 и 3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йди разность чисел 176 и 1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йди произведение чисел 24 и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йди частное чисел 329 и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Повторим таблицу разря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" y="1981080"/>
          <a:ext cx="7772400" cy="445932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295280"/>
                <a:gridCol w="1295280"/>
                <a:gridCol w="1295640"/>
                <a:gridCol w="1295280"/>
              </a:tblGrid>
              <a:tr h="1036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 –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 тыся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 –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 едини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Сотни тыся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Десятки тыся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Единицы тыся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Сот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Десят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Единиц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9640" y="218520"/>
            <a:ext cx="7634520" cy="4969800"/>
          </a:xfrm>
          <a:prstGeom prst="rect">
            <a:avLst/>
          </a:pr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4000" spc="-1" strike="noStrike">
                <a:solidFill>
                  <a:srgbClr val="d60093"/>
                </a:solidFill>
                <a:latin typeface="Times New Roman"/>
              </a:rPr>
              <a:t>Разбей числа на классы и прочитай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56408   38900   100205   2593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74002   456800   30004   701010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rabicPlain" startAt="32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0085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348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04030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rabicPlain" startAt="32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85000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340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60093"/>
                </a:solidFill>
                <a:latin typeface="Times New Roman"/>
              </a:rPr>
              <a:t>Что обозначают цифры</a:t>
            </a:r>
            <a:r>
              <a:rPr b="1" lang="ru-RU" sz="4000" spc="-1" strike="noStrike">
                <a:solidFill>
                  <a:srgbClr val="d60093"/>
                </a:solidFill>
                <a:latin typeface="Times New Roman"/>
              </a:rPr>
              <a:t> в записи чисел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11280" y="1341360"/>
            <a:ext cx="7772400" cy="4114800"/>
          </a:xfrm>
          <a:prstGeom prst="rect">
            <a:avLst/>
          </a:prstGeom>
          <a:noFill/>
          <a:ln w="9360">
            <a:solidFill>
              <a:srgbClr val="d6009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Arial"/>
              </a:rPr>
              <a:t>2. Запиши и прочитай числа, в которых</a:t>
            </a:r>
            <a:r>
              <a:rPr b="0" lang="ru-RU" sz="3200" spc="-1" strike="noStrike">
                <a:solidFill>
                  <a:srgbClr val="d60093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0 единиц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асса и 870 единиц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 единиц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асса и 600 единиц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4 единиц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класса, а единиц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асса отсутству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50760" y="861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32360" y="907920"/>
            <a:ext cx="3960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5400" spc="-1" strike="noStrike">
                <a:solidFill>
                  <a:srgbClr val="99cc00"/>
                </a:solidFill>
                <a:latin typeface="Comic Sans MS"/>
              </a:rPr>
              <a:t>Проверь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30.870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8.6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104.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48895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cc"/>
                </a:solidFill>
                <a:latin typeface="Arial"/>
              </a:rPr>
              <a:t>Как записать числ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47200" y="2133720"/>
            <a:ext cx="42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Двести тр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0200" y="3284640"/>
            <a:ext cx="747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пятьсот двенадцат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66760" y="64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27360" y="189000"/>
            <a:ext cx="833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cc00"/>
                </a:solidFill>
                <a:latin typeface="Comic Sans MS"/>
              </a:rPr>
              <a:t>Прочитай только единиц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cc00"/>
                </a:solidFill>
                <a:latin typeface="Comic Sans MS"/>
              </a:rPr>
              <a:t>класса тыся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92040" y="4869000"/>
            <a:ext cx="6142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cc00"/>
                </a:solidFill>
                <a:latin typeface="Comic Sans MS"/>
              </a:rPr>
              <a:t>Прочитай единиц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cc00"/>
                </a:solidFill>
                <a:latin typeface="Comic Sans MS"/>
              </a:rPr>
              <a:t>класса единиц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12760" y="2133720"/>
            <a:ext cx="284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тысяч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дежда</cp:lastModifiedBy>
  <dcterms:modified xsi:type="dcterms:W3CDTF">2011-01-05T20:00:25Z</dcterms:modified>
  <cp:revision>9</cp:revision>
  <dc:subject/>
  <dc:title>PowerPoint Presentation</dc:title>
</cp:coreProperties>
</file>