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130-63C5-4E97-8FBC-9791456E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06C-6580-432C-870C-BB36D839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A99-A0F7-45EC-A540-B6898DE5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F93-5ED8-4071-B942-0F8F8D4C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EC0-0865-47C8-A267-282F9C33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D24-87FD-4C1C-BAC7-7BEAD0CF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2A7-0B65-4C31-BEC6-B0F84157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A39-8E0C-4F96-9F41-9A4E30F2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C8E-98AF-4D53-9080-5E51A78C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74B-713B-4607-87DB-9F693D4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C2B-58B9-49A4-A2F6-D5F1AD6B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67E-BB25-4147-9D8E-00E5392C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83ED-B5D3-4971-A278-1F0C35A12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765000"/>
            <a:ext cx="6480000" cy="27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0093"/>
                </a:solidFill>
                <a:latin typeface="Arial"/>
              </a:rPr>
              <a:t>Чтение и запись чисел больше тыся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95280" y="5444640"/>
            <a:ext cx="60483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Урок математики в 4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3287520" cy="41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201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. Запиши, сколько единиц класса тыся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0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99128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. Поставь точку – границу между класс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203</a:t>
            </a: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8836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. Запиши, сколько единиц класса едини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4280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203.</a:t>
            </a: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5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мни, что после точки всегда должно быть 3 цифр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47560"/>
            <a:ext cx="8229600" cy="37782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378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09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.050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98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.0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.014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.0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488000" cy="34560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риста пятьдесят шесть тысяч четыреста девять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3868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вести семьдесят тысяч девятнадц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133800"/>
            <a:ext cx="8229600" cy="29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етыреста шесть тысяч семьсот сор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742840"/>
            <a:ext cx="77724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6624720" cy="25927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риста пятьдесят четыр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ысячи восем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20516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емьсот тысяч двадцать пя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34756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272360" cy="187344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рок три тысячи ше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40164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Устная разм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должи ряды чисел:                 995, 996, … , …, …, …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00, 900, … , …, …,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0, 540, …, …, …, …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вни числа: 896 и 900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15 и 450              1000 и 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цифр 4, 0, 1 составь         наименьшее и наибольшее трёхзнач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56.4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70.0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06.740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54.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00.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3.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05240" y="1838160"/>
            <a:ext cx="29764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2360" y="333360"/>
            <a:ext cx="77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омоги Незнайке решить задач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84720" y="2421000"/>
            <a:ext cx="2552760" cy="426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1413000"/>
            <a:ext cx="5327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 2 часа езды на автомобил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ротыш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зрасходовали 16 литров бензи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сколько часов езды хват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96 литров бензи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дача на смекал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56280" y="2708280"/>
            <a:ext cx="2187720" cy="3657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39840" y="201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9480" y="172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1197000"/>
            <a:ext cx="837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знайка решил искупа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н разделся, сложил одежду на берегу, вошёл в воду и поплы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Сейчас я три раза переплыв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еку, оденусь и пойду домой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ак вы думаете, нашёл ли о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вою одежду на берегу, ког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шел из вод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ъясни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7634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Проверим, что ты запомн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578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прочитать многозначное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3950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аписать многозначное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Шестьсот тринадцать тысяч двести двадцать восем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3810240" cy="4762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76560" y="81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240" y="26028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Урок окончен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8680" y="5805360"/>
            <a:ext cx="668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Мне понравилось, а вам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66760" y="21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55840" y="981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880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52 уменьши на 3 деся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5 увеличь на 2 сот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сумму чисел 126 и 3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разность чисел 176 и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произведение чисел 24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частное чисел 329 и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овторим таблицу разря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772400" cy="44593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тыся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отни тыся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есятки тыся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Единицы тыся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от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еся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Еди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218520"/>
            <a:ext cx="7634520" cy="49698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Разбей числа на классы и прочита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6408   38900   100205   2593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4002   456800   30004   701010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lain" startAt="32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0085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348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4030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lain" startAt="32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8500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34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Что обозначают цифры</a:t>
            </a:r>
            <a:r>
              <a:rPr b="1" lang="ru-RU" sz="4000" spc="-1" strike="noStrike">
                <a:solidFill>
                  <a:srgbClr val="d60093"/>
                </a:solidFill>
                <a:latin typeface="Times New Roman"/>
              </a:rPr>
              <a:t> в записи чисел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2. Запиши и прочитай числа, в которых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 едини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а и 870 едини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едини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а и 600 едини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4 единиц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ласса, а единиц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а отсут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50760" y="861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907920"/>
            <a:ext cx="396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5400" spc="-1" strike="noStrike">
                <a:solidFill>
                  <a:srgbClr val="99cc00"/>
                </a:solidFill>
                <a:latin typeface="Comic Sans MS"/>
              </a:rPr>
              <a:t>Проверь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30.870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8.6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104.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889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Как записать чис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7200" y="2133720"/>
            <a:ext cx="42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Двести тр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0200" y="3284640"/>
            <a:ext cx="74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пятьсот двенадц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6760" y="64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27360" y="189000"/>
            <a:ext cx="83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Comic Sans MS"/>
              </a:rPr>
              <a:t>Прочитай только единиц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Comic Sans MS"/>
              </a:rPr>
              <a:t>класса тыся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2040" y="4869000"/>
            <a:ext cx="61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Comic Sans MS"/>
              </a:rPr>
              <a:t>Прочитай единиц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Comic Sans MS"/>
              </a:rPr>
              <a:t>класса единиц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2760" y="2133720"/>
            <a:ext cx="284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тысяч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1-01-05T20:00:25Z</dcterms:modified>
  <cp:revision>9</cp:revision>
  <dc:subject/>
  <dc:title>PowerPoint Presentation</dc:title>
</cp:coreProperties>
</file>