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3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2D92-FDC2-4C5C-B47D-F2BA25FA3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8449-195F-46E6-8051-5FFAB686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316E-3A30-41F9-9FAB-589BD73E1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E6E0-E9EF-4CAE-B5C0-AD2CCA595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9F3A-279F-4D04-B6B2-56E32FE5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3724-E77C-4273-9EF8-29AA001A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77E3-F12B-4142-964D-5FE2A7F5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13DC-81BB-47B6-9188-17851BC1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DDC9-F748-4042-8312-3336C1FB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27DE-90F1-44AE-B0C3-A5AE416D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8431-E3B8-4F57-AA5D-B92541CA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4549-91EF-42EF-8384-742C36D5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17F5-9653-4213-9CE0-03074B5D8B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Users\Samsung\Desktop\фон пдд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6"/>
          <p:cNvSpPr/>
          <p:nvPr/>
        </p:nvSpPr>
        <p:spPr>
          <a:xfrm>
            <a:off x="2600280" y="2373480"/>
            <a:ext cx="4572000" cy="2623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О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старшей  групп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Юный пешеход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9"/>
          <p:cNvSpPr/>
          <p:nvPr/>
        </p:nvSpPr>
        <p:spPr>
          <a:xfrm>
            <a:off x="3564000" y="5259240"/>
            <a:ext cx="4608360" cy="79236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астники проекта: дети, воспитатели и родители старшей групп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"/>
          <p:cNvSpPr/>
          <p:nvPr/>
        </p:nvSpPr>
        <p:spPr>
          <a:xfrm>
            <a:off x="1150920" y="644400"/>
            <a:ext cx="662148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ниципальное казенное дошколь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"Детский сад № 3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ршая группа № 9 комбинированной направлен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7" name="Picture 2" descr="C:\Users\Samsung\Desktop\фон пдд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8" descr="https://sun9-68.userapi.com/c858120/v858120331/6f7a9/Wwvd7xRWkpM.jpg"/>
          <p:cNvPicPr/>
          <p:nvPr/>
        </p:nvPicPr>
        <p:blipFill>
          <a:blip r:embed="rId2"/>
          <a:stretch/>
        </p:blipFill>
        <p:spPr>
          <a:xfrm>
            <a:off x="927000" y="604800"/>
            <a:ext cx="4508640" cy="32814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7" descr="https://sun9-127.userapi.com/c857424/v857424331/72403/qZid6i_EdzE.jpg"/>
          <p:cNvPicPr/>
          <p:nvPr/>
        </p:nvPicPr>
        <p:blipFill>
          <a:blip r:embed="rId3"/>
          <a:stretch/>
        </p:blipFill>
        <p:spPr>
          <a:xfrm>
            <a:off x="3780000" y="3284640"/>
            <a:ext cx="4403520" cy="2935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2" name="Picture 2" descr="C:\Users\Samsung\Desktop\фон пдд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7" descr="https://sun9-27.userapi.com/c204724/v204724494/3cf9d/UV2J42Pq5L4.jpg"/>
          <p:cNvPicPr/>
          <p:nvPr/>
        </p:nvPicPr>
        <p:blipFill>
          <a:blip r:embed="rId2"/>
          <a:stretch/>
        </p:blipFill>
        <p:spPr>
          <a:xfrm>
            <a:off x="1692360" y="907920"/>
            <a:ext cx="6080040" cy="4560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C:\Users\Samsung\Desktop\фон пдд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ttps://sun9-14.userapi.com/c853620/v853620877/1e87ce/CLzsRHi9V-Y.jpg"/>
          <p:cNvPicPr/>
          <p:nvPr/>
        </p:nvPicPr>
        <p:blipFill>
          <a:blip r:embed="rId2"/>
          <a:stretch/>
        </p:blipFill>
        <p:spPr>
          <a:xfrm>
            <a:off x="1042920" y="620640"/>
            <a:ext cx="4033800" cy="30243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7" descr=""/>
          <p:cNvPicPr/>
          <p:nvPr/>
        </p:nvPicPr>
        <p:blipFill>
          <a:blip r:embed="rId3"/>
          <a:stretch/>
        </p:blipFill>
        <p:spPr>
          <a:xfrm>
            <a:off x="5148360" y="1989000"/>
            <a:ext cx="280836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C:\Users\Samsung\Desktop\фон пдд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4" descr=""/>
          <p:cNvPicPr/>
          <p:nvPr/>
        </p:nvPicPr>
        <p:blipFill>
          <a:blip r:embed="rId3"/>
          <a:stretch/>
        </p:blipFill>
        <p:spPr>
          <a:xfrm>
            <a:off x="1692360" y="549360"/>
            <a:ext cx="3219480" cy="4064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https://sun9-68.userapi.com/c858132/v858132877/161a34/7eGAoktfqMQ.jpg"/>
          <p:cNvPicPr/>
          <p:nvPr/>
        </p:nvPicPr>
        <p:blipFill>
          <a:blip r:embed="rId4"/>
          <a:stretch/>
        </p:blipFill>
        <p:spPr>
          <a:xfrm>
            <a:off x="4788000" y="2062080"/>
            <a:ext cx="322740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4" name="Picture 2" descr="C:\Users\Samsung\Desktop\фон пдд.pn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1835280" y="981000"/>
            <a:ext cx="57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1917720" y="1571400"/>
            <a:ext cx="5977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ориентированы в том, что машины движутся по проезжей части улиц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ешеходы по тротуару. Знают о назначении светофора. Хорошо ориентируются в пространстве справа, слева, вперёд, назад, вверх, вниз. Имеют представление о видах транспорта, об особенностях их передвижения. Знают, какие правила безопасного поведения необходимо соблюдать на доро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знают, в каком городе живут и какой у них адрес, безопасный путь от детского сада домой. Ориентированы в том, что на дорогах расположено много дорожных знаков. Знают, называют и объясняют назначение этих зна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Прямоугольник 6" descr=""/>
          <p:cNvPicPr/>
          <p:nvPr/>
        </p:nvPicPr>
        <p:blipFill>
          <a:blip r:embed="rId2"/>
          <a:stretch/>
        </p:blipFill>
        <p:spPr>
          <a:xfrm>
            <a:off x="1620720" y="622440"/>
            <a:ext cx="5730840" cy="645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0" name="Picture 2" descr="C:\Users\Samsung\Desktop\фон пдд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7"/>
          <p:cNvSpPr/>
          <p:nvPr/>
        </p:nvSpPr>
        <p:spPr>
          <a:xfrm>
            <a:off x="1835280" y="981000"/>
            <a:ext cx="5759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Правильное поведение на дорогах -  показатель культуры человек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Желаем всем безопасных доро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Будьте воспита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9" name="Picture 2" descr="C:\Users\Samsung\Desktop\фон пдд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6"/>
          <p:cNvSpPr/>
          <p:nvPr/>
        </p:nvSpPr>
        <p:spPr>
          <a:xfrm>
            <a:off x="2286000" y="1844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2050920" y="1751040"/>
            <a:ext cx="5597640" cy="51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ект посвящен актуальной проблеме - воспитанию у детей дошкольного возраста навыков безопасного поведения на улицах города. Актуальность проекта связана еще и с тем, что у детей этого возраста отсутствует защитная психологическая реакция на дорожную обстановку, которая свойственна взрослым. Желание постоянно открывать что-то новое, непосредственность часто ставят их перед реальными опасностями, в частности на улицах. Формирование у детей навыков осознанного безопасного поведения на улицах города реализуется через активную деятельность всех участников проекта.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Чем раньше удастся познакомить ребенка с правилами дорожного движения, сформировать у него навыки культуры поведения в транспорте, на улице, тем меньше вероятности нежелательных происшествий с ним на дорог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9"/>
          <p:cNvSpPr/>
          <p:nvPr/>
        </p:nvSpPr>
        <p:spPr>
          <a:xfrm>
            <a:off x="1692360" y="620640"/>
            <a:ext cx="5400720" cy="1143000"/>
          </a:xfrm>
          <a:prstGeom prst="horizontalScroll">
            <a:avLst>
              <a:gd name="adj" fmla="val 12500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ктуальность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5" name="Picture 2" descr="C:\Users\Samsung\Desktop\фон пдд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6"/>
          <p:cNvSpPr/>
          <p:nvPr/>
        </p:nvSpPr>
        <p:spPr>
          <a:xfrm>
            <a:off x="2286000" y="1197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Прямоугольник 6" descr=""/>
          <p:cNvPicPr/>
          <p:nvPr/>
        </p:nvPicPr>
        <p:blipFill>
          <a:blip r:embed="rId2"/>
          <a:stretch/>
        </p:blipFill>
        <p:spPr>
          <a:xfrm>
            <a:off x="1914480" y="938160"/>
            <a:ext cx="5613480" cy="5857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9"/>
          <p:cNvSpPr/>
          <p:nvPr/>
        </p:nvSpPr>
        <p:spPr>
          <a:xfrm>
            <a:off x="1654200" y="1525680"/>
            <a:ext cx="5904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ать знакомить детей с правилами дорожного дв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навыки правильного поведения на доро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ять знания о правилах дорожного движения и поведения на ули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ять знания детей о специальном транспор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ять знания о правилах поведения в общественном транспор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ориентировки в простран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личностных качеств: внимание, ответственность за сво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дение - уверенность в своих действ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1" name="Picture 2" descr="C:\Users\Samsung\Desktop\фон пдд.png"/>
          <p:cNvPicPr/>
          <p:nvPr/>
        </p:nvPicPr>
        <p:blipFill>
          <a:blip r:embed="rId1"/>
          <a:stretch/>
        </p:blipFill>
        <p:spPr>
          <a:xfrm>
            <a:off x="1440" y="2376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1"/>
          <p:cNvSpPr/>
          <p:nvPr/>
        </p:nvSpPr>
        <p:spPr>
          <a:xfrm>
            <a:off x="1979640" y="1246320"/>
            <a:ext cx="5545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Образовательны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одолжать знакомить с дорожными знаками: предупреждающими, запрещающими, информационно-указатель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Развивающи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азвивать осторожность, внимательность, самостоятельность, ответственность и осмотрительность на дороге; стимулировать познавательную активность, способствовать развитию коммуникативных навы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Воспитательные: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оспитывать культуру поведения на улице и в общественном транспор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Прямоугольник 6" descr=""/>
          <p:cNvPicPr/>
          <p:nvPr/>
        </p:nvPicPr>
        <p:blipFill>
          <a:blip r:embed="rId2"/>
          <a:stretch/>
        </p:blipFill>
        <p:spPr>
          <a:xfrm>
            <a:off x="1695600" y="828720"/>
            <a:ext cx="5613120" cy="585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6" name="Picture 2" descr="C:\Users\Samsung\Desktop\фон пдд.pn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6" descr=""/>
          <p:cNvPicPr/>
          <p:nvPr/>
        </p:nvPicPr>
        <p:blipFill>
          <a:blip r:embed="rId2"/>
          <a:stretch/>
        </p:blipFill>
        <p:spPr>
          <a:xfrm>
            <a:off x="1189080" y="590400"/>
            <a:ext cx="6259320" cy="83052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10"/>
          <p:cNvSpPr/>
          <p:nvPr/>
        </p:nvSpPr>
        <p:spPr>
          <a:xfrm>
            <a:off x="4013280" y="3244680"/>
            <a:ext cx="12063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11"/>
          <p:cNvSpPr/>
          <p:nvPr/>
        </p:nvSpPr>
        <p:spPr>
          <a:xfrm>
            <a:off x="2124000" y="4653000"/>
            <a:ext cx="230364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Родит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кругленный прямоугольник 12"/>
          <p:cNvSpPr/>
          <p:nvPr/>
        </p:nvSpPr>
        <p:spPr>
          <a:xfrm>
            <a:off x="5364000" y="4724280"/>
            <a:ext cx="2737080" cy="843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Воспитат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кругленный прямоугольник 13"/>
          <p:cNvSpPr/>
          <p:nvPr/>
        </p:nvSpPr>
        <p:spPr>
          <a:xfrm>
            <a:off x="3106800" y="1843200"/>
            <a:ext cx="293040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Д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Двойная стрелка вверх/вниз 14"/>
          <p:cNvSpPr/>
          <p:nvPr/>
        </p:nvSpPr>
        <p:spPr>
          <a:xfrm rot="1612200">
            <a:off x="3261960" y="3065400"/>
            <a:ext cx="484200" cy="1157400"/>
          </a:xfrm>
          <a:prstGeom prst="upDownArrow">
            <a:avLst>
              <a:gd name="adj1" fmla="val 50000"/>
              <a:gd name="adj2" fmla="val 5000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Двойная стрелка вверх/вниз 16"/>
          <p:cNvSpPr/>
          <p:nvPr/>
        </p:nvSpPr>
        <p:spPr>
          <a:xfrm rot="20359200">
            <a:off x="5793840" y="3141360"/>
            <a:ext cx="486000" cy="1216080"/>
          </a:xfrm>
          <a:prstGeom prst="upDown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6" name="Picture 2" descr="C:\Users\Samsung\Desktop\фон пдд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10"/>
          <p:cNvSpPr/>
          <p:nvPr/>
        </p:nvSpPr>
        <p:spPr>
          <a:xfrm>
            <a:off x="4013280" y="3244680"/>
            <a:ext cx="12063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2"/>
          <p:cNvSpPr/>
          <p:nvPr/>
        </p:nvSpPr>
        <p:spPr>
          <a:xfrm>
            <a:off x="2340000" y="549360"/>
            <a:ext cx="4896000" cy="91440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апы работы над проек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"/>
          <p:cNvSpPr/>
          <p:nvPr/>
        </p:nvSpPr>
        <p:spPr>
          <a:xfrm>
            <a:off x="2195640" y="1463760"/>
            <a:ext cx="56894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этап (постановка проблем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ить проблему перед детьми «Для чего необходимо зн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дорожного движения?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продукт проекта: создание макета улицы горо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правил дорожного движ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этап (обсуждение проблемы, принятие задач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ести до детей важность данной проблемы: « Незнание прав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жного движения может привести к беде!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брать художественную литературу, подготовить нагляд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люстрированный материал по теме проек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ь перспективный план р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этап (работа над проекто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Организовать работу по решению задач проекта через образовательну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2" name="Picture 2" descr="C:\Users\Samsung\Desktop\фон пдд.png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6" descr=""/>
          <p:cNvPicPr/>
          <p:nvPr/>
        </p:nvPicPr>
        <p:blipFill>
          <a:blip r:embed="rId2"/>
          <a:stretch/>
        </p:blipFill>
        <p:spPr>
          <a:xfrm>
            <a:off x="1341360" y="762120"/>
            <a:ext cx="5145120" cy="82872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1"/>
          <p:cNvSpPr/>
          <p:nvPr/>
        </p:nvSpPr>
        <p:spPr>
          <a:xfrm>
            <a:off x="1979640" y="1558800"/>
            <a:ext cx="61927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художественной литератур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Б.Житков «Светофор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Волкова «Про правила дорожного движения»; О. Бедарев «Азбука безопасности»; В.Клименко «Происшествия с игрушками»; С.Михалков «Три чудесных цвета», «Моя улица», «Скверная история»; И.Мигунова «Друг светофор»; В.Иришин «Прогулка по городу»; А.Дмоховский «Чудесный островок»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Иванов «Как неразлучные друзья дорогу перехдили», Л. Гальперштейн «Шлагбаум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вые прогулки и экскурсии по улицам город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блюдения за действиями пешеходов в условиях улицы; разбор каждой ситу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ние иллюстраций, картинок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игры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тофор», «Угадай-ка», «Наша улица», «Виды перекрестков», «Логическая дорожка», «Поставь дорожный знак», «Это я, это я, это все мои друзья!», «Будь внимательным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Samsung\Desktop\фон пдд.png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5"/>
          <p:cNvSpPr/>
          <p:nvPr/>
        </p:nvSpPr>
        <p:spPr>
          <a:xfrm>
            <a:off x="1692360" y="1706400"/>
            <a:ext cx="57592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бор ситуаций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к правильно перейти через дорогу?», «Какие знаки помогают пешеходу в пути?»,  «Чего не должно быть?», «Что нужно знать, если находишься на улице один?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мотр обучающих мультфильмов по теме ПДД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мешарики: Азбука безопасности», «Уроки тетушки Совы. Мультфильмы про ПДД для детей»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6" descr=""/>
          <p:cNvPicPr/>
          <p:nvPr/>
        </p:nvPicPr>
        <p:blipFill>
          <a:blip r:embed="rId3"/>
          <a:stretch/>
        </p:blipFill>
        <p:spPr>
          <a:xfrm>
            <a:off x="1654200" y="679320"/>
            <a:ext cx="5145120" cy="8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Samsung\Desktop\фон пдд.png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4"/>
          <p:cNvSpPr/>
          <p:nvPr/>
        </p:nvSpPr>
        <p:spPr>
          <a:xfrm>
            <a:off x="2050920" y="1268280"/>
            <a:ext cx="5400720" cy="34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и: «Как научить ребенка соблюдать правила дорожного движения», «Ребёнок на улицах город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ение информации в родительском уголке: «Памятка по правилам дорожного движения-обучение детей наблюдательности на улице», «Это нужно знать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зация знаний детей и их родителей по ПДД, закрепление с детьми правил дорожного движения через художественное слово, закрепление детьми и родителями знаний ПДД, воспитание у детей интереса к изучению правил дорожного движения, развитие творческих способностей, закрепление знаний ПД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6" descr=""/>
          <p:cNvPicPr/>
          <p:nvPr/>
        </p:nvPicPr>
        <p:blipFill>
          <a:blip r:embed="rId3"/>
          <a:stretch/>
        </p:blipFill>
        <p:spPr>
          <a:xfrm>
            <a:off x="1720800" y="639720"/>
            <a:ext cx="573084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4T09:10:41Z</dcterms:created>
  <dc:creator>132</dc:creator>
  <dc:description/>
  <dc:language>en-US</dc:language>
  <cp:lastModifiedBy>RePack by Diakov</cp:lastModifiedBy>
  <dcterms:modified xsi:type="dcterms:W3CDTF">2020-04-13T11:15:19Z</dcterms:modified>
  <cp:revision>45</cp:revision>
  <dc:subject/>
  <dc:title>Министерство образования и науки Российской Федерации Федеральное агентство по образованию Межрегиональный институт повышения квалификации специалистов начального профессионального образования  ПРЕЗЕНТАЦИЯ  занятия в подготовительной группе по ПДД «Правила пешеходов и пассажиров» (для слушателей курсов Межрегионального института повышения квалификации педагогов г. Казани)                                                                Подготовили и провели:                                                               Бурнаева Е.И.,                                                                              воспитатель МДОУ № 19 г. Лениногорск,                                                                 Яганова Р.М.,                                                 воспитатель МДОУ № 17 г. Лениногорск.  Казань, 2010г.</dc:title>
</cp:coreProperties>
</file>