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5DA-9F72-4BC7-BF91-EFA43554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F73-F3AA-41CF-9A6A-86153308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2F6-13FA-400C-8257-B79F9624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D8C-27B6-4928-A4F8-4A0B49D4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804-D084-423A-97FD-39645AB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E33-7E72-4DFE-AC18-A00F2723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F22-7DEF-407F-9036-3874E5DF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0A9-3FD0-4293-8CDE-628B8DFD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5B7-3EEF-4BC0-AA59-A8259971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C6A-03F9-40B7-BE3C-9C5FF113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198-B1C7-47D4-8E6D-E0308DB6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04D-814B-4F24-BA19-ACFBE6C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5FAE-0B30-4652-B11D-2EB79AF39E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2600280" y="2373480"/>
            <a:ext cx="4572000" cy="2623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таршей  груп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Юный пеш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3564000" y="5259240"/>
            <a:ext cx="4608360" cy="792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ники проекта: дети, воспитатели и родители старш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1150920" y="644400"/>
            <a:ext cx="66214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казен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Детский сад № 3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шая группа № 9 комбинированной направл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https://sun9-68.userapi.com/c858120/v858120331/6f7a9/Wwvd7xRWkpM.jpg"/>
          <p:cNvPicPr/>
          <p:nvPr/>
        </p:nvPicPr>
        <p:blipFill>
          <a:blip r:embed="rId2"/>
          <a:stretch/>
        </p:blipFill>
        <p:spPr>
          <a:xfrm>
            <a:off x="927000" y="604800"/>
            <a:ext cx="4508640" cy="3281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https://sun9-127.userapi.com/c857424/v857424331/72403/qZid6i_EdzE.jpg"/>
          <p:cNvPicPr/>
          <p:nvPr/>
        </p:nvPicPr>
        <p:blipFill>
          <a:blip r:embed="rId3"/>
          <a:stretch/>
        </p:blipFill>
        <p:spPr>
          <a:xfrm>
            <a:off x="3780000" y="3284640"/>
            <a:ext cx="4403520" cy="2935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https://sun9-27.userapi.com/c204724/v204724494/3cf9d/UV2J42Pq5L4.jpg"/>
          <p:cNvPicPr/>
          <p:nvPr/>
        </p:nvPicPr>
        <p:blipFill>
          <a:blip r:embed="rId2"/>
          <a:stretch/>
        </p:blipFill>
        <p:spPr>
          <a:xfrm>
            <a:off x="1692360" y="907920"/>
            <a:ext cx="608004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s://sun9-14.userapi.com/c853620/v853620877/1e87ce/CLzsRHi9V-Y.jpg"/>
          <p:cNvPicPr/>
          <p:nvPr/>
        </p:nvPicPr>
        <p:blipFill>
          <a:blip r:embed="rId2"/>
          <a:stretch/>
        </p:blipFill>
        <p:spPr>
          <a:xfrm>
            <a:off x="1042920" y="620640"/>
            <a:ext cx="403380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28083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Samsung\Desktop\фон пдд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3219480" cy="4064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s://sun9-68.userapi.com/c858132/v858132877/161a34/7eGAoktfqMQ.jpg"/>
          <p:cNvPicPr/>
          <p:nvPr/>
        </p:nvPicPr>
        <p:blipFill>
          <a:blip r:embed="rId4"/>
          <a:stretch/>
        </p:blipFill>
        <p:spPr>
          <a:xfrm>
            <a:off x="4788000" y="2062080"/>
            <a:ext cx="32274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835280" y="98100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917720" y="1571400"/>
            <a:ext cx="59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риентированы в том, что машины движутся по проезжей части ул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ешеходы по тротуару. Знают о назначении светофора. Хорошо ориентируются в пространстве справа, слева, вперёд, назад, вверх, вниз. Имеют представление о видах транспорта, об особенностях их передвижения. Знают, какие правила безопасного поведения необходимо соблюдать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знают, в каком городе живут и какой у них адрес, безопасный путь от детского сада домой. Ориентированы в том, что на дорогах расположено много дорожных знаков. Знают, называют и объясняют назначение этих 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6" descr=""/>
          <p:cNvPicPr/>
          <p:nvPr/>
        </p:nvPicPr>
        <p:blipFill>
          <a:blip r:embed="rId2"/>
          <a:stretch/>
        </p:blipFill>
        <p:spPr>
          <a:xfrm>
            <a:off x="1620720" y="622440"/>
            <a:ext cx="57308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1835280" y="981000"/>
            <a:ext cx="575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Желаем всем безопасных дор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Будьте воспит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2286000" y="184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050920" y="1751040"/>
            <a:ext cx="5597640" cy="51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 посвящен актуальной проблеме - воспитанию у детей дошкольного возраста навыков безопасного поведения на улицах города. Актуальность проекта связана еще и с тем, что у детей этого возраста отсутствует защитная психологическая реакция на дорожную обстановку, которая свойственна взрослым. Желание постоянно открывать что-то новое, непосредственность часто ставят их перед реальными опасностями, в частности на улицах. Формирование у детей навыков осознанного безопасного поведения на улицах города реализуется через активную деятельность всех участников проекта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ем раньше удастся познакомить ребенка с правилами дорожного движения, сформировать у него навыки культуры поведения в транспорте, на улице, тем меньше вероятности нежелательных происшествий с ним на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692360" y="620640"/>
            <a:ext cx="5400720" cy="114300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2286000" y="119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6" descr=""/>
          <p:cNvPicPr/>
          <p:nvPr/>
        </p:nvPicPr>
        <p:blipFill>
          <a:blip r:embed="rId2"/>
          <a:stretch/>
        </p:blipFill>
        <p:spPr>
          <a:xfrm>
            <a:off x="1914480" y="938160"/>
            <a:ext cx="5613480" cy="585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1654200" y="1525680"/>
            <a:ext cx="590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знакомить детей с правилами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и правильного поведения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о правилах дорожного движения и поведения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детей о специальном транспо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о правилах поведения в общественном транспо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риентировк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личностных качеств: внимание, ответственность за сво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- уверенность в своих дейст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1440" y="237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979640" y="1246320"/>
            <a:ext cx="5545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разов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должать знакомить с дорожными знаками: предупреждающими, запрещающими, информационно-указа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вива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вать осторожность, внимательность, самостоятельность, ответственность и осмотрительность на дороге; стимулировать познавательную активность, способствовать развитию коммуникативн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ывать культуру поведения на улице и в общественном транспо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6" descr=""/>
          <p:cNvPicPr/>
          <p:nvPr/>
        </p:nvPicPr>
        <p:blipFill>
          <a:blip r:embed="rId2"/>
          <a:stretch/>
        </p:blipFill>
        <p:spPr>
          <a:xfrm>
            <a:off x="1695600" y="828720"/>
            <a:ext cx="5613120" cy="58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2"/>
          <a:stretch/>
        </p:blipFill>
        <p:spPr>
          <a:xfrm>
            <a:off x="1189080" y="590400"/>
            <a:ext cx="6259320" cy="8305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1"/>
          <p:cNvSpPr/>
          <p:nvPr/>
        </p:nvSpPr>
        <p:spPr>
          <a:xfrm>
            <a:off x="2124000" y="4653000"/>
            <a:ext cx="230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о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2"/>
          <p:cNvSpPr/>
          <p:nvPr/>
        </p:nvSpPr>
        <p:spPr>
          <a:xfrm>
            <a:off x="5364000" y="4724280"/>
            <a:ext cx="2737080" cy="843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осп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3"/>
          <p:cNvSpPr/>
          <p:nvPr/>
        </p:nvSpPr>
        <p:spPr>
          <a:xfrm>
            <a:off x="3106800" y="1843200"/>
            <a:ext cx="2930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войная стрелка вверх/вниз 14"/>
          <p:cNvSpPr/>
          <p:nvPr/>
        </p:nvSpPr>
        <p:spPr>
          <a:xfrm rot="1612200">
            <a:off x="3261960" y="3065400"/>
            <a:ext cx="484200" cy="115740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Двойная стрелка вверх/вниз 16"/>
          <p:cNvSpPr/>
          <p:nvPr/>
        </p:nvSpPr>
        <p:spPr>
          <a:xfrm rot="20359200">
            <a:off x="5793840" y="3141360"/>
            <a:ext cx="486000" cy="121608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2340000" y="549360"/>
            <a:ext cx="4896000" cy="9144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апы работы над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95640" y="1463760"/>
            <a:ext cx="5689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(постановка пробле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ить проблему перед детьми «Для чего необходимо зн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орожного движения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родукт проекта: создание макета улицы гор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правил дорожного дви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(обсуждение проблемы, принятие зада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сти до детей важность данной проблемы: « Незнание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го движения может привести к беде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художественную литературу, подготовить нагля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ированный материал по теме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ерспективный план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(работа над проект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рганизовать работу по решению задач проекта через образовате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" descr=""/>
          <p:cNvPicPr/>
          <p:nvPr/>
        </p:nvPicPr>
        <p:blipFill>
          <a:blip r:embed="rId2"/>
          <a:stretch/>
        </p:blipFill>
        <p:spPr>
          <a:xfrm>
            <a:off x="1341360" y="762120"/>
            <a:ext cx="5145120" cy="828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1979640" y="1558800"/>
            <a:ext cx="6192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.Житков «Светофор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олкова «Про правила дорожного движения»; О. Бедарев «Азбука безопасности»; В.Клименко «Происшествия с игрушками»; С.Михалков «Три чудесных цвета», «Моя улица», «Скверная история»; И.Мигунова «Друг светофор»; В.Иришин «Прогулка по городу»; А.Дмоховский «Чудесный островок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Иванов «Как неразлучные друзья дорогу перехдили», Л. Гальперштейн «Шлагба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рогулки и экскурсии по улицам гор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блюдения за действиями пешеходов в условиях улицы; разбор кажд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, картин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, «Угадай-ка», «Наша улица», «Виды перекрестков», «Логическая дорожка», «Поставь дорожный знак», «Это я, это я, это все мои друзья!», «Будь внимательны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Samsung\Desktop\фон пдд.png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1692360" y="1706400"/>
            <a:ext cx="5759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р ситуац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правильно перейти через дорогу?», «Какие знаки помогают пешеходу в пути?»,  «Чего не должно быть?», «Что нужно знать, если находишься на улице один?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обучающих мультфильмов по теме ПД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мешарики: Азбука безопасности», «Уроки тетушки Совы. Мультфильмы про ПДД для детей»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1654200" y="679320"/>
            <a:ext cx="514512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Samsung\Desktop\фон пдд.png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2050920" y="1268280"/>
            <a:ext cx="540072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: «Как научить ребенка соблюдать правила дорожного движения», «Ребёнок на улицах гор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в родительском уголке: «Памятка по правилам дорожного движения-обучение детей наблюдательности на улице», «Это нужно знат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детей и их родителей по ПДД, закрепление с детьми правил дорожного движения через художественное слово, закрепление детьми и родителями знаний ПДД, воспитание у детей интереса к изучению правил дорожного движения, развитие творческих способностей, закрепление знаний ПД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1720800" y="639720"/>
            <a:ext cx="57308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10:41Z</dcterms:created>
  <dc:creator>132</dc:creator>
  <dc:description/>
  <dc:language>en-US</dc:language>
  <cp:lastModifiedBy>RePack by Diakov</cp:lastModifiedBy>
  <dcterms:modified xsi:type="dcterms:W3CDTF">2020-04-13T11:15:19Z</dcterms:modified>
  <cp:revision>45</cp:revision>
  <dc:subject/>
  <dc:title>Министерство образования и науки Российской Федерации Федеральное агентство по образованию Межрегиональный институт повышения квалификации специалистов начального профессионального образования  ПРЕЗЕНТАЦИЯ  занятия в подготовительной группе по ПДД «Правила пешеходов и пассажиров» (для слушателей курсов Межрегионального института повышения квалификации педагогов г. Казани)                                                                Подготовили и провели:                                                               Бурнаева Е.И.,                                                                              воспитатель МДОУ № 19 г. Лениногорск,                                                                 Яганова Р.М.,                                                 воспитатель МДОУ № 17 г. Лениногорск.  Казань, 2010г.</dc:title>
</cp:coreProperties>
</file>