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0.wmf" ContentType="image/x-wmf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5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3854D-3F61-4F26-B816-439AB1564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714CB-3124-44AA-B7C3-56FC78EDB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0EE464-82A4-4C35-8AC5-9701417BB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4774FD-7FE3-49A2-860B-B54EB86C1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8B2864-66BE-40A7-A20F-6C2F19A8C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A9EDAB-F1F3-41AC-B0C4-30C932186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9EA3E5-71EF-439C-96AD-8E16336BE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397321-B611-4263-A2C0-917F30008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607737-9A42-4D93-8BCD-402409A9F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717975-8D7D-40C6-96F6-1B0BAEBCE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8247D9-FEA7-4EB6-882D-CA42F02F1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C4D14-6FB8-40ED-B06E-067173740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ED538-F522-4AF1-B9A7-61510DF37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EAB56-E55E-4B8C-B5AD-6B36F2449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9F021-3CAA-4206-BEE1-2F44933BE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97637-039F-4F2E-81EC-119876868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10F05-A0FD-48F3-B781-FFFE8D499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6E6CD-4E49-464B-9AE4-56909A856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28C13-00BC-46AB-9C96-F49D32C2E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1D2EE-9E27-42F9-99E9-A90F1CA9F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0C951-17AC-4478-9D01-D551A4BB7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42946-8C3D-4132-A8C6-FA2C53062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50873-27B1-4C2A-AC70-48416C9A8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5621F-034A-4F8D-B377-AF5099306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B2E0F-0C4A-445E-A8A8-A9A7E7675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EAE48-0128-4404-9008-FC26FCF68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EF253C-1EC1-4C7D-9CE1-EFFAA03CB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A55A65-E770-43C2-AF91-C153200C2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AA2735-098C-4230-AC78-A4FBD87E5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BF2495-1C28-47F8-B6B1-2E7A49286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189F1C-587F-461F-84EA-DEDBDA9B9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E25B4-56B1-459E-BA7B-B95CC17B9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01F84D-A2BA-4F30-B065-5E68A391D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ABF686-BD98-4566-9708-C20B7229A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0FBDB9-8EC2-4BA7-8923-DE74D3252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D4F167-5DEF-4EA0-A7CF-9C8878D36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3E2EA7-1C0C-4ABB-9D0C-D645F6BFC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B58359-9EEB-4A93-9D51-EF5A819E1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C32ED9-9B18-4626-9220-EA0676D1E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CDE50E-9DCC-4648-953D-E16E11EDD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23D358-651F-4736-8308-A081AFCD2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0DB1A5-F32B-4AEC-A8F6-2218EEF89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CE0D1-1DE8-4902-B000-162D4528D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160755-07C3-4268-8530-7BAAF736B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562129-E4D9-46C3-AC3B-6EEF10BC0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EFAF52-B466-4A3A-AE2F-19D2ECDFA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34D2E3-D7E3-4182-8B12-1BE954B67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B26CC0-2155-48DB-BB6D-307DFD535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57A766-1EAF-4758-B8C2-786242727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F0558F-5A76-47F3-8BE2-E1AF310E3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C5AD93-469F-444C-A41E-D0672B40B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A448FB-5F02-4BB6-BDFC-1DDBAA449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BCF12E-F5CF-4D0E-BCBD-C2DCF0AF9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BCD19-8BEB-46F3-A0E9-23B1BD605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428579-7A5A-4381-B785-D062019E7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B5DCA8-23CD-493D-892C-EC6F97E63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9B815B-94E6-49B3-8DE4-C3244848B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C3338F-BA94-4CD7-B2CE-1CA1AE275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E1DDD2-DA39-46AA-A4C6-5FA75A92F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E97ED4-9FF1-48B4-8B28-430FE4896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3611D5-A8C3-4C3A-AF1C-2B168F00D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3AAA3F-B01A-431F-BB33-81C308EFC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BBF99F-7307-40DC-A4F2-E6766F365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FE0B6B-CB64-43E4-A8CE-9AA11F612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C7DEB-A0AF-4A5A-B009-0035C0752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D9C923-A262-486D-B221-262003C55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FDE1CB-3B67-4387-ACD4-A40B33A38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654611-436B-460E-A29D-98513D100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9439FF-1932-469B-8F5D-06CEBC597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F44ECB-BD61-4273-8C84-8F81437D1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8269E7-1506-4951-9C32-25DA11D71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3279DF-1A5C-4D03-834F-B0D5FBFD8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A423B8-179C-4FEC-A188-4AFB756E2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E4DAB9-1C78-4A19-B3AE-4EB5EB750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932802-9CB6-423D-802A-6B818B8E7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5CE3B-9FB9-40EA-B4DD-75B6183C9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9ED01B-4567-4110-A6F1-517701E3E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E37150-A817-46A0-B7D0-9A6751694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EC9D28-4CAB-4102-86BD-EF7DD7388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5E45B4-AD5A-4C79-B377-7602BF7AC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A35C1D-53C1-43BF-875A-DADA8D976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E5AB61-566E-448A-A880-CE389629B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5E1BDB-38E1-43D3-954F-5A3094559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DF9C77-9D77-4A20-BCA2-E4ABC0517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FBF283-8B23-4096-8ED9-B054715FE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2FAD5C-42F7-4C41-AE62-59D97E30C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D40FF-70AF-4DA8-8CAF-997A6D600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68BBE0-0ED2-44E2-A323-CF8C21CDF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532D37-7AA2-4C78-8FFB-820200637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568EFB-855F-413D-BB91-31160DD28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EEB327-9483-4453-AF0A-02D4E5643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8FF793-E232-4A56-BAC7-A624409BA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3152C1-99B0-4C00-BD31-EBA992818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40C518-0FB1-468E-8516-4A4BB6E74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553281-8F60-49DC-B0D0-D99DCA047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43C9CB-0644-474E-B0CE-E0930BE12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EC4D83-A933-42FC-9F35-AB5ACFB6D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12B86-F4E0-4692-B9CD-48FB5C91B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A4E06E-05F8-4B0F-8130-62283F27C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D96EE0-2DC5-4B92-9B6A-1A582B593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5A4AD8-DDBF-4741-B4A7-547E2A0A7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3358C0-BA19-461A-9A2C-B6CCF655F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D6C27F-D373-481E-8077-2BA164076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CD0AC8-EB31-455F-92AD-CB0A65FCC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1E29B3-4969-4A6B-8BD4-A302735DD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19510B-63D2-4FF5-B023-52E6CDE37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7CFB6E-FA62-4143-B9F3-1B37AF944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9C9B7B-3EC8-4BD2-A577-142A0115D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3D319-FDC3-4CDE-9ABB-580FB1B8B7AE}" type="slidenum">
              <a:rPr b="0" lang="ru-RU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Прямая соединительная линия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Равнобедренный треугольник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10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11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12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14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2CA53-201C-4CE5-A536-F95BA6DB3CEF}" type="slidenum">
              <a:rPr b="0" lang="ru-RU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ик 10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11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Cambr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CADC4-7AF2-46F2-A663-B9CD1FB95732}" type="slidenum">
              <a:rPr b="0" lang="ru-RU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Прямая соединительная линия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Прямая соединительная линия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Равнобедренный треугольник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Равнобедренный треугольник 10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18934-490E-4B25-A8A1-898AA5FF5C0E}" type="slidenum">
              <a:rPr b="0" lang="ru-RU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Прямая соединительная линия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Равнобедренный треугольник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BD4D5-2F75-4D60-9850-221CB0F8972B}" type="slidenum">
              <a:rPr b="0" lang="ru-RU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Прямая соединительная линия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Прямая соединительная линия 11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Равнобедренный треугольник 12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62159-1B24-4721-AE87-518F3C834E41}" type="slidenum">
              <a:rPr b="0" lang="ru-RU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Прямая соединительная линия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Равнобедренный треугольник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Прямоугольник 12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Cambri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57650-2E74-42D2-A74D-E425641B8376}" type="slidenum">
              <a:rPr b="0" lang="ru-RU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Прямая соединительная линия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Равнобедренный треугольник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Прямая соединительная линия 12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86D7B-7C2F-4FEA-ADBB-FD1C4E92EA15}" type="slidenum">
              <a:rPr b="0" lang="ru-RU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Прямая соединительная линия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Прямая соединительная линия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Равнобедренный треугольник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 type="dt" idx="25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 type="ftr" idx="26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 type="sldNum" idx="27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333C6-324F-4FEB-BDB8-AAB920EFEB9E}" type="slidenum">
              <a:rPr b="0" lang="ru-RU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wmf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4600"/>
                </a:solidFill>
                <a:latin typeface="Cambria"/>
              </a:rPr>
              <a:t>КЛАССНЫЙ ЧАС</a:t>
            </a:r>
            <a:br>
              <a:rPr sz="2900"/>
            </a:br>
            <a:r>
              <a:rPr b="0" lang="ru-RU" sz="2900" spc="-1" strike="noStrike">
                <a:solidFill>
                  <a:srgbClr val="004600"/>
                </a:solidFill>
                <a:latin typeface="Cambria"/>
              </a:rPr>
              <a:t>«Профилактика простудных заболеваний»</a:t>
            </a:r>
            <a:endParaRPr b="0" lang="en-US" sz="2900" spc="-1" strike="noStrike">
              <a:solidFill>
                <a:srgbClr val="464653"/>
              </a:solidFill>
              <a:latin typeface="Cambria"/>
            </a:endParaRPr>
          </a:p>
        </p:txBody>
      </p:sp>
      <p:pic>
        <p:nvPicPr>
          <p:cNvPr id="397" name="Picture 6" descr="https://press-center.news/wp-content/uploads/2018/05/1398-immunitet.jpg"/>
          <p:cNvPicPr/>
          <p:nvPr/>
        </p:nvPicPr>
        <p:blipFill>
          <a:blip r:embed="rId1"/>
          <a:stretch/>
        </p:blipFill>
        <p:spPr>
          <a:xfrm>
            <a:off x="0" y="1371600"/>
            <a:ext cx="9144000" cy="530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2" name="Picture 2" descr="https://dearmummy.ru/wp-content/uploads/2016/12/%D0%A2%D0%B5%D0%BC%D0%BF%D0%B5%D1%80%D0%B0%D1%82%D1%83%D1%80%D0%B0-%D0%B2%D0%BE%D0%B7%D0%B4%D1%83%D1%85%D0%B0-%D0%B2-%D0%B4%D0%B5%D1%82%D1%81%D0%BA%D0%BE%D0%B9-%D0%BA%D0%BE%D0%BC%D0%BD%D0%B0%D1%82%D0%B5.jpg"/>
          <p:cNvPicPr/>
          <p:nvPr/>
        </p:nvPicPr>
        <p:blipFill>
          <a:blip r:embed="rId1"/>
          <a:stretch/>
        </p:blipFill>
        <p:spPr>
          <a:xfrm>
            <a:off x="304920" y="228600"/>
            <a:ext cx="3181320" cy="2238480"/>
          </a:xfrm>
          <a:prstGeom prst="rect">
            <a:avLst/>
          </a:prstGeom>
          <a:ln w="0">
            <a:noFill/>
          </a:ln>
        </p:spPr>
      </p:pic>
      <p:sp>
        <p:nvSpPr>
          <p:cNvPr id="423" name="Овал 2"/>
          <p:cNvSpPr/>
          <p:nvPr/>
        </p:nvSpPr>
        <p:spPr>
          <a:xfrm>
            <a:off x="380880" y="2133720"/>
            <a:ext cx="3200400" cy="9144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Температурный режи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4" name="Picture 6" descr="https://media.istockphoto.com/vectors/kid-covering-nose-vector-id186991886"/>
          <p:cNvPicPr/>
          <p:nvPr/>
        </p:nvPicPr>
        <p:blipFill>
          <a:blip r:embed="rId2"/>
          <a:stretch/>
        </p:blipFill>
        <p:spPr>
          <a:xfrm>
            <a:off x="4611600" y="228600"/>
            <a:ext cx="1366920" cy="2590920"/>
          </a:xfrm>
          <a:prstGeom prst="rect">
            <a:avLst/>
          </a:prstGeom>
          <a:ln w="0">
            <a:noFill/>
          </a:ln>
        </p:spPr>
      </p:pic>
      <p:sp>
        <p:nvSpPr>
          <p:cNvPr id="425" name="Овал 6"/>
          <p:cNvSpPr/>
          <p:nvPr/>
        </p:nvSpPr>
        <p:spPr>
          <a:xfrm>
            <a:off x="5791320" y="1066680"/>
            <a:ext cx="3200400" cy="10670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о время кашля и чихания прикрывайте ро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6" name="Picture 4" descr=""/>
          <p:cNvPicPr/>
          <p:nvPr/>
        </p:nvPicPr>
        <p:blipFill>
          <a:blip r:embed="rId3"/>
          <a:stretch/>
        </p:blipFill>
        <p:spPr>
          <a:xfrm>
            <a:off x="914400" y="3505320"/>
            <a:ext cx="1609560" cy="1676160"/>
          </a:xfrm>
          <a:prstGeom prst="rect">
            <a:avLst/>
          </a:prstGeom>
          <a:ln w="0">
            <a:noFill/>
          </a:ln>
        </p:spPr>
      </p:pic>
      <p:sp>
        <p:nvSpPr>
          <p:cNvPr id="427" name="Овал 8"/>
          <p:cNvSpPr/>
          <p:nvPr/>
        </p:nvSpPr>
        <p:spPr>
          <a:xfrm>
            <a:off x="228600" y="5334120"/>
            <a:ext cx="3200400" cy="9144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Чаще мойте руки с мыл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8" name="Picture 8" descr="https://thumbs.dreamstime.com/b/%D1%87%D0%B8%D1%85%D0%B0%D1%8F-%D1%87%D0%B5-%D0%BE%D0%B2%D0%B5%D0%BA-%D1%81-%D1%81%D0%B5%D0%BC%D0%B5%D0%BD%D0%BE%D0%B7%D0%B0%D1%87%D0%B0%D1%82%D0%BA%D0%B0%D0%BC%D0%B8-88191944.jpg"/>
          <p:cNvPicPr/>
          <p:nvPr/>
        </p:nvPicPr>
        <p:blipFill>
          <a:blip r:embed="rId4"/>
          <a:stretch/>
        </p:blipFill>
        <p:spPr>
          <a:xfrm>
            <a:off x="4343400" y="2971800"/>
            <a:ext cx="3968640" cy="2971800"/>
          </a:xfrm>
          <a:prstGeom prst="rect">
            <a:avLst/>
          </a:prstGeom>
          <a:ln w="0">
            <a:noFill/>
          </a:ln>
        </p:spPr>
      </p:pic>
      <p:sp>
        <p:nvSpPr>
          <p:cNvPr id="429" name="Овал 11"/>
          <p:cNvSpPr/>
          <p:nvPr/>
        </p:nvSpPr>
        <p:spPr>
          <a:xfrm>
            <a:off x="4800600" y="5791320"/>
            <a:ext cx="3200400" cy="9144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Избегайте общения с больными людь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464653"/>
                </a:solidFill>
                <a:latin typeface="Cambria"/>
              </a:rPr>
              <a:t>Здоровый образ жизни:</a:t>
            </a:r>
            <a:br>
              <a:rPr sz="2900"/>
            </a:br>
            <a:endParaRPr b="0" lang="en-US" sz="2900" spc="-1" strike="noStrike">
              <a:solidFill>
                <a:srgbClr val="464653"/>
              </a:solidFill>
              <a:latin typeface="Cambria"/>
            </a:endParaRPr>
          </a:p>
        </p:txBody>
      </p:sp>
      <p:pic>
        <p:nvPicPr>
          <p:cNvPr id="431" name="Picture 2" descr="http://ds254.edu42.ru/wp-content/uploads/sites/44/2020/02/maxresdefault.jpg"/>
          <p:cNvPicPr/>
          <p:nvPr/>
        </p:nvPicPr>
        <p:blipFill>
          <a:blip r:embed="rId1"/>
          <a:stretch/>
        </p:blipFill>
        <p:spPr>
          <a:xfrm>
            <a:off x="5334120" y="609480"/>
            <a:ext cx="3116160" cy="1752840"/>
          </a:xfrm>
          <a:prstGeom prst="rect">
            <a:avLst/>
          </a:prstGeom>
          <a:ln w="0">
            <a:noFill/>
          </a:ln>
        </p:spPr>
      </p:pic>
      <p:sp>
        <p:nvSpPr>
          <p:cNvPr id="432" name="Овал 3"/>
          <p:cNvSpPr/>
          <p:nvPr/>
        </p:nvSpPr>
        <p:spPr>
          <a:xfrm>
            <a:off x="5105520" y="2286000"/>
            <a:ext cx="3200400" cy="9144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Физическая актив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Picture 4" descr="http://4.bp.blogspot.com/-innjs0XcAD0/UH2Cg6FktzI/AAAAAAAAFSQ/fBYB3tifEbk/s1600/post-346746-1338522014.jpg"/>
          <p:cNvPicPr/>
          <p:nvPr/>
        </p:nvPicPr>
        <p:blipFill>
          <a:blip r:embed="rId2"/>
          <a:stretch/>
        </p:blipFill>
        <p:spPr>
          <a:xfrm>
            <a:off x="457200" y="2006640"/>
            <a:ext cx="2495520" cy="3532320"/>
          </a:xfrm>
          <a:prstGeom prst="rect">
            <a:avLst/>
          </a:prstGeom>
          <a:ln w="0">
            <a:noFill/>
          </a:ln>
        </p:spPr>
      </p:pic>
      <p:sp>
        <p:nvSpPr>
          <p:cNvPr id="434" name="Овал 6"/>
          <p:cNvSpPr/>
          <p:nvPr/>
        </p:nvSpPr>
        <p:spPr>
          <a:xfrm>
            <a:off x="0" y="990720"/>
            <a:ext cx="3200400" cy="9144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Закали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Picture 8" descr="https://ds02.infourok.ru/uploads/ex/01f3/0006cc3a-ce065f6f/img6.jpg"/>
          <p:cNvPicPr/>
          <p:nvPr/>
        </p:nvPicPr>
        <p:blipFill>
          <a:blip r:embed="rId3"/>
          <a:stretch/>
        </p:blipFill>
        <p:spPr>
          <a:xfrm>
            <a:off x="4495680" y="3657600"/>
            <a:ext cx="4343400" cy="3162240"/>
          </a:xfrm>
          <a:prstGeom prst="rect">
            <a:avLst/>
          </a:prstGeom>
          <a:ln w="0">
            <a:noFill/>
          </a:ln>
        </p:spPr>
      </p:pic>
      <p:sp>
        <p:nvSpPr>
          <p:cNvPr id="436" name="Овал 8"/>
          <p:cNvSpPr/>
          <p:nvPr/>
        </p:nvSpPr>
        <p:spPr>
          <a:xfrm>
            <a:off x="3352680" y="3657600"/>
            <a:ext cx="3200400" cy="9144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равильное пит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Text Box 7"/>
          <p:cNvSpPr/>
          <p:nvPr/>
        </p:nvSpPr>
        <p:spPr>
          <a:xfrm>
            <a:off x="684360" y="4797360"/>
            <a:ext cx="799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БУДЬТЕ ДОРОВЫ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8" name="Picture 5" descr="https://189131.selcdn.ru/leonardo/uploadsForSiteId/21863/content/21abe556-3470-476d-a846-3213677fb874.jpg"/>
          <p:cNvPicPr/>
          <p:nvPr/>
        </p:nvPicPr>
        <p:blipFill>
          <a:blip r:embed="rId1"/>
          <a:stretch/>
        </p:blipFill>
        <p:spPr>
          <a:xfrm>
            <a:off x="0" y="-46080"/>
            <a:ext cx="9144000" cy="6904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464653"/>
              </a:solidFill>
              <a:latin typeface="Cambria"/>
            </a:endParaRPr>
          </a:p>
        </p:txBody>
      </p:sp>
      <p:pic>
        <p:nvPicPr>
          <p:cNvPr id="399" name="Picture 2" descr="https://www.nastroy.net/pic/images/202001/543676-1580035354.jpg"/>
          <p:cNvPicPr/>
          <p:nvPr/>
        </p:nvPicPr>
        <p:blipFill>
          <a:blip r:embed="rId1"/>
          <a:stretch/>
        </p:blipFill>
        <p:spPr>
          <a:xfrm>
            <a:off x="4419720" y="3429000"/>
            <a:ext cx="4724280" cy="342900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4" descr="https://st4.depositphotos.com/3317865/23530/i/450/depositphotos_235307496-stock-photo-influenza-virus-rendering.jpg"/>
          <p:cNvPicPr/>
          <p:nvPr/>
        </p:nvPicPr>
        <p:blipFill>
          <a:blip r:embed="rId2"/>
          <a:stretch/>
        </p:blipFill>
        <p:spPr>
          <a:xfrm>
            <a:off x="0" y="0"/>
            <a:ext cx="4699080" cy="350532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6" descr="https://www.moscow.regnews.info/wp-content/uploads/2020/02/coronavirus.jpg.6001ea372dea20872949e1e39460e37b.jpg"/>
          <p:cNvPicPr/>
          <p:nvPr/>
        </p:nvPicPr>
        <p:blipFill>
          <a:blip r:embed="rId3"/>
          <a:stretch/>
        </p:blipFill>
        <p:spPr>
          <a:xfrm>
            <a:off x="0" y="3505320"/>
            <a:ext cx="4495680" cy="335268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8" descr="https://www.polyacrylamidechina.com/upfile/news/2020022715101447231.jpg"/>
          <p:cNvPicPr/>
          <p:nvPr/>
        </p:nvPicPr>
        <p:blipFill>
          <a:blip r:embed="rId4"/>
          <a:stretch/>
        </p:blipFill>
        <p:spPr>
          <a:xfrm>
            <a:off x="4572000" y="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Picture 2" descr="http://900igr.net/up/datas/199337/00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Picture 2" descr="https://xn----8sbwjfrz3c.xn--p1ai/sites/default/files/1.jpg"/>
          <p:cNvPicPr/>
          <p:nvPr/>
        </p:nvPicPr>
        <p:blipFill>
          <a:blip r:embed="rId1"/>
          <a:stretch/>
        </p:blipFill>
        <p:spPr>
          <a:xfrm>
            <a:off x="1600200" y="488880"/>
            <a:ext cx="6172200" cy="634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64653"/>
                </a:solidFill>
                <a:latin typeface="Cambria"/>
              </a:rPr>
              <a:t>ПУТИ ПЕРЕДАЧИ ИНФЕКЦИИ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pic>
        <p:nvPicPr>
          <p:cNvPr id="406" name="Picture 2" descr="https://media.istockphoto.com/vectors/handshake-and-close-up-bacteria-vector-id936881970"/>
          <p:cNvPicPr/>
          <p:nvPr/>
        </p:nvPicPr>
        <p:blipFill>
          <a:blip r:embed="rId1"/>
          <a:stretch/>
        </p:blipFill>
        <p:spPr>
          <a:xfrm>
            <a:off x="228600" y="1295280"/>
            <a:ext cx="3809880" cy="261468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10" descr="https://www.mamandarin.com/wp-content/uploads/2019/11/%D0%B3%D1%80%D0%B8%D0%BF%D0%BF.jpg"/>
          <p:cNvPicPr/>
          <p:nvPr/>
        </p:nvPicPr>
        <p:blipFill>
          <a:blip r:embed="rId2"/>
          <a:stretch/>
        </p:blipFill>
        <p:spPr>
          <a:xfrm>
            <a:off x="4952880" y="1219320"/>
            <a:ext cx="3200400" cy="263196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12" descr="https://thumbs.dreamstime.com/b/dirty-fruit-under-microscope-vector-illustration-isolated-white-background-36282475.jpg"/>
          <p:cNvPicPr/>
          <p:nvPr/>
        </p:nvPicPr>
        <p:blipFill>
          <a:blip r:embed="rId3"/>
          <a:stretch/>
        </p:blipFill>
        <p:spPr>
          <a:xfrm>
            <a:off x="457200" y="3886200"/>
            <a:ext cx="3809880" cy="2533680"/>
          </a:xfrm>
          <a:prstGeom prst="rect">
            <a:avLst/>
          </a:prstGeom>
          <a:ln w="0">
            <a:noFill/>
          </a:ln>
        </p:spPr>
      </p:pic>
      <p:pic>
        <p:nvPicPr>
          <p:cNvPr id="409" name="Picture 16" descr="https://22century.ru/wp-content/uploads/2016/10/microbes_hand.jpg"/>
          <p:cNvPicPr/>
          <p:nvPr/>
        </p:nvPicPr>
        <p:blipFill>
          <a:blip r:embed="rId4"/>
          <a:stretch/>
        </p:blipFill>
        <p:spPr>
          <a:xfrm>
            <a:off x="5181480" y="3962520"/>
            <a:ext cx="3124440" cy="250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64653"/>
                </a:solidFill>
                <a:latin typeface="Cambria"/>
              </a:rPr>
              <a:t>Симптомы заболевания</a:t>
            </a:r>
            <a:br>
              <a:rPr sz="3600"/>
            </a:br>
            <a:r>
              <a:rPr b="1" lang="ru-RU" sz="3600" spc="-1" strike="noStrike">
                <a:solidFill>
                  <a:srgbClr val="464653"/>
                </a:solidFill>
                <a:latin typeface="Cambria"/>
              </a:rPr>
              <a:t>- высокая температура;</a:t>
            </a:r>
            <a:br>
              <a:rPr sz="3600"/>
            </a:br>
            <a:r>
              <a:rPr b="1" lang="ru-RU" sz="3600" spc="-1" strike="noStrike">
                <a:solidFill>
                  <a:srgbClr val="464653"/>
                </a:solidFill>
                <a:latin typeface="Cambria"/>
              </a:rPr>
              <a:t>- озноб и слабость; </a:t>
            </a:r>
            <a:br>
              <a:rPr sz="3600"/>
            </a:br>
            <a:r>
              <a:rPr b="1" lang="ru-RU" sz="3600" spc="-1" strike="noStrike">
                <a:solidFill>
                  <a:srgbClr val="464653"/>
                </a:solidFill>
                <a:latin typeface="Cambria"/>
              </a:rPr>
              <a:t>- боль и ломота во </a:t>
            </a:r>
            <a:br>
              <a:rPr sz="3600"/>
            </a:br>
            <a:r>
              <a:rPr b="1" lang="ru-RU" sz="3600" spc="-1" strike="noStrike">
                <a:solidFill>
                  <a:srgbClr val="464653"/>
                </a:solidFill>
                <a:latin typeface="Cambria"/>
              </a:rPr>
              <a:t>     всем теле;</a:t>
            </a:r>
            <a:br>
              <a:rPr sz="3600"/>
            </a:br>
            <a:r>
              <a:rPr b="1" lang="ru-RU" sz="3600" spc="-1" strike="noStrike">
                <a:solidFill>
                  <a:srgbClr val="464653"/>
                </a:solidFill>
                <a:latin typeface="Cambria"/>
              </a:rPr>
              <a:t>- кашель;</a:t>
            </a:r>
            <a:br>
              <a:rPr sz="3600"/>
            </a:br>
            <a:r>
              <a:rPr b="1" lang="ru-RU" sz="3600" spc="-1" strike="noStrike">
                <a:solidFill>
                  <a:srgbClr val="464653"/>
                </a:solidFill>
                <a:latin typeface="Cambria"/>
              </a:rPr>
              <a:t>- головная боль;</a:t>
            </a:r>
            <a:br>
              <a:rPr sz="3600"/>
            </a:br>
            <a:r>
              <a:rPr b="1" lang="ru-RU" sz="3600" spc="-1" strike="noStrike">
                <a:solidFill>
                  <a:srgbClr val="464653"/>
                </a:solidFill>
                <a:latin typeface="Cambria"/>
              </a:rPr>
              <a:t>- насморк или заложенность носа</a:t>
            </a:r>
            <a:endParaRPr b="0" lang="en-US" sz="3600" spc="-1" strike="noStrike">
              <a:solidFill>
                <a:srgbClr val="464653"/>
              </a:solidFill>
              <a:latin typeface="Cambria"/>
            </a:endParaRPr>
          </a:p>
        </p:txBody>
      </p:sp>
      <p:pic>
        <p:nvPicPr>
          <p:cNvPr id="411" name="Picture 4" descr="https://thumbs.dreamstime.com/b/%D0%B1%D0%BE-%D1%8C%D0%BD%D0%BE%D0%B9-%D0%BC%D0%B0-%D1%8C%D1%87%D0%B8%D0%BA%D0%B0-44346325.jpg"/>
          <p:cNvPicPr/>
          <p:nvPr/>
        </p:nvPicPr>
        <p:blipFill>
          <a:blip r:embed="rId1"/>
          <a:stretch/>
        </p:blipFill>
        <p:spPr>
          <a:xfrm>
            <a:off x="4952880" y="1600200"/>
            <a:ext cx="390996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Picture 2" descr="http://relma-gc.com/images/choose_stik_2019/%D0%91%D0%B0%D0%BA%D1%82%D0%B5%D1%80%D0%B8%D0%B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464653"/>
                </a:solidFill>
                <a:latin typeface="Cambria"/>
              </a:rPr>
              <a:t>Основным средством профилактики </a:t>
            </a:r>
            <a:br>
              <a:rPr sz="2900"/>
            </a:br>
            <a:r>
              <a:rPr b="1" lang="ru-RU" sz="2900" spc="-1" strike="noStrike">
                <a:solidFill>
                  <a:srgbClr val="464653"/>
                </a:solidFill>
                <a:latin typeface="Cambria"/>
              </a:rPr>
              <a:t> простудных заболеваний является </a:t>
            </a:r>
            <a:br>
              <a:rPr sz="2900"/>
            </a:br>
            <a:r>
              <a:rPr b="1" lang="ru-RU" sz="2900" spc="-1" strike="noStrike">
                <a:solidFill>
                  <a:srgbClr val="464653"/>
                </a:solidFill>
                <a:latin typeface="Cambria"/>
              </a:rPr>
              <a:t>ВАКЦИНАЦИЯ (прививка)</a:t>
            </a:r>
            <a:endParaRPr b="0" lang="en-US" sz="2900" spc="-1" strike="noStrike">
              <a:solidFill>
                <a:srgbClr val="464653"/>
              </a:solidFill>
              <a:latin typeface="Cambria"/>
            </a:endParaRPr>
          </a:p>
        </p:txBody>
      </p:sp>
      <p:pic>
        <p:nvPicPr>
          <p:cNvPr id="414" name="Picture 2" descr="https://lada-med.ru/assets/mgr/images/uslugi-i-ceny/treat/pentaxim.jpg"/>
          <p:cNvPicPr/>
          <p:nvPr/>
        </p:nvPicPr>
        <p:blipFill>
          <a:blip r:embed="rId1"/>
          <a:stretch/>
        </p:blipFill>
        <p:spPr>
          <a:xfrm>
            <a:off x="380880" y="1676520"/>
            <a:ext cx="830592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228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464653"/>
                </a:solidFill>
                <a:latin typeface="Cambria"/>
              </a:rPr>
              <a:t>ОСНОВНЫЕ ПРАВИЛА</a:t>
            </a:r>
            <a:endParaRPr b="0" lang="en-US" sz="2900" spc="-1" strike="noStrike">
              <a:solidFill>
                <a:srgbClr val="464653"/>
              </a:solidFill>
              <a:latin typeface="Cambria"/>
            </a:endParaRPr>
          </a:p>
        </p:txBody>
      </p:sp>
      <p:pic>
        <p:nvPicPr>
          <p:cNvPr id="416" name="Picture 2" descr="https://www.wikihow.com/images_en/thumb/5/57/Clean-Pet-Vomit-from-Carpet-Step-24.jpg/v4-728px-Clean-Pet-Vomit-from-Carpet-Step-24.jpg"/>
          <p:cNvPicPr/>
          <p:nvPr/>
        </p:nvPicPr>
        <p:blipFill>
          <a:blip r:embed="rId1"/>
          <a:stretch/>
        </p:blipFill>
        <p:spPr>
          <a:xfrm>
            <a:off x="4572000" y="762120"/>
            <a:ext cx="3581280" cy="2514600"/>
          </a:xfrm>
          <a:prstGeom prst="rect">
            <a:avLst/>
          </a:prstGeom>
          <a:ln w="0">
            <a:noFill/>
          </a:ln>
        </p:spPr>
      </p:pic>
      <p:pic>
        <p:nvPicPr>
          <p:cNvPr id="417" name="Picture 4" descr="https://st3.depositphotos.com/1005091/14504/v/950/depositphotos_145040835-stock-illustration-cleaning-lady-theme-image-3.jpg"/>
          <p:cNvPicPr/>
          <p:nvPr/>
        </p:nvPicPr>
        <p:blipFill>
          <a:blip r:embed="rId2"/>
          <a:stretch/>
        </p:blipFill>
        <p:spPr>
          <a:xfrm>
            <a:off x="228600" y="1676520"/>
            <a:ext cx="3581280" cy="289548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6" descr="http://agamama.ru/wp-content/uploads/2017/02/wpid-a-vy-vsegda-odevaetes-po-pogode_i_1.jpg"/>
          <p:cNvPicPr/>
          <p:nvPr/>
        </p:nvPicPr>
        <p:blipFill>
          <a:blip r:embed="rId3"/>
          <a:stretch/>
        </p:blipFill>
        <p:spPr>
          <a:xfrm>
            <a:off x="3962520" y="3665520"/>
            <a:ext cx="4305240" cy="3192480"/>
          </a:xfrm>
          <a:prstGeom prst="rect">
            <a:avLst/>
          </a:prstGeom>
          <a:ln w="0">
            <a:noFill/>
          </a:ln>
        </p:spPr>
      </p:pic>
      <p:sp>
        <p:nvSpPr>
          <p:cNvPr id="419" name="Овал 10"/>
          <p:cNvSpPr/>
          <p:nvPr/>
        </p:nvSpPr>
        <p:spPr>
          <a:xfrm>
            <a:off x="152280" y="685800"/>
            <a:ext cx="3200400" cy="9144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лажная уборка помещ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Овал 11"/>
          <p:cNvSpPr/>
          <p:nvPr/>
        </p:nvSpPr>
        <p:spPr>
          <a:xfrm>
            <a:off x="4572000" y="2895480"/>
            <a:ext cx="3200400" cy="9144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ериодическое проветри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Овал 12"/>
          <p:cNvSpPr/>
          <p:nvPr/>
        </p:nvSpPr>
        <p:spPr>
          <a:xfrm>
            <a:off x="685800" y="5181480"/>
            <a:ext cx="3200400" cy="9144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Одеваться по погод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orinthian</dc:creator>
  <dc:description/>
  <dc:language>en-US</dc:language>
  <cp:lastModifiedBy>Valery</cp:lastModifiedBy>
  <dcterms:modified xsi:type="dcterms:W3CDTF">2020-04-13T09:11:05Z</dcterms:modified>
  <cp:revision>4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