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3F88E-F9F8-433B-A5B5-D3A865379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4AEA8-BE64-4EAD-B8C1-CBAE2B809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8FA22-13D1-4360-9D3C-D1D647928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FF87B-2543-439F-9E52-C3E534D6F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AECBB-B8E5-4B2D-8FE8-01BAA05F9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D86D4-02AB-4235-984D-936A656DE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68376-59CA-4B1B-A2F1-8CE6382CC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CCC02-0509-46BE-B8CC-5F09C0B81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89AA9-656C-40F3-9DBF-43BCE38A8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52406-BF48-4286-A272-5F00DAEF4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1E05E-DF0C-4975-B868-658A67511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34272-BE86-43BB-BECE-2DDA5DD01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D17D8-7695-4FAC-8123-32DCE1CD4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752FE-9E6C-4458-97CA-7B4C2BDC3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F2896-2F7F-4D34-BEDC-8CA3F8EE6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6A940-D42E-470D-B4BC-8734BE8EF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3019A-8629-4CD4-A8E7-237D82A8E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CEA0D-3917-4E4C-AB3E-407ED4A12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B58A8-E9E7-4E4A-864D-3FB43963B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313FD-9A39-4837-8FBF-3CEE40D21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429E5-ED87-47DB-8B95-A57B7D9FC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F40BB-1D3D-4BCF-AADA-F4B2D5373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0F23C-1E39-4579-88A8-2D0D5EAFC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1DBF3-B11E-4CDE-B932-240ACD1EC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9A54E-1383-4316-ABB6-BD8CC509404D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25388-71FF-490F-A602-F7C019D511FD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Заголовок 1" descr=""/>
          <p:cNvPicPr/>
          <p:nvPr/>
        </p:nvPicPr>
        <p:blipFill>
          <a:blip r:embed="rId1"/>
          <a:stretch/>
        </p:blipFill>
        <p:spPr>
          <a:xfrm>
            <a:off x="450720" y="-66600"/>
            <a:ext cx="8242560" cy="19317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F:\Проект Память народа\Рагозин Петр Егорович\ФОГОГРАФИЯ.jpeg"/>
          <p:cNvPicPr/>
          <p:nvPr/>
        </p:nvPicPr>
        <p:blipFill>
          <a:blip r:embed="rId2"/>
          <a:stretch/>
        </p:blipFill>
        <p:spPr>
          <a:xfrm>
            <a:off x="2855880" y="1600200"/>
            <a:ext cx="3432240" cy="47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Заголовок 1" descr=""/>
          <p:cNvPicPr/>
          <p:nvPr/>
        </p:nvPicPr>
        <p:blipFill>
          <a:blip r:embed="rId1"/>
          <a:stretch/>
        </p:blipFill>
        <p:spPr>
          <a:xfrm>
            <a:off x="328680" y="268200"/>
            <a:ext cx="8639280" cy="11588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" descr="F:\Проект Память народа\Рагозин Петр Егорович\00000085.jpg"/>
          <p:cNvPicPr/>
          <p:nvPr/>
        </p:nvPicPr>
        <p:blipFill>
          <a:blip r:embed="rId2"/>
          <a:stretch/>
        </p:blipFill>
        <p:spPr>
          <a:xfrm>
            <a:off x="2814480" y="1600200"/>
            <a:ext cx="3515040" cy="47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рямоугольник 1"/>
          <p:cNvSpPr/>
          <p:nvPr/>
        </p:nvSpPr>
        <p:spPr>
          <a:xfrm>
            <a:off x="1714680" y="1143000"/>
            <a:ext cx="457200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Командир отделения 218 стрелкового полка 77 стрелковой дивизии Центрального фронта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Заголовок 1" descr=""/>
          <p:cNvPicPr/>
          <p:nvPr/>
        </p:nvPicPr>
        <p:blipFill>
          <a:blip r:embed="rId1"/>
          <a:stretch/>
        </p:blipFill>
        <p:spPr>
          <a:xfrm>
            <a:off x="360360" y="268200"/>
            <a:ext cx="3108240" cy="121932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57200" y="1523880"/>
            <a:ext cx="300816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Младший сержант Рогозин Петр Егорович награжден Орденом Красной Звезды за личное мужество и отвагу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9" name="Picture 2" descr="F:\Проект Память народа\Рагозин Петр Егорович\00000304.jpg"/>
          <p:cNvPicPr/>
          <p:nvPr/>
        </p:nvPicPr>
        <p:blipFill>
          <a:blip r:embed="rId2"/>
          <a:stretch/>
        </p:blipFill>
        <p:spPr>
          <a:xfrm>
            <a:off x="4043520" y="272880"/>
            <a:ext cx="4174920" cy="58532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" descr="https://pamyat-naroda.ru/bitrix/templates/pn/img/awards/new/Orden_Krasnoj_Zvezdy.png"/>
          <p:cNvPicPr/>
          <p:nvPr/>
        </p:nvPicPr>
        <p:blipFill>
          <a:blip r:embed="rId3"/>
          <a:stretch/>
        </p:blipFill>
        <p:spPr>
          <a:xfrm>
            <a:off x="0" y="2357280"/>
            <a:ext cx="4095720" cy="409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3" descr="F:\Проект Память народа\Рагозин Петр Егорович\00000218.jpg"/>
          <p:cNvPicPr/>
          <p:nvPr/>
        </p:nvPicPr>
        <p:blipFill>
          <a:blip r:embed="rId1"/>
          <a:stretch/>
        </p:blipFill>
        <p:spPr>
          <a:xfrm>
            <a:off x="1071720" y="214200"/>
            <a:ext cx="7429320" cy="642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F:\Проект Память народа\Рагозин Петр Егорович\00000304_1.jpg"/>
          <p:cNvPicPr/>
          <p:nvPr/>
        </p:nvPicPr>
        <p:blipFill>
          <a:blip r:embed="rId1"/>
          <a:stretch/>
        </p:blipFill>
        <p:spPr>
          <a:xfrm>
            <a:off x="571680" y="1571760"/>
            <a:ext cx="8358120" cy="38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Прямоугольник 1"/>
          <p:cNvSpPr/>
          <p:nvPr/>
        </p:nvSpPr>
        <p:spPr>
          <a:xfrm>
            <a:off x="928800" y="714240"/>
            <a:ext cx="6858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осле окончания войны Петр Егорович работал стрелочником на железной дороге. И в мирной жизни смог совершить героический поступок. По станции Нижнедевицк должен был проследовать без остановки поезд на большой скорости, а путь был занят другим составом. Предупреждающий фонарь семафора погас от сильного ветра. Петр Егорович понял, что в тулупе и валенках он просто не успеет добежать до семафора, а значит, столкновения не избежать. Раздевшись и сняв валенки, рискуя своим здоровьем, в лютый мороз и сильную метель, по глубокому снегу, он пробежал почти километр, но успел вовремя зажечь фонарь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"/>
          <p:cNvPicPr/>
          <p:nvPr/>
        </p:nvPicPr>
        <p:blipFill>
          <a:blip r:embed="rId1"/>
          <a:stretch/>
        </p:blipFill>
        <p:spPr>
          <a:xfrm>
            <a:off x="857160" y="214200"/>
            <a:ext cx="6335640" cy="4859280"/>
          </a:xfrm>
          <a:prstGeom prst="rect">
            <a:avLst/>
          </a:prstGeom>
          <a:ln w="0">
            <a:noFill/>
          </a:ln>
        </p:spPr>
      </p:pic>
      <p:sp>
        <p:nvSpPr>
          <p:cNvPr id="95" name="Прямоугольник 4"/>
          <p:cNvSpPr/>
          <p:nvPr/>
        </p:nvSpPr>
        <p:spPr>
          <a:xfrm>
            <a:off x="2857680" y="5072040"/>
            <a:ext cx="4572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Мы День Победы любим с детства —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арад, цветы, военный марш.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Храните память в вашем сердце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О тех, кто жизнь отдал за нас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4-13T09:31:55Z</dcterms:created>
  <dc:creator>Людмила Юрьевна</dc:creator>
  <dc:description/>
  <dc:language>en-US</dc:language>
  <cp:lastModifiedBy>Людмила Юрьевна</cp:lastModifiedBy>
  <dcterms:modified xsi:type="dcterms:W3CDTF">2020-04-13T10:28:33Z</dcterms:modified>
  <cp:revision>6</cp:revision>
  <dc:subject/>
  <dc:title>Рогозин Петр Егорович мл. сержант</dc:title>
</cp:coreProperties>
</file>