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F24-AF7F-4AE4-997F-242601D3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7E7-4C29-4BE9-A838-C18326E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894-E294-401A-9822-3B67D1BF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834-0F3A-4C7A-A842-BEE77E08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123-FDBD-4636-8424-DD13F96F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19E-670A-48CE-BC0C-C479B945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486-5A7F-48C8-8F45-6B00E2C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1D0-F6BF-442B-BECB-0304DA6C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16B-7C35-4A4B-B97D-28CCA12D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96E-D0DB-4101-B25F-9BDCBBC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0D5-B988-4DF1-A8B1-D799B0C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8BE-2288-4BB1-9885-2081BD16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2ED1-F0FD-432B-85DE-3309AF6CDB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удными были первые шаги русского театра: недоставало дров и свечей, на содержание театра отводились мизерные средства, гораздо щедрее одаривали заезжих гастролёров из-за границы. Такое положение не устраивало Сумарокова. Он постоянно обращался с прошениями и письмами к правительству, требуя поддержки и внимания, но в 1761 году Сумароков был отправлен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www.myjane.ru/data/cache/2013jul/17/21/21239_24172-160x120x.jpg"/>
          <p:cNvPicPr/>
          <p:nvPr/>
        </p:nvPicPr>
        <p:blipFill>
          <a:blip r:embed="rId1"/>
          <a:stretch/>
        </p:blipFill>
        <p:spPr>
          <a:xfrm>
            <a:off x="1643040" y="178596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571320"/>
            <a:ext cx="82296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актерам Шереметевы относились почтительно и с уважением. Их называли по имени и отчеству, граф Шереметев-младший давал своим актерам новые фамилии по названиям драгоценных камн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хи о шереметевском театре расходились по всем поместьям, на каждое представление в Кусково съезжались знатные особы, а не попавшие на спектакль потом долго сокрушались и слушали яркие рассказы посмотревших очередную постанов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имая жена графа Шереметева скончалась в петербургском Фонтанном доме 23 февраля 1803 года, на двадцатый день от рождения ее сына. Ей было всего тридцать четыре го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знати на похороны никто не пришел — господа не пожелали признать покойную крепостную графиней. В последний путь Парашу провожали актеры, музыканты театра, слуги поместья, крепостные и поседевший от горя мужчина с младенцем на ру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имая, что кончина жены неизбежна, Николай Петрович решился открыть свою тайну и рассказать о браке с бывшей крепостной. Он обратился с письмом к императору Александру I, где умолял простить его и признать новорожденного наследником семьи Шереметевых. Император дал на это свое высочайшее соглас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1796 года личные обстоятельства и  обязательства казенной службы полностью измени ли образ жизни графа. В 1804 г. крепостной театр графа Н. П. Шереметева навсегда прекратил существ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42920" y="1125000"/>
            <a:ext cx="42706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катерина II , вступившая на Российский престол в 1762 году, не жаловала трагедий, им она предпочитала весёлые маскарады и сцены. Во времена её правления особенно блистал Денис Иванович Фонви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1\Desktop\o6vbWnnHF30.jpg"/>
          <p:cNvPicPr/>
          <p:nvPr/>
        </p:nvPicPr>
        <p:blipFill>
          <a:blip r:embed="rId1"/>
          <a:stretch/>
        </p:blipFill>
        <p:spPr>
          <a:xfrm>
            <a:off x="250920" y="404640"/>
            <a:ext cx="4419360" cy="575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ьеса Д.И.Фонвизина «Недоросл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Users\1\Desktop\nedorosl5.jpg"/>
          <p:cNvPicPr/>
          <p:nvPr/>
        </p:nvPicPr>
        <p:blipFill>
          <a:blip r:embed="rId1"/>
          <a:stretch/>
        </p:blipFill>
        <p:spPr>
          <a:xfrm>
            <a:off x="3143160" y="1785960"/>
            <a:ext cx="30322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воря о путях развития русского драматического театра нельзя не сказать о возникновении и развитии театра крепостным актеров. Непросто складывалась жизнь многих талантливых актеров, выходцев из крепостных крестьян. Типичная судьба одного из них показана Тургеневым в рассказе «Льгов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им из лучших рассказов «Записок охотника» является «Льгов». На первый взгляд — это рассказ о смешном приключении, случившемся с охотниками, у которых в самом разгаре охоты на уток затонула лодка-дощаник. Но вдумчивому читателю понятно, что основной смысл рассказа заключается в истории жизни «босоногого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ванного и взъерошенного» Су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его бесхитростном повествовании перед нами раскрывается горестна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дьба 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ловека, у которого не только личную жизнь, но даже собственное имя отняли господа: «...Антоном назывался, а не Кузьмой. Так барыня приказать изволила». По барской прихоти, жизнь его оказалась искалеченной, его оторвали от привычного крестьянского труда на земле, взяли сначала в казачки, а потом заставили исполнять самые неожиданные должности, вроде «кофишенка» или актера. И заканчивает свою одинокую жизнь бессчастный Сучок всеми забытый, заброшенный, в бессмысленной должности «господского рыболов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54936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ва ли не самым знаменит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атром, где играли наряду с профессиональными и крепостные актеры, ст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атр Н.П. Шеремет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ктакли театра вначале давались на двух сценах – городской (в театральном флигеле, специально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троенном к московском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у Шереметевых на Никольской улице) и усадебной, в "дворянском гнезде" - Кускове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1\Desktop\cc10a0be19cc24fbaa0558ab16f92d7a.jpg"/>
          <p:cNvPicPr/>
          <p:nvPr/>
        </p:nvPicPr>
        <p:blipFill>
          <a:blip r:embed="rId1"/>
          <a:stretch/>
        </p:blipFill>
        <p:spPr>
          <a:xfrm>
            <a:off x="5724360" y="1844640"/>
            <a:ext cx="3132360" cy="4172040"/>
          </a:xfrm>
          <a:prstGeom prst="rect">
            <a:avLst/>
          </a:prstGeom>
          <a:ln w="0">
            <a:noFill/>
          </a:ln>
        </p:spPr>
      </p:pic>
      <p:pic>
        <p:nvPicPr>
          <p:cNvPr id="50" name="{5B2346A5-559B-478B-B529-2D164C7DBC34}.mp3" descr=""/>
          <p:cNvPicPr/>
          <p:nvPr/>
        </p:nvPicPr>
        <p:blipFill>
          <a:blip r:embed="rId2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следовав от отца труппу крепостных актёров, он занялся совершенствованием и профессиональной подготовкой артистов, пригласив специальных педагогов. Талантливые крепостные музыканты и артисты шереметевского театра учились в Санкт Петербурге и Москве. У Шереметева был прекрасный оркестр, спектакли всегда отличались богатыми декорациями, великолепными костю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69228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й талантливой актрисой крепостного театра была Прасковья Ковалева-Жемчугова, которая в семь лет попала в дом Шереметьевых, была ведущей актрисой театра, а через несколько лет (в 1801 году) стала графиней Шереметь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1\Desktop\thumb_7278_atlas_big.jpg"/>
          <p:cNvPicPr/>
          <p:nvPr/>
        </p:nvPicPr>
        <p:blipFill>
          <a:blip r:embed="rId1"/>
          <a:stretch/>
        </p:blipFill>
        <p:spPr>
          <a:xfrm>
            <a:off x="5003640" y="1844640"/>
            <a:ext cx="3591000" cy="457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333360"/>
            <a:ext cx="56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вом театре девочка ( 10 лет) дебютировала в роли служанки из оперы Гретери «Опыт дружбы». Восхитительным сопрано Параша покорила всех зрителей, не оставив равнодушным и сына хозяина. Николай был настолько доволен дебютом маленькой актрисы, что в следующей опере отдал ей главную роль и н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 не сомневался в успехе. Именно тогда на афишах впервые появился театральный псевдоним девочки — Жемчугова. С тех пор самые лучшие роли в шереметьевском театре доставались только юной Пар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1\Desktop\por3full.jpg"/>
          <p:cNvPicPr/>
          <p:nvPr/>
        </p:nvPicPr>
        <p:blipFill>
          <a:blip r:embed="rId1"/>
          <a:stretch/>
        </p:blipFill>
        <p:spPr>
          <a:xfrm>
            <a:off x="5580000" y="1773360"/>
            <a:ext cx="3348000" cy="430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1</cp:lastModifiedBy>
  <dcterms:modified xsi:type="dcterms:W3CDTF">2020-04-13T10:21:33Z</dcterms:modified>
  <cp:revision>66</cp:revision>
  <dc:subject/>
  <dc:title>Title</dc:title>
</cp:coreProperties>
</file>