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255-1484-4873-8573-D905D47C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652-3E88-470B-9A0C-784C50CF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753-76FA-4A89-9A85-C22FD67C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E74-8671-4091-849B-041F104F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11F-DC7A-49D6-B95C-676E531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69FF-7E10-4F50-9FD4-BA364AC5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E1F8-9492-4608-80C3-69B63E6A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ED9C-3916-43A0-BB6D-3F959475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B478-3FD9-4BD5-AC13-5237C97E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C8D8-E11D-40F5-88D4-10B7037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CBF-000D-4E02-BA9F-00E5B8D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B01-575F-4DD1-B216-B97314C5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4B1B-2A19-48B8-A8FF-F7FCDF2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0BEE-6E4D-4E3B-874C-2E15DA4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C98-3E65-45F0-99E7-A1A098F1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371-D52E-44C3-AAC6-B586292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16A0-9035-4BC6-A412-69C1C869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820B5-9461-45C8-9133-D74636E0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D72E6-6EFD-4B18-9E89-8369F2F3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1D58C-9440-4FDC-80A3-B779F9F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A0135-7365-4951-B5BB-F34C1F7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54545-2D75-46F2-BDB1-9CCECD3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972-5E17-46ED-91BD-E1C257D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ECECE-2EE7-481C-93D6-579F1639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E3951-0059-4CD0-98A3-4B58B7C2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07615-F3DF-45AE-992B-3E1A1C1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BFA90-CC61-4E92-928A-FC3FECA1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C375B-12A8-4BCD-96B4-63835803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83BC8-7CB9-4555-B366-3021E6E1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78361-5B1B-4079-BCA8-2931E286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C610-482F-43A4-A3F3-303D3A16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74A1-41E2-415E-89A2-2411978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BC5F-1B12-45ED-B7CB-39BEEAE5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CA4-3DCB-4B90-9B48-A02716BB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9944-D455-41EF-A41D-8B1BD843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8E84-9CDB-4DF8-B6C7-BB9CE27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097C-2157-4370-91EF-67865996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34F7-6FCB-45B8-A5E1-FC920C9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CD13-BDED-47BB-8A56-FD2C8FE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B23E-D48C-4327-BEC0-1B0923F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8F5C4-64B1-4A1E-807E-AAFAC9B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8A6F-5F55-4358-B42A-19631E1C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7209-B5D9-425B-8B17-304838EB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A7B-187E-43EF-BBA4-DD9A7762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D63-FD80-4435-94F7-F5A0AD62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A7E-9CE0-4A0E-BC24-04CA98F2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0F2-18B8-4ED1-9BD1-6803B0D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763-8A8F-46BA-8822-AD835335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4A91-519C-490A-8CDD-824AD9FDE04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BA5C-AC52-4255-9099-F3FFE051354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05A2-7831-4C29-8069-73CBE0F4E6F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CAB5-A3B9-40DD-BE9E-F9D8EFD794A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Times New Roman"/>
              </a:rPr>
              <a:t>Семинар – </a:t>
            </a:r>
            <a:r>
              <a:rPr b="0" lang="ru-RU" sz="4900" spc="-1" strike="noStrike">
                <a:solidFill>
                  <a:srgbClr val="000000"/>
                </a:solidFill>
                <a:latin typeface="Times New Roman"/>
              </a:rPr>
              <a:t>практикум, как одна из форм работы с педагогическим коллективом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63640" y="5084640"/>
            <a:ext cx="615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авитель: Ушенина С.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меститель заведующего МАДОУ №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018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95280" y="836640"/>
            <a:ext cx="8424720" cy="1008000"/>
          </a:xfrm>
          <a:prstGeom prst="rect">
            <a:avLst/>
          </a:prstGeom>
          <a:solidFill>
            <a:srgbClr val="f2f2f2"/>
          </a:solidFill>
          <a:ln w="0">
            <a:solidFill>
              <a:srgbClr val="3b3b6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униципальное автономное дошкольное образовательное учреждение «Детский сад с приоритетным осуществлением деятельности по социально-личностному направлению развития детей № 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. Артем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10920" y="980640"/>
            <a:ext cx="7094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подготовки и проведения семинаров – практикум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темы семинара – практику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варительная  подготовка к семинар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ьные зада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ение первоисточ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инары- практикумы состоя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х час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тиче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бсуждение проблемы, дискуссия, решение вопросов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ктиче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крытые занятия, мероприятия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5280" y="112356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п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ведения семинара - практикум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активизация деятельности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ите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сихологический настрой: приветствие, вступительное слово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знакомление с новыми знаниями, практическая деятельность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о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одведение итогов, оценка работы, обратная связь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360" y="260280"/>
            <a:ext cx="8496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нализ положительных и отрицательных стор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2920" y="981000"/>
          <a:ext cx="7129440" cy="5040360"/>
        </p:xfrm>
        <a:graphic>
          <a:graphicData uri="http://schemas.openxmlformats.org/drawingml/2006/table">
            <a:tbl>
              <a:tblPr/>
              <a:tblGrid>
                <a:gridCol w="4002120"/>
                <a:gridCol w="31273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язь теории с практико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возможно провести без рассмотрения теории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олагает участие всего коллектив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предварительная работа, задействованы все 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ивная позиция всех участвующих педагог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яется стратегия от ожидаемого результата, какие изменения должны проявится в практике педагогического процесс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грация всех образовательных област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ты что-то сделал без труда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 сделал это неправильно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н Брау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ую роль в повышении науч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етического уровня воспитателей и в совершенствовании их профессионального мастерства играют семинары-практикумы по наиболее актуальным проблема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инары-практикумы являются эффективной формой при­общения педагогов к творческой, поисковой, экспериментально-исследовательской деятельности и повышают их общепедагогическую культур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е внимания семинара-практикума находятся не только теоретические вопросы учебно-воспитательного процесса, но и практические умения и навыки, что особенно ценно для роста профессионального уровн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ить и проводить семинар можно по-разному в зависимости от содержания темы и цели занят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инары проводятся один раз в два-три месяц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755640" y="549360"/>
            <a:ext cx="72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826920" y="765000"/>
            <a:ext cx="73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мина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лат. seminarium – рассадник) – это особая форма групповых занятий по какой-либо проблеме при активном участии слушателей. Он предполаг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 обсужде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доклада, выступления на определенную заданную тематику; предназначается для углубленного изучения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68000" y="1123560"/>
            <a:ext cx="821844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ктику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– вид учебной работы, основанный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меющих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й на прак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 первый план здесь выдвигается развитие умений пользоваться теорией на практике, связанных, однако, с постоянным приобретением новых теоретических сведений и углублением имеющихся. Во время занятий происходит также освоение практики преподавания путем обмена опытом между педагог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еминар – практику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это 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ложение теории к практик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 количестве знаний заключается образован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в полном понимании и искусном примене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го того, что знаешь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Гегел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78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инар – практикум рассматривали и  относили к  наиболее эффектив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м методической рабо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.Ю. Белая, Л.М. Волобуева, Л.М. Денякина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.В. Коротаева, Т.П. Колодяжная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.П. Милашевич, Л.В. Поздня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4360" y="1197000"/>
            <a:ext cx="7775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семинара – практику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олжны быть направлены на решение конкретных задач и отвечать принципам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актуа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вязь с жизнью, ориентация на социальную значимость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у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ответствие современным научным достижениям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енаправлен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ыделение главного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1197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равлены 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глубление теоретической и практической подготовки педагогов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мысление практической значимости полученных теоретических знаний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творческой активности, обмен опы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0:46:26Z</dcterms:created>
  <dc:creator>timans</dc:creator>
  <dc:description>Корпорация Майкрософт
Шаблон оформления</dc:description>
  <cp:keywords/>
  <dc:language>en-US</dc:language>
  <cp:lastModifiedBy>USER</cp:lastModifiedBy>
  <dcterms:modified xsi:type="dcterms:W3CDTF">2020-04-13T07:18:35Z</dcterms:modified>
  <cp:revision>11</cp:revision>
  <dc:subject>Шаблон оформления</dc:subject>
  <dc:title>Семинар – практикум </dc:title>
</cp:coreProperties>
</file>