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6D8-E5AC-4B1E-B8FD-9A05FAD8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F21-B93F-4E63-9DAC-FF91F3F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E00-05DE-4A07-A7F0-AD522549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B33-8E3C-44B1-A85E-02BA92D7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0F6-5C71-4EB8-88A6-C0476DE6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52B-A1FB-4BFE-97AA-5C929B8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CBF-946A-430B-8AEA-6AEB0AA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6A5-F60C-4BB5-8F3C-68227F6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6DB-23B6-49D3-8CB7-0E66072F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DF0-F447-47D3-88FE-A6ADBE8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BFA-7959-4EF8-AB42-2A1B590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6AD-4645-4D28-9991-460732F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7B5-5C69-44FB-A9B2-EA98422F6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14200" y="400068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042920" y="531720"/>
            <a:ext cx="56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ребенка к                  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605040" y="5299200"/>
            <a:ext cx="298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- психолог: Щадилова А.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s://ds04.infourok.ru/uploads/ex/03b8/0007a4d7-354ed116/1/img2.jpg"/>
          <p:cNvPicPr/>
          <p:nvPr/>
        </p:nvPicPr>
        <p:blipFill>
          <a:blip r:embed="rId2"/>
          <a:stretch/>
        </p:blipFill>
        <p:spPr>
          <a:xfrm>
            <a:off x="946080" y="1854360"/>
            <a:ext cx="507384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7878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жим 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5761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етей приучают постепенно и настойчи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ледует учить их не тратить много времени на режимные момен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меть поддерживать порядок в вещах, помогать по хозяй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9040" y="1634760"/>
            <a:ext cx="59752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бегайте чрезмерных требо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оставляйте  право на ошиб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думайте за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перегружайте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пропустите первые трудности и обратитесь к узким специалис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42800" y="415800"/>
            <a:ext cx="616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этапе подготовки  ребенка к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99640" y="1916280"/>
            <a:ext cx="61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лание стать школьником, выполнять серьезную деятельность, уч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тягательной силой обладают внешние атрибуты школьной жизни: звонки, перемены, отметки, то, что можно сидеть за партой, носить портфе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436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оционально-волевая сфера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590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ладать настойчивост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м доводить дело до кон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одолевать труд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ть своими эмоц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ть коммуникатив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вы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489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ллектуальная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604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ть составлять из них слог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относить букву и зву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чет в пределах 2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лжен понимать, что, скажем, 9 можно получить, сложив 5 и 4, а еще 3 и 6, 2 и 7, и так дал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6551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ая сфера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4072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а первоклассников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азвитая мелкая моторика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исова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реза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пить 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7283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alibri"/>
              </a:rPr>
              <a:t>Как помочь ребёнку подготовиться к обучению в школе?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08000" y="-243000"/>
            <a:ext cx="76629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64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енок должен определять количество слов в предложении, называть первое, второе, третье сло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ять звук из слова, давать ему характеристику, соотносить его с печатной букв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енок должен уметь пересказать прочитанную сказку, рассказ, вести диалог, составлять простой рассказ по картинке, уловить и объяснить смысл прочитанн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чень важно к началу обучения поставить произношение всех звук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ть ребенка строить предложен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ись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1305000" y="1268280"/>
            <a:ext cx="4805280" cy="52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ьная пос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80360" y="4653000"/>
            <a:ext cx="1130400" cy="460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4" descr=""/>
          <p:cNvPicPr/>
          <p:nvPr/>
        </p:nvPicPr>
        <p:blipFill>
          <a:blip r:embed="rId2"/>
          <a:stretch/>
        </p:blipFill>
        <p:spPr>
          <a:xfrm>
            <a:off x="1089000" y="1255680"/>
            <a:ext cx="5545080" cy="487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9:17:54Z</dcterms:created>
  <dc:creator>Катенок</dc:creator>
  <dc:description/>
  <dc:language>en-US</dc:language>
  <cp:lastModifiedBy>Аннет</cp:lastModifiedBy>
  <dcterms:modified xsi:type="dcterms:W3CDTF">2020-04-13T17:00:17Z</dcterms:modified>
  <cp:revision>52</cp:revision>
  <dc:subject/>
  <dc:title>Презентация PowerPoint</dc:title>
</cp:coreProperties>
</file>