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24.jpeg" ContentType="image/jpeg"/>
  <Override PartName="/ppt/media/image7.gif" ContentType="image/gif"/>
  <Override PartName="/ppt/media/image11.gif" ContentType="image/gif"/>
  <Override PartName="/ppt/media/image6.gif" ContentType="image/gif"/>
  <Override PartName="/ppt/media/image4.png" ContentType="image/png"/>
  <Override PartName="/ppt/media/image1.gif" ContentType="image/gif"/>
  <Override PartName="/ppt/media/image3.gif" ContentType="image/gif"/>
  <Override PartName="/ppt/media/image26.gif" ContentType="image/gif"/>
  <Override PartName="/ppt/media/image21.gif" ContentType="image/gif"/>
  <Override PartName="/ppt/media/image19.gif" ContentType="image/gif"/>
  <Override PartName="/ppt/media/image23.png" ContentType="image/png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5.png" ContentType="image/png"/>
  <Override PartName="/ppt/media/image25.gif" ContentType="image/gif"/>
  <Override PartName="/ppt/media/image2.png" ContentType="image/png"/>
  <Override PartName="/ppt/media/image2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11F2-EE85-4936-91FF-E6247D71B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FB01-8D41-4528-AC37-950327F6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4084-22A6-4F6B-BA99-6B9FB2260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2FB2-E9B3-4D0B-8662-464A519D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D394-728E-4FFF-A87D-2B638EE1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5D59-A4D9-4D2E-B961-54B84FD6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B7AA-445E-46AE-A197-45F5569D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36B7-9227-4E66-9DD9-4116CD86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8D0B-24DC-48B6-BD94-CE6B2807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BAB6-9266-464B-A598-6235DB97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3727-4874-4526-B526-ADDEEA54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E1FF-40B8-4B64-8426-F2646073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A813-4999-446E-8570-FAC80F5D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2116-2261-4D0E-955D-F3D94148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6678-FFB7-41C6-8086-1DA8DB6D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A250-3822-4CF9-A489-7D362ACD6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8925-9CF0-4456-9517-3AC3E6C5C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4200-3797-4F3A-AF77-6B27DA6C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0080-A415-437E-8F31-5077CD92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6544-E18E-448A-AB4E-B10B7A89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1571-01E4-40C9-9E35-EA444500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7249-6E80-4417-8BCD-2168C15F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A7EB-B454-4E05-B802-128ACCBA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8C9D-FA63-4285-9B0E-5D048387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C20B-291D-410A-9EF1-B9203FA489D7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FD5D-C7CF-4BAD-AD27-785213FB9EDE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lochange.infospace.ru/raing.gif" TargetMode="External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9.gi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20.gi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chool36.beluo.ru/images/CLOCK_BACK_CLR2.gif" TargetMode="External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3.gi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920" y="1219320"/>
            <a:ext cx="7199280" cy="9144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8f8f8"/>
                </a:solidFill>
                <a:latin typeface="Tahoma"/>
              </a:rPr>
              <a:t>СПРЯЖЕНИЕ ГЛАГОЛ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979280" y="2286000"/>
            <a:ext cx="67690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СПРЯЖЕНИЕ – ИЗМЕНЕНИЕ ГЛАГОЛА ПО ЛИЦАМ И ЧИСЛА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1" name="Picture 4" descr="Картинка 90 из 212"/>
          <p:cNvPicPr/>
          <p:nvPr/>
        </p:nvPicPr>
        <p:blipFill>
          <a:blip r:embed="rId1"/>
          <a:stretch/>
        </p:blipFill>
        <p:spPr>
          <a:xfrm>
            <a:off x="611280" y="3213000"/>
            <a:ext cx="1485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рточка 3. Используя алгоритм, определите спряжение глаголов. Напишите безударные окончания глагол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35344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Молодая зелень шепч.т, колыш.тся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Осень дыш.т чарой скошенных лугов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Больно щип.т нос и щёки мороз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Ветер осенний навод.т печаль, по небу тучи осенние гон.т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Где стро.шь, тут и ро.шь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Правда глаза кол.т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Пашню паш.т – руками не маш.т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72" name="i-main-pic" descr="Картинка 183 из 4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3500280"/>
            <a:ext cx="2305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3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3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9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2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5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8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1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4" dur="2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7" dur="2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люч к карточке 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8353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Молодая зелень (шепт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А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ть, 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) шепч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Е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т, (колых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А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ться, 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) колыш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Е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тся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Осень (дышать, </a:t>
            </a:r>
            <a:r>
              <a:rPr b="1" lang="ru-RU" sz="2400" spc="-1" strike="noStrike">
                <a:solidFill>
                  <a:srgbClr val="00ffff"/>
                </a:solidFill>
                <a:latin typeface="Tahoma"/>
              </a:rPr>
              <a:t>искл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II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дыш</a:t>
            </a:r>
            <a:r>
              <a:rPr b="1" lang="ru-RU" sz="2400" spc="-1" strike="noStrike">
                <a:solidFill>
                  <a:srgbClr val="00ffff"/>
                </a:solidFill>
                <a:latin typeface="Tahoma"/>
              </a:rPr>
              <a:t>и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т чарой скошенных лугов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Больно (щип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А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ть, 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) щип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Е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т нос и щёки мороз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Ветер осенний (навод</a:t>
            </a:r>
            <a:r>
              <a:rPr b="1" lang="ru-RU" sz="2400" spc="-1" strike="noStrike">
                <a:solidFill>
                  <a:srgbClr val="00ffff"/>
                </a:solidFill>
                <a:latin typeface="Tahoma"/>
              </a:rPr>
              <a:t>И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ть, 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II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) навод</a:t>
            </a:r>
            <a:r>
              <a:rPr b="1" lang="ru-RU" sz="2400" spc="-1" strike="noStrike">
                <a:solidFill>
                  <a:srgbClr val="00ffff"/>
                </a:solidFill>
                <a:latin typeface="Tahoma"/>
              </a:rPr>
              <a:t>И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т печаль, по небу тучи осенние (гнать, </a:t>
            </a:r>
            <a:r>
              <a:rPr b="1" lang="ru-RU" sz="2400" spc="-1" strike="noStrike">
                <a:solidFill>
                  <a:srgbClr val="00ffff"/>
                </a:solidFill>
                <a:latin typeface="Tahoma"/>
              </a:rPr>
              <a:t>искл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II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гон</a:t>
            </a:r>
            <a:r>
              <a:rPr b="1" lang="ru-RU" sz="2400" spc="-1" strike="noStrike">
                <a:solidFill>
                  <a:srgbClr val="00ffff"/>
                </a:solidFill>
                <a:latin typeface="Tahoma"/>
              </a:rPr>
              <a:t>И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т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Где (стро</a:t>
            </a:r>
            <a:r>
              <a:rPr b="1" lang="ru-RU" sz="2400" spc="-1" strike="noStrike">
                <a:solidFill>
                  <a:srgbClr val="00ffff"/>
                </a:solidFill>
                <a:latin typeface="Tahoma"/>
              </a:rPr>
              <a:t>И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ть, 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II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) стро</a:t>
            </a:r>
            <a:r>
              <a:rPr b="1" lang="ru-RU" sz="2400" spc="-1" strike="noStrike">
                <a:solidFill>
                  <a:srgbClr val="00ffff"/>
                </a:solidFill>
                <a:latin typeface="Tahoma"/>
              </a:rPr>
              <a:t>И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шь, тут и (р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Ы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ть, 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ро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Е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шь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Правда глаза (кол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О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ть, 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) кол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Е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т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Пашню (пах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А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ть, 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) паш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У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т – руками (мах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А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ть, 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) не маш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У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т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75" name="Рисунок 79" descr="pic"/>
          <p:cNvPicPr/>
          <p:nvPr/>
        </p:nvPicPr>
        <p:blipFill>
          <a:blip r:embed="rId1"/>
          <a:stretch/>
        </p:blipFill>
        <p:spPr>
          <a:xfrm>
            <a:off x="7236000" y="5445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5"/>
          <p:cNvSpPr/>
          <p:nvPr/>
        </p:nvSpPr>
        <p:spPr>
          <a:xfrm>
            <a:off x="826920" y="3213000"/>
            <a:ext cx="7561440" cy="2521080"/>
          </a:xfrm>
          <a:prstGeom prst="rect">
            <a:avLst/>
          </a:prstGeom>
          <a:gradFill rotWithShape="0">
            <a:gsLst>
              <a:gs pos="0">
                <a:srgbClr val="007600"/>
              </a:gs>
              <a:gs pos="100000">
                <a:srgbClr val="00ff00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755640" y="404640"/>
            <a:ext cx="7561440" cy="17290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007600"/>
              </a:gs>
              <a:gs pos="100000">
                <a:srgbClr val="00ff00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777240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ГЛАГОЛЫ С ПРИСТАВКАМИ ОТНОСЯТСЯ К ТОМУ ЖЕ СПРЯЖЕНИЮ, ЧТО И БЕСПРИСТАВОЧНЫЕ ГЛАГОЛЫ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НО ЕСТЬ ОПАСНАЯ ПРИСТАВКА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ahoma"/>
              </a:rPr>
              <a:t>ВЫ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ОНА «ПЕРЕТЯГИВАЕТ» НА СЕБЯ УДАРЕНИЕ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Organization Chart 5"/>
          <p:cNvGrpSpPr/>
          <p:nvPr/>
        </p:nvGrpSpPr>
        <p:grpSpPr>
          <a:xfrm>
            <a:off x="395280" y="404640"/>
            <a:ext cx="8279640" cy="6047280"/>
            <a:chOff x="395280" y="404640"/>
            <a:chExt cx="8279640" cy="6047280"/>
          </a:xfrm>
        </p:grpSpPr>
        <p:cxnSp>
          <p:nvCxnSpPr>
            <p:cNvPr id="180" name="_s1028"/>
            <p:cNvCxnSpPr>
              <a:stCxn id="181" idx="0"/>
              <a:endCxn id="182" idx="2"/>
            </p:cNvCxnSpPr>
            <p:nvPr/>
          </p:nvCxnSpPr>
          <p:spPr>
            <a:xfrm flipV="1" rot="16200000">
              <a:off x="6413760" y="4559760"/>
              <a:ext cx="704160" cy="4680"/>
            </a:xfrm>
            <a:prstGeom prst="bentConnector3">
              <a:avLst>
                <a:gd name="adj1" fmla="val 16317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83" name="_s1029"/>
            <p:cNvCxnSpPr>
              <a:stCxn id="184" idx="0"/>
              <a:endCxn id="185" idx="2"/>
            </p:cNvCxnSpPr>
            <p:nvPr/>
          </p:nvCxnSpPr>
          <p:spPr>
            <a:xfrm flipV="1" rot="16200000">
              <a:off x="1955520" y="4559760"/>
              <a:ext cx="704160" cy="4680"/>
            </a:xfrm>
            <a:prstGeom prst="bentConnector3">
              <a:avLst>
                <a:gd name="adj1" fmla="val 16317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86" name="_s1030"/>
            <p:cNvCxnSpPr>
              <a:stCxn id="182" idx="0"/>
              <a:endCxn id="187" idx="2"/>
            </p:cNvCxnSpPr>
            <p:nvPr/>
          </p:nvCxnSpPr>
          <p:spPr>
            <a:xfrm flipV="1" rot="16200000">
              <a:off x="5299920" y="1181880"/>
              <a:ext cx="698040" cy="2230200"/>
            </a:xfrm>
            <a:prstGeom prst="bentConnector3">
              <a:avLst>
                <a:gd name="adj1" fmla="val 16357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88" name="_s1031"/>
            <p:cNvCxnSpPr>
              <a:stCxn id="185" idx="0"/>
              <a:endCxn id="187" idx="2"/>
            </p:cNvCxnSpPr>
            <p:nvPr/>
          </p:nvCxnSpPr>
          <p:spPr>
            <a:xfrm flipH="1" flipV="1" rot="5400000">
              <a:off x="3071160" y="1182600"/>
              <a:ext cx="698040" cy="2229120"/>
            </a:xfrm>
            <a:prstGeom prst="bentConnector3">
              <a:avLst>
                <a:gd name="adj1" fmla="val 16357"/>
              </a:avLst>
            </a:prstGeom>
            <a:ln w="38160">
              <a:solidFill>
                <a:srgbClr val="ffffff"/>
              </a:solidFill>
              <a:miter/>
            </a:ln>
          </p:spPr>
        </p:cxnSp>
        <p:sp>
          <p:nvSpPr>
            <p:cNvPr id="187" name="_s1032"/>
            <p:cNvSpPr/>
            <p:nvPr/>
          </p:nvSpPr>
          <p:spPr>
            <a:xfrm>
              <a:off x="2623680" y="404640"/>
              <a:ext cx="3821400" cy="151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Times New Roman"/>
                </a:rPr>
                <a:t>Приставку</a:t>
              </a: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Times New Roman"/>
                </a:rPr>
                <a:t>ВЫ</a:t>
              </a: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Times New Roman"/>
                </a:rPr>
                <a:t>нужно выбросить</a:t>
              </a: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5" name="_s1033"/>
            <p:cNvSpPr/>
            <p:nvPr/>
          </p:nvSpPr>
          <p:spPr>
            <a:xfrm>
              <a:off x="395280" y="2672280"/>
              <a:ext cx="3821400" cy="151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8f8f8"/>
                  </a:solidFill>
                  <a:latin typeface="Times New Roman"/>
                </a:rPr>
                <a:t>Ударное </a:t>
              </a:r>
              <a:endParaRPr b="0" lang="en-US" sz="33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8f8f8"/>
                  </a:solidFill>
                  <a:latin typeface="Times New Roman"/>
                </a:rPr>
                <a:t>окончание?</a:t>
              </a:r>
              <a:endParaRPr b="0" lang="en-US" sz="33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2" name="_s1034"/>
            <p:cNvSpPr/>
            <p:nvPr/>
          </p:nvSpPr>
          <p:spPr>
            <a:xfrm>
              <a:off x="4853520" y="2672280"/>
              <a:ext cx="3821400" cy="151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8f8f8"/>
                  </a:solidFill>
                  <a:latin typeface="Times New Roman"/>
                </a:rPr>
                <a:t>Безударное</a:t>
              </a:r>
              <a:endParaRPr b="0" lang="en-US" sz="33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8f8f8"/>
                  </a:solidFill>
                  <a:latin typeface="Times New Roman"/>
                </a:rPr>
                <a:t>окончание?</a:t>
              </a:r>
              <a:endParaRPr b="0" lang="en-US" sz="33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4" name="_s1035"/>
            <p:cNvSpPr/>
            <p:nvPr/>
          </p:nvSpPr>
          <p:spPr>
            <a:xfrm>
              <a:off x="399240" y="4940280"/>
              <a:ext cx="3817080" cy="151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8f8f8"/>
                  </a:solidFill>
                  <a:latin typeface="Times New Roman"/>
                </a:rPr>
                <a:t>По окончанию </a:t>
              </a: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8f8f8"/>
                  </a:solidFill>
                  <a:latin typeface="Times New Roman"/>
                </a:rPr>
                <a:t>определяем</a:t>
              </a: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8f8f8"/>
                  </a:solidFill>
                  <a:latin typeface="Times New Roman"/>
                </a:rPr>
                <a:t>спряжение</a:t>
              </a: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1" name="_s1036"/>
            <p:cNvSpPr/>
            <p:nvPr/>
          </p:nvSpPr>
          <p:spPr>
            <a:xfrm>
              <a:off x="4857480" y="4940280"/>
              <a:ext cx="3817080" cy="1506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8f8f8"/>
                  </a:solidFill>
                  <a:latin typeface="Times New Roman"/>
                </a:rPr>
                <a:t>Поставьте глагол в </a:t>
              </a: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8f8f8"/>
                  </a:solidFill>
                  <a:latin typeface="Times New Roman"/>
                </a:rPr>
                <a:t>начальную форму и </a:t>
              </a: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8f8f8"/>
                  </a:solidFill>
                  <a:latin typeface="Times New Roman"/>
                </a:rPr>
                <a:t>определите спряжение</a:t>
              </a: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189" name="Picture 17" descr="pic"/>
            <p:cNvPicPr/>
            <p:nvPr/>
          </p:nvPicPr>
          <p:blipFill>
            <a:blip r:embed="rId1"/>
            <a:stretch/>
          </p:blipFill>
          <p:spPr>
            <a:xfrm>
              <a:off x="5940720" y="693720"/>
              <a:ext cx="1583640" cy="1149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рточка 4. Определите спряжение глаго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высмотр.шь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выбер.шь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вырв.шь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вынес.шь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выгон.шь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выкин.шь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вышвырн.шь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выброс.шь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выстав.шь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92" name="Picture 6" descr="pic"/>
          <p:cNvPicPr/>
          <p:nvPr/>
        </p:nvPicPr>
        <p:blipFill>
          <a:blip r:embed="rId1"/>
          <a:stretch/>
        </p:blipFill>
        <p:spPr>
          <a:xfrm>
            <a:off x="684360" y="1413000"/>
            <a:ext cx="358560" cy="288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pic"/>
          <p:cNvPicPr/>
          <p:nvPr/>
        </p:nvPicPr>
        <p:blipFill>
          <a:blip r:embed="rId2"/>
          <a:stretch/>
        </p:blipFill>
        <p:spPr>
          <a:xfrm>
            <a:off x="684360" y="1916280"/>
            <a:ext cx="358560" cy="288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pic"/>
          <p:cNvPicPr/>
          <p:nvPr/>
        </p:nvPicPr>
        <p:blipFill>
          <a:blip r:embed="rId3"/>
          <a:stretch/>
        </p:blipFill>
        <p:spPr>
          <a:xfrm>
            <a:off x="684360" y="2924280"/>
            <a:ext cx="358560" cy="288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pic"/>
          <p:cNvPicPr/>
          <p:nvPr/>
        </p:nvPicPr>
        <p:blipFill>
          <a:blip r:embed="rId4"/>
          <a:stretch/>
        </p:blipFill>
        <p:spPr>
          <a:xfrm>
            <a:off x="684360" y="2421000"/>
            <a:ext cx="358560" cy="288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pic"/>
          <p:cNvPicPr/>
          <p:nvPr/>
        </p:nvPicPr>
        <p:blipFill>
          <a:blip r:embed="rId5"/>
          <a:stretch/>
        </p:blipFill>
        <p:spPr>
          <a:xfrm>
            <a:off x="684360" y="3429000"/>
            <a:ext cx="358560" cy="289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1" descr="pic"/>
          <p:cNvPicPr/>
          <p:nvPr/>
        </p:nvPicPr>
        <p:blipFill>
          <a:blip r:embed="rId6"/>
          <a:stretch/>
        </p:blipFill>
        <p:spPr>
          <a:xfrm>
            <a:off x="684360" y="5013360"/>
            <a:ext cx="358560" cy="288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pic"/>
          <p:cNvPicPr/>
          <p:nvPr/>
        </p:nvPicPr>
        <p:blipFill>
          <a:blip r:embed="rId7"/>
          <a:stretch/>
        </p:blipFill>
        <p:spPr>
          <a:xfrm>
            <a:off x="684360" y="4437000"/>
            <a:ext cx="358560" cy="289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3" descr="pic"/>
          <p:cNvPicPr/>
          <p:nvPr/>
        </p:nvPicPr>
        <p:blipFill>
          <a:blip r:embed="rId8"/>
          <a:stretch/>
        </p:blipFill>
        <p:spPr>
          <a:xfrm>
            <a:off x="684360" y="4005360"/>
            <a:ext cx="358560" cy="288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4" descr="pic"/>
          <p:cNvPicPr/>
          <p:nvPr/>
        </p:nvPicPr>
        <p:blipFill>
          <a:blip r:embed="rId9"/>
          <a:stretch/>
        </p:blipFill>
        <p:spPr>
          <a:xfrm>
            <a:off x="684360" y="5516640"/>
            <a:ext cx="358560" cy="288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5" descr="pic"/>
          <p:cNvPicPr/>
          <p:nvPr/>
        </p:nvPicPr>
        <p:blipFill>
          <a:blip r:embed="rId10"/>
          <a:stretch/>
        </p:blipFill>
        <p:spPr>
          <a:xfrm>
            <a:off x="4284720" y="1125360"/>
            <a:ext cx="165564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5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5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223480" cy="8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люч к карточке 4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07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высмотр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И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шь    (см</a:t>
            </a:r>
            <a:r>
              <a:rPr b="1" lang="ru-RU" sz="2400" spc="-1" strike="noStrike" u="sng">
                <a:solidFill>
                  <a:srgbClr val="f8f8f8"/>
                </a:solidFill>
                <a:uFillTx/>
                <a:latin typeface="Tahoma"/>
              </a:rPr>
              <a:t>о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тришь, смотреть, 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искл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II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выбер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Е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шь         (бер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Ё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шь, 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вырв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Е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шь           (рв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Ё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шь, 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вынес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Е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шь         (нес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Ё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шь, 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выгон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И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шь         (гонишь, гнать, 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искл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II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выкин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Е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шь         (к</a:t>
            </a:r>
            <a:r>
              <a:rPr b="1" lang="ru-RU" sz="2400" spc="-1" strike="noStrike" u="sng">
                <a:solidFill>
                  <a:srgbClr val="f8f8f8"/>
                </a:solidFill>
                <a:uFillTx/>
                <a:latin typeface="Tahoma"/>
              </a:rPr>
              <a:t>и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н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Е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шь, кинуть, 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вышвырн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Е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шь   (швырн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Ё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шь,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выброс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И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шь       (бросишь, бросить, 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II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выстав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И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шь        (ставишь, ставить, 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II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04" name="Рисунок 529" descr="http://woweb.ucoz.ru/flist/gif/505/8.gif"/>
          <p:cNvPicPr/>
          <p:nvPr/>
        </p:nvPicPr>
        <p:blipFill>
          <a:blip r:embed="rId1"/>
          <a:stretch/>
        </p:blipFill>
        <p:spPr>
          <a:xfrm>
            <a:off x="395280" y="141300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529" descr="http://woweb.ucoz.ru/flist/gif/505/8.gif"/>
          <p:cNvPicPr/>
          <p:nvPr/>
        </p:nvPicPr>
        <p:blipFill>
          <a:blip r:embed="rId2"/>
          <a:stretch/>
        </p:blipFill>
        <p:spPr>
          <a:xfrm>
            <a:off x="395280" y="227664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529" descr="http://woweb.ucoz.ru/flist/gif/505/8.gif"/>
          <p:cNvPicPr/>
          <p:nvPr/>
        </p:nvPicPr>
        <p:blipFill>
          <a:blip r:embed="rId3"/>
          <a:stretch/>
        </p:blipFill>
        <p:spPr>
          <a:xfrm>
            <a:off x="395280" y="18446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529" descr="http://woweb.ucoz.ru/flist/gif/505/8.gif"/>
          <p:cNvPicPr/>
          <p:nvPr/>
        </p:nvPicPr>
        <p:blipFill>
          <a:blip r:embed="rId4"/>
          <a:stretch/>
        </p:blipFill>
        <p:spPr>
          <a:xfrm>
            <a:off x="395280" y="2708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529" descr="http://woweb.ucoz.ru/flist/gif/505/8.gif"/>
          <p:cNvPicPr/>
          <p:nvPr/>
        </p:nvPicPr>
        <p:blipFill>
          <a:blip r:embed="rId5"/>
          <a:stretch/>
        </p:blipFill>
        <p:spPr>
          <a:xfrm>
            <a:off x="395280" y="35733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529" descr="http://woweb.ucoz.ru/flist/gif/505/8.gif"/>
          <p:cNvPicPr/>
          <p:nvPr/>
        </p:nvPicPr>
        <p:blipFill>
          <a:blip r:embed="rId6"/>
          <a:stretch/>
        </p:blipFill>
        <p:spPr>
          <a:xfrm>
            <a:off x="395280" y="314172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529" descr="http://woweb.ucoz.ru/flist/gif/505/8.gif"/>
          <p:cNvPicPr/>
          <p:nvPr/>
        </p:nvPicPr>
        <p:blipFill>
          <a:blip r:embed="rId7"/>
          <a:stretch/>
        </p:blipFill>
        <p:spPr>
          <a:xfrm>
            <a:off x="395280" y="400536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529" descr="http://woweb.ucoz.ru/flist/gif/505/8.gif"/>
          <p:cNvPicPr/>
          <p:nvPr/>
        </p:nvPicPr>
        <p:blipFill>
          <a:blip r:embed="rId8"/>
          <a:stretch/>
        </p:blipFill>
        <p:spPr>
          <a:xfrm>
            <a:off x="395280" y="486900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529" descr="http://woweb.ucoz.ru/flist/gif/505/8.gif"/>
          <p:cNvPicPr/>
          <p:nvPr/>
        </p:nvPicPr>
        <p:blipFill>
          <a:blip r:embed="rId9"/>
          <a:stretch/>
        </p:blipFill>
        <p:spPr>
          <a:xfrm>
            <a:off x="395280" y="44370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6" descr="pic"/>
          <p:cNvPicPr/>
          <p:nvPr/>
        </p:nvPicPr>
        <p:blipFill>
          <a:blip r:embed="rId10"/>
          <a:stretch/>
        </p:blipFill>
        <p:spPr>
          <a:xfrm>
            <a:off x="7093080" y="1989000"/>
            <a:ext cx="16142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6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6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лиц-опро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601"/>
              </a:spcBef>
              <a:buClr>
                <a:srgbClr val="6699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Выберите верный ответ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Спряжение – это…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812880" indent="-8128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Изменение глаголов по временам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812880" indent="-8128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Изменение глаголов по лицам и числам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812880" indent="-812880">
              <a:spcBef>
                <a:spcPts val="601"/>
              </a:spcBef>
              <a:buClr>
                <a:srgbClr val="6699ff"/>
              </a:buClr>
              <a:buFont typeface="Tahoma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Закончите предложение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         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Все глаголы на –ИТЬ, кроме БРИТЬ, СТЕЛИТЬ, относятся к … спряжению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16" name="i-main-pic" descr="Картинка 133 из 138"/>
          <p:cNvPicPr/>
          <p:nvPr/>
        </p:nvPicPr>
        <p:blipFill>
          <a:blip r:embed="rId1"/>
          <a:stretch/>
        </p:blipFill>
        <p:spPr>
          <a:xfrm>
            <a:off x="7667640" y="5229360"/>
            <a:ext cx="6494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7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75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5800" y="404640"/>
            <a:ext cx="7772400" cy="55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601"/>
              </a:spcBef>
              <a:buClr>
                <a:srgbClr val="6699ff"/>
              </a:buClr>
              <a:buFont typeface="Tahoma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Какой глагол относится к 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II 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спряжению?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812880" indent="-8128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держать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812880" indent="-8128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рисовать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812880" indent="-8128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петь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812880" indent="-8128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стелить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812880" indent="-8128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таять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812880" indent="-812880">
              <a:spcBef>
                <a:spcPts val="601"/>
              </a:spcBef>
              <a:buClr>
                <a:srgbClr val="6699ff"/>
              </a:buClr>
              <a:buFont typeface="Tahoma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В окончании каких глаголов пишется Е?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812880" indent="-8128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кол.шь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812880" indent="-8128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корч.шь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812880" indent="-8128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слыш.тся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812880" indent="-812880"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рыщ.шь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18" name="i-main-pic" descr="Картинка 122 из 2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4797360"/>
            <a:ext cx="13669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611280" y="476280"/>
          <a:ext cx="8064360" cy="5689440"/>
        </p:xfrm>
        <a:graphic>
          <a:graphicData uri="http://schemas.openxmlformats.org/drawingml/2006/table">
            <a:tbl>
              <a:tblPr/>
              <a:tblGrid>
                <a:gridCol w="2016000"/>
                <a:gridCol w="2016000"/>
                <a:gridCol w="2016360"/>
                <a:gridCol w="2016000"/>
              </a:tblGrid>
              <a:tr h="28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I</a:t>
                      </a:r>
                      <a:endParaRPr b="0" lang="en-US" sz="4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000076"/>
                        </a:gs>
                        <a:gs pos="100000">
                          <a:srgbClr val="0000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II</a:t>
                      </a:r>
                      <a:endParaRPr b="0" lang="en-US" sz="4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000076"/>
                        </a:gs>
                        <a:gs pos="100000">
                          <a:srgbClr val="0000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III</a:t>
                      </a:r>
                      <a:endParaRPr b="0" lang="en-US" sz="4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000076"/>
                        </a:gs>
                        <a:gs pos="100000">
                          <a:srgbClr val="0000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IV</a:t>
                      </a:r>
                      <a:endParaRPr b="0" lang="en-US" sz="4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000076"/>
                        </a:gs>
                        <a:gs pos="100000">
                          <a:srgbClr val="0000ff"/>
                        </a:gs>
                      </a:gsLst>
                      <a:lin ang="5400000"/>
                    </a:gradFill>
                  </a:tcPr>
                </a:tc>
              </a:tr>
              <a:tr h="28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2</a:t>
                      </a:r>
                      <a:endParaRPr b="0" lang="en-US" sz="4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ffff"/>
                      </a:solidFill>
                    </a:lnL>
                    <a:lnR w="38160">
                      <a:solidFill>
                        <a:srgbClr val="00ffff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00ffff"/>
                      </a:solidFill>
                    </a:lnB>
                    <a:gradFill rotWithShape="0">
                      <a:gsLst>
                        <a:gs pos="0">
                          <a:srgbClr val="3366ff"/>
                        </a:gs>
                        <a:gs pos="100000">
                          <a:srgbClr val="182f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II</a:t>
                      </a:r>
                      <a:endParaRPr b="0" lang="en-US" sz="4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ffff"/>
                      </a:solidFill>
                    </a:lnL>
                    <a:lnR w="38160">
                      <a:solidFill>
                        <a:srgbClr val="00ffff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00ffff"/>
                      </a:solidFill>
                    </a:lnB>
                    <a:gradFill rotWithShape="0">
                      <a:gsLst>
                        <a:gs pos="0">
                          <a:srgbClr val="3366ff"/>
                        </a:gs>
                        <a:gs pos="100000">
                          <a:srgbClr val="182f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1</a:t>
                      </a:r>
                      <a:endParaRPr b="0" lang="en-US" sz="4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ffff"/>
                      </a:solidFill>
                    </a:lnL>
                    <a:lnR w="38160">
                      <a:solidFill>
                        <a:srgbClr val="00ffff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00ffff"/>
                      </a:solidFill>
                    </a:lnB>
                    <a:gradFill rotWithShape="0">
                      <a:gsLst>
                        <a:gs pos="0">
                          <a:srgbClr val="3366ff"/>
                        </a:gs>
                        <a:gs pos="100000">
                          <a:srgbClr val="182f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1, 4</a:t>
                      </a:r>
                      <a:endParaRPr b="0" lang="en-US" sz="4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ffff"/>
                      </a:solidFill>
                    </a:lnL>
                    <a:lnR w="38160">
                      <a:solidFill>
                        <a:srgbClr val="00ffff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00ffff"/>
                      </a:solidFill>
                    </a:lnB>
                    <a:gradFill rotWithShape="0">
                      <a:gsLst>
                        <a:gs pos="0">
                          <a:srgbClr val="3366ff"/>
                        </a:gs>
                        <a:gs pos="100000">
                          <a:srgbClr val="182f7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5"/>
          <p:cNvSpPr txBox="1"/>
          <p:nvPr/>
        </p:nvSpPr>
        <p:spPr>
          <a:xfrm>
            <a:off x="826920" y="2349360"/>
            <a:ext cx="741708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помните глаголы на -ЯТ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14" name="Схема 6" descr=""/>
          <p:cNvPicPr/>
          <p:nvPr/>
        </p:nvPicPr>
        <p:blipFill>
          <a:blip r:embed="rId1"/>
          <a:stretch/>
        </p:blipFill>
        <p:spPr>
          <a:xfrm>
            <a:off x="-6480" y="-96840"/>
            <a:ext cx="9156960" cy="64738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69" descr="http://woweb.ucoz.ru/flist/gif/502/3.gif"/>
          <p:cNvPicPr/>
          <p:nvPr/>
        </p:nvPicPr>
        <p:blipFill>
          <a:blip r:embed="rId2"/>
          <a:stretch/>
        </p:blipFill>
        <p:spPr>
          <a:xfrm>
            <a:off x="1908000" y="6381720"/>
            <a:ext cx="503280" cy="4762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69" descr="http://woweb.ucoz.ru/flist/gif/502/3.gif"/>
          <p:cNvPicPr/>
          <p:nvPr/>
        </p:nvPicPr>
        <p:blipFill>
          <a:blip r:embed="rId3"/>
          <a:stretch/>
        </p:blipFill>
        <p:spPr>
          <a:xfrm>
            <a:off x="6732720" y="6381720"/>
            <a:ext cx="503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2" name="WordArt 4"/>
          <p:cNvSpPr txBox="1"/>
          <p:nvPr/>
        </p:nvSpPr>
        <p:spPr>
          <a:xfrm>
            <a:off x="1619280" y="476280"/>
            <a:ext cx="6172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омните эти глаголы на -ЯТЬ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3" name="Рисунок 1" descr="C:\Documents and Settings\Admin\Мои документы\Мои рисунки\11.jpg"/>
          <p:cNvPicPr/>
          <p:nvPr/>
        </p:nvPicPr>
        <p:blipFill>
          <a:blip r:embed="rId3"/>
          <a:stretch/>
        </p:blipFill>
        <p:spPr>
          <a:xfrm>
            <a:off x="2124000" y="1125360"/>
            <a:ext cx="50418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Сяду стих я сочинять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Чтоб учились вы на «пять»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Я вам буду объяснять,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Где в глаголах пишут -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ahoma"/>
              </a:rPr>
              <a:t>ЯТЬ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Будем о весне мечтать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Станет солнце припекать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Мы – без шапок выбегать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После –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ahoma"/>
              </a:rPr>
              <a:t>КАШЛЯТЬ 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и чихать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25" name="Picture 5" descr="pic"/>
          <p:cNvPicPr/>
          <p:nvPr/>
        </p:nvPicPr>
        <p:blipFill>
          <a:blip r:embed="rId1"/>
          <a:stretch/>
        </p:blipFill>
        <p:spPr>
          <a:xfrm>
            <a:off x="611280" y="2565360"/>
            <a:ext cx="131292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5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8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1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4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7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0" dur="2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3" dur="20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6" dur="2000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85800" y="47592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Будет снег на солнце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ТАЯТЬ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15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Собачонка будет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ЛАЯТЬ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15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И барашек будет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БЛЕЯТЬ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15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Чтоб с тобой игру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ЗАТЕЯТЬ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15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15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Будет свежий ветер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ВЕЯТЬ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15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И флажок на крыше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РЕЯТЬ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15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Значит, скоро просо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СЕЯТЬ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15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И потом его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ЛЕЛЕЯТЬ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15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15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КАЯТЬСЯ, МАЯТЬСЯ, ХАЯТЬ, КЛАНЯТЬСЯ, НАДЕЯТЬСЯ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27" name="Picture 4" descr="pic"/>
          <p:cNvPicPr/>
          <p:nvPr/>
        </p:nvPicPr>
        <p:blipFill>
          <a:blip r:embed="rId1"/>
          <a:stretch/>
        </p:blipFill>
        <p:spPr>
          <a:xfrm>
            <a:off x="395280" y="1197000"/>
            <a:ext cx="164772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0" y="0"/>
            <a:ext cx="9325080" cy="685800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19" name="Схема 5" descr=""/>
          <p:cNvPicPr/>
          <p:nvPr/>
        </p:nvPicPr>
        <p:blipFill>
          <a:blip r:embed="rId1"/>
          <a:stretch/>
        </p:blipFill>
        <p:spPr>
          <a:xfrm>
            <a:off x="-109440" y="-36360"/>
            <a:ext cx="4578120" cy="6778440"/>
          </a:xfrm>
          <a:prstGeom prst="rect">
            <a:avLst/>
          </a:prstGeom>
          <a:ln w="0">
            <a:noFill/>
          </a:ln>
        </p:spPr>
      </p:pic>
      <p:pic>
        <p:nvPicPr>
          <p:cNvPr id="120" name="Схема 6" descr=""/>
          <p:cNvPicPr/>
          <p:nvPr/>
        </p:nvPicPr>
        <p:blipFill>
          <a:blip r:embed="rId2"/>
          <a:stretch/>
        </p:blipFill>
        <p:spPr>
          <a:xfrm>
            <a:off x="4730760" y="-6480"/>
            <a:ext cx="443232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5280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лаголы-исключения, относящиеся ко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спряжени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88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ГНАТЬ, ДЕРЖАТЬ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11588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СМОТРЕТЬ И ВИДЕТЬ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11588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ДЫШАТЬ, СЛЫШАТЬ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11588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НЕНАВИДЕТЬ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11588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И ЗАВИСЕТЬ, И ВЕРТЕТЬ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11588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И ОБИДЕТЬ, И ТЕРПЕТЬ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11588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вы запомните, друзья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11588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их на Е писать НЕЛЬЗЯ!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3" name="Рисунок 252" descr="pic"/>
          <p:cNvPicPr/>
          <p:nvPr/>
        </p:nvPicPr>
        <p:blipFill>
          <a:blip r:embed="rId1"/>
          <a:stretch/>
        </p:blipFill>
        <p:spPr>
          <a:xfrm>
            <a:off x="539640" y="4221000"/>
            <a:ext cx="1231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93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арточка 1. Определите спряжение глаго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шалишь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торчат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ткут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берёте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несём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ползут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творишь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живёте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6" name="Рисунок 250" descr="http://woweb.ucoz.ru/flist/gif/485/21.gif"/>
          <p:cNvPicPr/>
          <p:nvPr/>
        </p:nvPicPr>
        <p:blipFill>
          <a:blip r:embed="rId1"/>
          <a:stretch/>
        </p:blipFill>
        <p:spPr>
          <a:xfrm>
            <a:off x="971640" y="206064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250" descr="http://woweb.ucoz.ru/flist/gif/485/21.gif"/>
          <p:cNvPicPr/>
          <p:nvPr/>
        </p:nvPicPr>
        <p:blipFill>
          <a:blip r:embed="rId2"/>
          <a:stretch/>
        </p:blipFill>
        <p:spPr>
          <a:xfrm>
            <a:off x="971640" y="148428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250" descr="http://woweb.ucoz.ru/flist/gif/485/21.gif"/>
          <p:cNvPicPr/>
          <p:nvPr/>
        </p:nvPicPr>
        <p:blipFill>
          <a:blip r:embed="rId3"/>
          <a:stretch/>
        </p:blipFill>
        <p:spPr>
          <a:xfrm>
            <a:off x="971640" y="321300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250" descr="http://woweb.ucoz.ru/flist/gif/485/21.gif"/>
          <p:cNvPicPr/>
          <p:nvPr/>
        </p:nvPicPr>
        <p:blipFill>
          <a:blip r:embed="rId4"/>
          <a:stretch/>
        </p:blipFill>
        <p:spPr>
          <a:xfrm>
            <a:off x="971640" y="263700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250" descr="http://woweb.ucoz.ru/flist/gif/485/21.gif"/>
          <p:cNvPicPr/>
          <p:nvPr/>
        </p:nvPicPr>
        <p:blipFill>
          <a:blip r:embed="rId5"/>
          <a:stretch/>
        </p:blipFill>
        <p:spPr>
          <a:xfrm>
            <a:off x="971640" y="501336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250" descr="http://woweb.ucoz.ru/flist/gif/485/21.gif"/>
          <p:cNvPicPr/>
          <p:nvPr/>
        </p:nvPicPr>
        <p:blipFill>
          <a:blip r:embed="rId6"/>
          <a:stretch/>
        </p:blipFill>
        <p:spPr>
          <a:xfrm>
            <a:off x="971640" y="443700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250" descr="http://woweb.ucoz.ru/flist/gif/485/21.gif"/>
          <p:cNvPicPr/>
          <p:nvPr/>
        </p:nvPicPr>
        <p:blipFill>
          <a:blip r:embed="rId7"/>
          <a:stretch/>
        </p:blipFill>
        <p:spPr>
          <a:xfrm>
            <a:off x="971640" y="386064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250" descr="http://woweb.ucoz.ru/flist/gif/485/21.gif"/>
          <p:cNvPicPr/>
          <p:nvPr/>
        </p:nvPicPr>
        <p:blipFill>
          <a:blip r:embed="rId8"/>
          <a:stretch/>
        </p:blipFill>
        <p:spPr>
          <a:xfrm>
            <a:off x="971640" y="558972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5" descr="Картинка 62 из 212"/>
          <p:cNvPicPr/>
          <p:nvPr/>
        </p:nvPicPr>
        <p:blipFill>
          <a:blip r:embed="rId9"/>
          <a:stretch/>
        </p:blipFill>
        <p:spPr>
          <a:xfrm>
            <a:off x="3348000" y="3573360"/>
            <a:ext cx="151128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люч к карточке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шал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и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шь (-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И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шь, 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II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 спряжение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торч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а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т   (-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А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т, 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II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 спряжение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тк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у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т       (-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У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т, 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 спряжение 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бер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ё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те   (-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Ё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те, 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 спряжение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нес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ё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м     (-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Ё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м, 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 спряжение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полз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у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т    (-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У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т, 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 спряжение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твор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и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шь (-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И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шь, 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II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 спряжение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жив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ё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те   (-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Ё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те, 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 спряжение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Когда окончание под ударением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легко ты узнаешь, КАКОЕ СПРЯЖЕНИЕ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7" name="Рисунок 247" descr="http://woweb.ucoz.ru/flist/gif/485/22.gif"/>
          <p:cNvPicPr/>
          <p:nvPr/>
        </p:nvPicPr>
        <p:blipFill>
          <a:blip r:embed="rId1"/>
          <a:stretch/>
        </p:blipFill>
        <p:spPr>
          <a:xfrm>
            <a:off x="755640" y="126828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247" descr="http://woweb.ucoz.ru/flist/gif/485/22.gif"/>
          <p:cNvPicPr/>
          <p:nvPr/>
        </p:nvPicPr>
        <p:blipFill>
          <a:blip r:embed="rId2"/>
          <a:stretch/>
        </p:blipFill>
        <p:spPr>
          <a:xfrm>
            <a:off x="755640" y="21337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247" descr="http://woweb.ucoz.ru/flist/gif/485/22.gif"/>
          <p:cNvPicPr/>
          <p:nvPr/>
        </p:nvPicPr>
        <p:blipFill>
          <a:blip r:embed="rId3"/>
          <a:stretch/>
        </p:blipFill>
        <p:spPr>
          <a:xfrm>
            <a:off x="755640" y="170028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247" descr="http://woweb.ucoz.ru/flist/gif/485/22.gif"/>
          <p:cNvPicPr/>
          <p:nvPr/>
        </p:nvPicPr>
        <p:blipFill>
          <a:blip r:embed="rId4"/>
          <a:stretch/>
        </p:blipFill>
        <p:spPr>
          <a:xfrm>
            <a:off x="755640" y="2997360"/>
            <a:ext cx="476280" cy="4759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247" descr="http://woweb.ucoz.ru/flist/gif/485/22.gif"/>
          <p:cNvPicPr/>
          <p:nvPr/>
        </p:nvPicPr>
        <p:blipFill>
          <a:blip r:embed="rId5"/>
          <a:stretch/>
        </p:blipFill>
        <p:spPr>
          <a:xfrm>
            <a:off x="755640" y="256536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247" descr="http://woweb.ucoz.ru/flist/gif/485/22.gif"/>
          <p:cNvPicPr/>
          <p:nvPr/>
        </p:nvPicPr>
        <p:blipFill>
          <a:blip r:embed="rId6"/>
          <a:stretch/>
        </p:blipFill>
        <p:spPr>
          <a:xfrm>
            <a:off x="755640" y="429264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247" descr="http://woweb.ucoz.ru/flist/gif/485/22.gif"/>
          <p:cNvPicPr/>
          <p:nvPr/>
        </p:nvPicPr>
        <p:blipFill>
          <a:blip r:embed="rId7"/>
          <a:stretch/>
        </p:blipFill>
        <p:spPr>
          <a:xfrm>
            <a:off x="755640" y="378936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247" descr="http://woweb.ucoz.ru/flist/gif/485/22.gif"/>
          <p:cNvPicPr/>
          <p:nvPr/>
        </p:nvPicPr>
        <p:blipFill>
          <a:blip r:embed="rId8"/>
          <a:stretch/>
        </p:blipFill>
        <p:spPr>
          <a:xfrm>
            <a:off x="755640" y="342900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84" descr="pic"/>
          <p:cNvPicPr/>
          <p:nvPr/>
        </p:nvPicPr>
        <p:blipFill>
          <a:blip r:embed="rId9"/>
          <a:stretch/>
        </p:blipFill>
        <p:spPr>
          <a:xfrm>
            <a:off x="7164360" y="3213000"/>
            <a:ext cx="122400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5"/>
          <p:cNvSpPr/>
          <p:nvPr/>
        </p:nvSpPr>
        <p:spPr>
          <a:xfrm>
            <a:off x="539640" y="3141720"/>
            <a:ext cx="8209080" cy="31669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33cc33"/>
              </a:gs>
              <a:gs pos="50000">
                <a:srgbClr val="185e18"/>
              </a:gs>
              <a:gs pos="100000">
                <a:srgbClr val="33cc33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468360" y="476280"/>
            <a:ext cx="8136000" cy="2016000"/>
          </a:xfrm>
          <a:prstGeom prst="downArrowCallout">
            <a:avLst>
              <a:gd name="adj1" fmla="val -90855"/>
              <a:gd name="adj2" fmla="val 100893"/>
              <a:gd name="adj3" fmla="val 16667"/>
              <a:gd name="adj4" fmla="val 66667"/>
            </a:avLst>
          </a:prstGeom>
          <a:gradFill rotWithShape="0">
            <a:gsLst>
              <a:gs pos="0">
                <a:srgbClr val="007600"/>
              </a:gs>
              <a:gs pos="100000">
                <a:srgbClr val="00ff00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16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 что делать с глаголами, которые оканчиваются на –У\-Ю (несу, пою)? Ведь эти окончания бывают и в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II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спряже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3212640"/>
            <a:ext cx="7772400" cy="27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Поставьте их во 2-ое лицо единственного числа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f8f8"/>
                </a:solidFill>
                <a:latin typeface="Tahoma"/>
              </a:rPr>
              <a:t>(ТЫ) 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ahoma"/>
              </a:rPr>
              <a:t>несёшь (-Ёшь, </a:t>
            </a:r>
            <a:r>
              <a:rPr b="1" lang="en-US" sz="20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1" lang="ru-RU" sz="2000" spc="-1" strike="noStrike">
                <a:solidFill>
                  <a:srgbClr val="f8f8f8"/>
                </a:solidFill>
                <a:latin typeface="Tahoma"/>
              </a:rPr>
              <a:t>спряжение)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поёшь (-Ёшь, 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 спряжение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летишь (-Ишь, 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II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 спряжение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50" name="Рисунок 190" descr="pic"/>
          <p:cNvPicPr/>
          <p:nvPr/>
        </p:nvPicPr>
        <p:blipFill>
          <a:blip r:embed="rId1"/>
          <a:stretch/>
        </p:blipFill>
        <p:spPr>
          <a:xfrm>
            <a:off x="684360" y="5084640"/>
            <a:ext cx="84924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294760" cy="10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арточка 2. Определите спряжение глаго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ahoma"/>
              </a:rPr>
              <a:t>ТОРМОШУ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ahoma"/>
              </a:rPr>
              <a:t>БЕРЕГУ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ahoma"/>
              </a:rPr>
              <a:t>СЛЕЖУ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ahoma"/>
              </a:rPr>
              <a:t>ЗВЕНЮ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ahoma"/>
              </a:rPr>
              <a:t>РАСТУ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ahoma"/>
              </a:rPr>
              <a:t>ГОРЮ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ahoma"/>
              </a:rPr>
              <a:t>ДЕРУСЬ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53" name="Рисунок 223" descr="http://woweb.ucoz.ru/flist/gif/485/11.gif"/>
          <p:cNvPicPr/>
          <p:nvPr/>
        </p:nvPicPr>
        <p:blipFill>
          <a:blip r:embed="rId1"/>
          <a:stretch/>
        </p:blipFill>
        <p:spPr>
          <a:xfrm>
            <a:off x="900000" y="5157720"/>
            <a:ext cx="152640" cy="3812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223" descr="http://woweb.ucoz.ru/flist/gif/485/11.gif"/>
          <p:cNvPicPr/>
          <p:nvPr/>
        </p:nvPicPr>
        <p:blipFill>
          <a:blip r:embed="rId2"/>
          <a:stretch/>
        </p:blipFill>
        <p:spPr>
          <a:xfrm>
            <a:off x="900000" y="4508640"/>
            <a:ext cx="152640" cy="38088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223" descr="http://woweb.ucoz.ru/flist/gif/485/11.gif"/>
          <p:cNvPicPr/>
          <p:nvPr/>
        </p:nvPicPr>
        <p:blipFill>
          <a:blip r:embed="rId3"/>
          <a:stretch/>
        </p:blipFill>
        <p:spPr>
          <a:xfrm>
            <a:off x="900000" y="3860640"/>
            <a:ext cx="152640" cy="38124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223" descr="http://woweb.ucoz.ru/flist/gif/485/11.gif"/>
          <p:cNvPicPr/>
          <p:nvPr/>
        </p:nvPicPr>
        <p:blipFill>
          <a:blip r:embed="rId4"/>
          <a:stretch/>
        </p:blipFill>
        <p:spPr>
          <a:xfrm>
            <a:off x="900000" y="3357720"/>
            <a:ext cx="152640" cy="38088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223" descr="http://woweb.ucoz.ru/flist/gif/485/11.gif"/>
          <p:cNvPicPr/>
          <p:nvPr/>
        </p:nvPicPr>
        <p:blipFill>
          <a:blip r:embed="rId5"/>
          <a:stretch/>
        </p:blipFill>
        <p:spPr>
          <a:xfrm>
            <a:off x="900000" y="2708280"/>
            <a:ext cx="152640" cy="38088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223" descr="http://woweb.ucoz.ru/flist/gif/485/11.gif"/>
          <p:cNvPicPr/>
          <p:nvPr/>
        </p:nvPicPr>
        <p:blipFill>
          <a:blip r:embed="rId6"/>
          <a:stretch/>
        </p:blipFill>
        <p:spPr>
          <a:xfrm>
            <a:off x="900000" y="2133720"/>
            <a:ext cx="152640" cy="3808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223" descr="http://woweb.ucoz.ru/flist/gif/485/11.gif"/>
          <p:cNvPicPr/>
          <p:nvPr/>
        </p:nvPicPr>
        <p:blipFill>
          <a:blip r:embed="rId7"/>
          <a:stretch/>
        </p:blipFill>
        <p:spPr>
          <a:xfrm>
            <a:off x="900000" y="1557360"/>
            <a:ext cx="152640" cy="38088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94" descr="http://night-angel2005.narod.ru/peo-cavemen_swing.gif"/>
          <p:cNvPicPr/>
          <p:nvPr/>
        </p:nvPicPr>
        <p:blipFill>
          <a:blip r:embed="rId8"/>
          <a:stretch/>
        </p:blipFill>
        <p:spPr>
          <a:xfrm>
            <a:off x="3924360" y="4221000"/>
            <a:ext cx="1224000" cy="20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2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люч к карточке 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62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ahoma"/>
              </a:rPr>
              <a:t>ТОРМОШУ 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(ты тормош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ahoma"/>
              </a:rPr>
              <a:t>И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шь, 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II 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спр.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ahoma"/>
              </a:rPr>
              <a:t>БЕРЕГУ      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(ты берег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</a:rPr>
              <a:t>Ё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шь, 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I 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спр.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ahoma"/>
              </a:rPr>
              <a:t>СЛЕЖУ      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(ты след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ahoma"/>
              </a:rPr>
              <a:t>И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шь, 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II 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спр.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ahoma"/>
              </a:rPr>
              <a:t>ЗВЕНЮ      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(ты звен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ahoma"/>
              </a:rPr>
              <a:t>И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шь, 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II 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спр.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ahoma"/>
              </a:rPr>
              <a:t>РАСТУ        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(ты раст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</a:rPr>
              <a:t>Ё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шь, 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I 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спр.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ahoma"/>
              </a:rPr>
              <a:t>ГОРЮ        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(ты гор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ahoma"/>
              </a:rPr>
              <a:t>И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шь, 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II 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спр.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ahoma"/>
              </a:rPr>
              <a:t>ДЕРУСЬ     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(ты дер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</a:rPr>
              <a:t>Ё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шься, </a:t>
            </a: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I 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спр.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63" name="Рисунок 529" descr="http://woweb.ucoz.ru/flist/gif/505/8.gif"/>
          <p:cNvPicPr/>
          <p:nvPr/>
        </p:nvPicPr>
        <p:blipFill>
          <a:blip r:embed="rId1"/>
          <a:stretch/>
        </p:blipFill>
        <p:spPr>
          <a:xfrm>
            <a:off x="395280" y="37893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529" descr="http://woweb.ucoz.ru/flist/gif/505/8.gif"/>
          <p:cNvPicPr/>
          <p:nvPr/>
        </p:nvPicPr>
        <p:blipFill>
          <a:blip r:embed="rId2"/>
          <a:stretch/>
        </p:blipFill>
        <p:spPr>
          <a:xfrm>
            <a:off x="395280" y="314172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529" descr="http://woweb.ucoz.ru/flist/gif/505/8.gif"/>
          <p:cNvPicPr/>
          <p:nvPr/>
        </p:nvPicPr>
        <p:blipFill>
          <a:blip r:embed="rId3"/>
          <a:stretch/>
        </p:blipFill>
        <p:spPr>
          <a:xfrm>
            <a:off x="395280" y="25653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529" descr="http://woweb.ucoz.ru/flist/gif/505/8.gif"/>
          <p:cNvPicPr/>
          <p:nvPr/>
        </p:nvPicPr>
        <p:blipFill>
          <a:blip r:embed="rId4"/>
          <a:stretch/>
        </p:blipFill>
        <p:spPr>
          <a:xfrm>
            <a:off x="395280" y="19890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529" descr="http://woweb.ucoz.ru/flist/gif/505/8.gif"/>
          <p:cNvPicPr/>
          <p:nvPr/>
        </p:nvPicPr>
        <p:blipFill>
          <a:blip r:embed="rId5"/>
          <a:stretch/>
        </p:blipFill>
        <p:spPr>
          <a:xfrm>
            <a:off x="395280" y="141300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529" descr="http://woweb.ucoz.ru/flist/gif/505/8.gif"/>
          <p:cNvPicPr/>
          <p:nvPr/>
        </p:nvPicPr>
        <p:blipFill>
          <a:blip r:embed="rId6"/>
          <a:stretch/>
        </p:blipFill>
        <p:spPr>
          <a:xfrm>
            <a:off x="395280" y="50133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529" descr="http://woweb.ucoz.ru/flist/gif/505/8.gif"/>
          <p:cNvPicPr/>
          <p:nvPr/>
        </p:nvPicPr>
        <p:blipFill>
          <a:blip r:embed="rId7"/>
          <a:stretch/>
        </p:blipFill>
        <p:spPr>
          <a:xfrm>
            <a:off x="395280" y="429264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6:32:43Z</dcterms:created>
  <dc:creator>User</dc:creator>
  <dc:description/>
  <dc:language>en-US</dc:language>
  <cp:lastModifiedBy>Админ</cp:lastModifiedBy>
  <dcterms:modified xsi:type="dcterms:W3CDTF">2020-04-13T08:54:39Z</dcterms:modified>
  <cp:revision>17</cp:revision>
  <dc:subject/>
  <dc:title>СПРЯЖЕНИЕ ГЛАГОЛА</dc:title>
</cp:coreProperties>
</file>