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12.wmf" ContentType="image/x-wmf"/>
  <Override PartName="/ppt/media/image4.png" ContentType="image/png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4.wmf" ContentType="image/x-wmf"/>
  <Override PartName="/ppt/media/image13.wmf" ContentType="image/x-wmf"/>
  <Override PartName="/ppt/media/image1.jpeg" ContentType="image/jpeg"/>
  <Override PartName="/ppt/media/image15.wmf" ContentType="image/x-wmf"/>
  <Override PartName="/ppt/media/image3.wmf" ContentType="image/x-wmf"/>
  <Override PartName="/ppt/media/image16.png" ContentType="image/png"/>
  <Override PartName="/ppt/media/chimes.wav" ContentType="audio/x-wav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E9BF-5553-4AF3-8250-CF829451B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D238-620C-4A7A-8DB1-88B104B29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B037-6445-4478-AE3A-29738346C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5012-0398-468C-B849-C2F1D185B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9B47A-7ADD-45D6-9B68-34A0E0D87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9FCD5-88EB-424E-BD7A-ACF18A863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9B474-B06F-4D44-AD77-8E72FE5B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568A-8C6F-4DCE-B2A7-178922A68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79ED-8EC1-4DB1-B4CE-817A5B038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B14B-F28A-47A3-A4AF-2697565ED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7C5D1-13ED-4D5C-8F72-5EED0DBD3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418D-63A1-4CA1-870A-E5A8F185E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C3FF5-D749-415A-B0AC-CED0174F8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688C7-575F-4A94-BE44-21C85132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15C6B-9AEE-4FB4-87B0-94AEC473B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98D1-96F1-4D88-82A7-5280ED065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191E-0F06-4734-9434-2F931514ED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5E7C-7E1C-43A7-8A78-2146172D5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1C36-27A7-4B1E-88D7-FA69DD7BC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3AB0-578C-449B-B276-519C2B7AD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FF41-47FF-4CC4-9C31-E2C9A5EC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149-CFD5-4D50-B2CE-6EE39781A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E5B-73AA-4A9D-80C8-5669EA5D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3075-6B96-466C-A474-F5A8B73B9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FD444-4A9E-43EF-BBD2-95CB25C8969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E5F26-0DC9-478C-ADE6-B26965F1A70C}" type="slidenum">
              <a:rPr b="0" lang="ru-RU" sz="1400" spc="-1" strike="noStrike">
                <a:solidFill>
                  <a:srgbClr val="33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6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1" descr=""/>
          <p:cNvPicPr/>
          <p:nvPr/>
        </p:nvPicPr>
        <p:blipFill>
          <a:blip r:embed="rId1"/>
          <a:stretch/>
        </p:blipFill>
        <p:spPr>
          <a:xfrm>
            <a:off x="749160" y="2425680"/>
            <a:ext cx="7566120" cy="3633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BD06518_"/>
          <p:cNvPicPr/>
          <p:nvPr/>
        </p:nvPicPr>
        <p:blipFill>
          <a:blip r:embed="rId2"/>
          <a:stretch/>
        </p:blipFill>
        <p:spPr>
          <a:xfrm>
            <a:off x="108000" y="44280"/>
            <a:ext cx="2441520" cy="2094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адия подготовки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зработка окончательного варианта дел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спределение поручений в микрогруппах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дготовка ТСО и наглядности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роведение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ыступление каждой микрогрупп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казание необходимой помощи взрослым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Увлечение воспитанников личным примером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351000"/>
            <a:ext cx="7924680" cy="1782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оллективное подведение итогов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«Что было хорошо и почему?», «Что не удалось осуществить и почему?», «Что нужно учесть на будущее?»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бсуждение вопросов в микрогруппах, выслушивание мнений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Формы проведения: анкета, стенгазета,разговор по кругу и т.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Ближайшее последств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Использование полученного опыта на практике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должение начатого в других формах и видах деятельност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79567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ВИДЫ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631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щественно-политически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Трудовы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знавательны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Художественны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портивны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grpSp>
        <p:nvGrpSpPr>
          <p:cNvPr id="144" name="Group 12"/>
          <p:cNvGrpSpPr/>
          <p:nvPr/>
        </p:nvGrpSpPr>
        <p:grpSpPr>
          <a:xfrm>
            <a:off x="1828800" y="838080"/>
            <a:ext cx="6705720" cy="5791320"/>
            <a:chOff x="1828800" y="838080"/>
            <a:chExt cx="6705720" cy="5791320"/>
          </a:xfrm>
        </p:grpSpPr>
        <p:pic>
          <p:nvPicPr>
            <p:cNvPr id="145" name="Picture 4" descr="BD06529_"/>
            <p:cNvPicPr/>
            <p:nvPr/>
          </p:nvPicPr>
          <p:blipFill>
            <a:blip r:embed="rId1"/>
            <a:stretch/>
          </p:blipFill>
          <p:spPr>
            <a:xfrm>
              <a:off x="6553080" y="838080"/>
              <a:ext cx="19814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EN00349_"/>
            <p:cNvPicPr/>
            <p:nvPr/>
          </p:nvPicPr>
          <p:blipFill>
            <a:blip r:embed="rId2"/>
            <a:stretch/>
          </p:blipFill>
          <p:spPr>
            <a:xfrm>
              <a:off x="5791320" y="2819520"/>
              <a:ext cx="2438280" cy="21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PE01846_"/>
            <p:cNvPicPr/>
            <p:nvPr/>
          </p:nvPicPr>
          <p:blipFill>
            <a:blip r:embed="rId3"/>
            <a:stretch/>
          </p:blipFill>
          <p:spPr>
            <a:xfrm>
              <a:off x="1828800" y="4267080"/>
              <a:ext cx="342900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in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БЩЕСТВЕННО-ПОЛИТИЧЕСКИ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Укрепить гражданское отношение к себе, к семье, к своему народу, к Родин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Расширить и углубить знания о Родине, ее истории и культур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Привить опыт гражданской забот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ТРУДОВЫ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богатить знания ребят  об окружающем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ыработать взгляды на труд, как основной источник радостной жизни; 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оспитывать привычку работать самостоятельно и творчески на пользу и радость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52" name="Picture 4" descr="PE02002_"/>
          <p:cNvPicPr/>
          <p:nvPr/>
        </p:nvPicPr>
        <p:blipFill>
          <a:blip r:embed="rId1"/>
          <a:stretch/>
        </p:blipFill>
        <p:spPr>
          <a:xfrm>
            <a:off x="5867280" y="1219320"/>
            <a:ext cx="262584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ОЗНАВАТЕЛЬНЫ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ткрывать мир на радость и пользу друг другу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Формировать потребность в познании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Развивать целеустремленность, любознательность, наблюдательность, пытливость ум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55" name="Picture 5" descr="HM00363_"/>
          <p:cNvPicPr/>
          <p:nvPr/>
        </p:nvPicPr>
        <p:blipFill>
          <a:blip r:embed="rId1"/>
          <a:stretch/>
        </p:blipFill>
        <p:spPr>
          <a:xfrm>
            <a:off x="5715000" y="41911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ХУДОЖЕСТВЕННЫ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Целенаправленно развивать художественно-эстетические вкусы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Укреплять тягу к духовной культур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оспитывать потребность открывать прекрасное другим людям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58" name="Picture 4" descr="EN00378_"/>
          <p:cNvPicPr/>
          <p:nvPr/>
        </p:nvPicPr>
        <p:blipFill>
          <a:blip r:embed="rId1"/>
          <a:stretch/>
        </p:blipFill>
        <p:spPr>
          <a:xfrm>
            <a:off x="5410080" y="3962520"/>
            <a:ext cx="3430800" cy="2706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ПОРТИВНЫ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0" name="Picture 4" descr="PE01659_"/>
          <p:cNvPicPr/>
          <p:nvPr/>
        </p:nvPicPr>
        <p:blipFill>
          <a:blip r:embed="rId1"/>
          <a:stretch/>
        </p:blipFill>
        <p:spPr>
          <a:xfrm>
            <a:off x="6613560" y="2514600"/>
            <a:ext cx="2301840" cy="255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PE03738_"/>
          <p:cNvPicPr/>
          <p:nvPr/>
        </p:nvPicPr>
        <p:blipFill>
          <a:blip r:embed="rId2"/>
          <a:stretch/>
        </p:blipFill>
        <p:spPr>
          <a:xfrm>
            <a:off x="2438280" y="4572000"/>
            <a:ext cx="1905120" cy="2057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Развивать гражданское отношение к спортивно-оздоровительной стороне жизни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оспитывать находчивость, настойчивость,коллективизм и дисциплинированность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хема 1" descr=""/>
          <p:cNvPicPr/>
          <p:nvPr/>
        </p:nvPicPr>
        <p:blipFill>
          <a:blip r:embed="rId1"/>
          <a:stretch/>
        </p:blipFill>
        <p:spPr>
          <a:xfrm>
            <a:off x="1219320" y="291960"/>
            <a:ext cx="7010280" cy="365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BD05584_"/>
          <p:cNvPicPr/>
          <p:nvPr/>
        </p:nvPicPr>
        <p:blipFill>
          <a:blip r:embed="rId2"/>
          <a:stretch/>
        </p:blipFill>
        <p:spPr>
          <a:xfrm>
            <a:off x="3348000" y="4076640"/>
            <a:ext cx="2192400" cy="2387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7093080" y="476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236000" y="17002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236000" y="27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ЯТЬ УСЛОВИЙ ПЕДАГОГИЧЕСКОГО УСПЕХ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162560" cy="3505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бщая забо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Товарищество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Единство мыслей и действий, воли и чувств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Единый коллектив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Творчество, а не шаблон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хема 2" descr=""/>
          <p:cNvPicPr/>
          <p:nvPr/>
        </p:nvPicPr>
        <p:blipFill>
          <a:blip r:embed="rId1"/>
          <a:stretch/>
        </p:blipFill>
        <p:spPr>
          <a:xfrm>
            <a:off x="596880" y="390600"/>
            <a:ext cx="5511960" cy="1298520"/>
          </a:xfrm>
          <a:prstGeom prst="rect">
            <a:avLst/>
          </a:prstGeom>
          <a:ln w="0">
            <a:noFill/>
          </a:ln>
        </p:spPr>
      </p:pic>
      <p:pic>
        <p:nvPicPr>
          <p:cNvPr id="166" name="Схема 3" descr=""/>
          <p:cNvPicPr/>
          <p:nvPr/>
        </p:nvPicPr>
        <p:blipFill>
          <a:blip r:embed="rId2"/>
          <a:stretch/>
        </p:blipFill>
        <p:spPr>
          <a:xfrm>
            <a:off x="311040" y="5145120"/>
            <a:ext cx="5284800" cy="127476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4"/>
          <p:cNvGrpSpPr/>
          <p:nvPr/>
        </p:nvGrpSpPr>
        <p:grpSpPr>
          <a:xfrm>
            <a:off x="755640" y="260280"/>
            <a:ext cx="8159760" cy="6141960"/>
            <a:chOff x="755640" y="260280"/>
            <a:chExt cx="8159760" cy="6141960"/>
          </a:xfrm>
        </p:grpSpPr>
        <p:pic>
          <p:nvPicPr>
            <p:cNvPr id="168" name="Picture 9" descr="BD06662_"/>
            <p:cNvPicPr/>
            <p:nvPr/>
          </p:nvPicPr>
          <p:blipFill>
            <a:blip r:embed="rId3"/>
            <a:stretch/>
          </p:blipFill>
          <p:spPr>
            <a:xfrm>
              <a:off x="6659640" y="260280"/>
              <a:ext cx="205740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0" descr="PE01561_"/>
            <p:cNvPicPr/>
            <p:nvPr/>
          </p:nvPicPr>
          <p:blipFill>
            <a:blip r:embed="rId4"/>
            <a:stretch/>
          </p:blipFill>
          <p:spPr>
            <a:xfrm>
              <a:off x="755640" y="2195640"/>
              <a:ext cx="2454120" cy="19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1" descr="PE02097_"/>
            <p:cNvPicPr/>
            <p:nvPr/>
          </p:nvPicPr>
          <p:blipFill>
            <a:blip r:embed="rId5"/>
            <a:stretch/>
          </p:blipFill>
          <p:spPr>
            <a:xfrm>
              <a:off x="6095880" y="4145040"/>
              <a:ext cx="2819520" cy="22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Схема 1" descr=""/>
          <p:cNvPicPr/>
          <p:nvPr/>
        </p:nvPicPr>
        <p:blipFill>
          <a:blip r:embed="rId6"/>
          <a:stretch/>
        </p:blipFill>
        <p:spPr>
          <a:xfrm>
            <a:off x="3554280" y="2809800"/>
            <a:ext cx="5303880" cy="106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БРАТИТЕСЬ 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ЗА ПОМОЩЬ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Воспитание. Учебно-методическое пособие для учителей и воспитателей/ М. П. Осипова, М. А. Бесова и др.; Под ред. М.П.Осиповой. – Мн.: ИП «Экоперспектива», 2000 –2004, 1,2,3,4 кл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Иванов И.П. Методика коммунарского воспитания: Кн. Для учителя. М.: Просвещение,1990, –Мастерство учителя: идеи,советы, предложения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Иванов И.П. Энциклопедия коллективных  творческих дел. – М.: Педагогика, 1989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Рожков М.И., Байбородова Л.В. Организация воспитательного процесса в школе. М., 2000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74" name="Picture 4" descr="BS00554_"/>
          <p:cNvPicPr/>
          <p:nvPr/>
        </p:nvPicPr>
        <p:blipFill>
          <a:blip r:embed="rId1"/>
          <a:stretch/>
        </p:blipFill>
        <p:spPr>
          <a:xfrm>
            <a:off x="5943600" y="481968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firstslide"/>
          </p:cNvPr>
          <p:cNvSpPr/>
          <p:nvPr/>
        </p:nvSpPr>
        <p:spPr>
          <a:xfrm>
            <a:off x="228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33cc"/>
            </a:solidFill>
            <a:miter/>
          </a:ln>
          <a:effectLst>
            <a:outerShdw dist="107932" dir="189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братим внимание</a:t>
            </a: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Что такое КТД?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Условия успешного проведения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руктура проведения КТ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Виды КТД. 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12" name="Picture 4" descr="PE01561_"/>
          <p:cNvPicPr/>
          <p:nvPr/>
        </p:nvPicPr>
        <p:blipFill>
          <a:blip r:embed="rId1"/>
          <a:stretch/>
        </p:blipFill>
        <p:spPr>
          <a:xfrm>
            <a:off x="4114800" y="3809880"/>
            <a:ext cx="41148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5"/>
          <p:cNvGrpSpPr/>
          <p:nvPr/>
        </p:nvGrpSpPr>
        <p:grpSpPr>
          <a:xfrm>
            <a:off x="7010280" y="1600200"/>
            <a:ext cx="360360" cy="1658880"/>
            <a:chOff x="7010280" y="1600200"/>
            <a:chExt cx="360360" cy="1658880"/>
          </a:xfrm>
        </p:grpSpPr>
        <p:sp>
          <p:nvSpPr>
            <p:cNvPr id="114" name="AutoShape 7"/>
            <p:cNvSpPr/>
            <p:nvPr/>
          </p:nvSpPr>
          <p:spPr>
            <a:xfrm>
              <a:off x="7010280" y="16002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115" name="AutoShape 11"/>
            <p:cNvSpPr/>
            <p:nvPr/>
          </p:nvSpPr>
          <p:spPr>
            <a:xfrm>
              <a:off x="7010280" y="20574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116" name="AutoShape 12"/>
            <p:cNvSpPr/>
            <p:nvPr/>
          </p:nvSpPr>
          <p:spPr>
            <a:xfrm>
              <a:off x="7010280" y="25146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7010280" y="2971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</p:spTree>
  </p:cSld>
  <p:transition spd="slow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80503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Дело это –</a:t>
            </a:r>
            <a:r>
              <a:rPr b="1" i="1" lang="ru-RU" sz="3200" spc="-1" strike="noStrike">
                <a:solidFill>
                  <a:srgbClr val="3399ff"/>
                </a:solidFill>
                <a:latin typeface="Times New Roman"/>
              </a:rPr>
              <a:t> коллективное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, потому что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совершается вместе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 – ребятами и старшими как их общая забо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Дело это – </a:t>
            </a:r>
            <a:r>
              <a:rPr b="1" i="1" lang="ru-RU" sz="3200" spc="-1" strike="noStrike">
                <a:solidFill>
                  <a:srgbClr val="3399ff"/>
                </a:solidFill>
                <a:latin typeface="Times New Roman"/>
              </a:rPr>
              <a:t>творческое коллективное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, потому что представляет собой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совместный поиск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 лучших решений важной задачи, всегда выступает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в разных вариантах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, всегда выявляет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новые возможности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3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3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Суть каждого дела – забота о своем коллективе,друг о друге, об окружающих людях, о далеких друзьях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Коллективное творческое дело – это полнокровная жизнь старших и младших, воспитателей и воспитанников,это общая деятельность по улучшению окружающей жизн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79567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3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3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УСЛОВИЯ УСПЕШНОГО ИСПОЛЬЗОВАНИЯ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Times New Roman"/>
              </a:rPr>
              <a:t>Всемерное развитие отношений творческого содружества воспитателей и воспитанников как старших и младших товарищей по общей гражданской заботе;</a:t>
            </a: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Times New Roman"/>
              </a:rPr>
              <a:t>Всемерное развитие отношений творческого содружества между воспитанниками старших и младших поколений;</a:t>
            </a: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Times New Roman"/>
              </a:rPr>
              <a:t>Всемерное развитие отношений творческого содружества между самими воспитателями как старшими товарищами воспитанников.</a:t>
            </a: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25" name="Picture 4" descr="PE01562_"/>
          <p:cNvPicPr/>
          <p:nvPr/>
        </p:nvPicPr>
        <p:blipFill>
          <a:blip r:embed="rId1"/>
          <a:stretch/>
        </p:blipFill>
        <p:spPr>
          <a:xfrm>
            <a:off x="6705720" y="4267080"/>
            <a:ext cx="2209680" cy="21924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6477120" y="60958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3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3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3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РУКТУРА ПРОВЕДЕНИЯ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едварительная работа взрослых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Коллективное планировани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адия подготовки КТД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ведение КТД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Коллективное подведение итогов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адия ближайшего последствия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3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3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845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3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3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редварительная работа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взрослых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становка цел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пределение места КТД в системе   других форм воспитательной работ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думывание вариантов проведения КТ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пределение исходных направляющих действий, необходимых для составления оптимального проек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оллективное планирован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ведение стартовой бесед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Деление на микрогруппы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бота в микрогруппах (обсуждение дела).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щее обсуждение. Выработка единого вариан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Выбор совета дел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42:46Z</dcterms:created>
  <dc:creator>User</dc:creator>
  <dc:description/>
  <dc:language>en-US</dc:language>
  <cp:lastModifiedBy>Lenovo</cp:lastModifiedBy>
  <dcterms:modified xsi:type="dcterms:W3CDTF">2016-02-08T14:33:18Z</dcterms:modified>
  <cp:revision>65</cp:revision>
  <dc:subject/>
  <dc:title>Презентация PowerPoint</dc:title>
</cp:coreProperties>
</file>