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8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2.png" ContentType="image/png"/>
  <Override PartName="/ppt/media/image5.wmf" ContentType="image/x-wmf"/>
  <Override PartName="/ppt/media/image12.wmf" ContentType="image/x-wmf"/>
  <Override PartName="/ppt/media/image4.png" ContentType="image/png"/>
  <Override PartName="/ppt/media/image20.png" ContentType="image/png"/>
  <Override PartName="/ppt/media/image21.wmf" ContentType="image/x-wmf"/>
  <Override PartName="/ppt/media/image19.wmf" ContentType="image/x-wmf"/>
  <Override PartName="/ppt/media/image18.wmf" ContentType="image/x-wmf"/>
  <Override PartName="/ppt/media/image17.png" ContentType="image/png"/>
  <Override PartName="/ppt/media/image14.wmf" ContentType="image/x-wmf"/>
  <Override PartName="/ppt/media/image13.wmf" ContentType="image/x-wmf"/>
  <Override PartName="/ppt/media/image1.jpeg" ContentType="image/jpeg"/>
  <Override PartName="/ppt/media/image15.wmf" ContentType="image/x-wmf"/>
  <Override PartName="/ppt/media/image3.wmf" ContentType="image/x-wmf"/>
  <Override PartName="/ppt/media/image16.png" ContentType="image/png"/>
  <Override PartName="/ppt/media/chimes.wav" ContentType="audio/x-wav"/>
  <Override PartName="/ppt/media/image7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774F3-5BDB-4186-A7B6-377B64D6E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FC189-4196-441B-922C-343888DA27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5A73-5790-4C32-9116-CC8735056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DEDB9-BEAA-4DA8-9753-8DC113D44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32826-B5B2-45C6-86B2-9CB9A6763C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61AD72-2C50-449D-A983-9805AADA9C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BA347-CA44-45A6-9E78-21E58E815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70E641-BF69-4313-BE5C-56DBDED27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33FF-C4C9-4BF9-A520-8ED56F1E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24475-FADF-40BD-A264-CD17ABD3F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31A3F-17DE-43AF-AB09-7B671160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8BCA-C922-4CFA-924A-ADD7E8B2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373C2-09AF-4FB2-B275-4F31CCB20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AF3C99-E6E8-46B4-B4AF-BE21626CF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86B8AD-2915-4C78-9644-FE42F68A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E9790-AF2F-4693-B3BF-334D21122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32640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5954040" y="1665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698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32640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5954040" y="38149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C61A-D530-4A1C-8378-E26E6A908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DE5DC-432F-45E3-A171-BE009E325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0E156-E35A-463A-A2CC-C1AFBA1E11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96687-10AB-41F7-85B4-3A2D7E70F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685800" y="3506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C82E-7D60-413C-9BEA-13AAAAF5B0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ED80-5E27-4C72-AAD0-4D2883BD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681080" y="38149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76EBF-8B0E-4E30-89D3-D87B3FE35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1080" y="1665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98400" y="38149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DB979-851D-4A73-8068-63C29BCC2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00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1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1657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6553080" y="61657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0CAF9-2319-4B6C-BAFC-E4A65A9DE8A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50000">
              <a:srgbClr val="ffff00"/>
            </a:gs>
            <a:gs pos="100000">
              <a:srgbClr val="66c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-38160" y="-12600"/>
            <a:ext cx="9239400" cy="6940080"/>
            <a:chOff x="-38160" y="-12600"/>
            <a:chExt cx="9239400" cy="6940080"/>
          </a:xfrm>
        </p:grpSpPr>
        <p:sp>
          <p:nvSpPr>
            <p:cNvPr id="48" name="Rectangle 3"/>
            <p:cNvSpPr/>
            <p:nvPr/>
          </p:nvSpPr>
          <p:spPr>
            <a:xfrm>
              <a:off x="8744040" y="-9360"/>
              <a:ext cx="455400" cy="692784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49" name="Rectangle 4"/>
            <p:cNvSpPr/>
            <p:nvPr/>
          </p:nvSpPr>
          <p:spPr>
            <a:xfrm>
              <a:off x="-31680" y="-9360"/>
              <a:ext cx="457200" cy="6933960"/>
            </a:xfrm>
            <a:prstGeom prst="rect">
              <a:avLst/>
            </a:pr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0" name="AutoShape 5"/>
            <p:cNvSpPr/>
            <p:nvPr/>
          </p:nvSpPr>
          <p:spPr>
            <a:xfrm flipH="1" flipV="1" rot="10800000">
              <a:off x="-16920" y="-12600"/>
              <a:ext cx="9204120" cy="457200"/>
            </a:xfrm>
            <a:custGeom>
              <a:avLst/>
              <a:gdLst>
                <a:gd name="textAreaLeft" fmla="*/ 998280 w 9204120"/>
                <a:gd name="textAreaRight" fmla="*/ 8205840 w 9204120"/>
                <a:gd name="textAreaTop" fmla="*/ 48960 h 457200"/>
                <a:gd name="textAreaBottom" fmla="*/ 408240 h 457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089" y="21600"/>
                  </a:lnTo>
                  <a:lnTo>
                    <a:pt x="2051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1" name="AutoShape 6"/>
            <p:cNvSpPr/>
            <p:nvPr/>
          </p:nvSpPr>
          <p:spPr>
            <a:xfrm flipV="1">
              <a:off x="-37800" y="6466680"/>
              <a:ext cx="9239400" cy="460440"/>
            </a:xfrm>
            <a:custGeom>
              <a:avLst/>
              <a:gdLst>
                <a:gd name="textAreaLeft" fmla="*/ 1004760 w 9239400"/>
                <a:gd name="textAreaRight" fmla="*/ 8234640 w 9239400"/>
                <a:gd name="textAreaTop" fmla="*/ 50760 h 460440"/>
                <a:gd name="textAreaBottom" fmla="*/ 409680 h 46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1100" y="21600"/>
                  </a:lnTo>
                  <a:lnTo>
                    <a:pt x="205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2" name="Rectangle 7"/>
            <p:cNvSpPr/>
            <p:nvPr/>
          </p:nvSpPr>
          <p:spPr>
            <a:xfrm>
              <a:off x="272880" y="282600"/>
              <a:ext cx="8623440" cy="63309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  <p:grpSp>
        <p:nvGrpSpPr>
          <p:cNvPr id="53" name="Group 13"/>
          <p:cNvGrpSpPr/>
          <p:nvPr/>
        </p:nvGrpSpPr>
        <p:grpSpPr>
          <a:xfrm>
            <a:off x="609480" y="3324240"/>
            <a:ext cx="8001000" cy="374760"/>
            <a:chOff x="609480" y="3324240"/>
            <a:chExt cx="8001000" cy="374760"/>
          </a:xfrm>
        </p:grpSpPr>
        <p:sp>
          <p:nvSpPr>
            <p:cNvPr id="54" name="Rectangle 14"/>
            <p:cNvSpPr/>
            <p:nvPr/>
          </p:nvSpPr>
          <p:spPr>
            <a:xfrm>
              <a:off x="609480" y="3470400"/>
              <a:ext cx="8001000" cy="2286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5" name="Rectangle 15"/>
            <p:cNvSpPr/>
            <p:nvPr/>
          </p:nvSpPr>
          <p:spPr>
            <a:xfrm>
              <a:off x="615960" y="3324240"/>
              <a:ext cx="7843680" cy="277920"/>
            </a:xfrm>
            <a:prstGeom prst="rect">
              <a:avLst/>
            </a:prstGeom>
            <a:gradFill rotWithShape="0">
              <a:gsLst>
                <a:gs pos="0">
                  <a:srgbClr val="e6dcac"/>
                </a:gs>
                <a:gs pos="100000">
                  <a:srgbClr val="e6dcac"/>
                </a:gs>
              </a:gsLst>
              <a:lin ang="2700000"/>
            </a:gradFill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6" name="Line 16"/>
            <p:cNvSpPr/>
            <p:nvPr/>
          </p:nvSpPr>
          <p:spPr>
            <a:xfrm>
              <a:off x="622440" y="339408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7" name="Line 17"/>
            <p:cNvSpPr/>
            <p:nvPr/>
          </p:nvSpPr>
          <p:spPr>
            <a:xfrm>
              <a:off x="622440" y="347040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8" name="Line 18"/>
            <p:cNvSpPr/>
            <p:nvPr/>
          </p:nvSpPr>
          <p:spPr>
            <a:xfrm>
              <a:off x="622440" y="3546360"/>
              <a:ext cx="7840440" cy="0"/>
            </a:xfrm>
            <a:prstGeom prst="line">
              <a:avLst/>
            </a:prstGeom>
            <a:ln w="12600">
              <a:solidFill>
                <a:srgbClr val="cc996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59" name="Line 19"/>
            <p:cNvSpPr/>
            <p:nvPr/>
          </p:nvSpPr>
          <p:spPr>
            <a:xfrm>
              <a:off x="622440" y="3379680"/>
              <a:ext cx="7840440" cy="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60" name="Line 20"/>
            <p:cNvSpPr/>
            <p:nvPr/>
          </p:nvSpPr>
          <p:spPr>
            <a:xfrm>
              <a:off x="622440" y="3456000"/>
              <a:ext cx="7840440" cy="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61" name="Line 21"/>
            <p:cNvSpPr/>
            <p:nvPr/>
          </p:nvSpPr>
          <p:spPr>
            <a:xfrm>
              <a:off x="622440" y="3532320"/>
              <a:ext cx="7840440" cy="0"/>
            </a:xfrm>
            <a:prstGeom prst="line">
              <a:avLst/>
            </a:prstGeom>
            <a:ln w="12600">
              <a:solidFill>
                <a:srgbClr val="00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99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33c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99ff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99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4"/>
          </p:nvPr>
        </p:nvSpPr>
        <p:spPr>
          <a:xfrm>
            <a:off x="698400" y="61545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5"/>
          </p:nvPr>
        </p:nvSpPr>
        <p:spPr>
          <a:xfrm>
            <a:off x="3136680" y="615456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6"/>
          </p:nvPr>
        </p:nvSpPr>
        <p:spPr>
          <a:xfrm>
            <a:off x="6565680" y="615456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3399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A0784-D984-46EE-9C15-E47E162E15FE}" type="slidenum">
              <a:rPr b="0" lang="ru-RU" sz="1400" spc="-1" strike="noStrike">
                <a:solidFill>
                  <a:srgbClr val="3399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wmf"/><Relationship Id="rId4" Type="http://schemas.openxmlformats.org/officeDocument/2006/relationships/image" Target="../media/image6.wmf"/><Relationship Id="rId5" Type="http://schemas.openxmlformats.org/officeDocument/2006/relationships/image" Target="../media/image19.wmf"/><Relationship Id="rId6" Type="http://schemas.openxmlformats.org/officeDocument/2006/relationships/image" Target="../media/image20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Схема 1" descr=""/>
          <p:cNvPicPr/>
          <p:nvPr/>
        </p:nvPicPr>
        <p:blipFill>
          <a:blip r:embed="rId1"/>
          <a:stretch/>
        </p:blipFill>
        <p:spPr>
          <a:xfrm>
            <a:off x="749160" y="2425680"/>
            <a:ext cx="7566120" cy="363384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3" descr="BD06518_"/>
          <p:cNvPicPr/>
          <p:nvPr/>
        </p:nvPicPr>
        <p:blipFill>
          <a:blip r:embed="rId2"/>
          <a:stretch/>
        </p:blipFill>
        <p:spPr>
          <a:xfrm>
            <a:off x="108000" y="44280"/>
            <a:ext cx="2441520" cy="20941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тадия подготовки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Разработка окончательного варианта дел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Распределение поручений в микрогруппах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одготовка ТСО и наглядности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роведение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Выступление каждой микрогрупп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казание необходимой помощи взрослым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Увлечение воспитанников личным примером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440" y="351000"/>
            <a:ext cx="7924680" cy="1782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оллективное подведение итогов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8580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«Что было хорошо и почему?», «Что не удалось осуществить и почему?», «Что нужно учесть на будущее?»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бсуждение вопросов в микрогруппах, выслушивание мнений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Формы проведения: анкета, стенгазета,разговор по кругу и т.д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Ближайшее последствие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Использование полученного опыта на практике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одолжение начатого в других формах и видах деятельност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41" name="AutoShape 4"/>
          <p:cNvSpPr/>
          <p:nvPr/>
        </p:nvSpPr>
        <p:spPr>
          <a:xfrm>
            <a:off x="79567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ВИДЫ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631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бщественно-политические дела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Трудовые дела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ознавательные дела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Художественные дела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Спортивные дела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grpSp>
        <p:nvGrpSpPr>
          <p:cNvPr id="144" name="Group 12"/>
          <p:cNvGrpSpPr/>
          <p:nvPr/>
        </p:nvGrpSpPr>
        <p:grpSpPr>
          <a:xfrm>
            <a:off x="1828800" y="838080"/>
            <a:ext cx="6705720" cy="5791320"/>
            <a:chOff x="1828800" y="838080"/>
            <a:chExt cx="6705720" cy="5791320"/>
          </a:xfrm>
        </p:grpSpPr>
        <p:pic>
          <p:nvPicPr>
            <p:cNvPr id="145" name="Picture 4" descr="BD06529_"/>
            <p:cNvPicPr/>
            <p:nvPr/>
          </p:nvPicPr>
          <p:blipFill>
            <a:blip r:embed="rId1"/>
            <a:stretch/>
          </p:blipFill>
          <p:spPr>
            <a:xfrm>
              <a:off x="6553080" y="838080"/>
              <a:ext cx="1981440" cy="160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5" descr="EN00349_"/>
            <p:cNvPicPr/>
            <p:nvPr/>
          </p:nvPicPr>
          <p:blipFill>
            <a:blip r:embed="rId2"/>
            <a:stretch/>
          </p:blipFill>
          <p:spPr>
            <a:xfrm>
              <a:off x="5791320" y="2819520"/>
              <a:ext cx="2438280" cy="2136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PE01846_"/>
            <p:cNvPicPr/>
            <p:nvPr/>
          </p:nvPicPr>
          <p:blipFill>
            <a:blip r:embed="rId3"/>
            <a:stretch/>
          </p:blipFill>
          <p:spPr>
            <a:xfrm>
              <a:off x="1828800" y="4267080"/>
              <a:ext cx="3429000" cy="236232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slow">
    <p:split dir="in" orient="vert"/>
  </p:transition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61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3" dur="500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65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7" dur="500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73" nodeType="after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ОБЩЕСТВЕННО-ПОЛИТИЧЕСКИЕ ДЕЛ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ЦЕЛЬ: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Укрепить гражданское отношение к себе, к семье, к своему народу, к Родине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Расширить и углубить знания о Родине, ее истории и культуре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Привить опыт гражданской забот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ТРУДОВЫЕ ДЕЛ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2209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ЦЕЛЬ: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богатить знания ребят  об окружающем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Выработать взгляды на труд, как основной источник радостной жизни; 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Воспитывать привычку работать самостоятельно и творчески на пользу и радость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52" name="Picture 4" descr="PE02002_"/>
          <p:cNvPicPr/>
          <p:nvPr/>
        </p:nvPicPr>
        <p:blipFill>
          <a:blip r:embed="rId1"/>
          <a:stretch/>
        </p:blipFill>
        <p:spPr>
          <a:xfrm>
            <a:off x="5867280" y="1219320"/>
            <a:ext cx="2625840" cy="259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ОЗНАВАТЕЛЬНЫЕ ДЕЛ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3808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ЦЕЛЬ: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ткрывать мир на радость и пользу друг другу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Формировать потребность в познании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Развивать целеустремленность, любознательность, наблюдательность, пытливость ум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55" name="Picture 5" descr="HM00363_"/>
          <p:cNvPicPr/>
          <p:nvPr/>
        </p:nvPicPr>
        <p:blipFill>
          <a:blip r:embed="rId1"/>
          <a:stretch/>
        </p:blipFill>
        <p:spPr>
          <a:xfrm>
            <a:off x="5715000" y="4191120"/>
            <a:ext cx="2743200" cy="26668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ХУДОЖЕСТВЕННЫЕ ДЕЛ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ЦЕЛЬ: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Целенаправленно развивать художественно-эстетические вкусы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Укреплять тягу к духовной культуре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Воспитывать потребность открывать прекрасное другим людям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58" name="Picture 4" descr="EN00378_"/>
          <p:cNvPicPr/>
          <p:nvPr/>
        </p:nvPicPr>
        <p:blipFill>
          <a:blip r:embed="rId1"/>
          <a:stretch/>
        </p:blipFill>
        <p:spPr>
          <a:xfrm>
            <a:off x="5410080" y="3962520"/>
            <a:ext cx="3430800" cy="27064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ПОРТИВНЫЕ ДЕЛ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pic>
        <p:nvPicPr>
          <p:cNvPr id="160" name="Picture 4" descr="PE01659_"/>
          <p:cNvPicPr/>
          <p:nvPr/>
        </p:nvPicPr>
        <p:blipFill>
          <a:blip r:embed="rId1"/>
          <a:stretch/>
        </p:blipFill>
        <p:spPr>
          <a:xfrm>
            <a:off x="6613560" y="2514600"/>
            <a:ext cx="2301840" cy="25542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PE03738_"/>
          <p:cNvPicPr/>
          <p:nvPr/>
        </p:nvPicPr>
        <p:blipFill>
          <a:blip r:embed="rId2"/>
          <a:stretch/>
        </p:blipFill>
        <p:spPr>
          <a:xfrm>
            <a:off x="2438280" y="4572000"/>
            <a:ext cx="1905120" cy="205740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76212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ЦЕЛЬ: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Развивать гражданское отношение к спортивно-оздоровительной стороне жизни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Воспитывать находчивость, настойчивость,коллективизм и дисциплинированность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Схема 1" descr=""/>
          <p:cNvPicPr/>
          <p:nvPr/>
        </p:nvPicPr>
        <p:blipFill>
          <a:blip r:embed="rId1"/>
          <a:stretch/>
        </p:blipFill>
        <p:spPr>
          <a:xfrm>
            <a:off x="1219320" y="291960"/>
            <a:ext cx="7010280" cy="36514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6" descr="BD05584_"/>
          <p:cNvPicPr/>
          <p:nvPr/>
        </p:nvPicPr>
        <p:blipFill>
          <a:blip r:embed="rId2"/>
          <a:stretch/>
        </p:blipFill>
        <p:spPr>
          <a:xfrm>
            <a:off x="3348000" y="4076640"/>
            <a:ext cx="2192400" cy="2387520"/>
          </a:xfrm>
          <a:prstGeom prst="rect">
            <a:avLst/>
          </a:prstGeom>
          <a:ln w="0">
            <a:noFill/>
          </a:ln>
        </p:spPr>
      </p:pic>
      <p:sp>
        <p:nvSpPr>
          <p:cNvPr id="107" name="TextBox 2"/>
          <p:cNvSpPr/>
          <p:nvPr/>
        </p:nvSpPr>
        <p:spPr>
          <a:xfrm>
            <a:off x="7093080" y="476280"/>
            <a:ext cx="1150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К</a:t>
            </a:r>
            <a:endParaRPr b="0" lang="en-US" sz="40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8" name="TextBox 3"/>
          <p:cNvSpPr/>
          <p:nvPr/>
        </p:nvSpPr>
        <p:spPr>
          <a:xfrm>
            <a:off x="7236000" y="1700280"/>
            <a:ext cx="86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Т</a:t>
            </a:r>
            <a:endParaRPr b="0" lang="en-US" sz="40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09" name="TextBox 4"/>
          <p:cNvSpPr/>
          <p:nvPr/>
        </p:nvSpPr>
        <p:spPr>
          <a:xfrm>
            <a:off x="7236000" y="2781360"/>
            <a:ext cx="100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Times New Roman"/>
              </a:rPr>
              <a:t>Д</a:t>
            </a:r>
            <a:endParaRPr b="0" lang="en-US" sz="40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6091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ЯТЬ УСЛОВИЙ ПЕДАГОГИЧЕСКОГО УСПЕХА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11280" y="2491920"/>
            <a:ext cx="7162560" cy="3505320"/>
          </a:xfrm>
          <a:prstGeom prst="rect">
            <a:avLst/>
          </a:prstGeom>
          <a:noFill/>
          <a:ln w="76320">
            <a:solidFill>
              <a:srgbClr val="0033cc"/>
            </a:solidFill>
            <a:miter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Общая забот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Товарищество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Единство мыслей и действий, воли и чувств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Единый коллектив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33cc"/>
              </a:buClr>
              <a:buSzPct val="115000"/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Творчество, а не шаблон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0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75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3" dur="5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95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7" dur="500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9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1" dur="500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0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9" dur="500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Схема 2" descr=""/>
          <p:cNvPicPr/>
          <p:nvPr/>
        </p:nvPicPr>
        <p:blipFill>
          <a:blip r:embed="rId1"/>
          <a:stretch/>
        </p:blipFill>
        <p:spPr>
          <a:xfrm>
            <a:off x="596880" y="390600"/>
            <a:ext cx="5511960" cy="1298520"/>
          </a:xfrm>
          <a:prstGeom prst="rect">
            <a:avLst/>
          </a:prstGeom>
          <a:ln w="0">
            <a:noFill/>
          </a:ln>
        </p:spPr>
      </p:pic>
      <p:pic>
        <p:nvPicPr>
          <p:cNvPr id="166" name="Схема 3" descr=""/>
          <p:cNvPicPr/>
          <p:nvPr/>
        </p:nvPicPr>
        <p:blipFill>
          <a:blip r:embed="rId2"/>
          <a:stretch/>
        </p:blipFill>
        <p:spPr>
          <a:xfrm>
            <a:off x="311040" y="5145120"/>
            <a:ext cx="5284800" cy="1274760"/>
          </a:xfrm>
          <a:prstGeom prst="rect">
            <a:avLst/>
          </a:prstGeom>
          <a:ln w="0">
            <a:noFill/>
          </a:ln>
        </p:spPr>
      </p:pic>
      <p:grpSp>
        <p:nvGrpSpPr>
          <p:cNvPr id="167" name="Group 14"/>
          <p:cNvGrpSpPr/>
          <p:nvPr/>
        </p:nvGrpSpPr>
        <p:grpSpPr>
          <a:xfrm>
            <a:off x="755640" y="260280"/>
            <a:ext cx="8159760" cy="6141960"/>
            <a:chOff x="755640" y="260280"/>
            <a:chExt cx="8159760" cy="6141960"/>
          </a:xfrm>
        </p:grpSpPr>
        <p:pic>
          <p:nvPicPr>
            <p:cNvPr id="168" name="Picture 9" descr="BD06662_"/>
            <p:cNvPicPr/>
            <p:nvPr/>
          </p:nvPicPr>
          <p:blipFill>
            <a:blip r:embed="rId3"/>
            <a:stretch/>
          </p:blipFill>
          <p:spPr>
            <a:xfrm>
              <a:off x="6659640" y="260280"/>
              <a:ext cx="2057400" cy="1981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10" descr="PE01561_"/>
            <p:cNvPicPr/>
            <p:nvPr/>
          </p:nvPicPr>
          <p:blipFill>
            <a:blip r:embed="rId4"/>
            <a:stretch/>
          </p:blipFill>
          <p:spPr>
            <a:xfrm>
              <a:off x="755640" y="2195640"/>
              <a:ext cx="2454120" cy="19494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0" name="Picture 11" descr="PE02097_"/>
            <p:cNvPicPr/>
            <p:nvPr/>
          </p:nvPicPr>
          <p:blipFill>
            <a:blip r:embed="rId5"/>
            <a:stretch/>
          </p:blipFill>
          <p:spPr>
            <a:xfrm>
              <a:off x="6095880" y="4145040"/>
              <a:ext cx="2819520" cy="22572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71" name="Схема 1" descr=""/>
          <p:cNvPicPr/>
          <p:nvPr/>
        </p:nvPicPr>
        <p:blipFill>
          <a:blip r:embed="rId6"/>
          <a:stretch/>
        </p:blipFill>
        <p:spPr>
          <a:xfrm>
            <a:off x="3554280" y="2809800"/>
            <a:ext cx="5303880" cy="1060560"/>
          </a:xfrm>
          <a:prstGeom prst="rect">
            <a:avLst/>
          </a:prstGeom>
          <a:ln w="0">
            <a:noFill/>
          </a:ln>
        </p:spPr>
      </p:pic>
    </p:spTree>
  </p:cSld>
  <p:transition spd="slow">
    <p:split dir="in" orient="vert"/>
  </p:transition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0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ОБРАТИТЕСЬ 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ЗА ПОМОЩЬЮ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0" y="1676160"/>
            <a:ext cx="784872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Воспитание. Учебно-методическое пособие для учителей и воспитателей/ М. П. Осипова, М. А. Бесова и др.; Под ред. М.П.Осиповой. – Мн.: ИП «Экоперспектива», 2000 –2004, 1,2,3,4 кл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Иванов И.П. Методика коммунарского воспитания: Кн. Для учителя. М.: Просвещение,1990, –Мастерство учителя: идеи,советы, предложения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Иванов И.П. Энциклопедия коллективных  творческих дел. – М.: Педагогика, 1989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99ff"/>
                </a:solidFill>
                <a:latin typeface="Times New Roman"/>
              </a:rPr>
              <a:t>Рожков М.И., Байбородова Л.В. Организация воспитательного процесса в школе. М., 2000.</a:t>
            </a:r>
            <a:endParaRPr b="0" lang="en-US" sz="20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74" name="Picture 4" descr="BS00554_"/>
          <p:cNvPicPr/>
          <p:nvPr/>
        </p:nvPicPr>
        <p:blipFill>
          <a:blip r:embed="rId1"/>
          <a:stretch/>
        </p:blipFill>
        <p:spPr>
          <a:xfrm>
            <a:off x="5943600" y="4819680"/>
            <a:ext cx="2666880" cy="2038320"/>
          </a:xfrm>
          <a:prstGeom prst="rect">
            <a:avLst/>
          </a:prstGeom>
          <a:ln w="0">
            <a:noFill/>
          </a:ln>
        </p:spPr>
      </p:pic>
      <p:sp>
        <p:nvSpPr>
          <p:cNvPr id="175" name="AutoShape 5">
            <a:hlinkClick r:id="" action="ppaction://hlinkshowjump?jump=firstslide"/>
          </p:cNvPr>
          <p:cNvSpPr/>
          <p:nvPr/>
        </p:nvSpPr>
        <p:spPr>
          <a:xfrm>
            <a:off x="228600" y="6019920"/>
            <a:ext cx="685800" cy="68580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10800" y="3837"/>
                </a:moveTo>
                <a:lnTo>
                  <a:pt x="13376" y="6448"/>
                </a:ln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lnTo>
                  <a:pt x="17763" y="10800"/>
                </a:lnTo>
                <a:lnTo>
                  <a:pt x="16109" y="10800"/>
                </a:lnTo>
                <a:lnTo>
                  <a:pt x="16109" y="17989"/>
                </a:lnTo>
                <a:lnTo>
                  <a:pt x="5491" y="17989"/>
                </a:lnTo>
                <a:lnTo>
                  <a:pt x="5491" y="10800"/>
                </a:lnTo>
                <a:lnTo>
                  <a:pt x="3837" y="10800"/>
                </a:lnTo>
                <a:close/>
              </a:path>
              <a:path fill="darkenLess" w="21600" h="21600">
                <a:moveTo>
                  <a:pt x="13376" y="6448"/>
                </a:moveTo>
                <a:lnTo>
                  <a:pt x="13376" y="4707"/>
                </a:lnTo>
                <a:lnTo>
                  <a:pt x="15152" y="4707"/>
                </a:lnTo>
                <a:lnTo>
                  <a:pt x="15152" y="8224"/>
                </a:lnTo>
                <a:close/>
              </a:path>
              <a:path fill="darkenLess" w="21600" h="21600">
                <a:moveTo>
                  <a:pt x="9877" y="14299"/>
                </a:moveTo>
                <a:lnTo>
                  <a:pt x="11723" y="14299"/>
                </a:lnTo>
                <a:lnTo>
                  <a:pt x="11723" y="17989"/>
                </a:lnTo>
                <a:lnTo>
                  <a:pt x="16109" y="17989"/>
                </a:lnTo>
                <a:lnTo>
                  <a:pt x="16109" y="10800"/>
                </a:lnTo>
                <a:lnTo>
                  <a:pt x="5491" y="10800"/>
                </a:lnTo>
                <a:lnTo>
                  <a:pt x="5491" y="17989"/>
                </a:lnTo>
                <a:lnTo>
                  <a:pt x="9877" y="17989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33cc"/>
            </a:solidFill>
            <a:miter/>
          </a:ln>
          <a:effectLst>
            <a:outerShdw dist="107932" dir="18900000" blurRad="0" rotWithShape="0">
              <a:srgbClr val="3399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75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28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0" dur="5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32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4" dur="5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236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8" dur="5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40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2" dur="50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4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500"/>
                            </p:stCondLst>
                            <p:childTnLst>
                              <p:par>
                                <p:cTn id="24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0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Обратим внимание</a:t>
            </a:r>
            <a:r>
              <a:rPr b="0" lang="ru-RU" sz="4400" spc="-1" strike="noStrike">
                <a:solidFill>
                  <a:srgbClr val="0033cc"/>
                </a:solidFill>
                <a:latin typeface="Times New Roman"/>
              </a:rPr>
              <a:t>…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6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Что такое КТД?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Условия успешного проведения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Структура проведения КТД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Виды КТД. 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12" name="Picture 4" descr="PE01561_"/>
          <p:cNvPicPr/>
          <p:nvPr/>
        </p:nvPicPr>
        <p:blipFill>
          <a:blip r:embed="rId1"/>
          <a:stretch/>
        </p:blipFill>
        <p:spPr>
          <a:xfrm>
            <a:off x="4114800" y="3809880"/>
            <a:ext cx="4114800" cy="27432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5"/>
          <p:cNvGrpSpPr/>
          <p:nvPr/>
        </p:nvGrpSpPr>
        <p:grpSpPr>
          <a:xfrm>
            <a:off x="7010280" y="1600200"/>
            <a:ext cx="360360" cy="1658880"/>
            <a:chOff x="7010280" y="1600200"/>
            <a:chExt cx="360360" cy="1658880"/>
          </a:xfrm>
        </p:grpSpPr>
        <p:sp>
          <p:nvSpPr>
            <p:cNvPr id="114" name="AutoShape 7"/>
            <p:cNvSpPr/>
            <p:nvPr/>
          </p:nvSpPr>
          <p:spPr>
            <a:xfrm>
              <a:off x="7010280" y="16002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115" name="AutoShape 11"/>
            <p:cNvSpPr/>
            <p:nvPr/>
          </p:nvSpPr>
          <p:spPr>
            <a:xfrm>
              <a:off x="7010280" y="20574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116" name="AutoShape 12"/>
            <p:cNvSpPr/>
            <p:nvPr/>
          </p:nvSpPr>
          <p:spPr>
            <a:xfrm>
              <a:off x="7010280" y="25146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  <p:sp>
          <p:nvSpPr>
            <p:cNvPr id="117" name="AutoShape 13"/>
            <p:cNvSpPr/>
            <p:nvPr/>
          </p:nvSpPr>
          <p:spPr>
            <a:xfrm>
              <a:off x="7010280" y="2971800"/>
              <a:ext cx="360360" cy="287280"/>
            </a:xfrm>
            <a:custGeom>
              <a:avLst/>
              <a:gdLst>
                <a:gd name="textAreaLeft" fmla="*/ 18360 w 360360"/>
                <a:gd name="textAreaRight" fmla="*/ 342000 w 360360"/>
                <a:gd name="textAreaTop" fmla="*/ 18360 h 287280"/>
                <a:gd name="textAreaBottom" fmla="*/ 268920 h 287280"/>
              </a:gdLst>
              <a:ahLst/>
              <a:rect l="textAreaLeft" t="textAreaTop" r="textAreaRight" b="textAreaBottom"/>
              <a:pathLst>
                <a:path w="27088" h="21600">
                  <a:moveTo>
                    <a:pt x="0" y="0"/>
                  </a:moveTo>
                  <a:lnTo>
                    <a:pt x="27088" y="0"/>
                  </a:lnTo>
                  <a:lnTo>
                    <a:pt x="27088" y="21600"/>
                  </a:lnTo>
                  <a:lnTo>
                    <a:pt x="0" y="21600"/>
                  </a:lnTo>
                  <a:close/>
                </a:path>
                <a:path fill="lightenLess" w="27088" h="21600">
                  <a:moveTo>
                    <a:pt x="0" y="0"/>
                  </a:moveTo>
                  <a:lnTo>
                    <a:pt x="27088" y="0"/>
                  </a:lnTo>
                  <a:lnTo>
                    <a:pt x="25688" y="1400"/>
                  </a:lnTo>
                  <a:lnTo>
                    <a:pt x="1400" y="1400"/>
                  </a:lnTo>
                  <a:close/>
                </a:path>
                <a:path fill="darken" w="27088" h="21600">
                  <a:moveTo>
                    <a:pt x="27088" y="0"/>
                  </a:moveTo>
                  <a:lnTo>
                    <a:pt x="27088" y="21600"/>
                  </a:lnTo>
                  <a:lnTo>
                    <a:pt x="25688" y="20200"/>
                  </a:lnTo>
                  <a:lnTo>
                    <a:pt x="25688" y="1400"/>
                  </a:lnTo>
                  <a:close/>
                </a:path>
                <a:path fill="darkenLess" w="27088" h="21600">
                  <a:moveTo>
                    <a:pt x="27088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25688" y="20200"/>
                  </a:lnTo>
                  <a:close/>
                </a:path>
                <a:path fill="lighten" w="27088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27088" h="21600">
                  <a:moveTo>
                    <a:pt x="6537" y="3794"/>
                  </a:moveTo>
                  <a:lnTo>
                    <a:pt x="20550" y="10800"/>
                  </a:lnTo>
                  <a:lnTo>
                    <a:pt x="6537" y="17806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99ff"/>
                </a:solidFill>
                <a:latin typeface="Times New Roman"/>
              </a:endParaRPr>
            </a:p>
          </p:txBody>
        </p:sp>
      </p:grpSp>
    </p:spTree>
  </p:cSld>
  <p:transition spd="slow">
    <p:split dir="in" orient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1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3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1" nodeType="afterEffect" fill="hold" presetClass="entr" presetID="3" presetSubtype="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5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3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8050320" cy="47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Дело это –</a:t>
            </a:r>
            <a:r>
              <a:rPr b="1" i="1" lang="ru-RU" sz="3200" spc="-1" strike="noStrike">
                <a:solidFill>
                  <a:srgbClr val="3399ff"/>
                </a:solidFill>
                <a:latin typeface="Times New Roman"/>
              </a:rPr>
              <a:t> коллективное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, потому что 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совершается вместе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 – ребятами и старшими как их общая забот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 algn="just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Дело это – </a:t>
            </a:r>
            <a:r>
              <a:rPr b="1" i="1" lang="ru-RU" sz="3200" spc="-1" strike="noStrike">
                <a:solidFill>
                  <a:srgbClr val="3399ff"/>
                </a:solidFill>
                <a:latin typeface="Times New Roman"/>
              </a:rPr>
              <a:t>творческое коллективное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, потому что представляет собой 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совместный поиск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 лучших решений важной задачи, всегда выступает 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в разных вариантах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, всегда выявляет </a:t>
            </a:r>
            <a:r>
              <a:rPr b="0" lang="ru-RU" sz="3200" spc="-1" strike="noStrike" u="sng">
                <a:solidFill>
                  <a:srgbClr val="3399ff"/>
                </a:solidFill>
                <a:uFillTx/>
                <a:latin typeface="Times New Roman"/>
              </a:rPr>
              <a:t>новые возможности</a:t>
            </a: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5" dur="3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5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" dur="3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Суть каждого дела – забота о своем коллективе,друг о друге, об окружающих людях, о далеких друзьях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99ff"/>
                </a:solidFill>
                <a:latin typeface="Times New Roman"/>
              </a:rPr>
              <a:t>Коллективное творческое дело – это полнокровная жизнь старших и младших, воспитателей и воспитанников,это общая деятельность по улучшению окружающей жизн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  <p:sp>
        <p:nvSpPr>
          <p:cNvPr id="122" name="AutoShape 7"/>
          <p:cNvSpPr/>
          <p:nvPr/>
        </p:nvSpPr>
        <p:spPr>
          <a:xfrm>
            <a:off x="7956720" y="602136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nodeType="clickEffect" fill="hold">
                      <p:stCondLst>
                        <p:cond delay="0"/>
                      </p:stCondLst>
                      <p:childTnLst>
                        <p:par>
                          <p:cTn id="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3" dur="3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9700"/>
                            </p:stCondLst>
                            <p:childTnLst>
                              <p:par>
                                <p:cTn id="75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7" dur="3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7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УСЛОВИЯ УСПЕШНОГО ИСПОЛЬЗОВАНИЯ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1676520"/>
            <a:ext cx="7086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Times New Roman"/>
              </a:rPr>
              <a:t>Всемерное развитие отношений творческого содружества воспитателей и воспитанников как старших и младших товарищей по общей гражданской заботе;</a:t>
            </a: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Times New Roman"/>
              </a:rPr>
              <a:t>Всемерное развитие отношений творческого содружества между воспитанниками старших и младших поколений;</a:t>
            </a: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99ff"/>
                </a:solidFill>
                <a:latin typeface="Times New Roman"/>
              </a:rPr>
              <a:t>Всемерное развитие отношений творческого содружества между самими воспитателями как старшими товарищами воспитанников.</a:t>
            </a: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  <p:pic>
        <p:nvPicPr>
          <p:cNvPr id="125" name="Picture 4" descr="PE01562_"/>
          <p:cNvPicPr/>
          <p:nvPr/>
        </p:nvPicPr>
        <p:blipFill>
          <a:blip r:embed="rId1"/>
          <a:stretch/>
        </p:blipFill>
        <p:spPr>
          <a:xfrm>
            <a:off x="6705720" y="4267080"/>
            <a:ext cx="2209680" cy="219240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7"/>
          <p:cNvSpPr/>
          <p:nvPr/>
        </p:nvSpPr>
        <p:spPr>
          <a:xfrm>
            <a:off x="6477120" y="6095880"/>
            <a:ext cx="576000" cy="576360"/>
          </a:xfrm>
          <a:custGeom>
            <a:avLst/>
            <a:gdLst>
              <a:gd name="textAreaLeft" fmla="*/ 37080 w 576000"/>
              <a:gd name="textAreaRight" fmla="*/ 538920 w 576000"/>
              <a:gd name="textAreaTop" fmla="*/ 37080 h 576360"/>
              <a:gd name="textAreaBottom" fmla="*/ 539280 h 576360"/>
            </a:gdLst>
            <a:ahLst/>
            <a:rect l="textAreaLeft" t="textAreaTop" r="textAreaRight" b="textAreaBottom"/>
            <a:pathLst>
              <a:path w="21600" h="21613">
                <a:moveTo>
                  <a:pt x="0" y="0"/>
                </a:moveTo>
                <a:lnTo>
                  <a:pt x="21600" y="0"/>
                </a:lnTo>
                <a:lnTo>
                  <a:pt x="21600" y="21613"/>
                </a:lnTo>
                <a:lnTo>
                  <a:pt x="0" y="21613"/>
                </a:lnTo>
                <a:close/>
              </a:path>
              <a:path fill="lightenLess" w="21600" h="2161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13">
                <a:moveTo>
                  <a:pt x="21600" y="0"/>
                </a:moveTo>
                <a:lnTo>
                  <a:pt x="21600" y="21613"/>
                </a:lnTo>
                <a:lnTo>
                  <a:pt x="20200" y="20213"/>
                </a:lnTo>
                <a:lnTo>
                  <a:pt x="20200" y="1400"/>
                </a:lnTo>
                <a:close/>
              </a:path>
              <a:path fill="darkenLess" w="21600" h="21613">
                <a:moveTo>
                  <a:pt x="21600" y="21613"/>
                </a:moveTo>
                <a:lnTo>
                  <a:pt x="0" y="21613"/>
                </a:lnTo>
                <a:lnTo>
                  <a:pt x="1400" y="20213"/>
                </a:lnTo>
                <a:lnTo>
                  <a:pt x="20200" y="20213"/>
                </a:lnTo>
                <a:close/>
              </a:path>
              <a:path fill="lighten" w="21600" h="21613">
                <a:moveTo>
                  <a:pt x="0" y="21613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13"/>
                </a:lnTo>
                <a:close/>
              </a:path>
              <a:path fill="darken" w="21600" h="21613">
                <a:moveTo>
                  <a:pt x="3794" y="10807"/>
                </a:moveTo>
                <a:lnTo>
                  <a:pt x="17806" y="3800"/>
                </a:lnTo>
                <a:lnTo>
                  <a:pt x="17806" y="17813"/>
                </a:lnTo>
                <a:close/>
              </a:path>
            </a:pathLst>
          </a:custGeom>
          <a:solidFill>
            <a:srgbClr val="33ccff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nodeType="clickEffect" fill="hold">
                      <p:stCondLst>
                        <p:cond delay="0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75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5" dur="3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9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9" dur="3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3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2490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30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СТРУКТУРА ПРОВЕДЕНИЯ КТД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98400" y="1665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едварительная работа взрослых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Коллективное планирование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Стадия подготовки КТД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оведение КТД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Коллективное подведение итогов;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Стадия ближайшего последствия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0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75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nodeType="afterEffect" fill="hold">
                            <p:stCondLst>
                              <p:cond delay="2250"/>
                            </p:stCondLst>
                            <p:childTnLst>
                              <p:par>
                                <p:cTn id="12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5" dur="300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6450"/>
                            </p:stCondLst>
                            <p:childTnLst>
                              <p:par>
                                <p:cTn id="127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9" dur="300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350"/>
                            </p:stCondLst>
                            <p:childTnLst>
                              <p:par>
                                <p:cTn id="131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3" dur="300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14550"/>
                            </p:stCondLst>
                            <p:childTnLst>
                              <p:par>
                                <p:cTn id="135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37" dur="300"/>
                                        <p:tgtEl>
                                          <p:spTgt spid="1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18450"/>
                            </p:stCondLst>
                            <p:childTnLst>
                              <p:par>
                                <p:cTn id="139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1" dur="300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22650"/>
                            </p:stCondLst>
                            <p:childTnLst>
                              <p:par>
                                <p:cTn id="143" nodeType="afterEffect" fill="hold" presetClass="entr" presetID="3" presetSubtype="5">
                                  <p:stCondLst>
                                    <p:cond delay="300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5" dur="300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480" y="380880"/>
            <a:ext cx="7848720" cy="15242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Предварительная работа</a:t>
            </a:r>
            <a:br>
              <a:rPr sz="4400"/>
            </a:b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взрослых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80629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остановка цели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пределение места КТД в системе   других форм воспитательной работ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бдумывание вариантов проведения КТД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пределение исходных направляющих действий, необходимых для составления оптимального проект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506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3399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33cc"/>
                </a:solidFill>
                <a:latin typeface="Times New Roman"/>
              </a:rPr>
              <a:t>Коллективное планирование</a:t>
            </a:r>
            <a:endParaRPr b="0" lang="en-US" sz="4400" spc="-1" strike="noStrike">
              <a:solidFill>
                <a:srgbClr val="0033cc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Проведение стартовой беседы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Деление на микрогруппы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Работа в микрогруппах (обсуждение дела).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Общее обсуждение. Выработка единого вариант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33cc"/>
              </a:buClr>
              <a:buSzPct val="11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99ff"/>
                </a:solidFill>
                <a:latin typeface="Times New Roman"/>
              </a:rPr>
              <a:t>Выбор совета дела.</a:t>
            </a: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99ff"/>
              </a:solidFill>
              <a:latin typeface="Times New Roman"/>
            </a:endParaRPr>
          </a:p>
        </p:txBody>
      </p:sp>
    </p:spTree>
  </p:cSld>
  <p:transition spd="slow">
    <p:split dir="in" orient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13:42:46Z</dcterms:created>
  <dc:creator>User</dc:creator>
  <dc:description/>
  <dc:language>en-US</dc:language>
  <cp:lastModifiedBy>Lenovo</cp:lastModifiedBy>
  <dcterms:modified xsi:type="dcterms:W3CDTF">2016-02-08T14:33:18Z</dcterms:modified>
  <cp:revision>65</cp:revision>
  <dc:subject/>
  <dc:title>Презентация PowerPoint</dc:title>
</cp:coreProperties>
</file>