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17E2-18D4-4D21-B486-6F140BAC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77B2-24E3-4FA3-BE44-12ABC4CD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8928-C2C2-4811-B2F3-9CCDBA5EB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98AE-1CCF-4633-8ECC-926655566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1262-9B03-4CB4-8BF8-0FCB2919D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2ED1-FABB-4BC6-BCD1-C40A75BF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0484-95A5-4127-9F11-FF69C3B0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6479-BCAD-4416-B22A-F3F00281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C3D1-D4FE-4507-B414-CD0398FD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2C4C-2F0C-442C-9FB6-067DBBED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839D-A182-4FD1-8AFC-23A2125A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91BA-7AF4-4447-A192-2961F239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5597-0305-48A0-B7EF-37505BEB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5CAD-BBDA-40AF-B88D-C13B563F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83D3-6091-462D-9465-8AB8B0A5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CEB6-DD02-455F-B975-F2D4D7A36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7A07-753F-4E51-AB50-036646615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72B9-962B-43A7-A71E-E5B2A0FB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270A-DABF-4785-92CC-D1AF686A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04D2-6F1F-423C-BB9B-79C62B83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405C-0F57-4462-ABFB-4D0150A1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45A0-008A-4ADF-AC32-9D427F08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DEEB-BFA6-4310-A4E7-5172606C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C2C4-3535-4B09-B324-867822B5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3EEF-B9A5-4A84-B584-C181F4DC414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3058-E3A9-484A-AEF9-F4BDEDB5032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187280" y="2349360"/>
            <a:ext cx="748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ahoma"/>
              </a:rPr>
              <a:t>Тарелочка из глин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57960" y="4657680"/>
            <a:ext cx="267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Bookman Old Style"/>
              </a:rPr>
              <a:t>ГБОУ «Школа № 1376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Bookman Old Style"/>
              </a:rPr>
              <a:t>д/о №2, группа 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Bookman Old Style"/>
              </a:rPr>
              <a:t>Воспитате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Bookman Old Style"/>
              </a:rPr>
              <a:t>Загребаева С.В.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Bookman Old Style"/>
              </a:rPr>
              <a:t>Попова М.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116000" y="3645000"/>
            <a:ext cx="3276720" cy="2476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116000" y="333360"/>
            <a:ext cx="1657440" cy="1650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3780000" y="692280"/>
            <a:ext cx="1728720" cy="1689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6659640" y="404640"/>
            <a:ext cx="165744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11280" y="324000"/>
            <a:ext cx="843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Для придания блеска и большей прочности керамические издел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покрывают специальной глазурью и еще раз обжигают в печ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4032360" cy="403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788000" y="1989000"/>
            <a:ext cx="40320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547640" y="468360"/>
            <a:ext cx="685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Вот такая красивая посуда получается из гли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4105440" cy="2738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788000" y="1628640"/>
            <a:ext cx="4032000" cy="2737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195640" y="5118120"/>
            <a:ext cx="573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ahoma"/>
              </a:rPr>
              <a:t>СПАСИБО ЗА ВНИМАНИ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62440" y="366840"/>
            <a:ext cx="21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ПОСУ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бывает раз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2592360" cy="2341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276720" y="2136600"/>
            <a:ext cx="2808000" cy="2081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372360" y="62064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324000" y="3789360"/>
            <a:ext cx="2592360" cy="2286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6443640" y="3789360"/>
            <a:ext cx="2376360" cy="2376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78040" y="30862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БУМАЖ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04000" y="3086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ДЕРЕВЯ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80000" y="43099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СТЕКЛЯ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6640" y="61657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МЕТАЛЛ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01240" y="625320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ПЛАСТИК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987640" y="272880"/>
            <a:ext cx="359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Мы расскажем 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ГЛИНЯНОЙ ПОСУ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332000" y="1268280"/>
            <a:ext cx="65530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58920" y="781200"/>
            <a:ext cx="730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ookman Old Style"/>
              </a:rPr>
              <a:t>   </a:t>
            </a:r>
            <a:r>
              <a:rPr b="0" lang="en-US" sz="2000" spc="-1" strike="noStrike">
                <a:solidFill>
                  <a:srgbClr val="ffff00"/>
                </a:solidFill>
                <a:latin typeface="Bookman Old Style"/>
              </a:rPr>
              <a:t>Глина – природный материал. Она добывается из земли, обычно в тех местах, где когда-то проходили реки или в карьер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ookman Old Style"/>
              </a:rPr>
              <a:t>Глина бывает сухой и мокрой, разного цвета и с разными свойств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076720" y="3068640"/>
            <a:ext cx="3672000" cy="2449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55640" y="3068640"/>
            <a:ext cx="352908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403280" y="395280"/>
            <a:ext cx="718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Как люди научились дела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глиняную посуд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12320" y="1644480"/>
            <a:ext cx="8043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Много тысяч лет тому назад на Земле жили первобытные люд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Кто-то из них однажды заметил, что глина мягкая и податлива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из нее можно лепить. Попробовал древний человек слепить горш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Первая посуда была не такой красивой как сейчас, пропуска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воду и трескалас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627280" y="3213000"/>
            <a:ext cx="446400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26920" y="493560"/>
            <a:ext cx="8194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Прошло время и люди придумали специальное приспособл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для изготовления глиняной посуды. Называлось оно – гончарный кру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А чтобы посуда стала более прочной, стали обжигать ее в специальных печ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195640" y="2205000"/>
            <a:ext cx="504036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68360" y="189000"/>
            <a:ext cx="8958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Людей, которые занимались изготовлением глиняной посуд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стали называть гончарами. Гончар брал кусок глины, помеща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в центр круга и вращая его, придавал форму будущему горш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059280" y="1557360"/>
            <a:ext cx="33289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0920" y="395280"/>
            <a:ext cx="871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Шло время. Постепенно люди научились делать посуд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разной форм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300720" y="119700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755640" y="119700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2987640" y="4005360"/>
            <a:ext cx="3168720" cy="2111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36280" y="3492360"/>
            <a:ext cx="11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горш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59640" y="37162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04000" y="349236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кувш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6165720"/>
            <a:ext cx="15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тарел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50920" y="395280"/>
            <a:ext cx="889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Сейчас, чтобы глиняная посуда была прочной, ее обжигают на завод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в печи при очень высокой температуре. А чтобы изделия гончар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были еще и красивыми, их расписывают художники в мастерск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Глиняную посуду называют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КЕРАМИК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050920" y="2205000"/>
            <a:ext cx="511344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4T13:18:37Z</dcterms:created>
  <dc:creator>PC</dc:creator>
  <dc:description/>
  <dc:language>en-US</dc:language>
  <cp:lastModifiedBy>PC</cp:lastModifiedBy>
  <dcterms:modified xsi:type="dcterms:W3CDTF">2020-04-13T07:40:19Z</dcterms:modified>
  <cp:revision>4</cp:revision>
  <dc:subject/>
  <dc:title>Слайд 1</dc:title>
</cp:coreProperties>
</file>