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826-40E1-4DEF-8864-6269D74B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9B5-688E-4B36-83E4-4A307F43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6D1-A8AE-4259-A814-BA7E878F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19A-57F0-4BE1-B899-5475C8E8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412-AAD4-4013-B1AC-24FC31F1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BC6-F750-444F-A12B-802A74F2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B1F-EA81-4832-8459-4A2F5DC9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0E1-8E84-424F-855D-7E0094B9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B18-E07D-435B-890D-46D49244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25E-0AE2-446D-8508-941C5D6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EE7-F13A-4B45-873C-E0372FB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699-FEF5-4FC3-971B-89282CE1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E2CE2-977E-4E4B-BA7F-7D7A3AA859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263160"/>
            <a:ext cx="86090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Техника безопасности 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на уроках 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физической культуры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(легкая атлетика)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978080" y="2436480"/>
            <a:ext cx="4381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98600" y="3240000"/>
            <a:ext cx="4181400" cy="428616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t">
            <a:normAutofit fontScale="96000"/>
          </a:bodyPr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Требования безопасности перед началом занят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Требования безопасности во время занятий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Прыж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Мет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Требования безопасности по окончании занят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Требования безопасности в аварийных ситуация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Times New Roman"/>
              </a:rPr>
              <a:t>Интернет ресурс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840" y="249120"/>
            <a:ext cx="964404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ребования безопасности перед началом занятий</a:t>
            </a:r>
            <a:br>
              <a:rPr sz="1200"/>
            </a:br>
            <a:br>
              <a:rPr sz="1200"/>
            </a:br>
            <a:r>
              <a:rPr b="1" lang="ru-RU" sz="2200" spc="-1" strike="noStrike">
                <a:solidFill>
                  <a:srgbClr val="009900"/>
                </a:solidFill>
                <a:latin typeface="Arial"/>
              </a:rPr>
              <a:t>Учащийся должен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48000" y="1871640"/>
            <a:ext cx="7415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одеться в раздевалке, надеть на себя спортивную форму и обувь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ять с себя предметы, представляющие опасность для других занимающихся (часы, висячие сережки и т. д.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брать из карманов спортивной формы колющиеся и другие посторонние предме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руководством учителя подготовить инвентарь и оборудование, необходимые для проведения занят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брать в безопасное место инвентарь, который не будет использоваться на занят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руководством учителя инвентарь, необходимый для проведения занятий, переносить к месту занятий в специальных приспособлени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ереносить к месту занятий лопаты и грабли острием и зубьями ввер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распоряжению учителя убрать посторонние предметы с беговой дорожки, ямы для прыжков и т. д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команде учителя встать в строй для общего постр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52360" y="2303640"/>
            <a:ext cx="2266920" cy="194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331920" y="4940280"/>
            <a:ext cx="2116080" cy="189864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452160"/>
            <a:ext cx="860904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Требования безопасности во время занятий</a:t>
            </a:r>
            <a:br>
              <a:rPr sz="2800"/>
            </a:br>
            <a:br>
              <a:rPr sz="2800"/>
            </a:b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Учащийся должен:</a:t>
            </a:r>
            <a:r>
              <a:rPr b="1" lang="ru-RU" sz="2200" spc="-1" strike="noStrike">
                <a:solidFill>
                  <a:srgbClr val="00cc00"/>
                </a:solidFill>
                <a:latin typeface="Times New Roman"/>
              </a:rPr>
              <a:t> </a:t>
            </a:r>
            <a:br>
              <a:rPr sz="2800"/>
            </a:br>
            <a:br>
              <a:rPr sz="1200"/>
            </a:b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7280" y="2015640"/>
            <a:ext cx="619128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9000"/>
          </a:bodyPr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групповом старте на короткие дистанции бежать по своей дорож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 время бега смотреть на свою дорожку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ле выполнения беговых упражнений пробегать по инерции 5-15 м, чтобы бегущий сзади имел возможность закончить упражнени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звращаться на старт по крайней дорожке, при старте на дистанции не ставить подножки, не задерживать соперников рукам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беге на длинные дистанции обгонять бегущих с правой сторон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беге по пересеченной местности выполнять задание по трассе или маршруту, обозначенному учителе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полнять разминочный бег по крайней дорож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796080" y="2087640"/>
            <a:ext cx="3067200" cy="230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6767640" y="4746600"/>
            <a:ext cx="3095640" cy="230976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640" y="71280"/>
            <a:ext cx="86090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ЫЖКИ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7280" y="2101320"/>
            <a:ext cx="6336000" cy="53247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9900"/>
                </a:solidFill>
                <a:latin typeface="Times New Roman"/>
              </a:rPr>
              <a:t>Учащийся должен: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рабли класть зубьями вниз;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 выполнять прыжки на неровном и скользком грунте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ыполнять прыжки, когда учитель дал разрешение и в яме никого нет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ыполнять прыжки поочередно, не перебегать дорожку для разбега во время выполнения попытки другим учащимся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сле выполнения прыжка быстро освободить прыжковую яму и вернутся на свое место для выполнения следующей попытки с правой или левой стороны дорожки для разбег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31640" y="647640"/>
            <a:ext cx="9504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7826"/>
                </a:solidFill>
                <a:latin typeface="Times New Roman"/>
                <a:ea typeface="Arial Unicode MS"/>
              </a:rPr>
              <a:t>Песок в яме для приземления должен быть влажным, хорошо взрыхленным, а его поверхность должна находиться на одном уровне с поверхностью дорожки для разбега. Перед выполнением прыжков необходимо убрать из ямы грабли, лопаты и другие посторонние предметы.</a:t>
            </a:r>
            <a:br>
              <a:rPr sz="1800"/>
            </a:br>
            <a:r>
              <a:rPr b="0" lang="ru-RU" sz="1800" spc="-1" strike="noStrike">
                <a:solidFill>
                  <a:srgbClr val="007826"/>
                </a:solidFill>
                <a:latin typeface="Times New Roman"/>
                <a:ea typeface="Arial Unicode MS"/>
              </a:rPr>
              <a:t>Техника прыжка должна соответствовать учебной программе и обеспечить приземление учащегося на н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1782720" cy="2347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503280" y="3720960"/>
            <a:ext cx="302400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503280" y="5735520"/>
            <a:ext cx="2314440" cy="177192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ЕТАНИЕ</a:t>
            </a:r>
            <a:br>
              <a:rPr sz="28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Необходимо быть внимательным при упражнениях в метании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5640" y="1800360"/>
            <a:ext cx="633564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0" lang="ru-RU" sz="2000" spc="-1" strike="noStrike">
                <a:solidFill>
                  <a:srgbClr val="009933"/>
                </a:solidFill>
                <a:latin typeface="Times New Roman"/>
              </a:rPr>
              <a:t>Учащийся должен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 метанием убедиться, что в направлении броска никого 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ять выпуск снаряда способом, исключающим сры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групповом метании стоять с левой стороны от метающ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ырую погоду насухо вытирать руки и снаря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ходясь вблизи зоны метания, следить за тем, чтобы выполняющий бросок был в поле зрения, не поворачиваться к нему спиной, не пересекать зону метаний бегом или прыж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броска идти за снарядом только с разрешения учителя, не производить произвольных мет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3804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метании в цель предусмотреть зону безопасности при отскоке снаряда от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</a:rPr>
              <a:t>Не передавайте снаряд друг другу броском. Не метайте снаряд в не оборудованных для этого местах.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7710480" y="3887640"/>
            <a:ext cx="2225520" cy="35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6796080" y="2120760"/>
            <a:ext cx="3211560" cy="234324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280" y="555480"/>
            <a:ext cx="943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ребования безопасности по окончании занятий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32000" y="2101320"/>
            <a:ext cx="5832360" cy="5170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888840" indent="-550800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 руководством учителя убрать спортивный инвентарь в места его хран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рганизованно покинуть место проведения занят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еодеться в раздевалке, снять спортивный костюм и спортивную обувь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8840" indent="-550800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мыть с мылом ру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5"/>
          <a:stretch/>
        </p:blipFill>
        <p:spPr>
          <a:xfrm>
            <a:off x="534960" y="2054160"/>
            <a:ext cx="3281400" cy="240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6"/>
          <a:stretch/>
        </p:blipFill>
        <p:spPr>
          <a:xfrm>
            <a:off x="550800" y="4535640"/>
            <a:ext cx="3194280" cy="276192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Требования безопасности в аварийных ситуациях</a:t>
            </a:r>
            <a:br>
              <a:rPr sz="1200"/>
            </a:b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5760" y="2049480"/>
            <a:ext cx="655164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1" lang="ru-RU" sz="2200" spc="-1" strike="noStrike">
                <a:solidFill>
                  <a:srgbClr val="009933"/>
                </a:solidFill>
                <a:latin typeface="Times New Roman"/>
              </a:rPr>
              <a:t>Учащийся должен:</a:t>
            </a:r>
            <a:r>
              <a:rPr b="0" lang="ru-RU" sz="2200" spc="-1" strike="noStrike">
                <a:solidFill>
                  <a:srgbClr val="0099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получении травмы или ухудшении самочувствия прекратить занятия и поставить в известность учителя физкультур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помощью учителя оказать травмированному первую медицинскую помощь, при необходимости доставить его в больницу или вызвать «скорую помощь»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возникновении пожара в спортзале немедленно прекратить занятие, организованно, под руководством учителя покинуть место проведения занятия через запасные выходы согласно плану эвакуа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распоряжению учителя поставить в известность администрацию учебного заведения и сообщить о пожаре в пожарную ча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7056360" y="460692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7056360" y="2303640"/>
            <a:ext cx="2739960" cy="208728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14:56:28Z</dcterms:created>
  <dc:creator>Екатерина Тунтуева</dc:creator>
  <dc:description/>
  <dc:language>en-US</dc:language>
  <cp:lastModifiedBy>Админ</cp:lastModifiedBy>
  <cp:lastPrinted>2013-10-13T20:33:03Z</cp:lastPrinted>
  <dcterms:modified xsi:type="dcterms:W3CDTF">2020-04-13T06:56:26Z</dcterms:modified>
  <cp:revision>6</cp:revision>
  <dc:subject/>
  <dc:title>Техника безопасности  на уроках  физической культуры (легкая атлетика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50000000000010243100207f6000400038000</vt:lpwstr>
  </property>
</Properties>
</file>