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0E1-F139-4876-8832-D71D5F47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6C1-D159-4398-A304-7F5775C1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1B1-A6A4-4816-9527-853FF442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214-AF95-4FB9-B4AE-B1217DE9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4A5-5BCE-497B-B30E-19AD5E10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44C-D9E7-4464-BCE3-BFDC2EC5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4C8-8250-4151-9854-C9055AF6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377-88A0-40E0-97DC-2502288D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8F5-990A-426F-9B16-46B19B27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8BB-2878-461F-A294-576D7BE2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37F-4D64-404A-9266-1BBF7365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4DC-11D3-43F8-9A47-6BE1E625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3431-8528-4FB8-889F-1A2F054B6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: «АТЕЛЬЕ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ширить  представление детей о труде работников ателье и результатах их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Швея в крупную компанию — Воронеж — Доска объявлений Камелот"/>
          <p:cNvPicPr/>
          <p:nvPr/>
        </p:nvPicPr>
        <p:blipFill>
          <a:blip r:embed="rId1"/>
          <a:stretch/>
        </p:blipFill>
        <p:spPr>
          <a:xfrm>
            <a:off x="1258920" y="1557360"/>
            <a:ext cx="6480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ъясни значение послов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мь раз отмерь – один отре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7676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8836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99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гра «Хлопай – топа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Цель. Обогатить и расширить словарь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звивать внимание, мышление, пам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й: «Я буду называть разные слова, а ты если услышишь слово, подходящее для профессии швеи - хлопай, если слово не подходит, то топ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: швея, шьет, варит, пришивает, напёрсток, сковорода, малина, зашивает, нитки, кастрюля, ножницы, швейная машина, мел, жарить, выкройка, ткань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пражнени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з чего какой?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Цел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чить детей образовывать прилагательны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. Плащ из кожи – кожаный пла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тье из шелка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тболка из трикотажа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узка из льна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юм из шерсти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нт из капрона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режки из пуха - …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фта из синтетики -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юбка из сатина -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башка из ситца -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онспект занятия в детском саду во 2 младшей группе. одежда - Педагог"/>
          <p:cNvPicPr/>
          <p:nvPr/>
        </p:nvPicPr>
        <p:blipFill>
          <a:blip r:embed="rId1"/>
          <a:stretch/>
        </p:blipFill>
        <p:spPr>
          <a:xfrm>
            <a:off x="4067280" y="2682720"/>
            <a:ext cx="50767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пражнение «Назови ласко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Цел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бразование существительных с уменьшительно-ласкательными суффик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бразец ответ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гла – иг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варь: наперст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тка, пугов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л, кноп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жницы, катуш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ла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Шить инструменты и швейный набор, шить оборудование, игла, швейная ..."/>
          <p:cNvPicPr/>
          <p:nvPr/>
        </p:nvPicPr>
        <p:blipFill>
          <a:blip r:embed="rId1"/>
          <a:stretch/>
        </p:blipFill>
        <p:spPr>
          <a:xfrm>
            <a:off x="3564000" y="2720880"/>
            <a:ext cx="55800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льчиковая гимнастика «Наперсток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3394080"/>
                <a:gridCol w="4835520"/>
              </a:tblGrid>
              <a:tr h="34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шивает, шьет иго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цу больно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цу колк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наперс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т же ми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девочке на пальчик прыг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 иголке:  «Ше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колоться ты не сме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Куль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евая ладошка раскрыта, в правой руке - воображаемая иголка, иголка “шьет” и задевает кончик указательного пальца на левой руке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ети надевают на указательный палец левой руки наперсто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ети надевают на указательный палец левой руки наперсток. “Шьют”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Наперсток с дном 36 4005 никель KOH-I-NOOR №3 d 14 5мм купить в ..."/>
          <p:cNvPicPr/>
          <p:nvPr/>
        </p:nvPicPr>
        <p:blipFill>
          <a:blip r:embed="rId1"/>
          <a:stretch/>
        </p:blipFill>
        <p:spPr>
          <a:xfrm>
            <a:off x="684360" y="260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и швея измерения манекен, Стоковые Фотографии и Роялти-Фри ..."/>
          <p:cNvPicPr/>
          <p:nvPr/>
        </p:nvPicPr>
        <p:blipFill>
          <a:blip r:embed="rId2"/>
          <a:stretch/>
        </p:blipFill>
        <p:spPr>
          <a:xfrm>
            <a:off x="5648400" y="4527720"/>
            <a:ext cx="34956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гра «Четвертый лишний»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ь. Развитие словесно-логического мышления, умения классифицировать, обобщать. Развитие монологической и диалогической речи.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и, что лишнее и объясни поч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80360" cy="2155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4410000"/>
            <a:ext cx="828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642160" cy="2497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864216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2406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84247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учи  потеш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ы, портной, такой умелый!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шей для куклы фартук бел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сама бы сшить могла,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пока еще м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Швеи чудо-мастерицы... Цикл стихов для детей (Натали Самоний ..."/>
          <p:cNvPicPr/>
          <p:nvPr/>
        </p:nvPicPr>
        <p:blipFill>
          <a:blip r:embed="rId1"/>
          <a:stretch/>
        </p:blipFill>
        <p:spPr>
          <a:xfrm>
            <a:off x="5508720" y="3500280"/>
            <a:ext cx="33112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2T18:30:14Z</dcterms:created>
  <dc:creator>Admin</dc:creator>
  <dc:description/>
  <dc:language>en-US</dc:language>
  <cp:lastModifiedBy>Admin</cp:lastModifiedBy>
  <dcterms:modified xsi:type="dcterms:W3CDTF">2020-04-12T22:50:00Z</dcterms:modified>
  <cp:revision>4</cp:revision>
  <dc:subject/>
  <dc:title>Слайд 1</dc:title>
</cp:coreProperties>
</file>