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C3B-2C10-41E8-85F5-635893D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D8F-4282-42E1-8F00-81F5AFE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0BD-D1F8-47D9-9E0D-423228B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B3F-7546-4C11-B3E4-A11F21C8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BC4-80CD-4FC4-9BA1-1EE6AF69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0A7A-24F6-415A-A364-75EA830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1749-B4F2-463B-A073-A64B95A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1EB6-BA93-453A-96F5-B109079B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56E6-907B-44FF-B353-A70FCD51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4072-B503-4CC4-AAA0-DAB62B62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49E0-7813-4C1C-9AAD-511493A6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61A-37AB-4986-B98C-948C2D03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F36B-9253-470E-B681-5E98BE3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A2CE-81AD-4A44-8405-C0BA276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688-175E-470A-99E6-9115714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61A0-57C8-47D0-B7E7-618C1D69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058-0A0A-4D60-99B4-40EAA6C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BDCA-E1E8-495B-BBEA-0968E444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B2A6-C1DB-4DA2-86CD-4064E38E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C9DE-1DF9-47BD-9774-D34BD8E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E288-21B7-4D99-B182-45AA8F0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76EC-2C62-4BCE-A7CD-B798E5F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3C8-666E-4F4C-BF6A-8131AC30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A3DE-6FC8-4952-B91D-929FD306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7A2C-5352-4248-A7CC-764A930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E447-6755-4D40-AA07-E122B78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EDE6-9F92-481F-9932-FEBBA16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1160-85F8-4BAA-9C84-C1A0271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3E17-2DFA-4EF1-ABD8-5062551B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5661-7C14-476D-B4CA-697D5800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1295-DA17-42CA-A966-13A5605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8329-D41C-4C59-99DA-FF0F2401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1757-0D13-482B-9CDE-DC64530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036-7640-4FA4-84CD-2D06BD49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E48B-62E9-4387-937D-881145D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16CBF-F70A-47A6-9678-B1E8567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4E3A-7F9F-4425-BA3F-92833B7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286B-80DF-4F16-BC07-F1D3B93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F682-F140-42F9-8000-2C8B8D5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A95B-A3B9-4490-A8C1-902652F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C3D7-C5F8-4029-B52E-852739D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3B25-8344-41A1-99F7-B3844732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9607-FC47-4C70-B55A-81B6355F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369-430F-45B5-B904-88B6E2A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1F1-F044-459E-AE63-4207B52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C36-A72A-4DEB-B8F0-E89E628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EA6-97C9-40EA-9CC8-365D2DE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E74-B29E-4BEE-B3A9-3B3052D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B448-912E-4A97-85BC-A76FDA72947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6589-8ABB-4C17-A1C1-9D4441D0F7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9B2E-9079-4DC2-887E-2A023B4A87D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3D3-ACFC-470E-8A8A-C5A48A7018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240" y="692280"/>
            <a:ext cx="10779120" cy="31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Урок в 6 классе на тему: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«Употребление наклонений глагола в речи»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26680"/>
            <a:ext cx="96012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Эпиграф к уроку: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71560" y="1995480"/>
            <a:ext cx="536256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«Глагол придает речи жизнь, - присутствием своим животворяет отдельные слова»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404040"/>
                </a:solidFill>
                <a:latin typeface="Trebuchet MS"/>
              </a:rPr>
              <a:t>Н. Греч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Объект 6" descr=""/>
          <p:cNvPicPr/>
          <p:nvPr/>
        </p:nvPicPr>
        <p:blipFill>
          <a:blip r:embed="rId1"/>
          <a:stretch/>
        </p:blipFill>
        <p:spPr>
          <a:xfrm>
            <a:off x="6761160" y="2411280"/>
            <a:ext cx="413532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опросы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880" y="1260360"/>
            <a:ext cx="9755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– часть речи, которая обозначает действие предмета и отвечает на вопросы «Что делать?», «Что сделать?»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форма глагола указывает на время и число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имеет два наклонения: изъявительное и повелительно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 в изъявительном наклонении изменяется по временам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в повелительном наклонении выражают пожелание, просьбу, совет или приказ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» с глаголами всегда пишется слитно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твет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441080"/>
            <a:ext cx="859644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706320"/>
            <a:ext cx="8596440" cy="9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пишите предложения, объясните знаки препинания и орфограммы. Определите наклонение глаголов.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703160"/>
            <a:ext cx="85964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Услышь меня, моя деревня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Любите книгу – источник знаний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Ах, лето красное! Любил бы я тебя, когда б не зной, да пыль, да комары, да мухи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олицетворения. Объясните их роль в тексте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1929960"/>
            <a:ext cx="85964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елкий грибной дождь сонно сыплется из низких туч. Он не звенит, а шепчет что-то своё, усыпительное и чуть заметно возится в куста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се зашевелилось, проснулось, запело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речка эта по лугам и склонам летит, журчит, смеется, как ребенок, звенит, лопочет, скачет по камням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ыпишите из пословиц глаголы, вставьте пропущенные буквы, объясните орфограммы: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758600"/>
            <a:ext cx="859644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..шь – не ворот..шь, напиш..шь – не сотрёшь, отруб..шь – не пристав..шь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7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выпуст..шь – так и вилами не втащ..шь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7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помож..т в труде, выруч..т в бед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7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книга тысячи людей уч..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7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книга ярче звёздочки сия..т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17:40:38Z</dcterms:created>
  <dc:creator>Людмила Викторовна</dc:creator>
  <dc:description/>
  <dc:language>en-US</dc:language>
  <cp:lastModifiedBy>Админ</cp:lastModifiedBy>
  <dcterms:modified xsi:type="dcterms:W3CDTF">2020-04-13T09:43:41Z</dcterms:modified>
  <cp:revision>8</cp:revision>
  <dc:subject/>
  <dc:title>Урок в 6 классе на тему:   «Употребление наклонений глагола в речи»</dc:title>
</cp:coreProperties>
</file>