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3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5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A81-9C23-491F-8D39-25106239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86E-A087-450D-9412-FC646F0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0C824-D2C5-496C-AC03-D37687A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179E4-1F92-4565-B2B5-25DB683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E2897-50BF-4955-A9A8-A9ACBAFE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736D5-1766-44D8-BA05-7D8C82F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0292F-F36B-4999-A63F-BA8F102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830A6-2B7B-4ED3-BF37-51FE028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FFB09-1473-493C-84EA-FE33ACBF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309F8-D5B9-426F-8ADD-E7F17274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DDB43-70B5-4157-9C6B-10FCEBBC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FC4C9-4699-4B1D-B13F-513D810B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92D-CA1A-4C67-9966-7D4A329B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A4F9F-CF94-49E5-A478-118BBB8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E6A3-4AD0-4E13-9466-6060D446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E1517-714D-4D8A-ACBC-F7CE316E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574A5-AD32-4EA3-B791-FF19D2DA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C8822-0A58-421A-AB3B-94577F66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3CCD-AC76-423F-90ED-EC6D199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9DA90-1BBB-4D63-9601-BF4D9EF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932A7-0703-41EE-B14E-27FD46B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38E3B-626F-4A14-BFC6-C2D1026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5C00D-8CD6-418F-B6AC-29D8313D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A1B-5B5F-467D-AC45-A529E194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2B5BC-6BC2-4CC9-902F-2EC755FF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3A8E-D065-4A12-B352-50427ACF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602-A369-43F4-80AB-E1897FBC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645B-F10F-45DD-8F5A-F5E5507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2F57-1260-45D3-8181-947F08A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FA2F-E276-404B-A67E-736DA21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9EDA-A4AA-444E-8140-D9E3A16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97C9-D0BF-4822-9F54-59DD727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781-6C7B-431D-AE18-B1A8C19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EDED-7BC5-41F9-A4F1-C8E01DE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3888-20FB-48F6-804B-0DF1C08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97D-6930-4463-B0FD-1FC02A6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2B7C-D9EB-4031-BD31-0219FDF0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F8A-149C-4B75-8277-2005999F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D6E3-3C10-4354-94B8-65688C39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0B51-1C15-4458-8B5D-1E32227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5753A-CA3E-482D-8F7B-9D9F2027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E0DE-22AB-43C2-AB4B-2E8BA0F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C5BF-4FC3-432A-85B5-615130F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52D-5926-49F0-86E8-94D729A9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413F-66D2-4ABD-A0E5-D770F43F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CFD0-F4C4-4F48-BE58-91938FB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4899-9505-4D04-AFE0-4F58AC7A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7532-940D-46BD-B0B0-94385D8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5070-E31F-427C-AD4E-2AB77BB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73B8-D009-4E97-A55A-7152DC9F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F6D3-F10F-4DA9-AE3E-73B26399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8177-4A69-40B6-8E48-3F2EC975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AB61-AAE9-4E71-839D-0C4B187C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1746-0456-42E7-990D-15E0CAA2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C5E-4799-49F3-9F30-3428B7D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3D2A-C24B-43C7-B4AC-81836F69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A4C1-8B8B-434D-A7CC-901CA98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EBBB-F756-40AF-8B66-4433400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D2BF3-C50A-4C34-949E-BA57704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8FF7-7728-4E07-8854-4A884FC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5EA3-BC44-43C3-8D19-2DE6446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42B8-D55B-4CAD-A6C4-1EB3EBBE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4A21-8AD7-44B8-8683-43A3CDB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7EE4-6AA1-4CA9-8B15-3145847C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2A69-5229-4227-97BB-7C0EFB38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557-57C0-43B3-BA3B-66391B2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4E0A-6F6C-4F7C-8DDE-EF8E9CDE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376F-027C-4CFA-9B5E-6C941369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7D15-94EB-4BB6-A351-3CCD949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B099-5E97-43AE-B7B5-5EC36D6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97EA-B309-4BD5-B4F3-758C7BE6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63D1-2E1B-4D5A-903A-4009F12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6AF6-4559-4731-990A-7045D21F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555F-503C-4BE7-A15D-1F87279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076E-DCA9-4EB0-BB93-8EACF9DC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1936-E338-4558-BFE2-1C1314B4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074-B780-43B9-965C-2DA5DBE3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B0AA2-629B-4D3D-8A40-D29C809E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B4CD-2A4E-4F53-B100-2F13E346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8C67-D8B6-41CF-87E8-522A541B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D9C27-A989-4621-ADC8-5426D68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B2CF-1FD3-4237-A99D-89954E6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2E2B-0704-46D9-8407-C37CBDB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D068-8F94-4B64-8300-766A6A7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F3A0-97DF-4343-AF59-823B8FE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55A5F-65CE-424A-A1EA-6EA5883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E160-04FD-4775-B4C2-CAF3B74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9E1-A53E-4CB5-A60D-E5D81DC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B503-E677-4322-9EDB-28A902D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0EDD-2F42-4A97-B022-36DF9934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69D7-6185-4DF0-B75C-0A35DBB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65C5-D703-45B3-B61C-FB9E119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3B34E-BF2F-4E4B-8C41-F8E2C606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74B4A-3DC4-4079-BC5A-63A6C2E8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7EC1-004E-43A7-B658-53B39EDC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3CB9-B5B0-4EC2-B96A-52A58C30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8FA91-1D75-4A0B-9ABD-07CE5F3E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1133D-1EC8-4405-9480-E1517BE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023-8F1F-4686-A528-997F128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1E577-C5D7-4B1C-87C2-477314A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3B95-1769-41C3-9EEE-53203729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43AE-7E23-4A5A-ADD9-0B583CA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9F4F8-877D-458C-9FA7-AA6A599F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B5E5-01B3-41F2-A3A0-338917EF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5F77-7862-4A61-A7B1-A775EB57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5644-3DA6-46F7-A640-D4A937B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FE15-8C58-4411-85C0-03A01675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50930-F3D3-493C-93E4-015016C3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E54D2-69B0-4567-9094-B8BCFB90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C89-C832-449B-93F7-80F1CB43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B929-0555-4AD0-B4F3-2C6F19EB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B2315-D4BE-46C6-9B4D-F1959A1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AD5B-B2C3-4E48-9971-C702189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68E27-3A7D-4655-A521-BADF65C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B533-0BA9-4D65-8169-8B39C16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0FCCC-72E9-4AB1-9572-E717FD0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70C8F-4CF5-4B7D-B125-68218495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CA9C-3B89-40B9-B573-77E4266A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B730-6ABD-4AA9-A960-4F0793E0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737C0-7B06-4574-966D-D47B80F5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F5DC-C9EC-4DE5-BB50-EB044729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D4A1-E91F-4033-875D-9C32908381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0FB-3082-4CCA-922B-6CCAEF3A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43C8-CF2F-4374-907B-706FE7690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773-C3B6-4C2F-959A-167CC97F4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BB88-D363-4DB1-98F6-BC44C9E6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D17B-8C8C-4A58-9CB6-8C5A8BBC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44F-04E0-4F5D-8D2D-86F0F225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BD38-A8FC-42CA-9783-1E06BB53D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0FA0-5221-43A3-95FA-7DF1EE9E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pn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Georgia"/>
              </a:rPr>
              <a:t>ВИТАМИН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2" name="Рисунок 3" descr="витамины.jpg"/>
          <p:cNvPicPr/>
          <p:nvPr/>
        </p:nvPicPr>
        <p:blipFill>
          <a:blip r:embed="rId1"/>
          <a:stretch/>
        </p:blipFill>
        <p:spPr>
          <a:xfrm>
            <a:off x="5572080" y="28584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500040" y="1428840"/>
            <a:ext cx="410544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b2-1"/>
          <p:cNvPicPr/>
          <p:nvPr/>
        </p:nvPicPr>
        <p:blipFill>
          <a:blip r:embed="rId1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4d4d4d"/>
            </a:solidFill>
            <a:miter/>
          </a:ln>
        </p:spPr>
      </p:pic>
      <p:pic>
        <p:nvPicPr>
          <p:cNvPr id="457" name="Picture 10" descr="b2-2"/>
          <p:cNvPicPr/>
          <p:nvPr/>
        </p:nvPicPr>
        <p:blipFill>
          <a:blip r:embed="rId2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58" name="Picture 11" descr="ы"/>
          <p:cNvPicPr/>
          <p:nvPr/>
        </p:nvPicPr>
        <p:blipFill>
          <a:blip r:embed="rId3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b5-1"/>
          <p:cNvPicPr/>
          <p:nvPr/>
        </p:nvPicPr>
        <p:blipFill>
          <a:blip r:embed="rId1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66" name="Picture 10" descr="drossi"/>
          <p:cNvPicPr/>
          <p:nvPr/>
        </p:nvPicPr>
        <p:blipFill>
          <a:blip r:embed="rId2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9" descr="b6-3"/>
          <p:cNvPicPr/>
          <p:nvPr/>
        </p:nvPicPr>
        <p:blipFill>
          <a:blip r:embed="rId1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474" name="Picture 10" descr="ovohi"/>
          <p:cNvPicPr/>
          <p:nvPr/>
        </p:nvPicPr>
        <p:blipFill>
          <a:blip r:embed="rId2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75" name="Picture 11" descr="Pp4371i"/>
          <p:cNvPicPr/>
          <p:nvPr/>
        </p:nvPicPr>
        <p:blipFill>
          <a:blip r:embed="rId3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9" descr="apricot"/>
          <p:cNvPicPr/>
          <p:nvPr/>
        </p:nvPicPr>
        <p:blipFill>
          <a:blip r:embed="rId1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483" name="Picture 10" descr="________________________2-116-17"/>
          <p:cNvPicPr/>
          <p:nvPr/>
        </p:nvPicPr>
        <p:blipFill>
          <a:blip r:embed="rId2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484" name="Picture 11" descr="F4372i"/>
          <p:cNvPicPr/>
          <p:nvPr/>
        </p:nvPicPr>
        <p:blipFill>
          <a:blip r:embed="rId3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i?id=59345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92" name="Picture 10" descr="arachis_hypogaea"/>
          <p:cNvPicPr/>
          <p:nvPr/>
        </p:nvPicPr>
        <p:blipFill>
          <a:blip r:embed="rId3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493" name="Picture 11" descr="Pn4367i"/>
          <p:cNvPicPr/>
          <p:nvPr/>
        </p:nvPicPr>
        <p:blipFill>
          <a:blip r:embed="rId4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2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производство аминокислот и жирных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ы: внутренние органы животных, мясо, рыб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йца, твороги и сыры, образуется при помощи кишечных бакте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хватка: анемия, дегенерация слизистой кишечника, неврал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иска: вегетарианцы, старики, язвен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E:\Креатив\Текущие проекты\Интернет ресурс primefc.ru\Сайт primefc.ru\Диетология и правильное питание\Катинки витамины\vitamin 1.jpg"/>
          <p:cNvPicPr/>
          <p:nvPr/>
        </p:nvPicPr>
        <p:blipFill>
          <a:blip r:embed="rId1"/>
          <a:stretch/>
        </p:blipFill>
        <p:spPr>
          <a:xfrm>
            <a:off x="3643200" y="4500720"/>
            <a:ext cx="381024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5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9" descr="i?id=569851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04" name="Picture 10" descr="i?id=12431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505" name="Picture 11" descr="Pb4378i"/>
          <p:cNvPicPr/>
          <p:nvPr/>
        </p:nvPicPr>
        <p:blipFill>
          <a:blip r:embed="rId5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Обеспечение организма витаминами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7" name="Picture 2" descr="E:\Креатив\Текущие проекты\Интернет ресурс primefc.ru\Сайт primefc.ru\Диетология и правильное питание\Катинки витамины\353.jpg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vit 24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510" name="Picture 4" descr="vitamine_01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11" name="Picture 5" descr="vitd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512" name="Picture 6" descr="i?id=25132816"/>
          <p:cNvPicPr/>
          <p:nvPr/>
        </p:nvPicPr>
        <p:blipFill>
          <a:blip r:embed="rId4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i?id=16346845"/>
          <p:cNvPicPr/>
          <p:nvPr/>
        </p:nvPicPr>
        <p:blipFill>
          <a:blip r:embed="rId5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14" name="Picture 8" descr="i?id=30408046"/>
          <p:cNvPicPr/>
          <p:nvPr/>
        </p:nvPicPr>
        <p:blipFill>
          <a:blip r:embed="rId6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5" name="Picture 9" descr="image_alvityl2"/>
          <p:cNvPicPr/>
          <p:nvPr/>
        </p:nvPicPr>
        <p:blipFill>
          <a:blip r:embed="rId7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516" name="Picture 10" descr="vit_big"/>
          <p:cNvPicPr/>
          <p:nvPr/>
        </p:nvPicPr>
        <p:blipFill>
          <a:blip r:embed="rId8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7" name="Picture 11" descr="multi_vitamin_uvlogh_licho"/>
          <p:cNvPicPr/>
          <p:nvPr/>
        </p:nvPicPr>
        <p:blipFill>
          <a:blip r:embed="rId9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8" name="Picture 12" descr="vit 10"/>
          <p:cNvPicPr/>
          <p:nvPr/>
        </p:nvPicPr>
        <p:blipFill>
          <a:blip r:embed="rId10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9" name="Picture 13" descr="i?id=33618965"/>
          <p:cNvPicPr/>
          <p:nvPr/>
        </p:nvPicPr>
        <p:blipFill>
          <a:blip r:embed="rId11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2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fruits1i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524" name="Picture 6" descr="D2EE5B2E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525" name="Picture 7" descr="D84FE241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133720" y="762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00040" y="1071720"/>
            <a:ext cx="8143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вещества, ответственные за правильное функционирование человеческого организма.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Человек не способен производить их, или производит их в недостаточном коли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4108"/>
                </a:solidFill>
                <a:latin typeface="Times New Roman"/>
              </a:rPr>
              <a:t>Мы получаем витамины из пищи.</a:t>
            </a:r>
            <a:br>
              <a:rPr sz="2400"/>
            </a:b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Витамины делятся на водорастворимые и на жирорастворимые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685800" y="0"/>
            <a:ext cx="1905120" cy="1071720"/>
          </a:xfrm>
          <a:prstGeom prst="cloudCallout">
            <a:avLst>
              <a:gd name="adj1" fmla="val 94916"/>
              <a:gd name="adj2" fmla="val 42425"/>
            </a:avLst>
          </a:prstGeom>
          <a:gradFill rotWithShape="0">
            <a:gsLst>
              <a:gs pos="0">
                <a:srgbClr val="ff6699"/>
              </a:gs>
              <a:gs pos="100000">
                <a:srgbClr val="f841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85800" y="285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мы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7"/>
          <p:cNvSpPr txBox="1"/>
          <p:nvPr/>
        </p:nvSpPr>
        <p:spPr>
          <a:xfrm>
            <a:off x="3857760" y="0"/>
            <a:ext cx="48574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Витам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4143240" y="28576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E:\Креатив\Текущие проекты\Интернет ресурс primefc.ru\Сайт primefc.ru\Диетология и правильное питание\Катинки витамины\vitamin.jpg"/>
          <p:cNvPicPr/>
          <p:nvPr/>
        </p:nvPicPr>
        <p:blipFill>
          <a:blip r:embed="rId1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E:\Креатив\Текущие проекты\Интернет ресурс primefc.ru\Сайт primefc.ru\Диетология и правильное питание\Катинки витамины\big_4472.jpg"/>
          <p:cNvPicPr/>
          <p:nvPr/>
        </p:nvPicPr>
        <p:blipFill>
          <a:blip r:embed="rId2"/>
          <a:stretch/>
        </p:blipFill>
        <p:spPr>
          <a:xfrm>
            <a:off x="857160" y="4572000"/>
            <a:ext cx="314352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0" y="765000"/>
          <a:ext cx="9144000" cy="61120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5480" y="1599840"/>
            <a:ext cx="44290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ичный желток, морковь, рыбий жир, сметана, молоко,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ная боль, токсичен для печени, истончает волосы, шелушение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785840" y="157176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ие зрения, восстановление кожного покрова, укрепление волос, регенерация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зрения, куриная(ночная) слепота, кожны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http://s50.radikal.ru/i130/0906/28/87707f873168.jpg"/>
          <p:cNvPicPr/>
          <p:nvPr/>
        </p:nvPicPr>
        <p:blipFill>
          <a:blip r:embed="rId1"/>
          <a:stretch/>
        </p:blipFill>
        <p:spPr>
          <a:xfrm>
            <a:off x="6357960" y="142920"/>
            <a:ext cx="221472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D,D1,D2 </a:t>
            </a: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кальциферо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ий жир, сметана, печень, яичный жел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52640" y="1600200"/>
            <a:ext cx="4033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клеток лимфы, усвоение кальция и фосфора в 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хитизм, понижение мышечного тон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6760" y="2857680"/>
            <a:ext cx="403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кальцемия, накопление кальция в почках, сердце, сосудах и суст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E:\Креатив\Текущие проекты\Интернет ресурс primefc.ru\Сайт primefc.ru\Диетология и правильное питание\Катинки витамины\vitamins2212.jpg"/>
          <p:cNvPicPr/>
          <p:nvPr/>
        </p:nvPicPr>
        <p:blipFill>
          <a:blip r:embed="rId1"/>
          <a:stretch/>
        </p:blipFill>
        <p:spPr>
          <a:xfrm>
            <a:off x="2643120" y="4929120"/>
            <a:ext cx="33339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Е токоферол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ое масло, авокадо, орехи, ростки пшеницы, ба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оксидант вместе с А и С, разжижает кровь, укрепляет иммун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3499920"/>
            <a:ext cx="40338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передоз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я состава крови у детей, ранние роды, анемии, 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E:\Креатив\Текущие проекты\Интернет ресурс primefc.ru\Сайт primefc.ru\Диетология и правильное питание\Катинки витамины\untitled.bmp"/>
          <p:cNvPicPr/>
          <p:nvPr/>
        </p:nvPicPr>
        <p:blipFill>
          <a:blip r:embed="rId1"/>
          <a:stretch/>
        </p:blipFill>
        <p:spPr>
          <a:xfrm>
            <a:off x="714240" y="4071960"/>
            <a:ext cx="3262320" cy="2119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 предотвращает попадание инфекции в кровь, принимает участие в механизме свертывания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: все виды капусты, свекла, образуется при участии кишечных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нехватки: плохая свертываемость крови, неактивная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озировка: желтуха, ане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2" name="Picture 9" descr="http://s46.radikal.ru/i113/0906/76/59d39d7e69a3.jpg"/>
          <p:cNvPicPr/>
          <p:nvPr/>
        </p:nvPicPr>
        <p:blipFill>
          <a:blip r:embed="rId1"/>
          <a:stretch/>
        </p:blipFill>
        <p:spPr>
          <a:xfrm>
            <a:off x="2928960" y="4000680"/>
            <a:ext cx="3524400" cy="2562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Витамин С аскорбиновая кислота</a:t>
            </a:r>
            <a:br>
              <a:rPr sz="3200"/>
            </a:b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142640"/>
            <a:ext cx="40338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ц, капуста, клубника, киви, цитрусовые, помидоры, дыня, пе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зиров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алатовые камни в п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52640" y="928440"/>
            <a:ext cx="4033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оксидант №1, противораковый, участвует в образовании коллагена, укрепляет иммунную систему, помогает усвоению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, нарушения иммунитета, плохое ранозаживление, цинга, утомляемость, кровотечения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1000080" y="4214880"/>
            <a:ext cx="295272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</a:t>
            </a:r>
            <a:r>
              <a:rPr b="0" lang="he-IL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8472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водный  обмен, белковый обмен, работа нервной системы, предотвращает гиперкальцемию сосудов, катализатор при образовании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, желток, орехи, злаки, кру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, потеря аппетита, нарушения работы НС, болезни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рис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остки, алкоголики, спортс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4000680" y="4572000"/>
            <a:ext cx="338112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27:55Z</dcterms:created>
  <dc:creator>Admin</dc:creator>
  <dc:description/>
  <dc:language>en-US</dc:language>
  <cp:lastModifiedBy>Виталий</cp:lastModifiedBy>
  <dcterms:modified xsi:type="dcterms:W3CDTF">2020-04-13T16:44:26Z</dcterms:modified>
  <cp:revision>6</cp:revision>
  <dc:subject/>
  <dc:title>Слайд 1</dc:title>
</cp:coreProperties>
</file>