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9754-3F03-462B-BA28-C158BBE70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6EA4-1FB5-445D-A48F-4207456F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9503-9E51-411F-B0E7-16F9F682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C329-59B9-46E4-8FAB-2B9D97F1B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C74C-6CBA-47D5-8B91-D5B5E1DDE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E211-A0CA-49AE-8239-5AC308DF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6598-297A-4F55-9225-E8F55D1D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B5F7-FDCA-432E-B790-67070CD2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1C1A-8B30-4732-A6F1-AFEE1233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387F-AE74-4E81-9A60-E21307C4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C9C9-7726-4C74-851A-713C2A7F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E124-F329-47A4-8222-4CAAE24D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AE55-92A6-4377-A105-4325420F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3923-2DDB-4771-B7C6-3963D260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FA11-5284-4FC5-A1AF-1E602279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AB07-4619-455A-85EC-09A57A63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D7BB-6343-449E-8531-063803D27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C3DE-FCCA-4ABD-BD67-D3644D98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86B4-3868-4388-A9A8-F90B5E11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EE49-89DE-4BE5-A2FD-418DD5F9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0E43-E278-4BDE-BE37-905CA4A8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7590-2F60-4FD7-9204-9049E7A8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3FE8-E259-494B-9B73-3B3E72AB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3519-55BF-4FA7-8BE5-B4DC728A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0D0E-CCA2-4B13-8BCE-56107E68C6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3335-5AFD-4C12-A1FA-7E834118EC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b7"/>
                </a:solidFill>
                <a:latin typeface="Arial Black"/>
              </a:rPr>
              <a:t>Страна Математики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6019560"/>
            <a:ext cx="6984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189000"/>
            <a:ext cx="800748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ариан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ремонта квартиры была куплена керамическая плитка: 2 ящика плитки, по сотне штук в каждом, и еще 75 плиток. Сколько плиток понадобилось для ремонта квартир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 I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ариан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вартире ставили новые перегородки. Для этого потребовалось 3 контейнера кирпича, по сотне штук в каждом, и еще 55 кирпичей. Сколько кирпичей понадобилось для строительства новых перегородок в квартир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2349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Молодцы!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Запись 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трёхзначных чисел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00000" y="3860280"/>
            <a:ext cx="90720" cy="1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-524376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920" y="260280"/>
            <a:ext cx="84502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ариан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 ед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яда, 2 ед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яда, 5 ед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я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 ед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яда, 0 ед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яда, 6 ед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я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 I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ариан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ед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яда, 4 ед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яда, 6 ед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я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 ед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яда, 5 ед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яда, 0 ед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я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5805000"/>
            <a:ext cx="698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3240360" cy="3097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916360" y="3573360"/>
            <a:ext cx="3352680" cy="3024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148360" y="260280"/>
            <a:ext cx="3278160" cy="3006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тдыхаем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буем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197000"/>
            <a:ext cx="800748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ариан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сот., 8 дес., 3 е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 ед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яда, 4 ед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я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 сот., 0 дес., 1 е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 ед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я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 I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ариан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сот., 2 дес., 4 е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ед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яда, 9 ед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я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 сот., 5 дес., 0 е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ед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я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351640" cy="6264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52156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00 см = … 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5 дм = … м … д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6 мм = … см … м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94 см = … м … дм …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м 3 см = …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8 см = … м …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40 см = … м … д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99 см = … м … дм …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549360"/>
            <a:ext cx="576360" cy="57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87280" y="3284640"/>
            <a:ext cx="576360" cy="57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1835280"/>
            <a:ext cx="698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549360"/>
            <a:ext cx="576360" cy="57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87280" y="3141720"/>
            <a:ext cx="57636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8000" y="476280"/>
            <a:ext cx="6318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00 см = 9 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5 дм = 3 м 5 д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6 мм = 3 см 6 м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94 см = 3 м 9 дм 4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м 3 см = 503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8 см = 2 м 8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40 см = 5 м 4 д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99 см = 9 м 9 дм 9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6T07:22:56Z</dcterms:created>
  <dc:creator>Formoza</dc:creator>
  <dc:description/>
  <dc:language>en-US</dc:language>
  <cp:lastModifiedBy>Formoza</cp:lastModifiedBy>
  <dcterms:modified xsi:type="dcterms:W3CDTF">2014-02-26T18:42:45Z</dcterms:modified>
  <cp:revision>15</cp:revision>
  <dc:subject/>
  <dc:title>Запись  трёхзначных чисел</dc:title>
</cp:coreProperties>
</file>