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502-807E-4C0E-A5BA-2DECA9A6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4EC-2FDE-4447-BFFD-7E4ECC14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8B48-6DD7-4A37-8FC2-7BAEB367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DF7-6A8A-463A-B8E6-C5C4A4FD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F6E4-7386-4A7A-B92A-0C32B860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3BF8-B1B8-4058-B4CB-6C9BE6B8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7064-5B67-4A84-BD55-13CB3CB0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D466-5BD8-4BDD-AD64-17C6133A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45E2-43A1-48DD-9E91-09BC83B8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DED7-1114-44F3-8C3D-AD489AE2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6B55-75F4-411A-BCFA-A25631C2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F99-0769-477B-9FAD-B7EE8A20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838C-15BE-40CF-9876-936A533C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A3F2-AB51-4959-8545-7D7DC08D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B7EB-9B94-4C89-96D2-3751461F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C141-C9FA-4D85-AAD2-CD7649E0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EFF0-003F-40C3-A359-53BB22BB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4A3-C90F-4B30-B377-A963E322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267-8F2A-4AED-847C-6596DD0C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90B-28DB-4030-ADC4-DEF8EDE5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53A-F22F-46A0-9670-56E2C8A0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E71-E0FA-49D5-9D6D-2535F2BA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E6F-FFF8-4033-88CA-93AC3561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E14-3CA0-4F9F-B178-DFBE3814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39CF-A781-4477-A872-58109855B1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9555-88F7-4E3B-A4BA-FF7E566AEF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Страна Математики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6019560"/>
            <a:ext cx="6984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ремонта квартиры была куплена керамическая плитка: 2 ящика плитки, по сотне штук в каждом, и еще 75 плиток. Сколько плиток понадобилось для ремонта кварти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 I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вартире ставили новые перегородки. Для этого потребовалось 3 контейнера кирпича, по сотне штук в каждом, и еще 55 кирпичей. Сколько кирпичей понадобилось для строительства новых перегородок в квартир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Молодцы!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Запись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трёхзначных чисе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3860280"/>
            <a:ext cx="90720" cy="1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-524376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84502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2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5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0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6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 I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4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6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5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, 0 ед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5805000"/>
            <a:ext cx="69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3240360" cy="309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916360" y="3573360"/>
            <a:ext cx="3352680" cy="3024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148360" y="260280"/>
            <a:ext cx="3278160" cy="300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дыхаем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буем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сот., 8 дес., 3 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 е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яда, 4 е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сот., 0 дес., 1 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 е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 I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сот., 2 дес., 4 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е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яда, 9 е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 сот., 5 дес., 0 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ед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я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215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0 см = …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дм = … м … д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мм = … см … 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94 см = … м … дм …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м 3 см = …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8 см = … м …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40 см = … м … д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99 см = … м … дм …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549360"/>
            <a:ext cx="57636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3284640"/>
            <a:ext cx="57636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183528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549360"/>
            <a:ext cx="57636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3141720"/>
            <a:ext cx="57636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476280"/>
            <a:ext cx="631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0 см = 9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дм = 3 м 5 д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мм = 3 см 6 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94 см = 3 м 9 дм 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м 3 см = 503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8 см = 2 м 8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40 см = 5 м 4 д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99 см = 9 м 9 дм 9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07:22:56Z</dcterms:created>
  <dc:creator>Formoza</dc:creator>
  <dc:description/>
  <dc:language>en-US</dc:language>
  <cp:lastModifiedBy>Formoza</cp:lastModifiedBy>
  <dcterms:modified xsi:type="dcterms:W3CDTF">2014-02-26T18:42:45Z</dcterms:modified>
  <cp:revision>15</cp:revision>
  <dc:subject/>
  <dc:title>Запись  трёхзначных чисел</dc:title>
</cp:coreProperties>
</file>